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6FFB-33E9-4940-AAF7-0BF481E423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0C8D-35C8-450A-99D9-E712899E3D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AEA6-3F2F-46D4-A272-4EBAE0A523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AD31-8704-47AF-AD9A-DD622F1DEA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1FAF-9454-4F13-A9AE-2ADFA0E09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DE14-8AE4-4EC1-A006-7703EEC6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63B8-9060-42B6-8355-3BFFE5B6A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2E94-EC61-4B94-B9A2-1116A8DE4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D426-20FC-47B8-B810-B43472A76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0FF9-5D30-4750-90CE-0B722E6E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864B-E4F3-4E50-939A-F7AB03D2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5B99-81CD-4A5C-B29E-36BED35C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3FBA-0B02-4302-A804-81D37EAD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438D-9C7A-464B-915E-581C8635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A280-38F2-4A9D-ADC5-B4B7A131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064F-8731-4974-9E1B-DA81074E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FC23-637D-457F-8E59-855A36A1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0BC6-A670-414C-BA1C-2C478FD7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D03E-EA06-4F3A-9D83-ED3BCEE4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C623-18EE-4698-B5CE-32216566D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00B0-8038-4137-9BE4-800FC783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978E-6E95-4F8F-9E2C-C8D7AE86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8EE3-D12A-4C7B-96F3-31C1FBA3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1DC1-D456-4198-857A-C5DAD1A0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CF5E-713E-4633-8038-161CF528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2F8C-F98A-45C5-867B-5A018515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5099-CB7E-4C2E-ADDA-852CC05C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90F5-3F66-411A-84F3-FF1DADC8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E263-A6BF-4DF6-8ECB-82F753C38A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5B5E-1222-4024-953B-88B8D74FE1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6000" spc="-1" strike="noStrike">
                <a:solidFill>
                  <a:srgbClr val="3366ff"/>
                </a:solidFill>
                <a:latin typeface="Arial"/>
              </a:rPr>
              <a:t>Im Berliner Zo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2050920" y="1557360"/>
            <a:ext cx="64008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000000"/>
                </a:solidFill>
                <a:latin typeface="Arial"/>
              </a:rPr>
              <a:t>der H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3287880" cy="50068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0516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3366ff"/>
                </a:solidFill>
                <a:latin typeface="Arial"/>
              </a:rPr>
              <a:t>der Af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000000"/>
                </a:solidFill>
                <a:latin typeface="Arial"/>
              </a:rPr>
              <a:t>der Löw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508360" y="19162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3366ff"/>
                </a:solidFill>
                <a:latin typeface="Arial"/>
              </a:rPr>
              <a:t>der T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200" spc="-1" strike="noStrike">
                <a:solidFill>
                  <a:srgbClr val="000000"/>
                </a:solidFill>
                <a:latin typeface="Arial"/>
              </a:rPr>
              <a:t>die Antilop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4392720" cy="4143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48000" y="19162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3366ff"/>
                </a:solidFill>
                <a:latin typeface="Arial"/>
              </a:rPr>
              <a:t>das Känguru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200" spc="-1" strike="noStrike">
                <a:solidFill>
                  <a:srgbClr val="000000"/>
                </a:solidFill>
                <a:latin typeface="Arial"/>
              </a:rPr>
              <a:t>die Mau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j0262622"/>
          <p:cNvPicPr/>
          <p:nvPr/>
        </p:nvPicPr>
        <p:blipFill>
          <a:blip r:embed="rId1"/>
          <a:stretch/>
        </p:blipFill>
        <p:spPr>
          <a:xfrm>
            <a:off x="179280" y="2205000"/>
            <a:ext cx="5400720" cy="35654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10516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3366ff"/>
                </a:solidFill>
                <a:latin typeface="Arial"/>
              </a:rPr>
              <a:t>die Schl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200" spc="-1" strike="noStrike">
                <a:solidFill>
                  <a:srgbClr val="000000"/>
                </a:solidFill>
                <a:latin typeface="Arial"/>
              </a:rPr>
              <a:t>der Papage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3457800" cy="51847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10516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3366ff"/>
                </a:solidFill>
                <a:latin typeface="Arial"/>
              </a:rPr>
              <a:t>das Flami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200" spc="-1" strike="noStrike">
                <a:solidFill>
                  <a:srgbClr val="000000"/>
                </a:solidFill>
                <a:latin typeface="Arial"/>
              </a:rPr>
              <a:t>die Katz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5327640" cy="39956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10516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3366ff"/>
                </a:solidFill>
                <a:latin typeface="Arial"/>
              </a:rPr>
              <a:t>der Löw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200" spc="-1" strike="noStrike">
                <a:solidFill>
                  <a:srgbClr val="000000"/>
                </a:solidFill>
                <a:latin typeface="Arial"/>
              </a:rPr>
              <a:t>der Hund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3259080" cy="48942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0516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3366ff"/>
                </a:solidFill>
                <a:latin typeface="Arial"/>
              </a:rPr>
              <a:t>der Polarbä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11:59:43Z</dcterms:created>
  <dc:creator>Виктор</dc:creator>
  <dc:description/>
  <dc:language>en-US</dc:language>
  <cp:lastModifiedBy>User-t</cp:lastModifiedBy>
  <dcterms:modified xsi:type="dcterms:W3CDTF">2018-06-28T08:03:39Z</dcterms:modified>
  <cp:revision>3</cp:revision>
  <dc:subject/>
  <dc:title>Im Berliner Zoo</dc:title>
</cp:coreProperties>
</file>