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B26A-A5FA-428A-8C39-41F605634B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8702-3DA3-4D49-A37F-EC2A75660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9769-5038-4CD3-9D33-C5119D1AF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952D-E954-4C4E-8C00-72F98C394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038-C974-4274-B54B-927FC466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DF8-86C7-456B-B01F-2C75EF29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4CB-2E81-494D-8DBF-848EB59D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05F-D139-44BE-9B70-A48DEC74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EE2C-E0AE-4E6E-923F-956C09C0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C8F5-A0B9-4A74-B56E-9ED7EC4F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5174-9920-49D7-B6A8-1B7BC86B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077E-2CD2-43A1-8C96-59ABA148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672C-15DF-42B8-AF33-66DA2B77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F7A6-8BB7-4E8B-B847-8C41DDE5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ECBC-77B5-406D-8CE0-173C9D22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148-BC83-44C9-912D-DA3F79B1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393A-44AD-4AC4-989F-352F5F9F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6517-0FF9-44D5-A3D3-A9FDA91C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017B-1A4E-4D8B-B51F-4D3FB585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4C76-A623-4682-884B-11C1153C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C37A-77DC-4B84-83BC-626DEB5A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C01-9608-4EA9-A248-1188A835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F5D-EA3C-466A-83FD-F7BF9E2C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352-6A6A-4C98-AB4C-0178CEA0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72D-5B11-4C07-B4C9-FD900873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346-DF54-409C-9014-F230E80B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5F3-4737-4A7B-8839-979CDEE7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B82-0451-47CF-B25F-03F3E6A2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D910-3CE9-4836-9630-AC81629225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6888-361C-44E4-BEF5-7D5E88A6DC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6000" spc="-1" strike="noStrike">
                <a:solidFill>
                  <a:srgbClr val="3366ff"/>
                </a:solidFill>
                <a:latin typeface="Arial"/>
              </a:rPr>
              <a:t>Im Berliner Z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6400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der H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3287880" cy="5006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er A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der Lö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508360" y="1916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er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200" spc="-1" strike="noStrike">
                <a:solidFill>
                  <a:srgbClr val="000000"/>
                </a:solidFill>
                <a:latin typeface="Arial"/>
              </a:rPr>
              <a:t>die Antilop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439272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8000" y="1916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as Känguru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200" spc="-1" strike="noStrike">
                <a:solidFill>
                  <a:srgbClr val="000000"/>
                </a:solidFill>
                <a:latin typeface="Arial"/>
              </a:rPr>
              <a:t>die Mau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262622"/>
          <p:cNvPicPr/>
          <p:nvPr/>
        </p:nvPicPr>
        <p:blipFill>
          <a:blip r:embed="rId1"/>
          <a:stretch/>
        </p:blipFill>
        <p:spPr>
          <a:xfrm>
            <a:off x="179280" y="2205000"/>
            <a:ext cx="5400720" cy="3565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ie Schl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200" spc="-1" strike="noStrike">
                <a:solidFill>
                  <a:srgbClr val="000000"/>
                </a:solidFill>
                <a:latin typeface="Arial"/>
              </a:rPr>
              <a:t>der Papage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3457800" cy="5184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as Flami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200" spc="-1" strike="noStrike">
                <a:solidFill>
                  <a:srgbClr val="000000"/>
                </a:solidFill>
                <a:latin typeface="Arial"/>
              </a:rPr>
              <a:t>die Katz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5327640" cy="39956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er Lö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200" spc="-1" strike="noStrike">
                <a:solidFill>
                  <a:srgbClr val="000000"/>
                </a:solidFill>
                <a:latin typeface="Arial"/>
              </a:rPr>
              <a:t>der Hund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3259080" cy="4894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3366ff"/>
                </a:solidFill>
                <a:latin typeface="Arial"/>
              </a:rPr>
              <a:t>der Polarbä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1:59:43Z</dcterms:created>
  <dc:creator>Виктор</dc:creator>
  <dc:description/>
  <dc:language>en-US</dc:language>
  <cp:lastModifiedBy>User-t</cp:lastModifiedBy>
  <dcterms:modified xsi:type="dcterms:W3CDTF">2018-06-28T08:03:39Z</dcterms:modified>
  <cp:revision>3</cp:revision>
  <dc:subject/>
  <dc:title>Im Berliner Zoo</dc:title>
</cp:coreProperties>
</file>