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0E3E-9A26-40BE-B77C-C07059D8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85B-CB11-40CA-B490-DEB605CC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C6D-5FAC-491C-B2E6-66AD2006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1F0D-5212-4186-83BD-ECDB6972A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8721-B60B-4618-B228-A5C59EEE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10B3-631C-4445-9B8B-FAA1801A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AD0D-A4C7-4C26-AA2C-CB1ED860D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E8A7-F3DB-4399-885C-E2C82A66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78E-7E12-49DC-93E0-6FD96F46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E9F5-903B-4AB1-97EC-39FCA671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EDEF-533E-4E7E-BC58-033D35D5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FC55-0983-48CF-9489-F8DB2675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297C-3C9A-4ADE-9F94-970A40E79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08:56:25Z</dcterms:created>
  <dc:creator>SamLab.ws</dc:creator>
  <dc:description/>
  <dc:language>en-US</dc:language>
  <cp:lastModifiedBy>SamLab.ws</cp:lastModifiedBy>
  <dcterms:modified xsi:type="dcterms:W3CDTF">2018-06-28T08:56:48Z</dcterms:modified>
  <cp:revision>1</cp:revision>
  <dc:subject/>
  <dc:title>Слайд 1</dc:title>
</cp:coreProperties>
</file>