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34FC-E383-4429-9B8E-0D8E880D0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4E7B-D06B-42D4-AF31-B1D640EE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1B21-AEF5-44B9-8DBF-C9C358862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EEB0-9EA8-4823-8F35-5D2694BA9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B634-6135-4C5F-BDFB-FA868F58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C216-68E5-4C49-9D6D-757A4D05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94D2-6F39-4E5B-9C36-6C12C5E8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999D-839E-40AE-BAFD-FCF9EB75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4C72-FC1E-4848-AE86-D012B550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B1D1-D91B-4C07-BE1F-D8629DCB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5BA4-399D-4393-BEDF-EAA696B66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9E17-D9F3-4C55-83CF-D1D58E28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BEB7-DB5B-48CD-A7C1-78C8449A1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28T08:56:25Z</dcterms:created>
  <dc:creator>SamLab.ws</dc:creator>
  <dc:description/>
  <dc:language>en-US</dc:language>
  <cp:lastModifiedBy>SamLab.ws</cp:lastModifiedBy>
  <dcterms:modified xsi:type="dcterms:W3CDTF">2018-06-28T08:56:48Z</dcterms:modified>
  <cp:revision>1</cp:revision>
  <dc:subject/>
  <dc:title>Слайд 1</dc:title>
</cp:coreProperties>
</file>