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880-93DA-4914-9F04-0DDCD5FF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777-8152-498B-AA26-4B73400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F93-7F3C-4161-8831-3B96F537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6B7-20AE-4A69-B111-0C20A646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0F7-C54D-4C2E-88A1-A137EB40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91D-224B-4EC6-8276-94FB2B4A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239-0FCF-4F3C-996A-7E41FA8B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E0B-7DD5-4861-8C47-86A7C212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B7B-8AD8-435B-829E-1262E7E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934-B2E2-4AD7-BBCC-9A3987D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5EC-54A7-4FEC-9E3B-C3AC769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2D8-9552-4E82-9B63-0FA68EE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5065-85A1-4A61-8F21-8DA084930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n.gollos.com/3772/Prod/1107094/Logo/6380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“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Халык авыз иҗаты” темасына презента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ция 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      </a:t>
            </a: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Тәрбияче.Галиева Равия Кияметд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85880" y="23292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tt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Бишек җы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Әлли – бәлли бәү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Җан йөрәгем, нән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Рәхәт кенә тынычла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Йоклап китәр бәбкәем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286000" y="42876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л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Әлли – бәлли 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Йокыларга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әү – бәү итеп,күз йом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әп кен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ма кебек тәгәрә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Үсеп буйга җ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быйлары артынн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г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дә укыг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лим булып җ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ораула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1.Назлап әйтелә торан “бәүкәем,җан йөрәгем, нәнкәем, бәбкәем”сүзләрен әниең сиңа әйтә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2. Бишек җырларын җырлаганда, ана баласына нинди теләкләр т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3.Әниең сиңа нинди бишек җырлары җырлады икә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л шомарткычла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авазларны д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рес әйтер өчен кулланыла торган ши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ъри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сәрлә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арамага ка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, карама,карамага кара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га карасаң, ике күзең кар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 карама – яс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акмакл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ю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чен яки күңел ачу өчен әйтелә торган халык иҗаты әсәрлә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,бие,бие әле,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гәнең юк әл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е матур бии дилә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теп карыйк ә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Челтәр икән якас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грәк матур тәңкә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ккош микән,былбыл микә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ны үстергән әнкә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тәңкә – мон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аккош – лебед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былбыл - солов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800" spc="-1" strike="noStrike">
                <a:solidFill>
                  <a:srgbClr val="ff0000"/>
                </a:solidFill>
                <a:latin typeface="Calibri"/>
              </a:rPr>
              <a:t>Санамышлар </a:t>
            </a: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– кайбер уенны башлап җибәргәндә балалар арасында әйтелә торган үзенә бер төр тезем сүзлә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анамы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ура җилә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ер  чиләк, ике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Өч чиләк, дүрт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иш чиләк,алты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Җиде чиләк,сигез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Тугыз чиләк – кура җилә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tt-RU" sz="4400" spc="-1" strike="noStrike">
                <a:solidFill>
                  <a:srgbClr val="ff0000"/>
                </a:solidFill>
                <a:latin typeface="Calibri"/>
              </a:rPr>
              <a:t>Табышмак – зиһен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Төп мәг</a:t>
            </a: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ънәсен  уйлап белергә кирәк булган нәфис сүзне табышмак дилә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Җире а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Орлыгы кар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Кул белән чәчәлә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Авыз белән җыяла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Картинка 1 из 1250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928800"/>
            <a:ext cx="1857240" cy="192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Администратор\Рабочий стол\заготовки слайдов\Ramki-otkrytki-dlja-fotoshop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00080" y="-325080"/>
            <a:ext cx="59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лык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ыз иҗа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Агач түгел – яфракл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үлмәк түгел – тегелгә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еше түгел – сөйл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Нәрсә у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:\Documents and Settings\Администратор\Рабочий стол\заготовки слайдов\картинки\Безымянный2.jpg"/>
          <p:cNvPicPr/>
          <p:nvPr/>
        </p:nvPicPr>
        <p:blipFill>
          <a:blip r:embed="rId2"/>
          <a:stretch/>
        </p:blipFill>
        <p:spPr>
          <a:xfrm>
            <a:off x="3714840" y="3000240"/>
            <a:ext cx="342900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әзәк – күңел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tt-RU" sz="3200" spc="-1" strike="noStrike">
                <a:solidFill>
                  <a:srgbClr val="33cc33"/>
                </a:solidFill>
                <a:latin typeface="Calibri"/>
              </a:rPr>
              <a:t>Саф  һавада йө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лсу, нигә дәресеңне әзерләмәд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Ут юк 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Ә телевизор карадыңмы со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ны бит мин караңгыда карад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орауларга җавап би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1.Син нинди табышмаклар беләс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2.Уен вакытында нинди санамышлар кулланасыз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3.Нинди мәзәкләр беләс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Киңәш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:”Сабантуй” газетасында чыгып бара торган мәзәкләр,табышмак, санамыш,һәм әкиятләрне укы, ошаганын дәфтәреңә я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лланылган әдәбия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1.Ф.Ш.Гарифуллина; И.Х.Мияссарова. Дәреслек “Әдәби ук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2. Ф.Ш.Гарифуллина; И.Х.Мияссарова.”Әдәби уку” методик куллан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3.Нәкый Исәнбәт.”Балалар фо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лоры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4. “Иң матур сүз” төзүче К.В.Закирова.”Мәгариф”нәшрия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Администратор\Рабочий стол\шаблоны\заготовки слайдов\шаблон1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071720" y="60372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14240" y="1121760"/>
            <a:ext cx="84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85880" y="1862640"/>
            <a:ext cx="83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71680" y="602640"/>
            <a:ext cx="82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кс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өйләм  осталыгы һәм күнекмәләре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рмалаш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Балаларда ана телен өйрәнүгә кызыксыну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омтылыш, эзләнүгә теләк у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3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тар теленә карата хөрмәт һәм ихтирам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әрбияләү, телнең чисталыгын, дөреслег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клап, халыкның рухи мирасы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өйрәнүгә кызыксыну у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85840" y="35712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Халык авыз иҗаты әсәрлә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.Бишек җырл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.Так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.Такмаз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.Санамыш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.Табыш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6.Мәкаль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.Әкият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.Мәсәл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.Тизәйткеч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.Мәзәк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85840" y="357120"/>
            <a:ext cx="857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йбер әкиятләрнең,табышм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җыр, такмак, санамыш, мәзәк, бишек җырларының авторы бер генә кеше түгел, ә бик күп кешеләр була. Андый әсәрләрне халык иҗаты диләр. Бу әсәрләр бик борынгы чорлардан ук телдән телгә күчеп килгән, шуңа күрә аларны </a:t>
            </a:r>
            <a:r>
              <a:rPr b="1" i="1" lang="tt-RU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халык авыз иҗаты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дип тә йөртәлә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Мәкал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– халыкны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тормыш тәҗрибәсен туплаган кыска, тирән мәг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ънәле төгәл җөмләләр ул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Мәкальне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төп мәг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ънәсе 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“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өйләп,әйтеп бирү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игәнне аңлата.Төп максаты – фикер әйт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ка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л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ән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өт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ел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өй биргән дә 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та –анаң чын дустың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Дус – ишләрең юлдаш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00040" y="21420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яшь баланы тирб</a:t>
            </a:r>
            <a:r>
              <a:rPr b="0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әтеп йоклату өчен махсус җайланып эшләнгән асылмалы ятак яки йоклату уры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Администратор\Рабочий стол\бишек4.jpg"/>
          <p:cNvPicPr/>
          <p:nvPr/>
        </p:nvPicPr>
        <p:blipFill>
          <a:blip r:embed="rId3"/>
          <a:stretch/>
        </p:blipFill>
        <p:spPr>
          <a:xfrm>
            <a:off x="28584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дминистратор\Рабочий стол\бишек6.jpeg"/>
          <p:cNvPicPr/>
          <p:nvPr/>
        </p:nvPicPr>
        <p:blipFill>
          <a:blip r:embed="rId4"/>
          <a:stretch/>
        </p:blipFill>
        <p:spPr>
          <a:xfrm>
            <a:off x="507204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500040" y="21420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ы </a:t>
            </a:r>
            <a:r>
              <a:rPr b="0" lang="tt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бишектәге баланы тирбәтеп йоклатканда, юатканда җырлана торган җы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:\Documents and Settings\Администратор\Рабочий стол\бишек1.jpg"/>
          <p:cNvPicPr/>
          <p:nvPr/>
        </p:nvPicPr>
        <p:blipFill>
          <a:blip r:embed="rId3"/>
          <a:stretch/>
        </p:blipFill>
        <p:spPr>
          <a:xfrm>
            <a:off x="1928880" y="3643200"/>
            <a:ext cx="542916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1:03:56Z</dcterms:created>
  <dc:creator>XTreme</dc:creator>
  <dc:description/>
  <dc:language>en-US</dc:language>
  <cp:lastModifiedBy>1</cp:lastModifiedBy>
  <dcterms:modified xsi:type="dcterms:W3CDTF">2018-02-21T10:31:23Z</dcterms:modified>
  <cp:revision>64</cp:revision>
  <dc:subject/>
  <dc:title>Слайд 1</dc:title>
</cp:coreProperties>
</file>