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374-FBF2-4B37-BC7C-3820A875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6B3-37D9-4470-A0B2-2F6A855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F82-FB43-4400-B082-6EDE0DC5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193-1AE9-45C6-B266-A1B62B5C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76A-DCDF-4145-8984-4B91A8A3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D99-1E6B-4887-97E9-49B4FDAF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145-7A94-42CC-A0ED-F69F1E80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BE4-BA8E-4E86-B472-8E0C725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05C-FA09-4B2A-8300-0F2E1AA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749-E969-4480-86BE-C87BCE0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34F-C475-4B5B-8E4B-001B862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718-5E7F-409E-A9D5-7520DA5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9E3-767B-47C4-AA4B-AA3D517DC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dn.gollos.com/3772/Prod/1107094/Logo/638074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“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Халык авыз иҗаты” темасына презента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ция </a:t>
            </a:r>
            <a:r>
              <a:rPr b="1" lang="tt-RU" sz="4000" spc="-1" strike="noStrike">
                <a:solidFill>
                  <a:srgbClr val="000099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                </a:t>
            </a:r>
            <a:r>
              <a:rPr b="1" lang="tt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Тәрбияче.Галиева Равия Кияметд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85880" y="232920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tt-RU" sz="4400" spc="-1" strike="noStrike">
                <a:solidFill>
                  <a:srgbClr val="0070c0"/>
                </a:solidFill>
                <a:latin typeface="Times New Roman"/>
                <a:ea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tt-RU" sz="4800" spc="-1" strike="noStrike">
                <a:solidFill>
                  <a:srgbClr val="ff0000"/>
                </a:solidFill>
                <a:latin typeface="Calibri"/>
              </a:rPr>
              <a:t>Бишек җыр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Әлли – бәлли бәү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Җан йөрәгем, нәнкәем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Рәхәт кенә тынычла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b050"/>
                </a:solidFill>
                <a:latin typeface="Calibri"/>
              </a:rPr>
              <a:t>Йоклап китәр бәбкәем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2286000" y="42876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л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Әлли – бәлли 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Йокыларга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әү – бәү итеп,күз йом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әп кен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ма кебек тәгәрә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Үсеп буйга җитәр б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быйлары артынн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гә к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әктәпләрдә укыгач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алим булып җитәр 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ораула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1.Назлап әйтелә торан “бәүкәем,җан йөрәгем, нәнкәем, бәбкәем”сүзләрен әниең сиңа әйтәм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2. Бишек җырларын җырлаганда, ана баласына нинди теләкләр т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7030a0"/>
                </a:solidFill>
                <a:latin typeface="Calibri"/>
              </a:rPr>
              <a:t>3.Әниең сиңа нинди бишек җырлары җырлады икә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л шомарткычла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авазларны д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рес әйтер өчен кулланыла торган ши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ъри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әсәрлә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арамага ка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, карама,карамага карам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арамага карасаң, ике күзең кар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 карама – яс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акмакл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ю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өчен яки күңел ачу өчен әйтелә торган халык иҗаты әсәрлә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,бие,бие әле,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гәнең юк әл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ине матур бии дилә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етеп карыйк ә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Челтәр икән якас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Бигрәк матур тәңкә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ккош микән,былбыл микә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Моны үстергән әнкә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тәңкә – мон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аккош – лебед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былбыл - солов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800" spc="-1" strike="noStrike">
                <a:solidFill>
                  <a:srgbClr val="ff0000"/>
                </a:solidFill>
                <a:latin typeface="Calibri"/>
              </a:rPr>
              <a:t>Санамышлар </a:t>
            </a: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– кайбер уенны башлап җибәргәндә балалар арасында әйтелә торган үзенә бер төр тезем сүзлә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анамы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          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Кура җилә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ер  чиләк, ике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Өч чиләк, дүрт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Биш чиләк,алты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Җиде чиләк,сигез чилә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0066"/>
                </a:solidFill>
                <a:latin typeface="Calibri"/>
              </a:rPr>
              <a:t>Тугыз чиләк – кура җиләк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tt-RU" sz="4400" spc="-1" strike="noStrike">
                <a:solidFill>
                  <a:srgbClr val="ff0000"/>
                </a:solidFill>
                <a:latin typeface="Calibri"/>
              </a:rPr>
              <a:t>Табышмак – зиһен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     </a:t>
            </a:r>
            <a:r>
              <a:rPr b="0" lang="tt-RU" sz="4400" spc="-1" strike="noStrike">
                <a:solidFill>
                  <a:srgbClr val="660066"/>
                </a:solidFill>
                <a:latin typeface="Calibri"/>
              </a:rPr>
              <a:t>Төп мәг</a:t>
            </a: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ънәсен  уйлап белергә кирәк булган нәфис сүзне табышмак дилә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Җире а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Орлыгы кар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Кул белән чәчәлә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99"/>
                </a:solidFill>
                <a:latin typeface="Calibri"/>
              </a:rPr>
              <a:t>Авыз белән җыялар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Картинка 1 из 1250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928800"/>
            <a:ext cx="1857240" cy="1928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Администратор\Рабочий стол\заготовки слайдов\Ramki-otkrytki-dlja-fotoshop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00080" y="-325080"/>
            <a:ext cx="59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Халык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tt-RU" sz="96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ыз иҗат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Агач түгел – яфракл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үлмәк түгел – тегелгән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Кеше түгел – сөйл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660066"/>
                </a:solidFill>
                <a:latin typeface="Calibri"/>
              </a:rPr>
              <a:t>Нәрсә у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:\Documents and Settings\Администратор\Рабочий стол\заготовки слайдов\картинки\Безымянный2.jpg"/>
          <p:cNvPicPr/>
          <p:nvPr/>
        </p:nvPicPr>
        <p:blipFill>
          <a:blip r:embed="rId2"/>
          <a:stretch/>
        </p:blipFill>
        <p:spPr>
          <a:xfrm>
            <a:off x="3714840" y="3000240"/>
            <a:ext cx="342900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әзәк – күңел ачкыч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tt-RU" sz="3200" spc="-1" strike="noStrike">
                <a:solidFill>
                  <a:srgbClr val="33cc33"/>
                </a:solidFill>
                <a:latin typeface="Calibri"/>
              </a:rPr>
              <a:t>Саф  һавада йө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лсу, нигә дәресеңне әзерләмәд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Ут юк 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Ә телевизор карадыңмы со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660066"/>
                </a:solidFill>
                <a:latin typeface="Calibri"/>
              </a:rPr>
              <a:t>Аны бит мин караңгыда карад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Сорауларга җавап би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1.Син нинди табышмаклар беләс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2.Уен вакытында нинди санамышлар кулланасыз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99"/>
                </a:solidFill>
                <a:latin typeface="Calibri"/>
              </a:rPr>
              <a:t>3.Нинди мәзәкләр беләсең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Киңәш</a:t>
            </a:r>
            <a:r>
              <a:rPr b="0" lang="tt-RU" sz="3200" spc="-1" strike="noStrike">
                <a:solidFill>
                  <a:srgbClr val="33cc33"/>
                </a:solidFill>
                <a:latin typeface="Calibri"/>
              </a:rPr>
              <a:t>:”Сабантуй” газетасында чыгып бара торган мәзәкләр,табышмак, санамыш,һәм әкиятләрне укы, ошаганын дәфтәреңә я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улланылган әдәбия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1.Ф.Ш.Гарифуллина; И.Х.Мияссарова. Дәреслек “Әдәби уку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2. Ф.Ш.Гарифуллина; И.Х.Мияссарова.”Әдәби уку” методик куллан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3.Нәкый Исәнбәт.”Балалар фо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лоры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4. “Иң матур сүз” төзүче К.В.Закирова.”Мәгариф”нәшрия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Администратор\Рабочий стол\шаблоны\заготовки слайдов\шаблон1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071720" y="60372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14240" y="1121760"/>
            <a:ext cx="842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85880" y="1862640"/>
            <a:ext cx="83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71680" y="602640"/>
            <a:ext cx="82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кса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1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өйләм  осталыгы һәм күнекмәләре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рмалаш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2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Балаларда ана телен өйрәнүгә кызыксыну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омтылыш, эзләнүгә теләк у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3.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тар теленә карата хөрмәт һәм ихтирам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әрбияләү, телнең чисталыгын, дөреслеге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саклап, халыкның рухи мирасы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0" lang="tt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өйрәнүгә кызыксыну у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285840" y="357120"/>
            <a:ext cx="8572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Халык авыз иҗаты әсәрлә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.Бишек җырл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2.Так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.Такмаза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.Санамыш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.Табышмакла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6.Мәкаль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7.Әкият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8.Мәсәл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.Тизәйткеч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.Мәзәклә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Администратор\Рабочий стол\заготовки слайдов\nabor_fonov_12\20-1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285840" y="357120"/>
            <a:ext cx="857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йбер әкиятләрнең,табышм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җыр, такмак, санамыш, мәзәк, бишек җырларының авторы бер генә кеше түгел, ә бик күп кешеләр була. Андый әсәрләрне халык иҗаты диләр. Бу әсәрләр бик борынгы чорлардан ук телдән телгә күчеп килгән, шуңа күрә аларны </a:t>
            </a:r>
            <a:r>
              <a:rPr b="1" i="1" lang="tt-RU" sz="3600" spc="-1" strike="noStrike">
                <a:solidFill>
                  <a:srgbClr val="660066"/>
                </a:solidFill>
                <a:latin typeface="Times New Roman"/>
                <a:ea typeface="Calibri"/>
              </a:rPr>
              <a:t>халык авыз иҗаты</a:t>
            </a:r>
            <a:r>
              <a:rPr b="1" i="1" lang="tt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дип тә йөртәлә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Мәкал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ь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– халыкны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тормыш тәҗрибәсен туплаган кыска, тирән мәг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ънәле төгәл җөмләләр ул.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Мәкальне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</a:rPr>
              <a:t>ң </a:t>
            </a:r>
            <a:r>
              <a:rPr b="0" lang="tt-RU" sz="4000" spc="-1" strike="noStrike">
                <a:solidFill>
                  <a:srgbClr val="ff0000"/>
                </a:solidFill>
                <a:latin typeface="Calibri"/>
              </a:rPr>
              <a:t>төп мәг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ънәсе 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“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өйләп,әйтеп бирү</a:t>
            </a:r>
            <a:r>
              <a:rPr b="0" lang="tt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r>
              <a:rPr b="0" lang="tt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дигәнне аңлата.Төп максаты – фикер әйтү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Администратор\Рабочий стол\заготовки слайдов\шаблон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кал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ьл</a:t>
            </a:r>
            <a:r>
              <a:rPr b="0" lang="tt-RU" sz="3200" spc="-1" strike="noStrike">
                <a:solidFill>
                  <a:srgbClr val="ff0000"/>
                </a:solidFill>
                <a:latin typeface="Calibri"/>
              </a:rPr>
              <a:t>ә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ән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Сөт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Тел биргән дә 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Көй биргән дә 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Ата –анаң чын дустың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Дус – ишләрең юлдашың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00040" y="21420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яшь баланы тирб</a:t>
            </a:r>
            <a:r>
              <a:rPr b="0" lang="tt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әтеп йоклату өчен махсус җайланып эшләнгән асылмалы ятак яки йоклату уры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Администратор\Рабочий стол\бишек4.jpg"/>
          <p:cNvPicPr/>
          <p:nvPr/>
        </p:nvPicPr>
        <p:blipFill>
          <a:blip r:embed="rId3"/>
          <a:stretch/>
        </p:blipFill>
        <p:spPr>
          <a:xfrm>
            <a:off x="28584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дминистратор\Рабочий стол\бишек6.jpeg"/>
          <p:cNvPicPr/>
          <p:nvPr/>
        </p:nvPicPr>
        <p:blipFill>
          <a:blip r:embed="rId4"/>
          <a:stretch/>
        </p:blipFill>
        <p:spPr>
          <a:xfrm>
            <a:off x="5072040" y="271476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Администратор\Рабочий стол\заготовки слайдов\nabor_fonov_12\15-12.jpg"/>
          <p:cNvPicPr/>
          <p:nvPr/>
        </p:nvPicPr>
        <p:blipFill>
          <a:blip r:embed="rId2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500040" y="21420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шек җыры </a:t>
            </a:r>
            <a:r>
              <a:rPr b="0" lang="tt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бишектәге баланы тирбәтеп йоклатканда, юатканда җырлана торган җы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:\Documents and Settings\Администратор\Рабочий стол\бишек1.jpg"/>
          <p:cNvPicPr/>
          <p:nvPr/>
        </p:nvPicPr>
        <p:blipFill>
          <a:blip r:embed="rId3"/>
          <a:stretch/>
        </p:blipFill>
        <p:spPr>
          <a:xfrm>
            <a:off x="1928880" y="3643200"/>
            <a:ext cx="542916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1:03:56Z</dcterms:created>
  <dc:creator>XTreme</dc:creator>
  <dc:description/>
  <dc:language>en-US</dc:language>
  <cp:lastModifiedBy>1</cp:lastModifiedBy>
  <dcterms:modified xsi:type="dcterms:W3CDTF">2018-02-21T10:31:23Z</dcterms:modified>
  <cp:revision>64</cp:revision>
  <dc:subject/>
  <dc:title>Слайд 1</dc:title>
</cp:coreProperties>
</file>