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95D7-3CB7-4D7D-99B6-96A16332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1920-3AAB-4468-91BA-1837257A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9482-5AE7-49E2-94D8-70728F10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EA2D-16D5-4F39-858F-2851B303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2637-7B10-45B0-9C0F-76B58DDE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4C1C-634B-4D7B-85D3-0813561B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42B3-E1B9-444F-B0E0-5A063EEC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9A4B-6005-45DC-8CA7-B38D6AF4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4E58-D275-48FA-A6DC-E9A3FA62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E0AB-D37A-414E-9C9F-35650A7E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B680-759C-49FE-835B-45B18266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76EF-B130-43B5-A1AB-194D7322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6788-5F46-4E12-8F10-33272E28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0E52-07BD-48D2-BF1B-412BD6BD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FF58-CE5E-4072-AB15-30D399AF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D624-51A3-46F7-911C-809444C1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4055-29EA-4C94-982B-0E5F2E9D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50FF-F78B-4EEC-B508-057A70CB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E8BC-413C-40D5-B3C0-04C98455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F205-DA39-4029-B25F-9F479D87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B338-5783-4BA5-8165-26F512CB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22B0-3CBD-4E6D-8848-176F33B6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60D-C27C-465D-A613-35BAF181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3B56-8505-460F-A687-35BFB958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FEF4-2293-4C48-BE90-58B3D465B9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1418-5E54-4B47-8296-DFBF6109283A}" type="slidenum"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Palatino Linotype"/>
              </a:rPr>
              <a:t>Презентация по теме «Комнатные растения – наши друзья»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191120" y="4495680"/>
            <a:ext cx="4952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Презентацию подготовила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Воспитатель ГБДОУ детский сад № 120 Невского района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Санкт-Петербурга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узьмина Е.А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85" name="Picture 7" descr="Картинка 53 из 162938"/>
          <p:cNvPicPr/>
          <p:nvPr/>
        </p:nvPicPr>
        <p:blipFill>
          <a:blip r:embed="rId1"/>
          <a:stretch/>
        </p:blipFill>
        <p:spPr>
          <a:xfrm>
            <a:off x="609480" y="2590920"/>
            <a:ext cx="4038840" cy="4030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000eeek6"/>
          <p:cNvPicPr/>
          <p:nvPr/>
        </p:nvPicPr>
        <p:blipFill>
          <a:blip r:embed="rId1"/>
          <a:stretch/>
        </p:blipFill>
        <p:spPr>
          <a:xfrm>
            <a:off x="5410080" y="22860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2133720" y="457200"/>
            <a:ext cx="40384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Айболи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762120" y="2362320"/>
            <a:ext cx="3429000" cy="1008000"/>
          </a:xfrm>
          <a:prstGeom prst="flowChartAlternateProcess">
            <a:avLst/>
          </a:prstGeom>
          <a:solidFill>
            <a:srgbClr val="e9dc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826920" y="2349360"/>
            <a:ext cx="3313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ие бывают ядовитые раст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762120" y="4267080"/>
            <a:ext cx="3504960" cy="1225800"/>
          </a:xfrm>
          <a:prstGeom prst="flowChartAlternateProcess">
            <a:avLst/>
          </a:prstGeom>
          <a:solidFill>
            <a:srgbClr val="e9dc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762120" y="4343400"/>
            <a:ext cx="3887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 лечебных растениях на твоём подокон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Palatino Linotype"/>
              </a:rPr>
              <a:t>Эти растения опасны!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35" name="Picture 7" descr="олеандр"/>
          <p:cNvPicPr/>
          <p:nvPr/>
        </p:nvPicPr>
        <p:blipFill>
          <a:blip r:embed="rId1"/>
          <a:stretch/>
        </p:blipFill>
        <p:spPr>
          <a:xfrm>
            <a:off x="609480" y="1828800"/>
            <a:ext cx="3660840" cy="4522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диффенбахия"/>
          <p:cNvPicPr/>
          <p:nvPr/>
        </p:nvPicPr>
        <p:blipFill>
          <a:blip r:embed="rId2"/>
          <a:stretch/>
        </p:blipFill>
        <p:spPr>
          <a:xfrm>
            <a:off x="4952880" y="1828800"/>
            <a:ext cx="3210120" cy="43624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4952880" y="1295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иффенбах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09480" y="1295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леа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Palatino Linotype"/>
              </a:rPr>
              <a:t>Лечебные растения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40" name="Picture 9" descr="лимон"/>
          <p:cNvPicPr/>
          <p:nvPr/>
        </p:nvPicPr>
        <p:blipFill>
          <a:blip r:embed="rId1"/>
          <a:stretch/>
        </p:blipFill>
        <p:spPr>
          <a:xfrm>
            <a:off x="380880" y="1371600"/>
            <a:ext cx="2881440" cy="3809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алоэ"/>
          <p:cNvPicPr/>
          <p:nvPr/>
        </p:nvPicPr>
        <p:blipFill>
          <a:blip r:embed="rId2"/>
          <a:stretch/>
        </p:blipFill>
        <p:spPr>
          <a:xfrm>
            <a:off x="4724280" y="1371600"/>
            <a:ext cx="2998800" cy="2263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мята"/>
          <p:cNvPicPr/>
          <p:nvPr/>
        </p:nvPicPr>
        <p:blipFill>
          <a:blip r:embed="rId3"/>
          <a:stretch/>
        </p:blipFill>
        <p:spPr>
          <a:xfrm>
            <a:off x="3581280" y="4038480"/>
            <a:ext cx="3245040" cy="2595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457200" y="914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им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648320" y="3733920"/>
            <a:ext cx="2819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6781680" y="4038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800600" y="9144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ло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Palatino Linotype"/>
              </a:rPr>
              <a:t>Проделав работу мы пришли к выводу: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Все растения – живые существа, способные воздействовать на человека и его жилище. И от того, сумеем ли мы правильно подобрать комнатное растение и обеспечить им достойный уход и содержание, зависит и общая атмосфера дома, и самочувствие их обитателей. Давайте не будем забывать о своих домашних друзьях, ведь они заботятся о нас бескорыстно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6"/>
          <p:cNvSpPr/>
          <p:nvPr/>
        </p:nvSpPr>
        <p:spPr>
          <a:xfrm>
            <a:off x="685800" y="4191120"/>
            <a:ext cx="2879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znayka_"/>
          <p:cNvPicPr/>
          <p:nvPr/>
        </p:nvPicPr>
        <p:blipFill>
          <a:blip r:embed="rId1"/>
          <a:stretch/>
        </p:blipFill>
        <p:spPr>
          <a:xfrm>
            <a:off x="5181480" y="2362320"/>
            <a:ext cx="3276720" cy="3065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1"/>
          <p:cNvSpPr/>
          <p:nvPr/>
        </p:nvSpPr>
        <p:spPr>
          <a:xfrm>
            <a:off x="2286000" y="533520"/>
            <a:ext cx="38876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Unicode MS"/>
              </a:rPr>
              <a:t>Знай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4"/>
          <p:cNvSpPr/>
          <p:nvPr/>
        </p:nvSpPr>
        <p:spPr>
          <a:xfrm>
            <a:off x="762120" y="4876920"/>
            <a:ext cx="3240000" cy="1079280"/>
          </a:xfrm>
          <a:prstGeom prst="roundRect">
            <a:avLst>
              <a:gd name="adj" fmla="val 16667"/>
            </a:avLst>
          </a:prstGeom>
          <a:solidFill>
            <a:srgbClr val="e9dc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838080" y="5181480"/>
            <a:ext cx="2808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ова роль растений в жизни челове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6"/>
          <p:cNvSpPr/>
          <p:nvPr/>
        </p:nvSpPr>
        <p:spPr>
          <a:xfrm>
            <a:off x="762120" y="3505320"/>
            <a:ext cx="3240000" cy="1008000"/>
          </a:xfrm>
          <a:prstGeom prst="roundRect">
            <a:avLst>
              <a:gd name="adj" fmla="val 16667"/>
            </a:avLst>
          </a:prstGeom>
          <a:solidFill>
            <a:srgbClr val="e9dc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990720" y="3581280"/>
            <a:ext cx="3166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з чего состоит раст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5"/>
          <p:cNvSpPr/>
          <p:nvPr/>
        </p:nvSpPr>
        <p:spPr>
          <a:xfrm>
            <a:off x="762120" y="2133720"/>
            <a:ext cx="3200400" cy="1066680"/>
          </a:xfrm>
          <a:prstGeom prst="flowChartAlternateProcess">
            <a:avLst/>
          </a:prstGeom>
          <a:solidFill>
            <a:srgbClr val="e9dc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838080" y="22860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тория возникновения цвето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Palatino Linotype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Комнатные растения  появились в эпоху великих географических открытий, когда из Америки, Азии и Африки было вывезено множество новых экзотических цветов. В России начало комнатного цветоводства принято связывать с именем Петра Первого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В дворянских семьях в основном выращивали пальмы, фикусы, кротоны.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В бедных семьях были цветы попроще – герань, бальзамин, колеус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7" name="Picture 5" descr="Картинка 8 из 197832"/>
          <p:cNvPicPr/>
          <p:nvPr/>
        </p:nvPicPr>
        <p:blipFill>
          <a:blip r:embed="rId1"/>
          <a:stretch/>
        </p:blipFill>
        <p:spPr>
          <a:xfrm>
            <a:off x="6573960" y="3962520"/>
            <a:ext cx="228744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Palatino Linotype"/>
              </a:rPr>
              <a:t>Из чего состоит растение?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9" name="Picture 5" descr="08"/>
          <p:cNvPicPr/>
          <p:nvPr/>
        </p:nvPicPr>
        <p:blipFill>
          <a:blip r:embed="rId1"/>
          <a:stretch/>
        </p:blipFill>
        <p:spPr>
          <a:xfrm>
            <a:off x="990720" y="1143000"/>
            <a:ext cx="678168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1476360" y="119700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ют у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780000" y="333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ужат украш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5940360" y="141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лагоух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1066680" y="29718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нимают настр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411280" y="494172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ищают возду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4932360" y="5084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имают на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6443640" y="3500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ладают целебными свойст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6"/>
          <p:cNvSpPr/>
          <p:nvPr/>
        </p:nvSpPr>
        <p:spPr>
          <a:xfrm>
            <a:off x="826920" y="4797360"/>
            <a:ext cx="295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1216644006211"/>
          <p:cNvPicPr/>
          <p:nvPr/>
        </p:nvPicPr>
        <p:blipFill>
          <a:blip r:embed="rId1"/>
          <a:stretch/>
        </p:blipFill>
        <p:spPr>
          <a:xfrm>
            <a:off x="4648320" y="2590920"/>
            <a:ext cx="3962160" cy="2760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2286000" y="457200"/>
            <a:ext cx="43434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19541"/>
                </a:solidFill>
                <a:latin typeface="Arial Narrow"/>
              </a:rPr>
              <a:t>Цветовод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533520" y="2133720"/>
            <a:ext cx="3457440" cy="1079280"/>
          </a:xfrm>
          <a:prstGeom prst="roundRect">
            <a:avLst>
              <a:gd name="adj" fmla="val 16667"/>
            </a:avLst>
          </a:prstGeom>
          <a:solidFill>
            <a:srgbClr val="e9dc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33520" y="2133720"/>
            <a:ext cx="360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 правильно ухаживать за растения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>
            <a:off x="457200" y="3429000"/>
            <a:ext cx="3457440" cy="1079640"/>
          </a:xfrm>
          <a:prstGeom prst="roundRect">
            <a:avLst>
              <a:gd name="adj" fmla="val 16667"/>
            </a:avLst>
          </a:prstGeom>
          <a:solidFill>
            <a:srgbClr val="e9dc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533520" y="4800600"/>
            <a:ext cx="3276360" cy="838080"/>
          </a:xfrm>
          <a:prstGeom prst="roundRect">
            <a:avLst>
              <a:gd name="adj" fmla="val 16667"/>
            </a:avLst>
          </a:prstGeom>
          <a:solidFill>
            <a:srgbClr val="e9dc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826920" y="3573360"/>
            <a:ext cx="352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533520" y="3581280"/>
            <a:ext cx="388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ие условия необходимы для растен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533520" y="48769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к размножаются комнатные раст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Palatino Linotype"/>
              </a:rPr>
              <a:t>Как  правильно ухаживать за растениями?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1. Некоторые комнатные растения нужно ставить ближе к свету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2. Почва в горшке должна быть слегка влажной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3. Вода должна быть комнатной температуры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4. Летом растения поливают каждый день или через день, зимой – реже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5. Регулярно рыхлить почву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6. Крупные листья протирать влажной  тряпкой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Palatino Linotype"/>
              </a:rPr>
              <a:t>Условия необходимые для жизни растений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Солнечный свет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Почва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Воздух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Тепло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1" name="Picture 5" descr="solnce-svet"/>
          <p:cNvPicPr/>
          <p:nvPr/>
        </p:nvPicPr>
        <p:blipFill>
          <a:blip r:embed="rId1"/>
          <a:stretch/>
        </p:blipFill>
        <p:spPr>
          <a:xfrm>
            <a:off x="6477120" y="4191120"/>
            <a:ext cx="210960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pochva1"/>
          <p:cNvPicPr/>
          <p:nvPr/>
        </p:nvPicPr>
        <p:blipFill>
          <a:blip r:embed="rId2"/>
          <a:stretch/>
        </p:blipFill>
        <p:spPr>
          <a:xfrm>
            <a:off x="6553080" y="1295280"/>
            <a:ext cx="219888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%D0%BF%D0%BE%D0%BB%D0%B8%D0%B2-%D1%80%D0%B0%D1%81%D1%82%D0%B5%D0%BD%D0%B8%D0%B9"/>
          <p:cNvPicPr/>
          <p:nvPr/>
        </p:nvPicPr>
        <p:blipFill>
          <a:blip r:embed="rId3"/>
          <a:stretch/>
        </p:blipFill>
        <p:spPr>
          <a:xfrm>
            <a:off x="2895480" y="4495680"/>
            <a:ext cx="2667240" cy="1792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vozduh02"/>
          <p:cNvPicPr/>
          <p:nvPr/>
        </p:nvPicPr>
        <p:blipFill>
          <a:blip r:embed="rId4"/>
          <a:stretch/>
        </p:blipFill>
        <p:spPr>
          <a:xfrm>
            <a:off x="4114800" y="2133720"/>
            <a:ext cx="2079720" cy="1952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Palatino Linotype"/>
              </a:rPr>
              <a:t>Как размножаются комнатные растения?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Размножение семенами    Размножение клубнями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Размножение черенками   Размножение делением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Размножение отводками   Размножение листками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7" name="Picture 4" descr="full"/>
          <p:cNvPicPr/>
          <p:nvPr/>
        </p:nvPicPr>
        <p:blipFill>
          <a:blip r:embed="rId1"/>
          <a:stretch/>
        </p:blipFill>
        <p:spPr>
          <a:xfrm>
            <a:off x="1447920" y="2895480"/>
            <a:ext cx="5410080" cy="3436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n7</dc:creator>
  <dc:description/>
  <dc:language>en-US</dc:language>
  <cp:lastModifiedBy>Win7</cp:lastModifiedBy>
  <dcterms:modified xsi:type="dcterms:W3CDTF">2018-04-05T19:58:16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