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A91-9494-4BE7-8BEC-6FC5D9B2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812-68F9-4E77-85A6-81560C8D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EAC-C9E1-40AF-8A9F-6B08092F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4FB-BA3D-4CC2-843A-A2DB0108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3565-6BED-49D4-93F2-FCC4CC0E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46CB-9DBA-4C87-9BB4-E4549BC7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3B48-374D-48E1-B8B6-CCF0F0D3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723D-3696-43A1-BCEE-C80BCA38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E353-E9F9-4524-9028-8C5FDA38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8E13-913B-464D-B1F4-E57D965F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92A8-B3B2-48A4-B5FE-A15EDDD4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795-CF8E-4F75-BAB1-26848BF6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C15D-058E-4060-97BE-AA6F6B43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C0B0-046A-4AFC-AFC3-8B5CCD66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D685-2A14-44DA-B64A-D6A4C84A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CEFA-1DB3-4045-9239-081C94A0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7D72-ABB6-4C8A-9FFC-43578EB9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79C-4BF2-421D-98D7-B3ABA50D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8CF-7744-44EF-AAE7-90C34A6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21B-AA85-495C-9E37-B4E33C26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163-BDA9-43CC-8862-4239F30A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30B-8875-4727-A6C5-D934EFE4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15B-FCE9-450E-AE1B-374003FE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631-B005-4A2B-9A47-3D76354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0996-9B10-4D1D-AB33-295E08AD73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C99B-503A-4BFC-A03F-9A681CA43894}" type="slidenum">
              <a:rPr b="0" lang="ru-RU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Palatino Linotype"/>
              </a:rPr>
              <a:t>Презентация по теме «Комнатные растения – наши друзья»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91120" y="4495680"/>
            <a:ext cx="4952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резентацию подготовила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Воспитатель ГБДОУ детский сад № 120 Невского района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Санкт-Петербурга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узьмина Е.А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5" name="Picture 7" descr="Картинка 53 из 162938"/>
          <p:cNvPicPr/>
          <p:nvPr/>
        </p:nvPicPr>
        <p:blipFill>
          <a:blip r:embed="rId1"/>
          <a:stretch/>
        </p:blipFill>
        <p:spPr>
          <a:xfrm>
            <a:off x="609480" y="2590920"/>
            <a:ext cx="4038840" cy="4030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000eeek6"/>
          <p:cNvPicPr/>
          <p:nvPr/>
        </p:nvPicPr>
        <p:blipFill>
          <a:blip r:embed="rId1"/>
          <a:stretch/>
        </p:blipFill>
        <p:spPr>
          <a:xfrm>
            <a:off x="5410080" y="22860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2133720" y="457200"/>
            <a:ext cx="4038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Айболи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762120" y="2362320"/>
            <a:ext cx="3429000" cy="1008000"/>
          </a:xfrm>
          <a:prstGeom prst="flowChartAlternateProcess">
            <a:avLst/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826920" y="2349360"/>
            <a:ext cx="3313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бывают ядовитые раст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2120" y="4267080"/>
            <a:ext cx="3504960" cy="1225800"/>
          </a:xfrm>
          <a:prstGeom prst="flowChartAlternateProcess">
            <a:avLst/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62120" y="4343400"/>
            <a:ext cx="3887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лечебных растениях на твоём подокон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Эти растения опасны!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5" name="Picture 7" descr="олеандр"/>
          <p:cNvPicPr/>
          <p:nvPr/>
        </p:nvPicPr>
        <p:blipFill>
          <a:blip r:embed="rId1"/>
          <a:stretch/>
        </p:blipFill>
        <p:spPr>
          <a:xfrm>
            <a:off x="609480" y="1828800"/>
            <a:ext cx="3660840" cy="4522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диффенбахия"/>
          <p:cNvPicPr/>
          <p:nvPr/>
        </p:nvPicPr>
        <p:blipFill>
          <a:blip r:embed="rId2"/>
          <a:stretch/>
        </p:blipFill>
        <p:spPr>
          <a:xfrm>
            <a:off x="4952880" y="1828800"/>
            <a:ext cx="3210120" cy="4362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4952880" y="1295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ффенбах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9480" y="1295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ле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alatino Linotype"/>
              </a:rPr>
              <a:t>Лечебные растения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0" name="Picture 9" descr="лимон"/>
          <p:cNvPicPr/>
          <p:nvPr/>
        </p:nvPicPr>
        <p:blipFill>
          <a:blip r:embed="rId1"/>
          <a:stretch/>
        </p:blipFill>
        <p:spPr>
          <a:xfrm>
            <a:off x="380880" y="1371600"/>
            <a:ext cx="2881440" cy="3809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алоэ"/>
          <p:cNvPicPr/>
          <p:nvPr/>
        </p:nvPicPr>
        <p:blipFill>
          <a:blip r:embed="rId2"/>
          <a:stretch/>
        </p:blipFill>
        <p:spPr>
          <a:xfrm>
            <a:off x="4724280" y="1371600"/>
            <a:ext cx="2998800" cy="226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мята"/>
          <p:cNvPicPr/>
          <p:nvPr/>
        </p:nvPicPr>
        <p:blipFill>
          <a:blip r:embed="rId3"/>
          <a:stretch/>
        </p:blipFill>
        <p:spPr>
          <a:xfrm>
            <a:off x="3581280" y="4038480"/>
            <a:ext cx="3245040" cy="2595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457200" y="914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648320" y="3733920"/>
            <a:ext cx="2819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781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800600" y="9144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о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Проделав работу мы пришли к выводу: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Все растения – живые существа, способные воздействовать на человека и его жилище. И от того, сумеем ли мы правильно подобрать комнатное растение и обеспечить им достойный уход и содержание, зависит и общая атмосфера дома, и самочувствие их обитателей. Давайте не будем забывать о своих домашних друзьях, ведь они заботятся о нас бескорыстно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685800" y="4191120"/>
            <a:ext cx="287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znayka_"/>
          <p:cNvPicPr/>
          <p:nvPr/>
        </p:nvPicPr>
        <p:blipFill>
          <a:blip r:embed="rId1"/>
          <a:stretch/>
        </p:blipFill>
        <p:spPr>
          <a:xfrm>
            <a:off x="5181480" y="2362320"/>
            <a:ext cx="3276720" cy="30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2286000" y="533520"/>
            <a:ext cx="38876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Unicode MS"/>
              </a:rPr>
              <a:t>Знай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762120" y="4876920"/>
            <a:ext cx="3240000" cy="107928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838080" y="5181480"/>
            <a:ext cx="280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ова роль растений в жизни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762120" y="3505320"/>
            <a:ext cx="3240000" cy="100800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990720" y="3581280"/>
            <a:ext cx="3166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 чего состоит раст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762120" y="2133720"/>
            <a:ext cx="3200400" cy="1066680"/>
          </a:xfrm>
          <a:prstGeom prst="flowChartAlternateProcess">
            <a:avLst/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838080" y="2286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возникновения цвето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Palatino Linotype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Комнатные растения  появились в эпоху великих географических открытий, когда из Америки, Азии и Африки было вывезено множество новых экзотических цветов. В России начало комнатного цветоводства принято связывать с именем Петра Первого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 дворянских семьях в основном выращивали пальмы, фикусы, кротоны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 бедных семьях были цветы попроще – герань, бальзамин, колеус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7" name="Picture 5" descr="Картинка 8 из 197832"/>
          <p:cNvPicPr/>
          <p:nvPr/>
        </p:nvPicPr>
        <p:blipFill>
          <a:blip r:embed="rId1"/>
          <a:stretch/>
        </p:blipFill>
        <p:spPr>
          <a:xfrm>
            <a:off x="6573960" y="3962520"/>
            <a:ext cx="228744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alatino Linotype"/>
              </a:rPr>
              <a:t>Из чего состоит растение?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9" name="Picture 5" descr="08"/>
          <p:cNvPicPr/>
          <p:nvPr/>
        </p:nvPicPr>
        <p:blipFill>
          <a:blip r:embed="rId1"/>
          <a:stretch/>
        </p:blipFill>
        <p:spPr>
          <a:xfrm>
            <a:off x="990720" y="114300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1476360" y="1197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ют 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8000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ат украш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5940360" y="14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агоух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066680" y="29718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нимают на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411280" y="4941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ищают 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932360" y="50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мают 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6443640" y="3500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дают целебными св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826920" y="4797360"/>
            <a:ext cx="295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1216644006211"/>
          <p:cNvPicPr/>
          <p:nvPr/>
        </p:nvPicPr>
        <p:blipFill>
          <a:blip r:embed="rId1"/>
          <a:stretch/>
        </p:blipFill>
        <p:spPr>
          <a:xfrm>
            <a:off x="4648320" y="2590920"/>
            <a:ext cx="3962160" cy="2760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2286000" y="457200"/>
            <a:ext cx="4343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19541"/>
                </a:solidFill>
                <a:latin typeface="Arial Narrow"/>
              </a:rPr>
              <a:t>Цветово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533520" y="2133720"/>
            <a:ext cx="3457440" cy="107928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3520" y="2133720"/>
            <a:ext cx="36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правильно ухаживать за растени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457200" y="3429000"/>
            <a:ext cx="3457440" cy="107964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533520" y="4800600"/>
            <a:ext cx="3276360" cy="838080"/>
          </a:xfrm>
          <a:prstGeom prst="roundRect">
            <a:avLst>
              <a:gd name="adj" fmla="val 16667"/>
            </a:avLst>
          </a:prstGeom>
          <a:solidFill>
            <a:srgbClr val="e9dc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826920" y="3573360"/>
            <a:ext cx="352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533520" y="3581280"/>
            <a:ext cx="388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условия необходимы для раст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33520" y="48769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размножаются комнатные раст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Как  правильно ухаживать за растениями?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1. Некоторые комнатные растения нужно ставить ближе к свету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2. Почва в горшке должна быть слегка влажной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3. Вода должна быть комнатной температуры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4. Летом растения поливают каждый день или через день, зимой – реже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5. Регулярно рыхлить почву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Palatino Linotype"/>
              </a:rPr>
              <a:t>6. Крупные листья протирать влажной  тряпкой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Условия необходимые для жизни растений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Солнечный свет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Почва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Palatino Linotype"/>
              </a:rPr>
              <a:t>Тепло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1" name="Picture 5" descr="solnce-svet"/>
          <p:cNvPicPr/>
          <p:nvPr/>
        </p:nvPicPr>
        <p:blipFill>
          <a:blip r:embed="rId1"/>
          <a:stretch/>
        </p:blipFill>
        <p:spPr>
          <a:xfrm>
            <a:off x="6477120" y="4191120"/>
            <a:ext cx="21096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ochva1"/>
          <p:cNvPicPr/>
          <p:nvPr/>
        </p:nvPicPr>
        <p:blipFill>
          <a:blip r:embed="rId2"/>
          <a:stretch/>
        </p:blipFill>
        <p:spPr>
          <a:xfrm>
            <a:off x="6553080" y="1295280"/>
            <a:ext cx="21988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%D0%BF%D0%BE%D0%BB%D0%B8%D0%B2-%D1%80%D0%B0%D1%81%D1%82%D0%B5%D0%BD%D0%B8%D0%B9"/>
          <p:cNvPicPr/>
          <p:nvPr/>
        </p:nvPicPr>
        <p:blipFill>
          <a:blip r:embed="rId3"/>
          <a:stretch/>
        </p:blipFill>
        <p:spPr>
          <a:xfrm>
            <a:off x="2895480" y="4495680"/>
            <a:ext cx="2667240" cy="1792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vozduh02"/>
          <p:cNvPicPr/>
          <p:nvPr/>
        </p:nvPicPr>
        <p:blipFill>
          <a:blip r:embed="rId4"/>
          <a:stretch/>
        </p:blipFill>
        <p:spPr>
          <a:xfrm>
            <a:off x="4114800" y="2133720"/>
            <a:ext cx="207972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Как размножаются комнатные растения?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змножение семенами    Размножение клубням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змножение черенками   Размножение делением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Размножение отводками   Размножение листками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7" name="Picture 4" descr="full"/>
          <p:cNvPicPr/>
          <p:nvPr/>
        </p:nvPicPr>
        <p:blipFill>
          <a:blip r:embed="rId1"/>
          <a:stretch/>
        </p:blipFill>
        <p:spPr>
          <a:xfrm>
            <a:off x="1447920" y="2895480"/>
            <a:ext cx="5410080" cy="343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7</dc:creator>
  <dc:description/>
  <dc:language>en-US</dc:language>
  <cp:lastModifiedBy>Win7</cp:lastModifiedBy>
  <dcterms:modified xsi:type="dcterms:W3CDTF">2018-04-05T19:58:1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