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EFE7-0679-4094-9444-B7629214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BCD5-9D06-488B-A806-C9BEE257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A57-89DA-4B39-9AFB-A7B32AAF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40D4-86A9-4741-97A7-B80A2766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3A5A-B5E4-4133-895A-BC4A5198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5DDC-9F35-4463-B6AD-2A043B2D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0E31-0657-4C1F-B02B-F7A54F43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1C7E-3692-4741-914C-4F3C36F0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BF9-32AF-4483-9501-FF83C1C5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B069-6498-45DA-9CC3-E4FEF7B3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D6B0-F33E-4FC3-9468-5FF80CD1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A5CD-99AC-46A8-AE8D-56C76062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7AE3-BB7A-49EA-9906-ADD646AE70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357280" y="1738440"/>
            <a:ext cx="58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«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Мы – чистюли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5"/>
          <p:cNvSpPr/>
          <p:nvPr/>
        </p:nvSpPr>
        <p:spPr>
          <a:xfrm>
            <a:off x="708120" y="3903840"/>
            <a:ext cx="78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Дети и воспитатели старшей группы 2 МБДОУ «Сказ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6"/>
          <p:cNvSpPr/>
          <p:nvPr/>
        </p:nvSpPr>
        <p:spPr>
          <a:xfrm>
            <a:off x="1068480" y="3244680"/>
            <a:ext cx="4611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Авторы: Азербаева Л.В., Варенцова Л.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2"/>
          <p:cNvSpPr/>
          <p:nvPr/>
        </p:nvSpPr>
        <p:spPr>
          <a:xfrm>
            <a:off x="1932120" y="1262160"/>
            <a:ext cx="683892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Цель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продолжать побуждать детей к ведению здорового образа жизни и важности соблюдения гигиенических процеду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Задач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закрепить знания детей о правилах личной  гигиен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 развивать умения переносить полученные знания в   повседневную жизн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 воспитывать самостоятельность, опрятность, аккуратн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952720" y="554040"/>
            <a:ext cx="56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каз мультфильма «Мойдоды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J:\DCIM\104SSCAM\SDC15064.JPG"/>
          <p:cNvPicPr/>
          <p:nvPr/>
        </p:nvPicPr>
        <p:blipFill>
          <a:blip r:embed="rId1"/>
          <a:stretch/>
        </p:blipFill>
        <p:spPr>
          <a:xfrm>
            <a:off x="2952720" y="1262160"/>
            <a:ext cx="5319720" cy="3989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D:\мойдодыр-2.jpg"/>
          <p:cNvPicPr/>
          <p:nvPr/>
        </p:nvPicPr>
        <p:blipFill>
          <a:blip r:embed="rId2"/>
          <a:stretch/>
        </p:blipFill>
        <p:spPr>
          <a:xfrm>
            <a:off x="212760" y="2502000"/>
            <a:ext cx="219060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833560" y="5540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H:\детский сад фото\здоровое питание\SDC12960 (2).JPG"/>
          <p:cNvPicPr/>
          <p:nvPr/>
        </p:nvPicPr>
        <p:blipFill>
          <a:blip r:embed="rId1"/>
          <a:stretch/>
        </p:blipFill>
        <p:spPr>
          <a:xfrm>
            <a:off x="895320" y="2340000"/>
            <a:ext cx="5141880" cy="3857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2330280" y="738360"/>
            <a:ext cx="2975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Бесед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«Личная гигиен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D:\964652d8263211e4a1483085a99aa192_ad0c0f0b27a911e4a1173085a99aa192-480x640.jpg"/>
          <p:cNvPicPr/>
          <p:nvPr/>
        </p:nvPicPr>
        <p:blipFill>
          <a:blip r:embed="rId2"/>
          <a:stretch/>
        </p:blipFill>
        <p:spPr>
          <a:xfrm>
            <a:off x="6616800" y="109440"/>
            <a:ext cx="23461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2305080" y="309600"/>
            <a:ext cx="673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Для закрепления знаний и навыков личной гигиены даём детям различные поручени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например назначаем санитаров для систематической проверки у сверстников состояние ногтей, рук, одежды, содержание личных вещей в шкаф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J:\DCIM\104SSCAM\SDC15060.JPG"/>
          <p:cNvPicPr/>
          <p:nvPr/>
        </p:nvPicPr>
        <p:blipFill>
          <a:blip r:embed="rId1"/>
          <a:stretch/>
        </p:blipFill>
        <p:spPr>
          <a:xfrm>
            <a:off x="444600" y="2419200"/>
            <a:ext cx="4133880" cy="3332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J:\DCIM\104SSCAM\SDC15061.JPG"/>
          <p:cNvPicPr/>
          <p:nvPr/>
        </p:nvPicPr>
        <p:blipFill>
          <a:blip r:embed="rId2"/>
          <a:stretch/>
        </p:blipFill>
        <p:spPr>
          <a:xfrm>
            <a:off x="5435640" y="2201760"/>
            <a:ext cx="322272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7" descr="SDC12946.JPG"/>
          <p:cNvPicPr/>
          <p:nvPr/>
        </p:nvPicPr>
        <p:blipFill>
          <a:blip r:embed="rId1"/>
          <a:stretch/>
        </p:blipFill>
        <p:spPr>
          <a:xfrm>
            <a:off x="249120" y="2389320"/>
            <a:ext cx="4189680" cy="313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J:\DCIM\104SSCAM\SDC13403.JPG"/>
          <p:cNvPicPr/>
          <p:nvPr/>
        </p:nvPicPr>
        <p:blipFill>
          <a:blip r:embed="rId2"/>
          <a:stretch/>
        </p:blipFill>
        <p:spPr>
          <a:xfrm>
            <a:off x="4815000" y="2462040"/>
            <a:ext cx="3984480" cy="2989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2678040" y="644400"/>
            <a:ext cx="589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Формирование гигиенических навыков у детей  через трудовые поручения помощника воспитате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2549520" y="515880"/>
            <a:ext cx="60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именение правил личной гигиены в сюжетно-ролевых игр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14" descr="SDC12930.JPG"/>
          <p:cNvPicPr/>
          <p:nvPr/>
        </p:nvPicPr>
        <p:blipFill>
          <a:blip r:embed="rId1"/>
          <a:stretch/>
        </p:blipFill>
        <p:spPr>
          <a:xfrm>
            <a:off x="646200" y="2236680"/>
            <a:ext cx="3444840" cy="2811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I:\детский сад фото\SDC12932.JPG"/>
          <p:cNvPicPr/>
          <p:nvPr/>
        </p:nvPicPr>
        <p:blipFill>
          <a:blip r:embed="rId2"/>
          <a:stretch/>
        </p:blipFill>
        <p:spPr>
          <a:xfrm>
            <a:off x="5040360" y="2373480"/>
            <a:ext cx="3384360" cy="253980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965160" y="50468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«День рожде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5583240" y="5046840"/>
            <a:ext cx="24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«Дочки-матер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0:52:53Z</dcterms:created>
  <dc:creator>Инна</dc:creator>
  <dc:description/>
  <dc:language>en-US</dc:language>
  <cp:lastModifiedBy>AMD</cp:lastModifiedBy>
  <dcterms:modified xsi:type="dcterms:W3CDTF">2018-06-28T09:59:22Z</dcterms:modified>
  <cp:revision>22</cp:revision>
  <dc:subject/>
  <dc:title>Название презентации</dc:title>
</cp:coreProperties>
</file>