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8B8-9D23-4261-AE2F-85CA6D75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F53-840E-4B9E-85CA-2B457F4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85F-6CB5-4E90-9CDA-82753AFB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85C-6754-45E6-9D18-2269F2F7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12E-39CD-44D1-8469-8165E2AD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B7C-5152-4862-90AD-CDFE355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4A5-EDE4-46F2-8581-EB90AEEE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246-7F5C-408A-9677-9C24402B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364-07C9-4978-829D-A405514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EA2-F7F1-4D78-B896-3181289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730-80C8-40EC-824E-6916990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B51-9343-41CE-A1D4-F487AF3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F4D-8D4A-422F-BA9B-58109C459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57280" y="1738440"/>
            <a:ext cx="58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Мы – чистюли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708120" y="39038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ти и воспитатели старшей группы 2 МБДОУ «Ска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68480" y="3244680"/>
            <a:ext cx="461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вторы: Азербаева Л.В., Варенцова Л.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1932120" y="1262160"/>
            <a:ext cx="68389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продолжать побуждать детей к ведению здорового образа жизни и важности соблюдения гигиенических процед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закрепить знания детей о правилах личной  гиги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развивать умения переносить полученные знания в   повседневную жизн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воспитывать самостоятельность, опрятность, аккурат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952720" y="554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каз мультфильма «Мойдоды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J:\DCIM\104SSCAM\SDC15064.JPG"/>
          <p:cNvPicPr/>
          <p:nvPr/>
        </p:nvPicPr>
        <p:blipFill>
          <a:blip r:embed="rId1"/>
          <a:stretch/>
        </p:blipFill>
        <p:spPr>
          <a:xfrm>
            <a:off x="2952720" y="1262160"/>
            <a:ext cx="5319720" cy="39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йдодыр-2.jpg"/>
          <p:cNvPicPr/>
          <p:nvPr/>
        </p:nvPicPr>
        <p:blipFill>
          <a:blip r:embed="rId2"/>
          <a:stretch/>
        </p:blipFill>
        <p:spPr>
          <a:xfrm>
            <a:off x="212760" y="2502000"/>
            <a:ext cx="21906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33560" y="554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:\детский сад фото\здоровое питание\SDC12960 (2).JPG"/>
          <p:cNvPicPr/>
          <p:nvPr/>
        </p:nvPicPr>
        <p:blipFill>
          <a:blip r:embed="rId1"/>
          <a:stretch/>
        </p:blipFill>
        <p:spPr>
          <a:xfrm>
            <a:off x="895320" y="2340000"/>
            <a:ext cx="5141880" cy="385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330280" y="738360"/>
            <a:ext cx="297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Бесе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Личная гигиен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964652d8263211e4a1483085a99aa192_ad0c0f0b27a911e4a1173085a99aa192-480x640.jpg"/>
          <p:cNvPicPr/>
          <p:nvPr/>
        </p:nvPicPr>
        <p:blipFill>
          <a:blip r:embed="rId2"/>
          <a:stretch/>
        </p:blipFill>
        <p:spPr>
          <a:xfrm>
            <a:off x="6616800" y="109440"/>
            <a:ext cx="234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305080" y="309600"/>
            <a:ext cx="673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ля закрепления знаний и навыков личной гигиены даём детям различные поруч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пример назначаем санитаров для систематической проверки у сверстников состояние ногтей, рук, одежды, содержание личных вещей в шкаф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J:\DCIM\104SSCAM\SDC15060.JPG"/>
          <p:cNvPicPr/>
          <p:nvPr/>
        </p:nvPicPr>
        <p:blipFill>
          <a:blip r:embed="rId1"/>
          <a:stretch/>
        </p:blipFill>
        <p:spPr>
          <a:xfrm>
            <a:off x="444600" y="2419200"/>
            <a:ext cx="4133880" cy="333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:\DCIM\104SSCAM\SDC15061.JPG"/>
          <p:cNvPicPr/>
          <p:nvPr/>
        </p:nvPicPr>
        <p:blipFill>
          <a:blip r:embed="rId2"/>
          <a:stretch/>
        </p:blipFill>
        <p:spPr>
          <a:xfrm>
            <a:off x="5435640" y="2201760"/>
            <a:ext cx="3222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7" descr="SDC12946.JPG"/>
          <p:cNvPicPr/>
          <p:nvPr/>
        </p:nvPicPr>
        <p:blipFill>
          <a:blip r:embed="rId1"/>
          <a:stretch/>
        </p:blipFill>
        <p:spPr>
          <a:xfrm>
            <a:off x="249120" y="2389320"/>
            <a:ext cx="4189680" cy="31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J:\DCIM\104SSCAM\SDC13403.JPG"/>
          <p:cNvPicPr/>
          <p:nvPr/>
        </p:nvPicPr>
        <p:blipFill>
          <a:blip r:embed="rId2"/>
          <a:stretch/>
        </p:blipFill>
        <p:spPr>
          <a:xfrm>
            <a:off x="4815000" y="2462040"/>
            <a:ext cx="398448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678040" y="64440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ормирование гигиенических навыков у детей  через трудовые поручения помощника воспит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49520" y="515880"/>
            <a:ext cx="60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менение правил личной гигиены в сюжетно-ролевых иг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4" descr="SDC12930.JPG"/>
          <p:cNvPicPr/>
          <p:nvPr/>
        </p:nvPicPr>
        <p:blipFill>
          <a:blip r:embed="rId1"/>
          <a:stretch/>
        </p:blipFill>
        <p:spPr>
          <a:xfrm>
            <a:off x="646200" y="2236680"/>
            <a:ext cx="3444840" cy="281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:\детский сад фото\SDC12932.JPG"/>
          <p:cNvPicPr/>
          <p:nvPr/>
        </p:nvPicPr>
        <p:blipFill>
          <a:blip r:embed="rId2"/>
          <a:stretch/>
        </p:blipFill>
        <p:spPr>
          <a:xfrm>
            <a:off x="5040360" y="2373480"/>
            <a:ext cx="3384360" cy="2539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965160" y="50468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ень рожд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583240" y="504684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очки-мате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AMD</cp:lastModifiedBy>
  <dcterms:modified xsi:type="dcterms:W3CDTF">2018-06-28T09:59:22Z</dcterms:modified>
  <cp:revision>22</cp:revision>
  <dc:subject/>
  <dc:title>Название презентации</dc:title>
</cp:coreProperties>
</file>