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4.jpeg" ContentType="image/jpeg"/>
  <Override PartName="/ppt/media/image15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EF3A-B973-4F0E-B377-4098989ED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27CA-64DB-4E59-89F9-9BF520E4A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F9D7-4CE5-4DFD-B678-CD0782E03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B264-DC09-4998-9EC4-DA467D98B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F7D5-639F-4254-BF10-8120C7309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7B4C-CDFF-44B9-8FFB-AFCB37DA6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D8D3-FB2E-4209-A3C2-202840590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20DD-C58E-46BE-941B-97BF95A35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3B9D-F8E6-489E-9C94-BCAEB8DAA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EB28-3A98-4781-86AE-78375D8D2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AE5F-04E5-4929-BEB2-2271A2BA2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E69C-90B5-47E2-AEEF-3AC5C4AF8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51024-191E-4FBF-8980-D14E7FC0B99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ne-kurim.ru/glossary/rak-legkih/" TargetMode="External"/><Relationship Id="rId2" Type="http://schemas.openxmlformats.org/officeDocument/2006/relationships/hyperlink" Target="http://ne-kurim.ru/glossary/bronkhit/" TargetMode="Externa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nosmoking.ru/news2002/y20020215.htm" TargetMode="External"/><Relationship Id="rId2" Type="http://schemas.openxmlformats.org/officeDocument/2006/relationships/hyperlink" Target="http://www.nosmoking.ru/news2002/y20020215.htm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ne-kurim.ru/glossary/nikotin/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ГАПОУ СО «Краснотурьинский индустриальный колледж»</a:t>
            </a:r>
            <a:br>
              <a:rPr sz="5400"/>
            </a:br>
            <a:r>
              <a:rPr b="1" i="1" lang="ru-RU" sz="4000" spc="-1" strike="noStrike">
                <a:solidFill>
                  <a:srgbClr val="663300"/>
                </a:solidFill>
                <a:latin typeface="Tahoma"/>
              </a:rPr>
              <a:t>«Курение  убивает»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2" name="Picture 2" descr="C:\Users\Neo\Desktop\8818.jpg"/>
          <p:cNvPicPr/>
          <p:nvPr/>
        </p:nvPicPr>
        <p:blipFill>
          <a:blip r:embed="rId1"/>
          <a:stretch/>
        </p:blipFill>
        <p:spPr>
          <a:xfrm>
            <a:off x="2571840" y="3267000"/>
            <a:ext cx="4048200" cy="30006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00"/>
                </a:solidFill>
                <a:latin typeface="Tahoma"/>
              </a:rPr>
              <a:t>под прицелом </a:t>
            </a:r>
            <a:br>
              <a:rPr sz="4000"/>
            </a:br>
            <a:r>
              <a:rPr b="1" lang="ru-RU" sz="4000" spc="-1" strike="noStrike">
                <a:solidFill>
                  <a:srgbClr val="ff9900"/>
                </a:solidFill>
                <a:latin typeface="Tahoma"/>
              </a:rPr>
              <a:t>табачных фирм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громная армия курильщиков обеспечивает гарантированные прибыли табачным компаниям мир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абачные компании навязывают детям имидж. Их рекламы пытаются вам внушить, что вы будете независимыми, если закурите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о лучший способ быть независимыми – это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думать самостоятельно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и не позволять большим компаниям думать за вас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8" name="Picture 6" descr="agit5-51"/>
          <p:cNvPicPr/>
          <p:nvPr/>
        </p:nvPicPr>
        <p:blipFill>
          <a:blip r:embed="rId1"/>
          <a:stretch/>
        </p:blipFill>
        <p:spPr>
          <a:xfrm rot="20928600">
            <a:off x="169920" y="378000"/>
            <a:ext cx="2362320" cy="15238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7" descr="agit5-52"/>
          <p:cNvPicPr/>
          <p:nvPr/>
        </p:nvPicPr>
        <p:blipFill>
          <a:blip r:embed="rId2"/>
          <a:stretch/>
        </p:blipFill>
        <p:spPr>
          <a:xfrm rot="816600">
            <a:off x="6713280" y="380520"/>
            <a:ext cx="213660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Tahoma"/>
              </a:rPr>
              <a:t>Молодым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ff9900"/>
                </a:solidFill>
                <a:latin typeface="Tahoma"/>
              </a:rPr>
              <a:t>обдумывающим своё будуще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ВАЖН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СДЕЛАТЬ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ПРАВИЛЬНЫЙ ВЫБОР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ahoma"/>
              </a:rPr>
              <a:t>ЖИТЬ</a:t>
            </a:r>
            <a:r>
              <a:rPr b="1" lang="ru-RU" sz="4000" spc="-1" strike="noStrike">
                <a:solidFill>
                  <a:srgbClr val="ff9900"/>
                </a:solidFill>
                <a:latin typeface="Tahoma"/>
              </a:rPr>
              <a:t> ИЛИ</a:t>
            </a:r>
            <a:r>
              <a:rPr b="1" lang="ru-RU" sz="40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ahoma"/>
              </a:rPr>
              <a:t>КУРИТЬ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1" name="Picture 6" descr="allergija_deti_39918_1"/>
          <p:cNvPicPr/>
          <p:nvPr/>
        </p:nvPicPr>
        <p:blipFill>
          <a:blip r:embed="rId1"/>
          <a:stretch/>
        </p:blipFill>
        <p:spPr>
          <a:xfrm>
            <a:off x="685800" y="1905120"/>
            <a:ext cx="297180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ВЛИЯНИЕ НА ОРГАНИЗМ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урением обусловлено как минимум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90% случаев </a:t>
            </a: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1"/>
              </a:rPr>
              <a:t>рака легкого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5-20% случаев онкологических заболеваний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ругих локализаций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75% случаев хронического </a:t>
            </a: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бронхита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 эмфиземы легких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5% смертей от сердечно-сосудистых заболевани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 это далеко не полный список последствий табакокурени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анняя импотенция у мужчин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еждевременное старение кожи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ертвая беременность у женщин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азличные патологии у младенцев курящих матерей …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152280" y="228600"/>
            <a:ext cx="37339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ahoma"/>
              </a:rPr>
              <a:t>Вдыхаемая доза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различных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ингредиентов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ahoma"/>
              </a:rPr>
              <a:t>табачного дыма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при активном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и пассивном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курении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4038480" y="1676520"/>
          <a:ext cx="4800600" cy="4620960"/>
        </p:xfrm>
        <a:graphic>
          <a:graphicData uri="http://schemas.openxmlformats.org/drawingml/2006/table">
            <a:tbl>
              <a:tblPr/>
              <a:tblGrid>
                <a:gridCol w="1725840"/>
                <a:gridCol w="1576440"/>
                <a:gridCol w="1498320"/>
              </a:tblGrid>
              <a:tr h="397800">
                <a:tc rowSpan="2"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ставные части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дыхаемая доза, мг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4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Активный курильщик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    (1 сигарета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Пассивный</a:t>
                      </a:r>
                      <a:br>
                        <a:rPr sz="1400"/>
                      </a:br>
                      <a:r>
                        <a:rPr b="1" lang="ru-RU" sz="14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курильщик</a:t>
                      </a:r>
                      <a:br>
                        <a:rPr sz="1400"/>
                      </a:b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1 час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гарный газ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8,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,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ксид азо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льдегид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36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Циани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00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16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кролеи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0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160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вердые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 жидкие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еществ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5,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,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00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икоти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,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0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6" name="Picture 259" descr="Пассивное курение. Фото с сайта www.gettyimages.com"/>
          <p:cNvPicPr/>
          <p:nvPr/>
        </p:nvPicPr>
        <p:blipFill>
          <a:blip r:embed="rId1"/>
          <a:stretch/>
        </p:blipFill>
        <p:spPr>
          <a:xfrm>
            <a:off x="4038480" y="152280"/>
            <a:ext cx="4800600" cy="14479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62" descr="1208161652437295_200_200"/>
          <p:cNvPicPr/>
          <p:nvPr/>
        </p:nvPicPr>
        <p:blipFill>
          <a:blip r:embed="rId2"/>
          <a:stretch/>
        </p:blipFill>
        <p:spPr>
          <a:xfrm>
            <a:off x="380880" y="4495680"/>
            <a:ext cx="335304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Мозг и нервная система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 вредном действии никотина на центральную нервную систему можно судить по действию первой выкуренной папиросы: тошнота, рвота, холодный пот, иногда потеря сознания —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от симптомы, которые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оворят об отравлении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леток мозга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0" name="Picture 4" descr="Фотошоп табачного дыма (11 фото)"/>
          <p:cNvPicPr/>
          <p:nvPr/>
        </p:nvPicPr>
        <p:blipFill>
          <a:blip r:embed="rId1"/>
          <a:stretch/>
        </p:blipFill>
        <p:spPr>
          <a:xfrm>
            <a:off x="5257800" y="3962520"/>
            <a:ext cx="34290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Желудочно-кишечный тракт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урящие иногда говорят: курение делает пищу более вкусной. Конечно, если предварительно наполнить рот какой-либо горечью, то после этого самая обычная пища покажется вкусной. На самом деле курение снижает аппетит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икотин увеличивает выделение желудочного сока. Развитие гастрита, язвенной болезни желудк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реди мужчин, пораженных язвенной болезнью желудка, 96–97% курил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243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ПЕЧЕНЬ КУРИЛЬЩИКА                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ahoma"/>
              </a:rPr>
              <a:t>Стаж курения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10 лет                   15 лет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4" name="Picture 7" descr="lung3"/>
          <p:cNvPicPr/>
          <p:nvPr/>
        </p:nvPicPr>
        <p:blipFill>
          <a:blip r:embed="rId1"/>
          <a:stretch/>
        </p:blipFill>
        <p:spPr>
          <a:xfrm>
            <a:off x="228600" y="2895480"/>
            <a:ext cx="4343400" cy="28958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" descr="lung4"/>
          <p:cNvPicPr/>
          <p:nvPr/>
        </p:nvPicPr>
        <p:blipFill>
          <a:blip r:embed="rId2"/>
          <a:stretch/>
        </p:blipFill>
        <p:spPr>
          <a:xfrm>
            <a:off x="4572000" y="2895480"/>
            <a:ext cx="434340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Сердечно-сосудистая система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урение вызывает преждевременный износ сердца и сосуд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и вдыхании табачного дыма сосуды сужаются, и ток крови по ним замедляется, а в некоторых случаях даже на какой-то момент приостанавливается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амедление тока крови в сосудах сердца проявляется коронарной недостаточностью, то есть приступом болей в области сердца. Поэтому курение, как правило, усиливает или вызывает приступы коронарной недостаточност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урение может быть и главной причиной стойкого спазма сосудов нижних конечностей, способствующего развитию облитерирующего эндартериита, поражающего преимущественно мужчин. Это заболевание ведет к нарушению питания, гангрене и, в итоге, к ампутации нижней конечност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Облитерация сосудов ступни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9" name="lightboxImage" descr="information_items_3259"/>
          <p:cNvPicPr/>
          <p:nvPr/>
        </p:nvPicPr>
        <p:blipFill>
          <a:blip r:embed="rId1"/>
          <a:stretch/>
        </p:blipFill>
        <p:spPr>
          <a:xfrm>
            <a:off x="1600200" y="2057400"/>
            <a:ext cx="579132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ffff"/>
                </a:solidFill>
                <a:latin typeface="Tahoma"/>
              </a:rPr>
              <a:t>Лёгкие</a:t>
            </a: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5720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е, кто много курит, заболевают раком лёгкого в двадцать раз чаще, чем некурящие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ак лёгкого в основном развивается на почве курения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ак лёгкого нередко оказывается настолько запущенным, что невозможно спасти больного даже ценой удаления всего лёгкого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течение года через легочный аппарат курильщика проходит около 800 г табачного дегтя. Не случайно легкие длительно курившего человека оказываются более темным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елика роль курения и в возникновении туберкулёз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ак, 95 из 100 человек, страдающих туберкулезом, к моменту начала заболевания, курили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410080" y="2466720"/>
            <a:ext cx="3276720" cy="27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Рисунок 47" descr="http://www.meding.ru/alcohol/tab23_clip_image005.jpg"/>
          <p:cNvPicPr/>
          <p:nvPr/>
        </p:nvPicPr>
        <p:blipFill>
          <a:blip r:embed="rId1"/>
          <a:stretch/>
        </p:blipFill>
        <p:spPr>
          <a:xfrm>
            <a:off x="5334120" y="2133720"/>
            <a:ext cx="3352680" cy="30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358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cc00"/>
                </a:solidFill>
                <a:latin typeface="Tahoma"/>
              </a:rPr>
              <a:t>КУРЕНИЕ или ЗДОРОВЬЕ</a:t>
            </a:r>
            <a:br>
              <a:rPr sz="5400"/>
            </a:br>
            <a:br>
              <a:rPr sz="5400"/>
            </a:b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85440" y="457200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bd0b31"/>
                </a:solidFill>
                <a:latin typeface="Tahoma"/>
              </a:rPr>
              <a:t>ЖИТЬ ИЛИ КУРИТЬ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5" name="Picture 4" descr="plakat-Jizn_bez_tabaka"/>
          <p:cNvPicPr/>
          <p:nvPr/>
        </p:nvPicPr>
        <p:blipFill>
          <a:blip r:embed="rId1"/>
          <a:stretch/>
        </p:blipFill>
        <p:spPr>
          <a:xfrm>
            <a:off x="2438280" y="1676520"/>
            <a:ext cx="4114800" cy="350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Туберкулёз лёгких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5" name="Рисунок 4" descr="http://www.mosclinic.ru/Images/art/0367/0367_1.jpg"/>
          <p:cNvPicPr/>
          <p:nvPr/>
        </p:nvPicPr>
        <p:blipFill>
          <a:blip r:embed="rId1"/>
          <a:stretch/>
        </p:blipFill>
        <p:spPr>
          <a:xfrm>
            <a:off x="1676520" y="1676520"/>
            <a:ext cx="58672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Лёгкие человека</a:t>
            </a:r>
            <a:br>
              <a:rPr sz="4000"/>
            </a:b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некурящего и курящего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7" name="Picture 7" descr="nonsmokerslung"/>
          <p:cNvPicPr/>
          <p:nvPr/>
        </p:nvPicPr>
        <p:blipFill>
          <a:blip r:embed="rId1"/>
          <a:stretch/>
        </p:blipFill>
        <p:spPr>
          <a:xfrm>
            <a:off x="457200" y="2257560"/>
            <a:ext cx="4038480" cy="35337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8" descr="smokerslung"/>
          <p:cNvPicPr/>
          <p:nvPr/>
        </p:nvPicPr>
        <p:blipFill>
          <a:blip r:embed="rId2"/>
          <a:stretch/>
        </p:blipFill>
        <p:spPr>
          <a:xfrm>
            <a:off x="4648320" y="2246400"/>
            <a:ext cx="4038480" cy="35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Лёгкие курящего человек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0" name="lightboxImage" descr="information_items_1190664255"/>
          <p:cNvPicPr/>
          <p:nvPr/>
        </p:nvPicPr>
        <p:blipFill>
          <a:blip r:embed="rId1"/>
          <a:stretch/>
        </p:blipFill>
        <p:spPr>
          <a:xfrm>
            <a:off x="1523880" y="1981080"/>
            <a:ext cx="6172200" cy="394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ЗРЕНИЕ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урение может вызвать никотиновую амблиопию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 больного, страдающего этим недугом, наступает частичная или полная слепота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Это очень грозное заболевание, при котором даже энергичное лечение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е всегда бывает успешны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ffff"/>
                </a:solidFill>
                <a:latin typeface="Tahoma"/>
              </a:rPr>
              <a:t>РАК ПОЛОСТИ РТА </a:t>
            </a:r>
            <a:br>
              <a:rPr sz="2800"/>
            </a:br>
            <a:r>
              <a:rPr b="1" lang="ru-RU" sz="2800" spc="-1" strike="noStrike">
                <a:solidFill>
                  <a:srgbClr val="e5ffff"/>
                </a:solidFill>
                <a:latin typeface="Tahoma"/>
              </a:rPr>
              <a:t>У ЗАЯДЛОГО КУРИЛЬЩИКА</a:t>
            </a:r>
            <a:r>
              <a:rPr b="1" lang="ru-RU" sz="2000" spc="-1" strike="noStrike">
                <a:solidFill>
                  <a:srgbClr val="e5ffff"/>
                </a:solidFill>
                <a:latin typeface="Tahoma"/>
              </a:rPr>
              <a:t> </a:t>
            </a:r>
            <a:br>
              <a:rPr sz="2000"/>
            </a:br>
            <a:r>
              <a:rPr b="0" lang="ru-RU" sz="2000" spc="-1" strike="noStrike">
                <a:solidFill>
                  <a:srgbClr val="e5ffff"/>
                </a:solidFill>
                <a:latin typeface="Tahoma"/>
              </a:rPr>
              <a:t>28 летний мужчина, </a:t>
            </a:r>
            <a:br>
              <a:rPr sz="2000"/>
            </a:br>
            <a:r>
              <a:rPr b="0" lang="ru-RU" sz="2000" spc="-1" strike="noStrike">
                <a:solidFill>
                  <a:srgbClr val="e5ffff"/>
                </a:solidFill>
                <a:latin typeface="Tahoma"/>
              </a:rPr>
              <a:t>который выкуривал не менее пачки в день в течение 10 лет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4" name="Picture 4" descr="fatal_mouth_cancer_28years_old"/>
          <p:cNvPicPr/>
          <p:nvPr/>
        </p:nvPicPr>
        <p:blipFill>
          <a:blip r:embed="rId1"/>
          <a:stretch/>
        </p:blipFill>
        <p:spPr>
          <a:xfrm>
            <a:off x="1981080" y="1981080"/>
            <a:ext cx="52578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Кадр из австралийского антитабачного ролика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6" name="lightboxImage" descr="information_items_3182"/>
          <p:cNvPicPr/>
          <p:nvPr/>
        </p:nvPicPr>
        <p:blipFill>
          <a:blip r:embed="rId1"/>
          <a:stretch/>
        </p:blipFill>
        <p:spPr>
          <a:xfrm>
            <a:off x="1676520" y="2286000"/>
            <a:ext cx="579096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1920" y="304920"/>
            <a:ext cx="4496040" cy="200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ahoma"/>
              </a:rPr>
              <a:t>ХОЧЕШЬ ЖИТЬ  – </a:t>
            </a:r>
            <a:br>
              <a:rPr sz="3600"/>
            </a:br>
            <a:r>
              <a:rPr b="1" i="1" lang="ru-RU" sz="3600" spc="-1" strike="noStrike">
                <a:solidFill>
                  <a:srgbClr val="ff0000"/>
                </a:solidFill>
                <a:latin typeface="Tahoma"/>
              </a:rPr>
              <a:t>БРОСАЙ КУРИТЬ!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дной из жертв табака стал известный американский киноактер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Вэйн Макларен,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который долгое время изображал мужественного "Мальборо Мэна" в табачной рекламе, пока в результате курения у него не развился рак легкого.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Он умер мучительно, когда ему исполнился всего 51 год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В своем последнем интервью, Макларен сказал: "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Позаботьтесь о детях. Табак убивает, и я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–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 живое доказательство этого. Эта привычка доконала меня. Я провел последний месяц своей жизни в инкубаторе, и я говорю Вам, что курение того не стоит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"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Picture 4" descr="cancer2"/>
          <p:cNvPicPr/>
          <p:nvPr/>
        </p:nvPicPr>
        <p:blipFill>
          <a:blip r:embed="rId1"/>
          <a:stretch/>
        </p:blipFill>
        <p:spPr>
          <a:xfrm>
            <a:off x="4800600" y="0"/>
            <a:ext cx="41148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Известные жертвы табак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мер </a:t>
            </a:r>
            <a:r>
              <a:rPr b="0" lang="ru-RU" sz="2400" spc="-1" strike="noStrike">
                <a:solidFill>
                  <a:srgbClr val="00ccff"/>
                </a:solidFill>
                <a:latin typeface="Tahoma"/>
              </a:rPr>
              <a:t>от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ru-RU" sz="2400" spc="-1" strike="noStrike">
                <a:solidFill>
                  <a:srgbClr val="00ccff"/>
                </a:solidFill>
                <a:latin typeface="Tahoma"/>
              </a:rPr>
              <a:t>злокачественной опухоли в левом легком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композитор, народный артист СССР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cc3300"/>
                </a:solidFill>
                <a:latin typeface="Tahoma"/>
              </a:rPr>
              <a:t>Дмитрий Дмитриевич Шостакович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31 мая 2005 года в Москве умер </a:t>
            </a:r>
            <a:r>
              <a:rPr b="0" lang="ru-RU" sz="2400" spc="-1" strike="noStrike">
                <a:solidFill>
                  <a:srgbClr val="00ccff"/>
                </a:solidFill>
                <a:latin typeface="Tahoma"/>
              </a:rPr>
              <a:t>от 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ка легких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родный артист Грузинской ССР </a:t>
            </a:r>
            <a:r>
              <a:rPr b="0" lang="ru-RU" sz="2400" spc="-1" strike="noStrike">
                <a:solidFill>
                  <a:srgbClr val="cc3300"/>
                </a:solidFill>
                <a:latin typeface="Tahoma"/>
              </a:rPr>
              <a:t>Арчил Гомиашвили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– актер, сыгравший роль Остапа Бендер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 комедии Л.Гайдая «Двенадцать стульев»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мер </a:t>
            </a:r>
            <a:r>
              <a:rPr b="0" lang="ru-RU" sz="2400" spc="-1" strike="noStrike">
                <a:solidFill>
                  <a:srgbClr val="00ccff"/>
                </a:solidFill>
                <a:latin typeface="Tahoma"/>
              </a:rPr>
              <a:t>от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ru-RU" sz="2400" spc="-1" strike="noStrike">
                <a:solidFill>
                  <a:srgbClr val="00ccff"/>
                </a:solidFill>
                <a:latin typeface="Tahoma"/>
              </a:rPr>
              <a:t>рака легких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первый </a:t>
            </a:r>
            <a:r>
              <a:rPr b="0" lang="ru-RU" sz="2400" spc="-1" strike="noStrike">
                <a:solidFill>
                  <a:srgbClr val="cc3300"/>
                </a:solidFill>
                <a:latin typeface="Tahoma"/>
              </a:rPr>
              <a:t>владелец компании Marlboro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чень долго и очень мучительно умирал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00ccff"/>
                </a:solidFill>
                <a:latin typeface="Tahoma"/>
              </a:rPr>
              <a:t>от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рака ротовой полости большой любитель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хороших сигар великий психиатр </a:t>
            </a:r>
            <a:r>
              <a:rPr b="0" lang="ru-RU" sz="2400" spc="-1" strike="noStrike">
                <a:solidFill>
                  <a:srgbClr val="cc3300"/>
                </a:solidFill>
                <a:latin typeface="Tahoma"/>
              </a:rPr>
              <a:t>З.Фрейд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30 мая 1960 года умер </a:t>
            </a:r>
            <a:r>
              <a:rPr b="0" lang="ru-RU" sz="2400" spc="-1" strike="noStrike">
                <a:solidFill>
                  <a:srgbClr val="00ccff"/>
                </a:solidFill>
                <a:latin typeface="Tahoma"/>
              </a:rPr>
              <a:t>от рака легких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поэт, лауреат Нобелевской премии </a:t>
            </a:r>
            <a:r>
              <a:rPr b="0" lang="ru-RU" sz="2400" spc="-1" strike="noStrike">
                <a:solidFill>
                  <a:srgbClr val="cc3300"/>
                </a:solidFill>
                <a:latin typeface="Tahoma"/>
              </a:rPr>
              <a:t>Б.Л. Пастернак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Известные жертвы табак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декабре 1966 года, работая над фильмом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«Самый счастливый миллионер» и мультфильмом «Книга джунглей», умер </a:t>
            </a:r>
            <a:r>
              <a:rPr b="0" lang="ru-RU" sz="2400" spc="-1" strike="noStrike">
                <a:solidFill>
                  <a:srgbClr val="00ccff"/>
                </a:solidFill>
                <a:latin typeface="Tahoma"/>
              </a:rPr>
              <a:t>от рака легких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американский мультипликатор и курильщик </a:t>
            </a:r>
            <a:r>
              <a:rPr b="0" lang="ru-RU" sz="2400" spc="-1" strike="noStrike">
                <a:solidFill>
                  <a:srgbClr val="cc3300"/>
                </a:solidFill>
                <a:latin typeface="Tahoma"/>
              </a:rPr>
              <a:t>Уолт Дисней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2 февраля 1984 г. </a:t>
            </a:r>
            <a:r>
              <a:rPr b="0" lang="ru-RU" sz="2400" spc="-1" strike="noStrike">
                <a:solidFill>
                  <a:srgbClr val="00ccff"/>
                </a:solidFill>
                <a:latin typeface="Tahoma"/>
              </a:rPr>
              <a:t>от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ru-RU" sz="2400" spc="-1" strike="noStrike">
                <a:solidFill>
                  <a:srgbClr val="00ccff"/>
                </a:solidFill>
                <a:latin typeface="Tahoma"/>
              </a:rPr>
              <a:t>рака горл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умер курильщик, писатель, лауреат Нобелевской премии, академик АН СССР, дважды Герой Социалистического Труда </a:t>
            </a:r>
            <a:r>
              <a:rPr b="0" lang="ru-RU" sz="2400" spc="-1" strike="noStrike">
                <a:solidFill>
                  <a:srgbClr val="cc3300"/>
                </a:solidFill>
                <a:latin typeface="Tahoma"/>
              </a:rPr>
              <a:t>М.Шолохов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20 марта 1990 года на 60 году жизни </a:t>
            </a:r>
            <a:r>
              <a:rPr b="0" lang="ru-RU" sz="2400" spc="-1" strike="noStrike">
                <a:solidFill>
                  <a:srgbClr val="00ccff"/>
                </a:solidFill>
                <a:latin typeface="Tahoma"/>
              </a:rPr>
              <a:t>от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ru-RU" sz="2400" spc="-1" strike="noStrike">
                <a:solidFill>
                  <a:srgbClr val="00ccff"/>
                </a:solidFill>
                <a:latin typeface="Tahoma"/>
              </a:rPr>
              <a:t>рака легких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 заработанного благодаря курению (курению же благодаря в 1984 году уже была </a:t>
            </a:r>
            <a:r>
              <a:rPr b="0" lang="ru-RU" sz="2400" spc="-1" strike="noStrike">
                <a:solidFill>
                  <a:srgbClr val="00ccff"/>
                </a:solidFill>
                <a:latin typeface="Tahoma"/>
              </a:rPr>
              <a:t>отрезана правая ног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), скончался великий вратарь, заслуженный мастер спорта международного класса,  </a:t>
            </a:r>
            <a:r>
              <a:rPr b="0" lang="ru-RU" sz="2400" spc="-1" strike="noStrike">
                <a:solidFill>
                  <a:srgbClr val="cc3300"/>
                </a:solidFill>
                <a:latin typeface="Tahoma"/>
              </a:rPr>
              <a:t>Лев Иванович Яшин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Разве Вам выгодно быть зависимыми,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больными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и нищими?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ИСТОРИ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первые табак появляется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России при Иване Грозном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Его завозят английские купцы, он проникает в багаже наемных офицеров, интервентов и казаков во времена смуты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8" name="Picture 4" descr="Табак"/>
          <p:cNvPicPr/>
          <p:nvPr/>
        </p:nvPicPr>
        <p:blipFill>
          <a:blip r:embed="rId1"/>
          <a:stretch/>
        </p:blipFill>
        <p:spPr>
          <a:xfrm>
            <a:off x="6324480" y="304920"/>
            <a:ext cx="2133720" cy="304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Tahoma"/>
              </a:rPr>
              <a:t>Если Вы хотите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c3300"/>
                </a:solidFill>
                <a:uFillTx/>
                <a:latin typeface="Tahoma"/>
              </a:rPr>
              <a:t>Доказать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себе и окружающим, что Вы – человек мощной и сокрушительной воли, способный самостоятельно сделать здоровый и правильный выбо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c3300"/>
                </a:solidFill>
                <a:uFillTx/>
                <a:latin typeface="Tahoma"/>
              </a:rPr>
              <a:t>Выглядеть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всегда молодо и привлекательн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c3300"/>
                </a:solidFill>
                <a:uFillTx/>
                <a:latin typeface="Tahoma"/>
              </a:rPr>
              <a:t>Продлить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свою жизнь на 10-15 ле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c3300"/>
                </a:solidFill>
                <a:uFillTx/>
                <a:latin typeface="Tahoma"/>
              </a:rPr>
              <a:t>Не допустить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 чтобы табак наградил Вас раком легких, хроническим бронхитом, болезнями сердца и сосудов, от которых со временем умирает каждый второй курильщи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c3300"/>
                </a:solidFill>
                <a:uFillTx/>
                <a:latin typeface="Tahoma"/>
              </a:rPr>
              <a:t>Избежать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импотенции, бесплодия и других проблем в сексуальной жизн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c3300"/>
                </a:solidFill>
                <a:uFillTx/>
                <a:latin typeface="Tahoma"/>
              </a:rPr>
              <a:t>Не позволить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сделать себя позорной ходячей рекламой отравляющих табачных издел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c3300"/>
                </a:solidFill>
                <a:uFillTx/>
                <a:latin typeface="Tahoma"/>
              </a:rPr>
              <a:t>Стать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достойным примером собственным детя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ВАШ ВЫБОР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–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тказаться от курения НАВСЕГД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ВАШ ВЫИГРЫШ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–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оды счастливой жизни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доровые дети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ысячи долларов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е выпущенные на ветер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вобода от рабской зависимос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ff00"/>
                </a:solidFill>
                <a:latin typeface="Tahoma"/>
              </a:rPr>
              <a:t>БУДЬТЕ ЗДОРОВЫ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533520" y="3885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00"/>
                </a:solidFill>
                <a:latin typeface="Tahoma"/>
              </a:rPr>
              <a:t>СПАСИБО </a:t>
            </a:r>
            <a:br>
              <a:rPr sz="6600"/>
            </a:br>
            <a:r>
              <a:rPr b="0" lang="ru-RU" sz="6600" spc="-1" strike="noStrike">
                <a:solidFill>
                  <a:srgbClr val="ffff00"/>
                </a:solidFill>
                <a:latin typeface="Tahoma"/>
              </a:rPr>
              <a:t>ЗА ВНИМАНИЕ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ИСТОРИ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России употребление табак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е поощрялос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сле Московского пожара в 1634 году, вышел царский указ, который гласил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"чтоб нигде русские люди и иноземцы всякие табаку у себя не держали и не пил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и табаком не торговали"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а ослушание полагалась смертная казнь, на практике заменявшаяся "урезанием" нос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        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ИСТОРИ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Нарушение векового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устоя жизн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феврале-апреле 1697 г серией указов царь Петр Алексеевич (Петр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), государь-реформатор легализовал продажу табака и установил правила его распространения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3" name="Picture 5" descr="Петр I"/>
          <p:cNvPicPr/>
          <p:nvPr/>
        </p:nvPicPr>
        <p:blipFill>
          <a:blip r:embed="rId1"/>
          <a:stretch/>
        </p:blipFill>
        <p:spPr>
          <a:xfrm>
            <a:off x="6248520" y="228600"/>
            <a:ext cx="2590560" cy="32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СЕГОДНЯ – В НАШЕ ВРЕМ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Ежегодно в мире от причин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вязанных с курением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мирает </a:t>
            </a: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3,5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миллиона человек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ли </a:t>
            </a: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62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человека каждые </a:t>
            </a: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10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инут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оссия относится к числу стран,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лидирующих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 распространенности курения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ccff"/>
                </a:solidFill>
                <a:uFillTx/>
                <a:latin typeface="Tahoma"/>
                <a:hlinkClick r:id="rId1"/>
              </a:rPr>
              <a:t>В России каждые 9 секунд умирает человек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из-за болезней, вызванных табакокурение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62160" y="152280"/>
            <a:ext cx="47242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663300"/>
                </a:solidFill>
                <a:latin typeface="Tahoma"/>
              </a:rPr>
              <a:t>НИКОТИН -</a:t>
            </a:r>
            <a:r>
              <a:rPr b="0" lang="ru-RU" sz="48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ru-RU" sz="4800" spc="-1" strike="noStrike">
                <a:solidFill>
                  <a:srgbClr val="003300"/>
                </a:solidFill>
                <a:latin typeface="Tahoma"/>
              </a:rPr>
              <a:t>наркотик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первые из табака никотин был выделен только в 1809 г. Воклено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1828 г. Поссельт и Рейманн впервые дали описание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чистого алкалоида никотина, который представляет собой маслянистую прозрачную жидкость острого, жгучего вкуса, щелочной реакции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икотин кипит при температуре 140-145 0С, растворяется в воде, эфире и алкоголе и является весьма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сильным ядом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1"/>
              </a:rPr>
              <a:t>Никотин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, содержащийся в табаке, является настоящим наркотиком, по степени зависимости сравнимым с героином. Только 1% курящих людей может расстаться с этой привычкой в течение года. 80% подростков, попробовавших сигарету, остаются курильщиками на всю жизнь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8" name="Picture 4" descr="image1"/>
          <p:cNvPicPr/>
          <p:nvPr/>
        </p:nvPicPr>
        <p:blipFill>
          <a:blip r:embed="rId2"/>
          <a:stretch/>
        </p:blipFill>
        <p:spPr>
          <a:xfrm>
            <a:off x="228600" y="0"/>
            <a:ext cx="3962520" cy="25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3300"/>
                </a:solidFill>
                <a:latin typeface="Tahoma"/>
              </a:rPr>
              <a:t>Сила действия никотина не одинакова для всех животных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384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оказано, что степень выносливости животных к никотину обратно пропорциональна развитию их нервной системы, т.е. животные с 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более развитой нервной системой хуже переносят никотин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се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млекопитающие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, к которым также относится и человек,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очень чувствительны к никотину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Исключение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составляют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бараны и козы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, особенно последние, которые могут поедать значительные количества табачных листьев без вреда для себя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648320" y="2119320"/>
            <a:ext cx="4038480" cy="34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2" name="Picture 4" descr="agit5-2"/>
          <p:cNvPicPr/>
          <p:nvPr/>
        </p:nvPicPr>
        <p:blipFill>
          <a:blip r:embed="rId1"/>
          <a:stretch/>
        </p:blipFill>
        <p:spPr>
          <a:xfrm>
            <a:off x="4648320" y="1676520"/>
            <a:ext cx="4038480" cy="396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91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00"/>
                </a:solidFill>
                <a:latin typeface="Tahoma"/>
              </a:rPr>
              <a:t>ТАБАЧНЫЙ ДЫМ – НЕ ДЫШИМ ИМ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Табачный дым содержит 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более 4000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 вредных и губительных вещест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бензпирен</a:t>
            </a: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–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ильнодействующее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анцерогенное вещество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лавная роль в развити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локачественных опухоле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нитрозамины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– вторичные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мины, растворяются в слюне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ызывают злокачественные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овообразова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полоний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(Ро210)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–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диоактивный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зотоп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5" name="Picture 4" descr="Фотошоп табачного дыма (11 фото)"/>
          <p:cNvPicPr/>
          <p:nvPr/>
        </p:nvPicPr>
        <p:blipFill>
          <a:blip r:embed="rId1"/>
          <a:stretch/>
        </p:blipFill>
        <p:spPr>
          <a:xfrm>
            <a:off x="5029200" y="2057400"/>
            <a:ext cx="36576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4T21:37:55Z</dcterms:created>
  <dc:creator>Family</dc:creator>
  <dc:description/>
  <dc:language>en-US</dc:language>
  <cp:lastModifiedBy>Admin</cp:lastModifiedBy>
  <dcterms:modified xsi:type="dcterms:W3CDTF">2018-06-28T18:02:59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