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847-E698-4591-968D-ED3377E4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F4E-E2E9-4FF7-96F0-8E8A07D6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146-5769-474A-B795-AF15151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75F-6BE5-4EB8-B173-7A13EAB1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F38-4838-434D-80FE-6142FB96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82D-E722-4B63-B02F-7E0B5E89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B4B-49FD-4DA4-A28C-88A1B119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CA9-71C9-405F-A5DB-89802B2D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AD2-FA37-4CAE-8521-BE71E23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937-86EB-40BC-8E9C-ADF38DD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443-F272-4764-AD93-191CCEB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E02-6AF0-4050-AF6D-FAD62B3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FFE5-2471-48F2-A427-CEEE0ADD79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-kurim.ru/glossary/rak-legkih/" TargetMode="External"/><Relationship Id="rId2" Type="http://schemas.openxmlformats.org/officeDocument/2006/relationships/hyperlink" Target="http://ne-kurim.ru/glossary/bronkhit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osmoking.ru/news2002/y20020215.htm" TargetMode="External"/><Relationship Id="rId2" Type="http://schemas.openxmlformats.org/officeDocument/2006/relationships/hyperlink" Target="http://www.nosmoking.ru/news2002/y20020215.ht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-kurim.ru/glossary/nikotin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АПОУ СО «Краснотурьинский индустриальный колледж»</a:t>
            </a:r>
            <a:br>
              <a:rPr sz="5400"/>
            </a:br>
            <a:r>
              <a:rPr b="1" i="1" lang="ru-RU" sz="4000" spc="-1" strike="noStrike">
                <a:solidFill>
                  <a:srgbClr val="663300"/>
                </a:solidFill>
                <a:latin typeface="Tahoma"/>
              </a:rPr>
              <a:t>«Курение  убивает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2" descr="C:\Users\Neo\Desktop\8818.jpg"/>
          <p:cNvPicPr/>
          <p:nvPr/>
        </p:nvPicPr>
        <p:blipFill>
          <a:blip r:embed="rId1"/>
          <a:stretch/>
        </p:blipFill>
        <p:spPr>
          <a:xfrm>
            <a:off x="2571840" y="3267000"/>
            <a:ext cx="404820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под прицелом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табачных фир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ая армия курильщиков обеспечивает гарантированные прибыли табачным компаниям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ачные компании навязывают детям имидж. Их рекламы пытаются вам внушить, что вы будете независимыми, если закури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лучший способ быть независимыми – эт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умать самостоятельн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не позволять большим компаниям думать за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6" descr="agit5-51"/>
          <p:cNvPicPr/>
          <p:nvPr/>
        </p:nvPicPr>
        <p:blipFill>
          <a:blip r:embed="rId1"/>
          <a:stretch/>
        </p:blipFill>
        <p:spPr>
          <a:xfrm rot="20928600">
            <a:off x="169920" y="3780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agit5-52"/>
          <p:cNvPicPr/>
          <p:nvPr/>
        </p:nvPicPr>
        <p:blipFill>
          <a:blip r:embed="rId2"/>
          <a:stretch/>
        </p:blipFill>
        <p:spPr>
          <a:xfrm rot="816600">
            <a:off x="6713280" y="380520"/>
            <a:ext cx="213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олоды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бдумывающим своё будущ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АЖ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СДЕЛ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АВИЛЬНЫЙ ВЫБ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ЖИТЬ</a:t>
            </a: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 ИЛИ</a:t>
            </a: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УР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allergija_deti_39918_1"/>
          <p:cNvPicPr/>
          <p:nvPr/>
        </p:nvPicPr>
        <p:blipFill>
          <a:blip r:embed="rId1"/>
          <a:stretch/>
        </p:blipFill>
        <p:spPr>
          <a:xfrm>
            <a:off x="6858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ЛИЯНИЕ НА ОРГ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рением обусловлено как миниму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0% случае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рака легког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5-20% случаев онкологических заболева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их локализаций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5% случаев хроническог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ронхи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 эмфиземы легких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5% смертей от сердечно-сосудистых заболе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 это далеко не полный список последствий табакокур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нняя импотенция у мужчи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ждевременное старение кож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ртвая беременность у женщин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ичные патологии у младенцев курящих матерей 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3733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Вдыхаемая доз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лич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гредиент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табачного дым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и актив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 пассив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урен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38480" y="1676520"/>
          <a:ext cx="4800600" cy="4620960"/>
        </p:xfrm>
        <a:graphic>
          <a:graphicData uri="http://schemas.openxmlformats.org/drawingml/2006/table">
            <a:tbl>
              <a:tblPr/>
              <a:tblGrid>
                <a:gridCol w="1725840"/>
                <a:gridCol w="1576440"/>
                <a:gridCol w="1498320"/>
              </a:tblGrid>
              <a:tr h="39780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ставные ча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дыхаемая доза, м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Активный курильщи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(1 сигарет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Пассивный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курильщик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 час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арный г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ьдеги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иан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роле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жидк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щ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т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259" descr="Пассивное курение. Фото с сайта www.gettyimages.com"/>
          <p:cNvPicPr/>
          <p:nvPr/>
        </p:nvPicPr>
        <p:blipFill>
          <a:blip r:embed="rId1"/>
          <a:stretch/>
        </p:blipFill>
        <p:spPr>
          <a:xfrm>
            <a:off x="4038480" y="152280"/>
            <a:ext cx="48006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2" descr="1208161652437295_200_200"/>
          <p:cNvPicPr/>
          <p:nvPr/>
        </p:nvPicPr>
        <p:blipFill>
          <a:blip r:embed="rId2"/>
          <a:stretch/>
        </p:blipFill>
        <p:spPr>
          <a:xfrm>
            <a:off x="380880" y="44956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озг и нервная систем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вредном действии никотина на центральную нервную систему можно судить по действию первой выкуренной папиросы: тошнота, рвота, холодный пот, иногда потеря сознания 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т симптомы, котор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ворят об отравлен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еток моз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Фотошоп табачного дыма (11 фото)"/>
          <p:cNvPicPr/>
          <p:nvPr/>
        </p:nvPicPr>
        <p:blipFill>
          <a:blip r:embed="rId1"/>
          <a:stretch/>
        </p:blipFill>
        <p:spPr>
          <a:xfrm>
            <a:off x="5257800" y="396252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Желудочно-кишечный тракт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рящие иногда говорят: курение делает пищу более вкусной. Конечно, если предварительно наполнить рот какой-либо горечью, то после этого самая обычная пища покажется вкусной. На самом деле курение снижает аппет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тин увеличивает выделение желудочного сока. Развитие гастрита, язвенной болезни желу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мужчин, пораженных язвенной болезнью желудка, 96–97% кури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ЧЕНЬ КУРИЛЬЩИКА                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Стаж кур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0 лет                   15 лет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7" descr="lung3"/>
          <p:cNvPicPr/>
          <p:nvPr/>
        </p:nvPicPr>
        <p:blipFill>
          <a:blip r:embed="rId1"/>
          <a:stretch/>
        </p:blipFill>
        <p:spPr>
          <a:xfrm>
            <a:off x="228600" y="28954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lung4"/>
          <p:cNvPicPr/>
          <p:nvPr/>
        </p:nvPicPr>
        <p:blipFill>
          <a:blip r:embed="rId2"/>
          <a:stretch/>
        </p:blipFill>
        <p:spPr>
          <a:xfrm>
            <a:off x="4572000" y="28954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ердечно-сосудистая систем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вызывает преждевременный износ сердца и сосу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вдыхании табачного дыма сосуды сужаются, и ток крови по ним замедляется, а в некоторых случаях даже на какой-то момент приостанавлив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дление тока крови в сосудах сердца проявляется коронарной недостаточностью, то есть приступом болей в области сердца. Поэтому курение, как правило, усиливает или вызывает приступы коронарной недостаточ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рение может быть и главной причиной стойкого спазма сосудов нижних конечностей, способствующего развитию облитерирующего эндартериита, поражающего преимущественно мужчин. Это заболевание ведет к нарушению питания, гангрене и, в итоге, к ампутации нижней конеч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литерация сосудов ступн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lightboxImage" descr="information_items_3259"/>
          <p:cNvPicPr/>
          <p:nvPr/>
        </p:nvPicPr>
        <p:blipFill>
          <a:blip r:embed="rId1"/>
          <a:stretch/>
        </p:blipFill>
        <p:spPr>
          <a:xfrm>
            <a:off x="1600200" y="2057400"/>
            <a:ext cx="5791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ёгк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, кто много курит, заболевают раком лёгкого в двадцать раз чаще, чем некурящ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к лёгкого в основном развивается на почве кур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к лёгкого нередко оказывается настолько запущенным, что невозможно спасти больного даже ценой удаления всего лёгко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ечение года через легочный аппарат курильщика проходит около 800 г табачного дегтя. Не случайно легкие длительно курившего человека оказываются более темны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а роль курения и в возникновении туберкулё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, 95 из 100 человек, страдающих туберкулезом, к моменту начала заболевания, кури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10080" y="2466720"/>
            <a:ext cx="327672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47" descr="http://www.meding.ru/alcohol/tab23_clip_image005.jpg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Tahoma"/>
              </a:rPr>
              <a:t>КУРЕНИЕ или ЗДОРОВЬЕ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45720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d0b31"/>
                </a:solidFill>
                <a:latin typeface="Tahoma"/>
              </a:rPr>
              <a:t>ЖИТЬ ИЛИ КУРИ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plakat-Jizn_bez_tabaka"/>
          <p:cNvPicPr/>
          <p:nvPr/>
        </p:nvPicPr>
        <p:blipFill>
          <a:blip r:embed="rId1"/>
          <a:stretch/>
        </p:blipFill>
        <p:spPr>
          <a:xfrm>
            <a:off x="2438280" y="16765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уберкулёз лёгки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Рисунок 4" descr="http://www.mosclinic.ru/Images/art/0367/0367_1.jpg"/>
          <p:cNvPicPr/>
          <p:nvPr/>
        </p:nvPicPr>
        <p:blipFill>
          <a:blip r:embed="rId1"/>
          <a:stretch/>
        </p:blipFill>
        <p:spPr>
          <a:xfrm>
            <a:off x="1676520" y="167652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ёгкие челове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екурящего и курящег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7" descr="nonsmokerslung"/>
          <p:cNvPicPr/>
          <p:nvPr/>
        </p:nvPicPr>
        <p:blipFill>
          <a:blip r:embed="rId1"/>
          <a:stretch/>
        </p:blipFill>
        <p:spPr>
          <a:xfrm>
            <a:off x="457200" y="2257560"/>
            <a:ext cx="4038480" cy="353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mokerslung"/>
          <p:cNvPicPr/>
          <p:nvPr/>
        </p:nvPicPr>
        <p:blipFill>
          <a:blip r:embed="rId2"/>
          <a:stretch/>
        </p:blipFill>
        <p:spPr>
          <a:xfrm>
            <a:off x="4648320" y="2246400"/>
            <a:ext cx="40384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ёгкие курящего челове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lightboxImage" descr="information_items_1190664255"/>
          <p:cNvPicPr/>
          <p:nvPr/>
        </p:nvPicPr>
        <p:blipFill>
          <a:blip r:embed="rId1"/>
          <a:stretch/>
        </p:blipFill>
        <p:spPr>
          <a:xfrm>
            <a:off x="1523880" y="1981080"/>
            <a:ext cx="61722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РЕ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рение может вызвать никотиновую амблиоп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больного, страдающего этим недугом, наступает частичная или полная слепо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чень грозное заболевание, при котором даже энергичное ле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сегда бывает успеш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АК ПОЛОСТИ РТА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 ЗАЯДЛОГО КУРИЛЬЩИКА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8 летний мужчина, 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который выкуривал не менее пачки в день в течение 10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4" descr="fatal_mouth_cancer_28years_old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др из австралийского антитабачного рол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lightboxImage" descr="information_items_3182"/>
          <p:cNvPicPr/>
          <p:nvPr/>
        </p:nvPicPr>
        <p:blipFill>
          <a:blip r:embed="rId1"/>
          <a:stretch/>
        </p:blipFill>
        <p:spPr>
          <a:xfrm>
            <a:off x="1676520" y="2286000"/>
            <a:ext cx="579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496040" cy="20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ХОЧЕШЬ ЖИТЬ  –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БРОСАЙ КУРИТЬ!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й из жертв табака стал известный американский киноактер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эйн Макларен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оторый долгое время изображал мужественного "Мальборо Мэна" в табачной рекламе, пока в результате курения у него не развился рак легкого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н умер мучительно, когда ему исполнился всего 5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своем последнем интервью, Макларен сказал: "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заботьтесь о детях. Табак убивает, и 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живое доказательство этого. Эта привычка доконала меня. Я провел последний месяц своей жизни в инкубаторе, и я говорю Вам, что курение того не стои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cancer2"/>
          <p:cNvPicPr/>
          <p:nvPr/>
        </p:nvPicPr>
        <p:blipFill>
          <a:blip r:embed="rId1"/>
          <a:stretch/>
        </p:blipFill>
        <p:spPr>
          <a:xfrm>
            <a:off x="4800600" y="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вестные жертвы таба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злокачественной опухоли в левом легк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композитор, народный артист ССС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Дмитрий Дмитриевич Шостакови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1 мая 2005 года в Москве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ка лег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Грузинской ССР 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Арчил Гомиашви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актер, сыгравший роль Остапа Бенде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комедии Л.Гайдая «Двенадцать стульев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вый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владелец компании Marlbo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чень долго и очень мучительно умира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рака ротовой полости большой любите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роших сигар великий психиатр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З.Фрей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0 мая 1960 года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эт, лауреат Нобелевской премии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Б.Л. Пастерн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звестные жертвы таба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кабре 1966 года, работая над фильм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ый счастливый миллионер» и мультфильмом «Книга джунглей», умер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 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мериканский мультипликатор и курильщик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Уолт Дисне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февраля 1984 г.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гор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мер курильщик, писатель, лауреат Нобелевской премии, академик АН СССР, дважды Герой Социалистического Труда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М.Шолох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 марта 1990 года на 60 году жизни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рака легк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заработанного благодаря курению (курению же благодаря в 1984 году уже была </a:t>
            </a:r>
            <a:r>
              <a:rPr b="0" lang="ru-RU" sz="2400" spc="-1" strike="noStrike">
                <a:solidFill>
                  <a:srgbClr val="00ccff"/>
                </a:solidFill>
                <a:latin typeface="Tahoma"/>
              </a:rPr>
              <a:t>отрезана правая н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 скончался великий вратарь, заслуженный мастер спорта международного класса,  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Лев Иванович Яши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азве Вам выгодно быть зависимым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больным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 нищим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ервые табак появля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ссии при Иване Грозн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завозят английские купцы, он проникает в багаже наемных офицеров, интервентов и казаков во времена сму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Табак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Если Вы хоти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Доказ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ебе и окружающим, что Вы – человек мощной и сокрушительной воли, способный самостоятельно сделать здоровый и правильный вы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Выгляде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сегда молодо и привлека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Продл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ою жизнь на 10-15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Не допуст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чтобы табак наградил Вас раком легких, хроническим бронхитом, болезнями сердца и сосудов, от которых со временем умирает каждый второй курильщ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Избеж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мпотенции, бесплодия и других проблем в сексуальной жиз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Не позволи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делать себя позорной ходячей рекламой отравляющих табачных издел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Tahoma"/>
              </a:rPr>
              <a:t>Ста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остойным примером собственным дет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АШ ВЫБО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аться от курения НАВСЕГ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АШ ВЫИГРЫШ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ды счастливой жи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доровые де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ысячи долларов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выпущенные на ветер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обода от рабской зависим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00"/>
                </a:solidFill>
                <a:latin typeface="Tahoma"/>
              </a:rPr>
              <a:t>БУДЬТЕ ЗДОРОВ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3520" y="3885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СПАСИБО </a:t>
            </a:r>
            <a:br>
              <a:rPr sz="6600"/>
            </a:b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ЗА ВНИМ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оссии употребление таба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поощря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Московского пожара в 1634 году, вышел царский указ, который гласил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"чтоб нигде русские люди и иноземцы всякие табаку у себя не держали и не п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 табаком не торговали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ослушание полагалась смертная казнь, на практике заменявшаяся "урезанием" но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ушение веков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стоя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феврале-апреле 1697 г серией указов царь Петр Алексеевич (Петр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государь-реформатор легализовал продажу табака и установил правила его распростра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Петр I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ГОДНЯ – В НАШЕ ВРЕМ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 в мире от причи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занных с курение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ирае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,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иллиона человек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6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еловека каждые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н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ссия относится к числу стран,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идирующ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 распространенности кур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 России каждые 9 секунд умирает челове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з-за болезней, вызванных табакокур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2160" y="15228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Tahoma"/>
              </a:rPr>
              <a:t>НИКОТИН -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003300"/>
                </a:solidFill>
                <a:latin typeface="Tahoma"/>
              </a:rPr>
              <a:t>наркоти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ервые из табака никотин был выделен только в 1809 г. Воклен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28 г. Поссельт и Рейманн впервые дали опис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того алкалоида никотина, который представляет собой маслянистую прозрачную жидкость острого, жгучего вкуса, щелочной реак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котин кипит при температуре 140-145 0С, растворяется в воде, эфире и алкоголе и является весьма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льным яд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Никот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держащийся в табаке, является настоящим наркотиком, по степени зависимости сравнимым с героином. Только 1% курящих людей может расстаться с этой привычкой в течение года. 80% подростков, попробовавших сигарету, остаются курильщиками на всю жизн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2"/>
          <a:stretch/>
        </p:blipFill>
        <p:spPr>
          <a:xfrm>
            <a:off x="228600" y="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ahoma"/>
              </a:rPr>
              <a:t>Сила действия никотина не одинакова для всех животных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казано, что степень выносливости животных к никотину обратно пропорциональна развитию их нервной системы, т.е. животные с 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е развитой нервной системой хуже переносят никоти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лекопитающ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к которым также относится и человек,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чень чувствительны к никотин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ключ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ставляют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араны и коз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собенно последние, которые могут поедать значительные количества табачных листьев без вреда для себ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2119320"/>
            <a:ext cx="40384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agit5-2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Tahoma"/>
              </a:rPr>
              <a:t>ТАБАЧНЫЙ ДЫМ – НЕ ДЫШИМ И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абачный дым содержи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лее 4000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вредных и губительных веще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бензпирен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одействующе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нцерогенное веществ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ая роль в развит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локачественных опухо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нитрозами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втори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ины, растворяются в слюн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т злокачеств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обра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олоний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Ро210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диоактив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ото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Фотошоп табачного дыма (11 фото)"/>
          <p:cNvPicPr/>
          <p:nvPr/>
        </p:nvPicPr>
        <p:blipFill>
          <a:blip r:embed="rId1"/>
          <a:stretch/>
        </p:blipFill>
        <p:spPr>
          <a:xfrm>
            <a:off x="5029200" y="205740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21:37:55Z</dcterms:created>
  <dc:creator>Family</dc:creator>
  <dc:description/>
  <dc:language>en-US</dc:language>
  <cp:lastModifiedBy>Admin</cp:lastModifiedBy>
  <dcterms:modified xsi:type="dcterms:W3CDTF">2018-06-28T18:02:5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