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0C61-258F-47A9-8A4B-DFA33D06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FDF-FCAE-47E4-8C1A-25B6C0ACB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21A-23D6-4983-BD9C-DD3615FF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3ADC-FD66-498E-B808-1E0F9099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866B0-6FD5-47E7-A3F7-D51252CC3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F686-5676-40FB-A5C7-D2C581DDB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05587-5CFC-4EF2-BFFF-CF2C0A93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8B44-E6FC-4A91-84C4-4C5CE391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5A10C-8294-4206-BCA2-CE8F16F1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5FA27-2139-4994-8277-4A879954D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1932-94EF-483B-B35F-F89B87A5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E443-5C68-4EFD-B559-02B467AF9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5A323-2682-4BCC-8DB1-1AB572CC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007B-0529-4CF0-A6AB-C300BC059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0C1A-B7DC-4037-B6CA-EC6275F5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22AF-5CF6-4E0E-A93A-9C8AE064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F2FD0-D28A-4CA9-B5EC-C617F9913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EAC8-7DC7-403B-A5C9-7C8D4FEA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FFEB-5175-43C0-B0BF-ABC69D30E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014D-59C6-4044-9F59-4D9827B9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85B-9336-4499-86DC-098E2514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1E15-DA28-4308-8BD4-6C372CA2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94D0-8EE0-4F2C-B27E-14EE708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B85-41A4-4378-AE2B-D0E684FA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2BC4-B8BF-4463-804E-9E5A148A37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E0AA1-050D-4CE2-83D0-8E06E6EC6E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00200" y="838080"/>
            <a:ext cx="6019920" cy="27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Times New Roman"/>
              </a:rPr>
              <a:t>Опорная система позвоночных животных. Строение костей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Чтоб черпать полной чаш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Труд, счастье, наслаждение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Залогом жизни наш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694b6"/>
                </a:solidFill>
                <a:latin typeface="Times New Roman"/>
              </a:rPr>
              <a:t>Является движ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694b6"/>
                </a:solidFill>
                <a:latin typeface="Times New Roman"/>
              </a:rPr>
              <a:t>В.В. Розенбллант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66"/>
                </a:solidFill>
                <a:latin typeface="Comic Sans MS"/>
              </a:rPr>
              <a:t>Что необходимо</a:t>
            </a: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752480"/>
            <a:ext cx="373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3694b6"/>
                </a:solidFill>
                <a:uFillTx/>
                <a:latin typeface="Georgia"/>
              </a:rPr>
              <a:t>Зна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Функции скелет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Основные отделы внутреннего скелета позвоночных животны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3694b6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694b6"/>
                </a:solidFill>
                <a:latin typeface="Georgia"/>
              </a:rPr>
              <a:t>Способы соединения костей образующих скел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528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1f4081"/>
                </a:solidFill>
                <a:uFillTx/>
                <a:latin typeface="Georgia"/>
              </a:rPr>
              <a:t>Уме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1f408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Самостоятельно определять свойства костной тка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-517320">
              <a:lnSpc>
                <a:spcPct val="100000"/>
              </a:lnSpc>
              <a:spcBef>
                <a:spcPts val="601"/>
              </a:spcBef>
              <a:buClr>
                <a:srgbClr val="1f4081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Доказательно обосновывать преимущества внутреннего скелета животных</a:t>
            </a:r>
            <a:r>
              <a:rPr b="0" i="1" lang="ru-RU" sz="2400" spc="-1" strike="noStrike">
                <a:solidFill>
                  <a:srgbClr val="1f4081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1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 изучить функции скелета и определить, чем образован скелет позвоночных животных</a:t>
            </a: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218960" y="159984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уя учебник на  странице 92 выясните, какие функции выполняет скел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Функции скеле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тайте в учебнике страницу 94, и выясните, чем образован скелет позвоночных животных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4. Сделайте вывод в виде схем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Скелет образова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428640" y="3124080"/>
            <a:ext cx="7621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38680" y="3124080"/>
            <a:ext cx="685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428640" y="502920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5029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502920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2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состав и свойства косте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ведите опы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крепите пробирку в держателе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местите кость в пробирку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грейте пробирку на спиртовк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Используя знания из курса природоведения, сделайте вывод, какие вещества сгорают и слышен запах паленого, а какие остаются в виде зол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 Составьте схем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Химический состав кост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идают твердость                            обеспечивают эластич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d1d03"/>
                </a:solidFill>
                <a:latin typeface="Times New Roman"/>
              </a:rPr>
              <a:t>Вывод: сочетание …….. и………. делает кость крепкой и достаточно упруг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276720" y="4038480"/>
            <a:ext cx="9144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10080" y="403848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3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строение кости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рисунок, страница 95 учебника, выясните, какое внешнее и внутреннее строение имеет трубчатая кость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нешнее строение трубчат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нутреннее строение трубчатой кос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3581280" y="320040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4120" y="320040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123720" y="4648320"/>
            <a:ext cx="685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4648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464832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4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 типы соединения костей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пользуя рисунок, страница 95 учебника, выясните, как соединены кости между собо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кое это имеет знач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делайте вывод в виде схемы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660066"/>
                </a:solidFill>
                <a:latin typeface="Times New Roman"/>
              </a:rPr>
              <a:t>Соединение кост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200400" y="4267080"/>
            <a:ext cx="9144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4267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2670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1f4081"/>
                </a:solidFill>
                <a:latin typeface="Times New Roman"/>
              </a:rPr>
              <a:t>Задание 5.</a:t>
            </a:r>
            <a:br>
              <a:rPr sz="2400"/>
            </a:br>
            <a:r>
              <a:rPr b="1" i="1" lang="ru-RU" sz="2400" spc="-1" strike="noStrike">
                <a:solidFill>
                  <a:srgbClr val="9d1d03"/>
                </a:solidFill>
                <a:latin typeface="Times New Roman"/>
              </a:rPr>
              <a:t>Цель: изучить, какие отделы образуют скелет позвоночных.</a:t>
            </a:r>
            <a:endParaRPr b="0" lang="en-US" sz="2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599840"/>
            <a:ext cx="76201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читайте в учебнике на странице 93, какие отделы образуют скелет позвоночных животны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делайте соответствующие выводы в виде схем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600" spc="-1" strike="noStrike">
                <a:solidFill>
                  <a:srgbClr val="660066"/>
                </a:solidFill>
                <a:latin typeface="Times New Roman"/>
              </a:rPr>
              <a:t>Отделы скел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спользуя, предложенные рисунки (скелет рыбы, лягушки, черепахи, птицы, собаки), выясните все ли позвоночные имеют внутренний скел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Из предложенного списка, определите, все ли из перечисленных позвоночных животных имеют костный скеле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081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1f4081"/>
                </a:solidFill>
                <a:latin typeface="Times New Roman"/>
              </a:rPr>
              <a:t>Щука, сова, лисица, ворона, верблюд, морская черепаха, акула, слон, лошадь, белый медведь, электрический ска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ранних стадиях развития все позвоночные имеют хрящевой скелет. О чем это говорит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необходимо соблюдать правила поведения на дорогах, во время гололёда, на переменах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ем опасны травмы скелета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3962520" y="266688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2920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25909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081"/>
                </a:solidFill>
                <a:latin typeface="Times New Roman"/>
              </a:rPr>
              <a:t>Закрепление изученного материала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4648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9d1d03"/>
                </a:solidFill>
                <a:uFillTx/>
                <a:latin typeface="Times New Roman"/>
              </a:rPr>
              <a:t>Какие утверждения вер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Все живые организмы имеют внутренний ске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.Функции скелета: опорная, защитная, двигательная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Скелет образован костями,связками, сухожилия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4.Эластичность придают костям органические вещества, а твердость – неорганические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5.Сочетание органических и неорганических веществ, делают кость крепкой и достаточно упруго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.Внешнее строение трубчатой кости: головка и надкостниц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7.Внутреннее строение трубчатой кости: плотное вещество и костный мозг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8.Существует два типа соединения костей в скелете: неподвижное (шов), подвижное(сустав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.Отделы скелета позвоночных: скелет головы, туловища, конечностей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0.Все позвоночные имеют только костный скелет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BS00559_" descr=""/>
          <p:cNvPicPr/>
          <p:nvPr/>
        </p:nvPicPr>
        <p:blipFill>
          <a:blip r:embed="rId1"/>
          <a:stretch/>
        </p:blipFill>
        <p:spPr>
          <a:xfrm>
            <a:off x="6172200" y="1828800"/>
            <a:ext cx="25146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5331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d1d03"/>
                </a:solidFill>
                <a:latin typeface="Times New Roman"/>
              </a:rPr>
              <a:t>            </a:t>
            </a:r>
            <a:r>
              <a:rPr b="1" i="1" lang="ru-RU" sz="4000" spc="-1" strike="noStrike">
                <a:solidFill>
                  <a:srgbClr val="9d1d03"/>
                </a:solidFill>
                <a:latin typeface="Times New Roman"/>
              </a:rPr>
              <a:t>Правильные ответы.</a:t>
            </a: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2,   3,  4,   5,  6, 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Молодцы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Times New Roman"/>
              </a:rPr>
              <a:t>Вы хорошо поработал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u"/>
    <p:sndAc>
      <p:stSnd>
        <p:snd r:embed="rId1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8:09:48Z</dcterms:created>
  <dc:creator>Елена</dc:creator>
  <dc:description/>
  <dc:language>en-US</dc:language>
  <cp:lastModifiedBy>Елена</cp:lastModifiedBy>
  <dcterms:modified xsi:type="dcterms:W3CDTF">2007-03-05T16:34:43Z</dcterms:modified>
  <cp:revision>29</cp:revision>
  <dc:subject/>
  <dc:title>Опорная система позвоночных животных. Строение костей.</dc:title>
</cp:coreProperties>
</file>