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himes.wav" ContentType="audio/x-wav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1344-C9DF-4981-8380-E5FFF248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661A-C6CB-4309-A9E7-C587331E5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203-7ACC-41A5-91AF-E65295CD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3D23-7099-45E7-AAA3-092B1B27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043B-312A-447D-9332-A8970E16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4319-46FF-4B3D-A266-A4968BC0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2029C-54F5-412F-AEFD-1E2C547C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BE7C-61F2-4FD5-9E40-C972B6B9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13A9-AAD2-4D68-887C-FA76EFBEF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3926-7629-43E3-A6F5-BFB4A5EB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96EB1-2CAD-496D-A9A2-565DDF57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4BA9-0755-4FD3-8FBC-529E82A6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EA2FB-789A-4FE2-A73B-BE731487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F125-EB0F-48F0-9EE3-B4046085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8C07-188D-4805-8A42-E698DEF1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7E280-B096-4B57-A0CC-008396369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B241-36B5-476D-9780-C53B5D8B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B3FE-2167-423E-BC2F-DA9DC4FD9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980C-6DEE-4604-BCB0-7F80062A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AED6-8BB6-4D11-8CF8-4FFAE47FB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196B-B37E-4027-B588-B17077F7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5C3F-739B-4B76-8AC7-F89E0946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8667-F8DF-4EB2-9E76-16A004B3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696B-08AE-42FB-9E3A-B2DDDB152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9947-110E-45F0-BD45-A11A638476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750A-0C95-4B9A-97B8-6E7BFCD84B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838080"/>
            <a:ext cx="6019920" cy="27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Опорная система позвоночных животных. Строение костей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94b6"/>
                </a:solidFill>
                <a:latin typeface="Times New Roman"/>
              </a:rPr>
              <a:t>Чтоб черпать полной чаш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94b6"/>
                </a:solidFill>
                <a:latin typeface="Times New Roman"/>
              </a:rPr>
              <a:t>Труд, счастье, наслаждени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94b6"/>
                </a:solidFill>
                <a:latin typeface="Times New Roman"/>
              </a:rPr>
              <a:t>Залогом жизни наш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94b6"/>
                </a:solidFill>
                <a:latin typeface="Times New Roman"/>
              </a:rPr>
              <a:t>Является движ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694b6"/>
                </a:solidFill>
                <a:latin typeface="Times New Roman"/>
              </a:rPr>
              <a:t>В.В. Розенбллан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Comic Sans MS"/>
              </a:rPr>
              <a:t>Что необходимо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3694b6"/>
                </a:solidFill>
                <a:uFillTx/>
                <a:latin typeface="Georgia"/>
              </a:rPr>
              <a:t>Зн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601"/>
              </a:spcBef>
              <a:buClr>
                <a:srgbClr val="3694b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694b6"/>
                </a:solidFill>
                <a:latin typeface="Georgia"/>
              </a:rPr>
              <a:t>Функции скел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601"/>
              </a:spcBef>
              <a:buClr>
                <a:srgbClr val="3694b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694b6"/>
                </a:solidFill>
                <a:latin typeface="Georgia"/>
              </a:rPr>
              <a:t>Основные отделы внутреннего скелета позвоночных живот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601"/>
              </a:spcBef>
              <a:buClr>
                <a:srgbClr val="3694b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694b6"/>
                </a:solidFill>
                <a:latin typeface="Georgia"/>
              </a:rPr>
              <a:t>Способы соединения костей образующих ске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1f4081"/>
                </a:solidFill>
                <a:uFillTx/>
                <a:latin typeface="Georgia"/>
              </a:rPr>
              <a:t>Уме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601"/>
              </a:spcBef>
              <a:buClr>
                <a:srgbClr val="1f4081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081"/>
                </a:solidFill>
                <a:latin typeface="Georgia"/>
              </a:rPr>
              <a:t>Самостоятельно определять свойства костной тка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601"/>
              </a:spcBef>
              <a:buClr>
                <a:srgbClr val="1f4081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081"/>
                </a:solidFill>
                <a:latin typeface="Georgia"/>
              </a:rPr>
              <a:t>Доказательно обосновывать преимущества внутреннего скелета животных</a:t>
            </a:r>
            <a:r>
              <a:rPr b="0" i="1" lang="ru-RU" sz="2400" spc="-1" strike="noStrike">
                <a:solidFill>
                  <a:srgbClr val="1f4081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081"/>
                </a:solidFill>
                <a:latin typeface="Times New Roman"/>
              </a:rPr>
              <a:t>Задание1.</a:t>
            </a:r>
            <a:br>
              <a:rPr sz="2400"/>
            </a:br>
            <a:r>
              <a:rPr b="1" i="1" lang="ru-RU" sz="2400" spc="-1" strike="noStrike">
                <a:solidFill>
                  <a:srgbClr val="9d1d03"/>
                </a:solidFill>
                <a:latin typeface="Times New Roman"/>
              </a:rPr>
              <a:t>Цель:  изучить функции скелета и определить, чем образован скелет позвоночных животных</a:t>
            </a:r>
            <a:r>
              <a:rPr b="1" i="1" lang="ru-RU" sz="2400" spc="-1" strike="noStrike">
                <a:solidFill>
                  <a:srgbClr val="9d1d0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8960" y="15998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уя учебник на  странице 92 выясните, какие функции выполняет скел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делайте вывод в виде схе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Функции скел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итайте в учебнике страницу 94, и выясните, чем образован скелет позвоночных животны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Сделайте вывод в виде схе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Скелет образов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428640" y="31240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31240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428640" y="502920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50292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081"/>
                </a:solidFill>
                <a:latin typeface="Times New Roman"/>
              </a:rPr>
              <a:t>Задание 2.</a:t>
            </a:r>
            <a:br>
              <a:rPr sz="2400"/>
            </a:br>
            <a:r>
              <a:rPr b="1" i="1" lang="ru-RU" sz="2400" spc="-1" strike="noStrike">
                <a:solidFill>
                  <a:srgbClr val="9d1d03"/>
                </a:solidFill>
                <a:latin typeface="Times New Roman"/>
              </a:rPr>
              <a:t>Цель: изучить состав и свойства костей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дите опы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репите пробирку в держател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местите кость в пробирку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грейте пробирку на спиртовк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Используя знания из курса природоведения, сделайте вывод, какие вещества сгорают и слышен запах паленого, а какие остаются в виде зол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Составьте схем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Химический состав к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придают твердость                            обеспечивают эластич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d1d03"/>
                </a:solidFill>
                <a:latin typeface="Times New Roman"/>
              </a:rPr>
              <a:t>Вывод: сочетание …….. и………. делает кость крепкой и достаточно упруг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276720" y="403848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03848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081"/>
                </a:solidFill>
                <a:latin typeface="Times New Roman"/>
              </a:rPr>
              <a:t>Задание 3.</a:t>
            </a:r>
            <a:br>
              <a:rPr sz="2400"/>
            </a:br>
            <a:r>
              <a:rPr b="1" i="1" lang="ru-RU" sz="2400" spc="-1" strike="noStrike">
                <a:solidFill>
                  <a:srgbClr val="9d1d03"/>
                </a:solidFill>
                <a:latin typeface="Times New Roman"/>
              </a:rPr>
              <a:t>Цель: изучить строение кост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уя рисунок, страница 95 учебника, выясните, какое внешнее и внутреннее строение имеет трубчатая к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делайте вывод в виде сх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Внешнее строение трубчатой к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Внутреннее строение трубчатой к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581280" y="32004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3200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123720" y="4648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46483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081"/>
                </a:solidFill>
                <a:latin typeface="Times New Roman"/>
              </a:rPr>
              <a:t>Задание 4.</a:t>
            </a:r>
            <a:br>
              <a:rPr sz="2400"/>
            </a:br>
            <a:r>
              <a:rPr b="1" i="1" lang="ru-RU" sz="2400" spc="-1" strike="noStrike">
                <a:solidFill>
                  <a:srgbClr val="9d1d03"/>
                </a:solidFill>
                <a:latin typeface="Times New Roman"/>
              </a:rPr>
              <a:t>Цель: изучить типы соединения костей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уя рисунок, страница 95 учебника, выясните, как соединены кости между соб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е это имеет знач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делайте вывод в виде схе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Соединение кос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200400" y="42670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42670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081"/>
                </a:solidFill>
                <a:latin typeface="Times New Roman"/>
              </a:rPr>
              <a:t>Задание 5.</a:t>
            </a:r>
            <a:br>
              <a:rPr sz="2400"/>
            </a:br>
            <a:r>
              <a:rPr b="1" i="1" lang="ru-RU" sz="2400" spc="-1" strike="noStrike">
                <a:solidFill>
                  <a:srgbClr val="9d1d03"/>
                </a:solidFill>
                <a:latin typeface="Times New Roman"/>
              </a:rPr>
              <a:t>Цель: изучить, какие отделы образуют скелет позвоночных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читайте в учебнике на странице 93, какие отделы образуют скелет позвоночных животных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делайте соответствующие выводы в виде схем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600" spc="-1" strike="noStrike">
                <a:solidFill>
                  <a:srgbClr val="660066"/>
                </a:solidFill>
                <a:latin typeface="Times New Roman"/>
              </a:rPr>
              <a:t>Отделы скел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ьзуя, предложенные рисунки (скелет рыбы, лягушки, черепахи, птицы, собаки), выясните все ли позвоночные имеют внутренний скелет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 предложенного списка, определите, все ли из перечисленных позвоночных животных имеют костный скелет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081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1f4081"/>
                </a:solidFill>
                <a:latin typeface="Times New Roman"/>
              </a:rPr>
              <a:t>Щука, сова, лисица, ворона, верблюд, морская черепаха, акула, слон, лошадь, белый медведь, электрический ска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ранних стадиях развития все позвоночные имеют хрящевой скелет. О чем это говорит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чему необходимо соблюдать правила поведения на дорогах, во время гололёда, на переменах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м опасны травмы скелета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962520" y="2666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590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081"/>
                </a:solidFill>
                <a:latin typeface="Times New Roman"/>
              </a:rPr>
              <a:t>Закрепление изученного материал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d1d03"/>
                </a:solidFill>
                <a:uFillTx/>
                <a:latin typeface="Times New Roman"/>
              </a:rPr>
              <a:t>Какие утверждения верн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Все живые организмы имеют внутренний скел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Функции скелета: опорная, защитная, двигательна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Скелет образован костями,связками, сухожилия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.Эластичность придают костям органические вещества, а твердость – неорганически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.Сочетание органических и неорганических веществ, делают кость крепкой и достаточно упруго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.Внешнее строение трубчатой кости: головка и надкостниц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.Внутреннее строение трубчатой кости: плотное вещество и костный моз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.Существует два типа соединения костей в скелете: неподвижное (шов), подвижное(сустав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.Отделы скелета позвоночных: скелет головы, туловища, конечност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.Все позвоночные имеют только костный скел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S00559_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51460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d1d03"/>
                </a:solidFill>
                <a:latin typeface="Times New Roman"/>
              </a:rPr>
              <a:t>            </a:t>
            </a:r>
            <a:r>
              <a:rPr b="1" i="1" lang="ru-RU" sz="4000" spc="-1" strike="noStrike">
                <a:solidFill>
                  <a:srgbClr val="9d1d03"/>
                </a:solidFill>
                <a:latin typeface="Times New Roman"/>
              </a:rPr>
              <a:t>Правильные ответы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2,   3,  4,   5,  6, 9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Молодцы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Вы хорошо поработали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8:09:48Z</dcterms:created>
  <dc:creator>Елена</dc:creator>
  <dc:description/>
  <dc:language>en-US</dc:language>
  <cp:lastModifiedBy>Елена</cp:lastModifiedBy>
  <dcterms:modified xsi:type="dcterms:W3CDTF">2007-03-05T16:34:43Z</dcterms:modified>
  <cp:revision>29</cp:revision>
  <dc:subject/>
  <dc:title>Опорная система позвоночных животных. Строение костей.</dc:title>
</cp:coreProperties>
</file>