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33440" y="812880"/>
            <a:ext cx="48880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dt" idx="13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ftr" idx="14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 type="sldNum" idx="15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5761E63-2122-42F2-BAD7-8E9851CA686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6D6EDE7-8833-40A0-978A-1447E250605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DDA6BCC-5279-438E-BF3A-B769253B594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2A7C8D9-41C2-4E29-A0FB-BB1746E78C4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4C050A3-BE7F-4BC0-8F2D-08EC0C77BBC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C5EDAAC-49A9-49D3-87F2-29B63334FFC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483201A-9E70-41EB-9964-E8B94ED034D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39D127A-73DD-40A7-80E3-1C2A1FBBD06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9C3D-7E01-4D2D-BF07-2AF8F4D9E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8400" y="2016000"/>
            <a:ext cx="869472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8400" y="4521240"/>
            <a:ext cx="869472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8265-59A1-4F42-9CC0-89BC3CC16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8400" y="201600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201600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98400" y="452124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452124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514C-883E-4BAF-B769-F31ABC0C1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8400" y="2016000"/>
            <a:ext cx="27993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38160" y="2016000"/>
            <a:ext cx="27993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77920" y="2016000"/>
            <a:ext cx="27993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98400" y="4521240"/>
            <a:ext cx="27993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38160" y="4521240"/>
            <a:ext cx="27993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77920" y="4521240"/>
            <a:ext cx="27993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F4AA-72EC-456F-B1B5-AA866A481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991AA-27F8-4DB6-84BA-727781625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98400" y="2016000"/>
            <a:ext cx="8694720" cy="479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AC550-F6D2-4D20-80C0-7E427F8FE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98400" y="2016000"/>
            <a:ext cx="869472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EBA23-0D06-4C63-A9BE-0545F512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8400" y="2016000"/>
            <a:ext cx="424296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3760" y="2016000"/>
            <a:ext cx="424296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7E2A-2032-4FF6-B939-99C01684B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58120-B979-4C32-8DAD-EB057E9B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98400" y="402840"/>
            <a:ext cx="869472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F020-08F5-4802-AEEA-2BF0FBD7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8400" y="201600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3760" y="2016000"/>
            <a:ext cx="424296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98400" y="452124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C177-B20E-42C0-B8FC-2B9D8753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98400" y="2016000"/>
            <a:ext cx="8694720" cy="479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5400-4A2D-4D3B-8C94-CFD23ADA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98400" y="2016000"/>
            <a:ext cx="424296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3760" y="201600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3760" y="452124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B5F6-A9F8-4A06-8BE3-95042DE9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98400" y="201600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3760" y="201600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98400" y="4521240"/>
            <a:ext cx="869472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D2A7B-21E1-4F72-9B51-79C96158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98400" y="2016000"/>
            <a:ext cx="869472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98400" y="4521240"/>
            <a:ext cx="869472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BBA2-04A7-40D6-9ED8-63233483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98400" y="201600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3760" y="201600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98400" y="452124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3760" y="452124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E4DB5-22E0-413D-B712-6F2B1DFEF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2016000"/>
            <a:ext cx="27993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38160" y="2016000"/>
            <a:ext cx="27993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77920" y="2016000"/>
            <a:ext cx="27993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98400" y="4521240"/>
            <a:ext cx="27993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38160" y="4521240"/>
            <a:ext cx="27993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77920" y="4521240"/>
            <a:ext cx="27993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5CB4-FE0C-4042-87A9-E8BD5E652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0BCA9E-849E-4D59-8CB7-8921D4D0C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98400" y="2016000"/>
            <a:ext cx="8694720" cy="479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A4970-BB8F-436D-8784-A3FB434E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8400" y="2016000"/>
            <a:ext cx="869472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DD0A5-307A-4C13-B791-72FD493B5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98400" y="2016000"/>
            <a:ext cx="424296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53760" y="2016000"/>
            <a:ext cx="424296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02823-4B28-4A13-8809-91683062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061A2-B4F5-4CC9-BCD8-B0D5705D8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8400" y="2016000"/>
            <a:ext cx="869472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81F2-4016-47AC-B3AC-274CF4892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98400" y="402840"/>
            <a:ext cx="869472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FED5D-34AF-4503-B154-53F6B729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8400" y="201600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3760" y="2016000"/>
            <a:ext cx="424296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98400" y="452124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6E3A8-F780-480A-9C18-165E8844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8400" y="2016000"/>
            <a:ext cx="424296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3760" y="201600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53760" y="452124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3682CE-5C82-4E56-A89F-3BB0773E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98400" y="201600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3760" y="201600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98400" y="4521240"/>
            <a:ext cx="869472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1C2F3-234B-4281-9347-FD9ACD52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98400" y="2016000"/>
            <a:ext cx="869472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98400" y="4521240"/>
            <a:ext cx="869472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2E524-ADA5-4AD4-8522-91F849E0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98400" y="201600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53760" y="201600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98400" y="452124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53760" y="452124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9E361-B148-4D81-8454-BC3B109AD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98400" y="2016000"/>
            <a:ext cx="27993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38160" y="2016000"/>
            <a:ext cx="27993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77920" y="2016000"/>
            <a:ext cx="27993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98400" y="4521240"/>
            <a:ext cx="27993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38160" y="4521240"/>
            <a:ext cx="27993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77920" y="4521240"/>
            <a:ext cx="27993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597A9-08DB-456D-8283-57E2590A7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B4E077-FD37-40DD-8E5E-E818C6859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98400" y="2016000"/>
            <a:ext cx="8694720" cy="479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AFE4C-EDC8-444D-9B45-B6013C98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98400" y="2016000"/>
            <a:ext cx="869472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A905C-AC82-466C-856B-24AF5B76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8400" y="2016000"/>
            <a:ext cx="424296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2016000"/>
            <a:ext cx="424296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C336-F628-4AC7-A34D-CF9661FF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8400" y="2016000"/>
            <a:ext cx="424296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53760" y="2016000"/>
            <a:ext cx="424296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2F527-0BEE-4184-BA17-26005692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A7C67-F5D2-4530-9849-FB7BFFD0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98400" y="402840"/>
            <a:ext cx="869472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E35A4-7848-4F20-AE2C-FF3BDD7F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98400" y="201600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53760" y="2016000"/>
            <a:ext cx="424296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98400" y="452124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6B5E5-9181-4FB5-A77B-DE0A8205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98400" y="2016000"/>
            <a:ext cx="424296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53760" y="201600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53760" y="452124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CA350-FF88-46F5-8967-27BA9259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98400" y="201600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53760" y="201600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98400" y="4521240"/>
            <a:ext cx="869472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F246F-256D-4182-85C1-9221FC4D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8400" y="2016000"/>
            <a:ext cx="869472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98400" y="4521240"/>
            <a:ext cx="869472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7DC8B7-BEEF-43C8-8B37-58B5BB06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98400" y="201600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53760" y="201600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98400" y="452124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53760" y="452124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99E1E-E27C-4CBC-91B7-A697B7FF2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8400" y="2016000"/>
            <a:ext cx="27993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638160" y="2016000"/>
            <a:ext cx="27993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577920" y="2016000"/>
            <a:ext cx="27993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98400" y="4521240"/>
            <a:ext cx="27993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638160" y="4521240"/>
            <a:ext cx="27993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577920" y="4521240"/>
            <a:ext cx="27993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D1913-0609-4FE9-BA38-05D2329C0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E6DC-3F79-4A0B-80B9-F3A93425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98400" y="402840"/>
            <a:ext cx="8694720" cy="67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BC64-C532-47F3-8476-46F450C2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8400" y="201600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2016000"/>
            <a:ext cx="424296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98400" y="452124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E3EA-9E5D-4473-99FC-10DAEF56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8400" y="2016000"/>
            <a:ext cx="424296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201600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452124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0A01-B804-4552-B83F-84ACD1DE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8400" y="201600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2016000"/>
            <a:ext cx="424296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98400" y="4521240"/>
            <a:ext cx="869472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825"/>
              </a:spcBef>
              <a:buNone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4763-6B72-44E2-A4C3-B440E0B48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8400" y="2016000"/>
            <a:ext cx="869472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3360" y="7007040"/>
            <a:ext cx="226692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38640" y="7007040"/>
            <a:ext cx="340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24400" y="7007040"/>
            <a:ext cx="22683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341A36-76F7-4ADA-B505-4DFE863608F8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98400" y="2016000"/>
            <a:ext cx="869472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93360" y="7007040"/>
            <a:ext cx="226692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38640" y="7007040"/>
            <a:ext cx="340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124400" y="7007040"/>
            <a:ext cx="22683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B4D257-63E4-4147-8D67-733BF7828D68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98400" y="2016000"/>
            <a:ext cx="869472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93360" y="7007040"/>
            <a:ext cx="226692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338640" y="7007040"/>
            <a:ext cx="340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124400" y="7007040"/>
            <a:ext cx="22683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90874F-89B9-4D20-91C1-26FB63FAC5A6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98400" y="402840"/>
            <a:ext cx="8694720" cy="14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98400" y="2016000"/>
            <a:ext cx="8694720" cy="479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56664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94464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322280" indent="-18864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1700280" indent="-1890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93360" y="7007040"/>
            <a:ext cx="226692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338640" y="7007040"/>
            <a:ext cx="340344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124400" y="7007040"/>
            <a:ext cx="2268360" cy="40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4F1E99-682D-411D-A99B-4BA5042572F0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19280" y="394920"/>
            <a:ext cx="7959600" cy="187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0" lang="ru-RU" sz="5900" spc="-1" strike="noStrike">
                <a:solidFill>
                  <a:srgbClr val="ff6600"/>
                </a:solidFill>
                <a:latin typeface="Times New Roman"/>
              </a:rPr>
              <a:t>Яблочный сок-сок из яблока???</a:t>
            </a:r>
            <a:endParaRPr b="0" lang="en-US" sz="5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3070080" y="5795640"/>
            <a:ext cx="6578640" cy="150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70000"/>
              </a:lnSpc>
              <a:spcBef>
                <a:spcPts val="825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0" lang="ru-RU" sz="1400" spc="-1" strike="noStrike">
                <a:solidFill>
                  <a:srgbClr val="990099"/>
                </a:solidFill>
                <a:latin typeface="Times New Roman"/>
              </a:rPr>
              <a:t>Работу выполнила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825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0" lang="ru-RU" sz="1400" spc="-1" strike="noStrike">
                <a:solidFill>
                  <a:srgbClr val="990099"/>
                </a:solidFill>
                <a:latin typeface="Times New Roman"/>
              </a:rPr>
              <a:t>ученица 4 б класс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825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0" lang="ru-RU" sz="1400" spc="-1" strike="noStrike">
                <a:solidFill>
                  <a:srgbClr val="990099"/>
                </a:solidFill>
                <a:latin typeface="Times New Roman"/>
              </a:rPr>
              <a:t>Кононенко Алиса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825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825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0" lang="ru-RU" sz="1400" spc="-1" strike="noStrike">
                <a:solidFill>
                  <a:srgbClr val="990099"/>
                </a:solidFill>
                <a:latin typeface="Times New Roman"/>
              </a:rPr>
              <a:t>Руководитель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825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0" lang="ru-RU" sz="1400" spc="-1" strike="noStrike">
                <a:solidFill>
                  <a:srgbClr val="990099"/>
                </a:solidFill>
                <a:latin typeface="Times New Roman"/>
              </a:rPr>
              <a:t>Шушкова Н.В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825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871640" y="395280"/>
            <a:ext cx="7010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7" descr="https://go3.imgsmail.ru/imgpreview?key=recipes_4179166dc3486caf52c262643b4ba704.jpeg&amp;mb=onebox&amp;w=120&amp;h=77"/>
          <p:cNvPicPr/>
          <p:nvPr/>
        </p:nvPicPr>
        <p:blipFill>
          <a:blip r:embed="rId1"/>
          <a:stretch/>
        </p:blipFill>
        <p:spPr>
          <a:xfrm>
            <a:off x="360360" y="2195640"/>
            <a:ext cx="6985080" cy="39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576360" y="324000"/>
            <a:ext cx="84931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Актуальность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1293840" y="6262560"/>
            <a:ext cx="7058160" cy="9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о все ли яблочные соки полезны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Что в своем составе содержат они  и полезен ли этот состав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144360" y="755640"/>
            <a:ext cx="6480360" cy="17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Соки - это кладовая витаминов!!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00cc"/>
                </a:solidFill>
                <a:latin typeface="Arial"/>
              </a:rPr>
              <a:t>В соках содержатся витамины, минеральные вещества, углеводы, необходимые нашим детским растущим организм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13"/>
          <p:cNvSpPr/>
          <p:nvPr/>
        </p:nvSpPr>
        <p:spPr>
          <a:xfrm>
            <a:off x="3745080" y="2843280"/>
            <a:ext cx="53989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Да и просто, как хорошо начать          утро со стакана сока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16"/>
          <p:cNvSpPr/>
          <p:nvPr/>
        </p:nvSpPr>
        <p:spPr>
          <a:xfrm>
            <a:off x="228600" y="4473720"/>
            <a:ext cx="583236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"/>
              </a:rPr>
              <a:t>Каких только соков не встретишь в магазинах: овощные, фруктовые, ягодные, смешанные.Лидером среди соков является яблочный с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Прямоугольник 3"/>
          <p:cNvSpPr/>
          <p:nvPr/>
        </p:nvSpPr>
        <p:spPr>
          <a:xfrm>
            <a:off x="6202800" y="7093080"/>
            <a:ext cx="238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cc99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12" descr=""/>
          <p:cNvPicPr/>
          <p:nvPr/>
        </p:nvPicPr>
        <p:blipFill>
          <a:blip r:embed="rId2"/>
          <a:srcRect l="11368" t="0" r="7980" b="0"/>
          <a:stretch/>
        </p:blipFill>
        <p:spPr>
          <a:xfrm>
            <a:off x="7323120" y="123840"/>
            <a:ext cx="2082960" cy="2581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3" descr=""/>
          <p:cNvPicPr/>
          <p:nvPr/>
        </p:nvPicPr>
        <p:blipFill>
          <a:blip r:embed="rId3"/>
          <a:srcRect l="15990" t="0" r="0" b="0"/>
          <a:stretch/>
        </p:blipFill>
        <p:spPr>
          <a:xfrm>
            <a:off x="576360" y="2546280"/>
            <a:ext cx="2568600" cy="204804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1" descr=""/>
          <p:cNvPicPr/>
          <p:nvPr/>
        </p:nvPicPr>
        <p:blipFill>
          <a:blip r:embed="rId4"/>
          <a:stretch/>
        </p:blipFill>
        <p:spPr>
          <a:xfrm>
            <a:off x="6435720" y="4029120"/>
            <a:ext cx="313380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1"/>
          <p:cNvSpPr/>
          <p:nvPr/>
        </p:nvSpPr>
        <p:spPr>
          <a:xfrm>
            <a:off x="431640" y="396720"/>
            <a:ext cx="8906040" cy="15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3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 u="sng">
                <a:solidFill>
                  <a:srgbClr val="cc3300"/>
                </a:solidFill>
                <a:uFillTx/>
                <a:latin typeface="Comic Sans MS"/>
              </a:rPr>
              <a:t>Цель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3000"/>
              </a:lnSpc>
              <a:spcBef>
                <a:spcPts val="2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12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990099"/>
                </a:solidFill>
                <a:latin typeface="Comic Sans MS"/>
              </a:rPr>
              <a:t>Провести тестирование        яблочных соков на содержание искусственных красителей; ароматизаторов; подсластите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"/>
          <p:cNvSpPr/>
          <p:nvPr/>
        </p:nvSpPr>
        <p:spPr>
          <a:xfrm>
            <a:off x="863640" y="2484360"/>
            <a:ext cx="7848720" cy="42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8400" algn="ctr">
              <a:lnSpc>
                <a:spcPct val="100000"/>
              </a:lnSpc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601200"/>
                <a:tab algn="l" pos="10058400"/>
                <a:tab algn="l" pos="10515600"/>
              </a:tabLst>
            </a:pPr>
            <a:r>
              <a:rPr b="1" lang="ru-RU" sz="1800" spc="-1" strike="noStrike" u="sng">
                <a:solidFill>
                  <a:srgbClr val="cc3300"/>
                </a:solidFill>
                <a:uFillTx/>
                <a:latin typeface="Comic Sans MS"/>
              </a:rPr>
              <a:t>Задачи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3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Comic Sans MS"/>
              </a:rPr>
              <a:t>Провести анкетирование среди учащихся нашего классана предпочтения при                               выборе яблочного со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30000"/>
              </a:lnSpc>
              <a:buClr>
                <a:srgbClr val="0099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3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Comic Sans MS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990099"/>
                </a:solidFill>
                <a:latin typeface="Comic Sans MS"/>
              </a:rPr>
              <a:t>Научить тестировать яблочные соки на содержание в них искусственных красителей, ароматизаторов и подсластителей в домашних условия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30000"/>
              </a:lnSpc>
              <a:buClr>
                <a:srgbClr val="009900"/>
              </a:buClr>
              <a:buFont typeface="Arial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38400">
              <a:lnSpc>
                <a:spcPct val="13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601200"/>
                <a:tab algn="l" pos="10058400"/>
                <a:tab algn="l" pos="105156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Comic Sans MS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990099"/>
                </a:solidFill>
                <a:latin typeface="Comic Sans MS"/>
              </a:rPr>
              <a:t>Сформировать правильные ценностные предпочтения при выборе яблочного сока.</a:t>
            </a:r>
            <a:br>
              <a:rPr sz="1800"/>
            </a:br>
            <a:r>
              <a:rPr b="0" lang="ru-RU" sz="1800" spc="-1" strike="noStrike">
                <a:solidFill>
                  <a:srgbClr val="990099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1"/>
          <p:cNvSpPr/>
          <p:nvPr/>
        </p:nvSpPr>
        <p:spPr>
          <a:xfrm>
            <a:off x="1079640" y="466560"/>
            <a:ext cx="8064360" cy="24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3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cc3300"/>
                </a:solidFill>
                <a:uFillTx/>
                <a:latin typeface="Comic Sans MS"/>
              </a:rPr>
              <a:t>Гипотез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3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3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Comic Sans MS"/>
              </a:rPr>
              <a:t>Если выявить, в каких яблочных соках не содержится искусственных красителей, ароматизаторов и подсластителей, то такой сок можно рекомендовать для регулярного употребл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Прямоугольник 1"/>
          <p:cNvSpPr/>
          <p:nvPr/>
        </p:nvSpPr>
        <p:spPr>
          <a:xfrm>
            <a:off x="863640" y="2941560"/>
            <a:ext cx="8497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cc3300"/>
                </a:solidFill>
                <a:uFillTx/>
                <a:latin typeface="Comic Sans MS"/>
              </a:rPr>
              <a:t>Предмет исследования</a:t>
            </a:r>
            <a:r>
              <a:rPr b="1" lang="ru-RU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990099"/>
                </a:solidFill>
                <a:latin typeface="Comic Sans MS"/>
                <a:ea typeface="Times New Roman"/>
              </a:rPr>
              <a:t>– </a:t>
            </a:r>
            <a:r>
              <a:rPr b="0" lang="ru-RU" sz="1800" spc="-1" strike="noStrike">
                <a:solidFill>
                  <a:srgbClr val="990099"/>
                </a:solidFill>
                <a:latin typeface="Comic Sans MS"/>
              </a:rPr>
              <a:t>содержание в яблочных соках искусственных красителей, ароматизаторов  и подсластител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cc3300"/>
                </a:solidFill>
                <a:uFillTx/>
                <a:latin typeface="Comic Sans MS"/>
              </a:rPr>
              <a:t>Объект исследования</a:t>
            </a:r>
            <a:r>
              <a:rPr b="1" lang="ru-RU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990099"/>
                </a:solidFill>
                <a:latin typeface="Comic Sans MS"/>
                <a:ea typeface="Times New Roman"/>
              </a:rPr>
              <a:t>–</a:t>
            </a:r>
            <a:r>
              <a:rPr b="1" lang="ru-RU" sz="1800" spc="-1" strike="noStrike">
                <a:solidFill>
                  <a:srgbClr val="009900"/>
                </a:solidFill>
                <a:latin typeface="Comic Sans MS"/>
                <a:ea typeface="Times New Roman"/>
              </a:rPr>
              <a:t> яблочные </a:t>
            </a:r>
            <a:r>
              <a:rPr b="0" lang="ru-RU" sz="1800" spc="-1" strike="noStrike">
                <a:solidFill>
                  <a:srgbClr val="990099"/>
                </a:solidFill>
                <a:latin typeface="Comic Sans MS"/>
              </a:rPr>
              <a:t>соки разных производите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 u="sng">
                <a:solidFill>
                  <a:srgbClr val="cc3300"/>
                </a:solidFill>
                <a:uFillTx/>
                <a:latin typeface="Comic Sans MS"/>
              </a:rPr>
              <a:t>М</a:t>
            </a:r>
            <a:r>
              <a:rPr b="1" lang="ru-RU" sz="1800" spc="-1" strike="noStrike" u="sng">
                <a:solidFill>
                  <a:srgbClr val="cc3300"/>
                </a:solidFill>
                <a:uFillTx/>
                <a:latin typeface="Comic Sans MS"/>
                <a:ea typeface="Times New Roman"/>
              </a:rPr>
              <a:t>етоды </a:t>
            </a:r>
            <a:r>
              <a:rPr b="1" lang="ru-RU" sz="1800" spc="-1" strike="noStrike" u="sng">
                <a:solidFill>
                  <a:srgbClr val="cc3300"/>
                </a:solidFill>
                <a:uFillTx/>
                <a:latin typeface="Comic Sans MS"/>
              </a:rPr>
              <a:t>исследования</a:t>
            </a:r>
            <a:r>
              <a:rPr b="1" lang="ru-RU" sz="1800" spc="-1" strike="noStrike">
                <a:solidFill>
                  <a:srgbClr val="cc3300"/>
                </a:solidFill>
                <a:latin typeface="Comic Sans MS"/>
                <a:ea typeface="Times New Roman"/>
              </a:rPr>
              <a:t>:</a:t>
            </a:r>
            <a:br>
              <a:rPr sz="1800"/>
            </a:br>
            <a:r>
              <a:rPr b="0" lang="ru-RU" sz="1800" spc="-1" strike="noStrike">
                <a:solidFill>
                  <a:srgbClr val="990099"/>
                </a:solidFill>
                <a:latin typeface="Comic Sans MS"/>
              </a:rPr>
              <a:t>Метод эксперимента</a:t>
            </a:r>
            <a:r>
              <a:rPr b="0" lang="ru-RU" sz="1800" spc="-1" strike="noStrike">
                <a:solidFill>
                  <a:srgbClr val="990099"/>
                </a:solidFill>
                <a:latin typeface="Comic Sans MS"/>
                <a:ea typeface="Times New Roman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990099"/>
                </a:solidFill>
                <a:latin typeface="Comic Sans MS"/>
              </a:rPr>
              <a:t>Метод анкетир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87280" y="108000"/>
            <a:ext cx="9067680" cy="37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55640"/>
                <a:tab algn="l" pos="1511280"/>
                <a:tab algn="l" pos="2266920"/>
                <a:tab algn="l" pos="3022560"/>
                <a:tab algn="l" pos="3778200"/>
                <a:tab algn="l" pos="4533840"/>
                <a:tab algn="l" pos="5289480"/>
                <a:tab algn="l" pos="6045120"/>
                <a:tab algn="l" pos="6800760"/>
                <a:tab algn="l" pos="7556400"/>
                <a:tab algn="l" pos="8312040"/>
                <a:tab algn="l" pos="9067680"/>
                <a:tab algn="l" pos="9823320"/>
                <a:tab algn="l" pos="1057896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 Light"/>
              </a:rPr>
              <a:t>Результаты опроса детей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libri Light"/>
              </a:rPr>
              <a:t>участвовали в опросе – 23 </a:t>
            </a:r>
            <a:r>
              <a:rPr b="1" i="1" lang="ru-RU" sz="2400" spc="-1" strike="noStrike">
                <a:solidFill>
                  <a:srgbClr val="000000"/>
                </a:solidFill>
                <a:latin typeface="Calibri Light"/>
              </a:rPr>
              <a:t>чел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Calibri Light"/>
              </a:rPr>
              <a:t>(некоторые выбрали два вида сока</a:t>
            </a:r>
            <a:r>
              <a:rPr b="1" i="1" lang="ru-RU" sz="3600" spc="-1" strike="noStrike">
                <a:solidFill>
                  <a:srgbClr val="000000"/>
                </a:solidFill>
                <a:latin typeface="Calibri Light"/>
              </a:rPr>
              <a:t>)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libri Light"/>
              </a:rPr>
              <a:t>сок «Малышам» - 5 чел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libri Light"/>
              </a:rPr>
              <a:t>сок «Сады Придонья» -10 чел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Calibri Light"/>
              </a:rPr>
              <a:t>сок «Добрый» -14 че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90" name="Рисунок 1" descr=""/>
          <p:cNvPicPr/>
          <p:nvPr/>
        </p:nvPicPr>
        <p:blipFill>
          <a:blip r:embed="rId1"/>
          <a:stretch/>
        </p:blipFill>
        <p:spPr>
          <a:xfrm>
            <a:off x="287280" y="3490920"/>
            <a:ext cx="3240000" cy="1944720"/>
          </a:xfrm>
          <a:prstGeom prst="rect">
            <a:avLst/>
          </a:prstGeom>
          <a:ln w="0">
            <a:noFill/>
          </a:ln>
        </p:spPr>
      </p:pic>
      <p:pic>
        <p:nvPicPr>
          <p:cNvPr id="191" name="Рисунок 2" descr=""/>
          <p:cNvPicPr/>
          <p:nvPr/>
        </p:nvPicPr>
        <p:blipFill>
          <a:blip r:embed="rId2"/>
          <a:stretch/>
        </p:blipFill>
        <p:spPr>
          <a:xfrm>
            <a:off x="3921120" y="4768920"/>
            <a:ext cx="1800360" cy="2351160"/>
          </a:xfrm>
          <a:prstGeom prst="rect">
            <a:avLst/>
          </a:prstGeom>
          <a:ln w="0">
            <a:noFill/>
          </a:ln>
        </p:spPr>
      </p:pic>
      <p:pic>
        <p:nvPicPr>
          <p:cNvPr id="192" name="Рисунок 3" descr=""/>
          <p:cNvPicPr/>
          <p:nvPr/>
        </p:nvPicPr>
        <p:blipFill>
          <a:blip r:embed="rId3"/>
          <a:stretch/>
        </p:blipFill>
        <p:spPr>
          <a:xfrm>
            <a:off x="6111720" y="3884760"/>
            <a:ext cx="3721320" cy="172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44360" y="-181440"/>
            <a:ext cx="9072720" cy="380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Calibri Light"/>
              </a:rPr>
              <a:t>Тест первый</a:t>
            </a:r>
            <a:r>
              <a:rPr b="1" i="1" lang="ru-RU" sz="2400" spc="-1" strike="noStrike">
                <a:solidFill>
                  <a:srgbClr val="cc3300"/>
                </a:solidFill>
                <a:latin typeface="Calibri Light"/>
              </a:rPr>
              <a:t> – на содержание искусственных красителей. Для этого мне понадобится пищевая сода. </a:t>
            </a:r>
            <a:br>
              <a:rPr sz="2400"/>
            </a:br>
            <a:r>
              <a:rPr b="1" i="1" lang="ru-RU" sz="2400" spc="-1" strike="noStrike">
                <a:solidFill>
                  <a:srgbClr val="cc3300"/>
                </a:solidFill>
                <a:latin typeface="Calibri Light"/>
              </a:rPr>
              <a:t>Добавляем ее в стакан с соком. </a:t>
            </a:r>
            <a:br>
              <a:rPr sz="2400"/>
            </a:br>
            <a:r>
              <a:rPr b="1" i="1" lang="ru-RU" sz="2400" spc="-1" strike="noStrike">
                <a:solidFill>
                  <a:srgbClr val="cc3300"/>
                </a:solidFill>
                <a:latin typeface="Calibri Light"/>
              </a:rPr>
              <a:t>Если цвет поменялся- сок без красителей,</a:t>
            </a:r>
            <a:br>
              <a:rPr sz="2400"/>
            </a:br>
            <a:r>
              <a:rPr b="1" i="1" lang="ru-RU" sz="2400" spc="-1" strike="noStrike">
                <a:solidFill>
                  <a:srgbClr val="cc3300"/>
                </a:solidFill>
                <a:latin typeface="Calibri Light"/>
              </a:rPr>
              <a:t> если нет- то красители присутствуют.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94" name="Рисунок 2" descr=""/>
          <p:cNvPicPr/>
          <p:nvPr/>
        </p:nvPicPr>
        <p:blipFill>
          <a:blip r:embed="rId1"/>
          <a:stretch/>
        </p:blipFill>
        <p:spPr>
          <a:xfrm>
            <a:off x="627120" y="3625920"/>
            <a:ext cx="3549600" cy="3106800"/>
          </a:xfrm>
          <a:prstGeom prst="rect">
            <a:avLst/>
          </a:prstGeom>
          <a:ln w="0">
            <a:noFill/>
          </a:ln>
        </p:spPr>
      </p:pic>
      <p:pic>
        <p:nvPicPr>
          <p:cNvPr id="195" name="Рисунок 1" descr=""/>
          <p:cNvPicPr/>
          <p:nvPr/>
        </p:nvPicPr>
        <p:blipFill>
          <a:blip r:embed="rId2"/>
          <a:stretch/>
        </p:blipFill>
        <p:spPr>
          <a:xfrm>
            <a:off x="5977080" y="2443320"/>
            <a:ext cx="3816360" cy="510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1"/>
          <p:cNvSpPr/>
          <p:nvPr/>
        </p:nvSpPr>
        <p:spPr>
          <a:xfrm>
            <a:off x="690480" y="324000"/>
            <a:ext cx="9534600" cy="24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400" spc="-1" strike="noStrike">
                <a:solidFill>
                  <a:srgbClr val="990099"/>
                </a:solidFill>
                <a:latin typeface="Arial Unicode MS"/>
              </a:rPr>
              <a:t>Тест второй</a:t>
            </a:r>
            <a:r>
              <a:rPr b="1" i="1" lang="ru-RU" sz="2400" spc="-1" strike="noStrike">
                <a:solidFill>
                  <a:srgbClr val="cc3300"/>
                </a:solidFill>
                <a:latin typeface="Arial Unicode MS"/>
              </a:rPr>
              <a:t> – на содержание искусственных ароматизаторов. Капнем каплю сока на палец. Если остался маслянистый след-есть ароматизаторы, если нет- сок без ароматизатор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6" descr=""/>
          <p:cNvPicPr/>
          <p:nvPr/>
        </p:nvPicPr>
        <p:blipFill>
          <a:blip r:embed="rId1"/>
          <a:stretch/>
        </p:blipFill>
        <p:spPr>
          <a:xfrm>
            <a:off x="144360" y="2771640"/>
            <a:ext cx="3427560" cy="2868840"/>
          </a:xfrm>
          <a:prstGeom prst="rect">
            <a:avLst/>
          </a:prstGeom>
          <a:ln w="0">
            <a:noFill/>
          </a:ln>
        </p:spPr>
      </p:pic>
      <p:pic>
        <p:nvPicPr>
          <p:cNvPr id="198" name="Рисунок 1" descr=""/>
          <p:cNvPicPr/>
          <p:nvPr/>
        </p:nvPicPr>
        <p:blipFill>
          <a:blip r:embed="rId2"/>
          <a:stretch/>
        </p:blipFill>
        <p:spPr>
          <a:xfrm>
            <a:off x="5184720" y="2522520"/>
            <a:ext cx="4176720" cy="500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1"/>
          <p:cNvSpPr/>
          <p:nvPr/>
        </p:nvSpPr>
        <p:spPr>
          <a:xfrm>
            <a:off x="144360" y="2124000"/>
            <a:ext cx="55436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Тест третий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– на содержание искусственных подсластител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Пробуем сок на вку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Если через 5 ми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остается во рту сладость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сок с подсластителям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если нет – то без подсластителей</a:t>
            </a: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Рисунок 1" descr=""/>
          <p:cNvPicPr/>
          <p:nvPr/>
        </p:nvPicPr>
        <p:blipFill>
          <a:blip r:embed="rId1"/>
          <a:stretch/>
        </p:blipFill>
        <p:spPr>
          <a:xfrm>
            <a:off x="5545080" y="1692360"/>
            <a:ext cx="4187880" cy="56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6360" y="0"/>
            <a:ext cx="9069120" cy="13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067680"/>
                <a:tab algn="l" pos="9823320"/>
                <a:tab algn="l" pos="1057896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Comic Sans MS"/>
              </a:rPr>
              <a:t>Результаты тестирования соков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16000" y="1258920"/>
          <a:ext cx="9604440" cy="3762360"/>
        </p:xfrm>
        <a:graphic>
          <a:graphicData uri="http://schemas.openxmlformats.org/drawingml/2006/table">
            <a:tbl>
              <a:tblPr/>
              <a:tblGrid>
                <a:gridCol w="2438280"/>
                <a:gridCol w="1676520"/>
                <a:gridCol w="2212920"/>
                <a:gridCol w="2133720"/>
                <a:gridCol w="1143000"/>
              </a:tblGrid>
              <a:tr h="630720">
                <a:tc>
                  <a:txBody>
                    <a:bodyPr lIns="90000" rIns="90000" tIns="15012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к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508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ние красител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508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ние ароматизаторов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508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держание подсластителе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4508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ст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990099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2960">
                <a:tc>
                  <a:txBody>
                    <a:bodyPr lIns="90000" rIns="90000" tIns="11916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к «Сады Придонья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5012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7784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7784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7784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11916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к «Добрый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5012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7784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7784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7784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11916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к «Малышам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5012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ть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7784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7784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ть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7784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I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11916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5012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7784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7784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7784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 gridSpan="5">
                  <a:txBody>
                    <a:bodyPr lIns="90000" rIns="90000" tIns="11916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941076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99"/>
                      </a:solidFill>
                    </a:lnL>
                    <a:lnR w="5760">
                      <a:solidFill>
                        <a:srgbClr val="9900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9900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03" name="Рисунок 2" descr=""/>
          <p:cNvPicPr/>
          <p:nvPr/>
        </p:nvPicPr>
        <p:blipFill>
          <a:blip r:embed="rId1"/>
          <a:stretch/>
        </p:blipFill>
        <p:spPr>
          <a:xfrm>
            <a:off x="2808360" y="4211640"/>
            <a:ext cx="5002200" cy="3002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7T07:29:28Z</dcterms:created>
  <dc:creator>user</dc:creator>
  <dc:description/>
  <dc:language>en-US</dc:language>
  <cp:lastModifiedBy>user</cp:lastModifiedBy>
  <cp:lastPrinted>2017-12-04T09:49:46Z</cp:lastPrinted>
  <dcterms:modified xsi:type="dcterms:W3CDTF">2018-06-28T09:57:49Z</dcterms:modified>
  <cp:revision>59</cp:revision>
  <dc:subject/>
  <dc:title>Сколько в соке сока???</dc:title>
</cp:coreProperties>
</file>