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33440" y="812880"/>
            <a:ext cx="48880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dt" idx="13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4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5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5E2316E-3CD0-41DB-BB5D-8F534E6E151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4595A32-C994-46CB-88F3-0BC206570A1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8B2E30F-B0B8-4987-BBF4-3CE3B12E074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E2FE940-2933-4450-89E3-DE4DB095653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255E915-8FA8-4274-8415-95A12097412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F3E596E-DE55-4E07-B9F6-80E7CFD7F8F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D87FCDB-C357-47FD-966C-1D2636C68E7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5FD7769-F515-48CD-9233-D7C2ADF8812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8A77-D750-4678-88EA-52DD4258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869472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8400" y="4521240"/>
            <a:ext cx="869472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A896-1D66-4E5D-A8CC-9C53B535E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201600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8400" y="452124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52124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8081-8515-4838-B0E9-8D1E022CB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27993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8160" y="2016000"/>
            <a:ext cx="27993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7920" y="2016000"/>
            <a:ext cx="27993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8400" y="4521240"/>
            <a:ext cx="27993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8160" y="4521240"/>
            <a:ext cx="27993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7920" y="4521240"/>
            <a:ext cx="27993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0FEC-629B-4BE6-BC9A-ADEDC220F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4D5D2-DA32-4E2C-AFFF-DC47DDC52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98400" y="2016000"/>
            <a:ext cx="8694720" cy="479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1026-3580-4504-8683-4674F877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869472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7486-F868-4907-93BD-D81654B7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424296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3760" y="2016000"/>
            <a:ext cx="424296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8A13-42E9-46C0-B2F2-13F27C1A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26C4-DD28-41D9-80B6-77A84491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98400" y="402840"/>
            <a:ext cx="869472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84A0-0580-4CF2-B093-0ED66FFC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3760" y="2016000"/>
            <a:ext cx="424296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98400" y="452124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DC60-C815-4BB6-BBD3-9EB4A830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8400" y="2016000"/>
            <a:ext cx="8694720" cy="479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B94F-D429-4BAC-B769-F6F7274F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424296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3760" y="201600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3760" y="452124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A071-557C-418B-89C6-0B5C9096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760" y="201600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98400" y="4521240"/>
            <a:ext cx="869472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27137-4217-4B5D-A039-E150DBC9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869472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98400" y="4521240"/>
            <a:ext cx="869472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6F07-E1CE-4EB6-B74F-645E2A9A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3760" y="201600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98400" y="452124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3760" y="452124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9CB58-344B-4F0F-82BA-63260A3D0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27993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38160" y="2016000"/>
            <a:ext cx="27993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77920" y="2016000"/>
            <a:ext cx="27993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98400" y="4521240"/>
            <a:ext cx="27993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38160" y="4521240"/>
            <a:ext cx="27993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77920" y="4521240"/>
            <a:ext cx="27993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C68E-7526-4944-A61E-55C436D9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602DE-1825-4C82-BD21-2DE87E9E9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98400" y="2016000"/>
            <a:ext cx="8694720" cy="479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1F0F8-14B8-4B84-B56B-A08DFD28B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869472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4D369-3544-4579-B5EB-D69B3BA4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424296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3760" y="2016000"/>
            <a:ext cx="424296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100DE-C715-4D01-82F2-DA17AE2A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713D6-F17B-4D1F-A122-61F29B05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869472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200F-6D1E-44CC-A395-3A17C1AF4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98400" y="402840"/>
            <a:ext cx="869472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D599B-3540-4383-BB2C-604D56F9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3760" y="2016000"/>
            <a:ext cx="424296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98400" y="452124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F4B96-664D-43A8-BC0D-480E55F1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424296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3760" y="201600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3760" y="452124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F80B1-CE49-4CEF-A85B-50D5B8DC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3760" y="201600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98400" y="4521240"/>
            <a:ext cx="869472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172C7-7356-4398-954B-69667C4E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869472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98400" y="4521240"/>
            <a:ext cx="869472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56971-4C50-4F7B-B812-7FA02EF2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3760" y="201600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98400" y="452124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3760" y="452124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74A98-0113-41E7-99CC-C60EED592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27993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38160" y="2016000"/>
            <a:ext cx="27993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77920" y="2016000"/>
            <a:ext cx="27993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98400" y="4521240"/>
            <a:ext cx="27993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38160" y="4521240"/>
            <a:ext cx="27993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77920" y="4521240"/>
            <a:ext cx="27993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F677A-7ED8-438B-87D6-DECE9DA95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4DC45-F623-4D23-9781-DF3496B9A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98400" y="2016000"/>
            <a:ext cx="8694720" cy="479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48154-35B4-49DB-A05D-D0C1858B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869472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9D28B-1A3B-4FD1-8047-97F91B33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424296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2016000"/>
            <a:ext cx="424296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AA6D-9C35-40F0-9BFE-EDA9A20D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424296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3760" y="2016000"/>
            <a:ext cx="424296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37C1F-B168-4877-8E8E-A291B4D9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406C42-01CE-4E7D-ADAF-A4B147E8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98400" y="402840"/>
            <a:ext cx="869472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5CEC6-A686-4219-936C-04C517A09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3760" y="2016000"/>
            <a:ext cx="424296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98400" y="452124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E29BE-D94B-49B4-94A6-5E285CBB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424296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3760" y="201600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3760" y="452124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D3A83-B999-490F-B233-26B0EC49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3760" y="201600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98400" y="4521240"/>
            <a:ext cx="869472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2A3DF-964E-46FD-9B77-96180D6B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869472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98400" y="4521240"/>
            <a:ext cx="869472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04876-2A75-4E0E-A236-13E45DDC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3760" y="201600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98400" y="452124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3760" y="452124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9B7DE-AE19-42AC-8F68-1B46D166E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27993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38160" y="2016000"/>
            <a:ext cx="27993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577920" y="2016000"/>
            <a:ext cx="27993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98400" y="4521240"/>
            <a:ext cx="27993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38160" y="4521240"/>
            <a:ext cx="27993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577920" y="4521240"/>
            <a:ext cx="27993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5C895-D508-4424-9C73-88BBFCF20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C12C-8D0B-47EC-8C90-122FC288D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98400" y="402840"/>
            <a:ext cx="869472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4093-BA25-4B94-8D4A-9024ACF9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2016000"/>
            <a:ext cx="424296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8400" y="452124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DEC6-ABCE-41D4-84BE-71937B21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424296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201600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52124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1AD5-72A0-4AB3-B08F-C26FE8CD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201600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8400" y="4521240"/>
            <a:ext cx="869472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02CD-B0A3-4A17-BFA4-A8A287AA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8400" y="2016000"/>
            <a:ext cx="869472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3360" y="7007040"/>
            <a:ext cx="226692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24400" y="7007040"/>
            <a:ext cx="22683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F088F4-DEAB-415C-AD89-8F7C28C8CAB6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98400" y="2016000"/>
            <a:ext cx="869472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93360" y="7007040"/>
            <a:ext cx="226692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124400" y="7007040"/>
            <a:ext cx="22683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2ED29D-0F32-4E56-BBB3-F10F213214A0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98400" y="2016000"/>
            <a:ext cx="869472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93360" y="7007040"/>
            <a:ext cx="226692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124400" y="7007040"/>
            <a:ext cx="22683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52F09A-1287-4A34-8E0F-1042A2E8C3CD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98400" y="2016000"/>
            <a:ext cx="869472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93360" y="7007040"/>
            <a:ext cx="226692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124400" y="7007040"/>
            <a:ext cx="22683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5E8266-6A8D-49D4-9F08-BC6EC5876DE2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19280" y="394920"/>
            <a:ext cx="7959600" cy="187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0" lang="ru-RU" sz="5900" spc="-1" strike="noStrike">
                <a:solidFill>
                  <a:srgbClr val="ff6600"/>
                </a:solidFill>
                <a:latin typeface="Times New Roman"/>
              </a:rPr>
              <a:t>Яблочный сок-сок из яблока???</a:t>
            </a: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3070080" y="5795640"/>
            <a:ext cx="6578640" cy="150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0" lang="ru-RU" sz="1400" spc="-1" strike="noStrike">
                <a:solidFill>
                  <a:srgbClr val="990099"/>
                </a:solidFill>
                <a:latin typeface="Times New Roman"/>
              </a:rPr>
              <a:t>Работу выполнила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0" lang="ru-RU" sz="1400" spc="-1" strike="noStrike">
                <a:solidFill>
                  <a:srgbClr val="990099"/>
                </a:solidFill>
                <a:latin typeface="Times New Roman"/>
              </a:rPr>
              <a:t>ученица 4 б класс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0" lang="ru-RU" sz="1400" spc="-1" strike="noStrike">
                <a:solidFill>
                  <a:srgbClr val="990099"/>
                </a:solidFill>
                <a:latin typeface="Times New Roman"/>
              </a:rPr>
              <a:t>Кононенко Алиса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0" lang="ru-RU" sz="1400" spc="-1" strike="noStrike">
                <a:solidFill>
                  <a:srgbClr val="990099"/>
                </a:solidFill>
                <a:latin typeface="Times New Roman"/>
              </a:rPr>
              <a:t>Руководитель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0" lang="ru-RU" sz="1400" spc="-1" strike="noStrike">
                <a:solidFill>
                  <a:srgbClr val="990099"/>
                </a:solidFill>
                <a:latin typeface="Times New Roman"/>
              </a:rPr>
              <a:t>Шушкова Н.В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871640" y="395280"/>
            <a:ext cx="7010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7" descr="https://go3.imgsmail.ru/imgpreview?key=recipes_4179166dc3486caf52c262643b4ba704.jpeg&amp;mb=onebox&amp;w=120&amp;h=77"/>
          <p:cNvPicPr/>
          <p:nvPr/>
        </p:nvPicPr>
        <p:blipFill>
          <a:blip r:embed="rId1"/>
          <a:stretch/>
        </p:blipFill>
        <p:spPr>
          <a:xfrm>
            <a:off x="360360" y="2195640"/>
            <a:ext cx="6985080" cy="39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576360" y="324000"/>
            <a:ext cx="8493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Актуальность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1293840" y="6262560"/>
            <a:ext cx="705816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о все ли яблочные соки полезны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то в своем составе содержат они  и полезен ли этот состав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144360" y="755640"/>
            <a:ext cx="6480360" cy="17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Соки - это кладовая витаминов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В соках содержатся витамины, минеральные вещества, углеводы, необходимые нашим детским растущим организм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3745080" y="2843280"/>
            <a:ext cx="53989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а и просто, как хорошо начать          утро со стакана сок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228600" y="4473720"/>
            <a:ext cx="583236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Каких только соков не встретишь в магазинах: овощные, фруктовые, ягодные, смешанные.Лидером среди соков является яблочный с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Прямоугольник 3"/>
          <p:cNvSpPr/>
          <p:nvPr/>
        </p:nvSpPr>
        <p:spPr>
          <a:xfrm>
            <a:off x="6202800" y="7093080"/>
            <a:ext cx="238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cc99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12" descr=""/>
          <p:cNvPicPr/>
          <p:nvPr/>
        </p:nvPicPr>
        <p:blipFill>
          <a:blip r:embed="rId2"/>
          <a:srcRect l="11368" t="0" r="7980" b="0"/>
          <a:stretch/>
        </p:blipFill>
        <p:spPr>
          <a:xfrm>
            <a:off x="7323120" y="123840"/>
            <a:ext cx="2082960" cy="2581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3" descr=""/>
          <p:cNvPicPr/>
          <p:nvPr/>
        </p:nvPicPr>
        <p:blipFill>
          <a:blip r:embed="rId3"/>
          <a:srcRect l="15990" t="0" r="0" b="0"/>
          <a:stretch/>
        </p:blipFill>
        <p:spPr>
          <a:xfrm>
            <a:off x="576360" y="2546280"/>
            <a:ext cx="2568600" cy="204804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1" descr=""/>
          <p:cNvPicPr/>
          <p:nvPr/>
        </p:nvPicPr>
        <p:blipFill>
          <a:blip r:embed="rId4"/>
          <a:stretch/>
        </p:blipFill>
        <p:spPr>
          <a:xfrm>
            <a:off x="6435720" y="4029120"/>
            <a:ext cx="313380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431640" y="396720"/>
            <a:ext cx="890604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3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Comic Sans MS"/>
              </a:rPr>
              <a:t>Цел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3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990099"/>
                </a:solidFill>
                <a:latin typeface="Comic Sans MS"/>
              </a:rPr>
              <a:t>Провести тестирование        яблочных соков на содержание искусственных красителей; ароматизаторов; подсластит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"/>
          <p:cNvSpPr/>
          <p:nvPr/>
        </p:nvSpPr>
        <p:spPr>
          <a:xfrm>
            <a:off x="863640" y="2484360"/>
            <a:ext cx="7848720" cy="42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840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 u="sng">
                <a:solidFill>
                  <a:srgbClr val="cc3300"/>
                </a:solidFill>
                <a:uFillTx/>
                <a:latin typeface="Comic Sans MS"/>
              </a:rPr>
              <a:t>Задачи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3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Comic Sans MS"/>
              </a:rPr>
              <a:t>Провести анкетирование среди учащихся нашего классана предпочтения при                               выборе яблочного со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30000"/>
              </a:lnSpc>
              <a:buClr>
                <a:srgbClr val="0099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3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Comic Sans MS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990099"/>
                </a:solidFill>
                <a:latin typeface="Comic Sans MS"/>
              </a:rPr>
              <a:t>Научить тестировать яблочные соки на содержание в них искусственных красителей, ароматизаторов и подсластителей в домашних условия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30000"/>
              </a:lnSpc>
              <a:buClr>
                <a:srgbClr val="0099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3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Comic Sans MS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990099"/>
                </a:solidFill>
                <a:latin typeface="Comic Sans MS"/>
              </a:rPr>
              <a:t>Сформировать правильные ценностные предпочтения при выборе яблочного сока.</a:t>
            </a:r>
            <a:br>
              <a:rPr sz="1800"/>
            </a:br>
            <a:r>
              <a:rPr b="0" lang="ru-RU" sz="1800" spc="-1" strike="noStrike">
                <a:solidFill>
                  <a:srgbClr val="9900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1"/>
          <p:cNvSpPr/>
          <p:nvPr/>
        </p:nvSpPr>
        <p:spPr>
          <a:xfrm>
            <a:off x="1079640" y="466560"/>
            <a:ext cx="8064360" cy="24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3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cc3300"/>
                </a:solidFill>
                <a:uFillTx/>
                <a:latin typeface="Comic Sans MS"/>
              </a:rPr>
              <a:t>Гипоте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3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3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Comic Sans MS"/>
              </a:rPr>
              <a:t>Если выявить, в каких яблочных соках не содержится искусственных красителей, ароматизаторов и подсластителей, то такой сок можно рекомендовать для регулярного употребл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1"/>
          <p:cNvSpPr/>
          <p:nvPr/>
        </p:nvSpPr>
        <p:spPr>
          <a:xfrm>
            <a:off x="863640" y="2941560"/>
            <a:ext cx="8497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cc3300"/>
                </a:solidFill>
                <a:uFillTx/>
                <a:latin typeface="Comic Sans MS"/>
              </a:rPr>
              <a:t>Предмет исследования</a:t>
            </a:r>
            <a:r>
              <a:rPr b="1" lang="ru-RU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990099"/>
                </a:solidFill>
                <a:latin typeface="Comic Sans MS"/>
                <a:ea typeface="Times New Roman"/>
              </a:rPr>
              <a:t>– </a:t>
            </a:r>
            <a:r>
              <a:rPr b="0" lang="ru-RU" sz="1800" spc="-1" strike="noStrike">
                <a:solidFill>
                  <a:srgbClr val="990099"/>
                </a:solidFill>
                <a:latin typeface="Comic Sans MS"/>
              </a:rPr>
              <a:t>содержание в яблочных соках искусственных красителей, ароматизаторов  и подсластите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cc3300"/>
                </a:solidFill>
                <a:uFillTx/>
                <a:latin typeface="Comic Sans MS"/>
              </a:rPr>
              <a:t>Объект исследования</a:t>
            </a:r>
            <a:r>
              <a:rPr b="1" lang="ru-RU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990099"/>
                </a:solidFill>
                <a:latin typeface="Comic Sans MS"/>
                <a:ea typeface="Times New Roman"/>
              </a:rPr>
              <a:t>–</a:t>
            </a:r>
            <a:r>
              <a:rPr b="1" lang="ru-RU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яблочные </a:t>
            </a:r>
            <a:r>
              <a:rPr b="0" lang="ru-RU" sz="1800" spc="-1" strike="noStrike">
                <a:solidFill>
                  <a:srgbClr val="990099"/>
                </a:solidFill>
                <a:latin typeface="Comic Sans MS"/>
              </a:rPr>
              <a:t>соки разных производите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cc3300"/>
                </a:solidFill>
                <a:uFillTx/>
                <a:latin typeface="Comic Sans MS"/>
              </a:rPr>
              <a:t>М</a:t>
            </a:r>
            <a:r>
              <a:rPr b="1" lang="ru-RU" sz="1800" spc="-1" strike="noStrike" u="sng">
                <a:solidFill>
                  <a:srgbClr val="cc3300"/>
                </a:solidFill>
                <a:uFillTx/>
                <a:latin typeface="Comic Sans MS"/>
                <a:ea typeface="Times New Roman"/>
              </a:rPr>
              <a:t>етоды </a:t>
            </a:r>
            <a:r>
              <a:rPr b="1" lang="ru-RU" sz="1800" spc="-1" strike="noStrike" u="sng">
                <a:solidFill>
                  <a:srgbClr val="cc3300"/>
                </a:solidFill>
                <a:uFillTx/>
                <a:latin typeface="Comic Sans MS"/>
              </a:rPr>
              <a:t>исследования</a:t>
            </a:r>
            <a:r>
              <a:rPr b="1" lang="ru-RU" sz="1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:</a:t>
            </a:r>
            <a:br>
              <a:rPr sz="1800"/>
            </a:br>
            <a:r>
              <a:rPr b="0" lang="ru-RU" sz="1800" spc="-1" strike="noStrike">
                <a:solidFill>
                  <a:srgbClr val="990099"/>
                </a:solidFill>
                <a:latin typeface="Comic Sans MS"/>
              </a:rPr>
              <a:t>Метод эксперимента</a:t>
            </a:r>
            <a:r>
              <a:rPr b="0" lang="ru-RU" sz="1800" spc="-1" strike="noStrike">
                <a:solidFill>
                  <a:srgbClr val="990099"/>
                </a:solidFill>
                <a:latin typeface="Comic Sans MS"/>
                <a:ea typeface="Times New Roman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990099"/>
                </a:solidFill>
                <a:latin typeface="Comic Sans MS"/>
              </a:rPr>
              <a:t>Метод анкетир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7280" y="108000"/>
            <a:ext cx="906768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 Light"/>
              </a:rPr>
              <a:t>Результаты опроса детей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 Light"/>
              </a:rPr>
              <a:t>участвовали в опросе – 23 </a:t>
            </a:r>
            <a:r>
              <a:rPr b="1" i="1" lang="ru-RU" sz="2400" spc="-1" strike="noStrike">
                <a:solidFill>
                  <a:srgbClr val="000000"/>
                </a:solidFill>
                <a:latin typeface="Calibri Light"/>
              </a:rPr>
              <a:t>чел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 Light"/>
              </a:rPr>
              <a:t>(некоторые выбрали два вида сока</a:t>
            </a:r>
            <a:r>
              <a:rPr b="1" i="1" lang="ru-RU" sz="3600" spc="-1" strike="noStrike">
                <a:solidFill>
                  <a:srgbClr val="000000"/>
                </a:solidFill>
                <a:latin typeface="Calibri Light"/>
              </a:rPr>
              <a:t>)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 Light"/>
              </a:rPr>
              <a:t>сок «Малышам» - 5 чел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 Light"/>
              </a:rPr>
              <a:t>сок «Сады Придонья» -10 чел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 Light"/>
              </a:rPr>
              <a:t>сок «Добрый» -14 че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90" name="Рисунок 1" descr=""/>
          <p:cNvPicPr/>
          <p:nvPr/>
        </p:nvPicPr>
        <p:blipFill>
          <a:blip r:embed="rId1"/>
          <a:stretch/>
        </p:blipFill>
        <p:spPr>
          <a:xfrm>
            <a:off x="287280" y="3490920"/>
            <a:ext cx="3240000" cy="194472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2" descr=""/>
          <p:cNvPicPr/>
          <p:nvPr/>
        </p:nvPicPr>
        <p:blipFill>
          <a:blip r:embed="rId2"/>
          <a:stretch/>
        </p:blipFill>
        <p:spPr>
          <a:xfrm>
            <a:off x="3921120" y="4768920"/>
            <a:ext cx="1800360" cy="235116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3" descr=""/>
          <p:cNvPicPr/>
          <p:nvPr/>
        </p:nvPicPr>
        <p:blipFill>
          <a:blip r:embed="rId3"/>
          <a:stretch/>
        </p:blipFill>
        <p:spPr>
          <a:xfrm>
            <a:off x="6111720" y="3884760"/>
            <a:ext cx="372132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4360" y="-181440"/>
            <a:ext cx="9072720" cy="380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Calibri Light"/>
              </a:rPr>
              <a:t>Тест первый</a:t>
            </a:r>
            <a:r>
              <a:rPr b="1" i="1" lang="ru-RU" sz="2400" spc="-1" strike="noStrike">
                <a:solidFill>
                  <a:srgbClr val="cc3300"/>
                </a:solidFill>
                <a:latin typeface="Calibri Light"/>
              </a:rPr>
              <a:t> – на содержание искусственных красителей. Для этого мне понадобится пищевая сода. </a:t>
            </a:r>
            <a:br>
              <a:rPr sz="2400"/>
            </a:br>
            <a:r>
              <a:rPr b="1" i="1" lang="ru-RU" sz="2400" spc="-1" strike="noStrike">
                <a:solidFill>
                  <a:srgbClr val="cc3300"/>
                </a:solidFill>
                <a:latin typeface="Calibri Light"/>
              </a:rPr>
              <a:t>Добавляем ее в стакан с соком. </a:t>
            </a:r>
            <a:br>
              <a:rPr sz="2400"/>
            </a:br>
            <a:r>
              <a:rPr b="1" i="1" lang="ru-RU" sz="2400" spc="-1" strike="noStrike">
                <a:solidFill>
                  <a:srgbClr val="cc3300"/>
                </a:solidFill>
                <a:latin typeface="Calibri Light"/>
              </a:rPr>
              <a:t>Если цвет поменялся- сок без красителей,</a:t>
            </a:r>
            <a:br>
              <a:rPr sz="2400"/>
            </a:br>
            <a:r>
              <a:rPr b="1" i="1" lang="ru-RU" sz="2400" spc="-1" strike="noStrike">
                <a:solidFill>
                  <a:srgbClr val="cc3300"/>
                </a:solidFill>
                <a:latin typeface="Calibri Light"/>
              </a:rPr>
              <a:t> если нет- то красители присутствуют.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94" name="Рисунок 2" descr=""/>
          <p:cNvPicPr/>
          <p:nvPr/>
        </p:nvPicPr>
        <p:blipFill>
          <a:blip r:embed="rId1"/>
          <a:stretch/>
        </p:blipFill>
        <p:spPr>
          <a:xfrm>
            <a:off x="627120" y="3625920"/>
            <a:ext cx="3549600" cy="310680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1" descr=""/>
          <p:cNvPicPr/>
          <p:nvPr/>
        </p:nvPicPr>
        <p:blipFill>
          <a:blip r:embed="rId2"/>
          <a:stretch/>
        </p:blipFill>
        <p:spPr>
          <a:xfrm>
            <a:off x="5977080" y="2443320"/>
            <a:ext cx="3816360" cy="510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"/>
          <p:cNvSpPr/>
          <p:nvPr/>
        </p:nvSpPr>
        <p:spPr>
          <a:xfrm>
            <a:off x="690480" y="324000"/>
            <a:ext cx="9534600" cy="24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Arial Unicode MS"/>
              </a:rPr>
              <a:t>Тест второй</a:t>
            </a:r>
            <a:r>
              <a:rPr b="1" i="1" lang="ru-RU" sz="2400" spc="-1" strike="noStrike">
                <a:solidFill>
                  <a:srgbClr val="cc3300"/>
                </a:solidFill>
                <a:latin typeface="Arial Unicode MS"/>
              </a:rPr>
              <a:t> – на содержание искусственных ароматизаторов. Капнем каплю сока на палец. Если остался маслянистый след-есть ароматизаторы, если нет- сок без ароматизато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144360" y="2771640"/>
            <a:ext cx="3427560" cy="286884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1" descr=""/>
          <p:cNvPicPr/>
          <p:nvPr/>
        </p:nvPicPr>
        <p:blipFill>
          <a:blip r:embed="rId2"/>
          <a:stretch/>
        </p:blipFill>
        <p:spPr>
          <a:xfrm>
            <a:off x="5184720" y="2522520"/>
            <a:ext cx="4176720" cy="500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"/>
          <p:cNvSpPr/>
          <p:nvPr/>
        </p:nvSpPr>
        <p:spPr>
          <a:xfrm>
            <a:off x="144360" y="2124000"/>
            <a:ext cx="5543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Тест третий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– на содержание искусственных подсласти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робуем сок на вку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Если через 5 ми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остается во рту сладость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ок с подсластителям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если нет – то без подсластителей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Рисунок 1" descr=""/>
          <p:cNvPicPr/>
          <p:nvPr/>
        </p:nvPicPr>
        <p:blipFill>
          <a:blip r:embed="rId1"/>
          <a:stretch/>
        </p:blipFill>
        <p:spPr>
          <a:xfrm>
            <a:off x="5545080" y="1692360"/>
            <a:ext cx="4187880" cy="56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6360" y="0"/>
            <a:ext cx="9069120" cy="13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Comic Sans MS"/>
              </a:rPr>
              <a:t>Результаты тестирования соков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16000" y="1258920"/>
          <a:ext cx="9604440" cy="3762360"/>
        </p:xfrm>
        <a:graphic>
          <a:graphicData uri="http://schemas.openxmlformats.org/drawingml/2006/table">
            <a:tbl>
              <a:tblPr/>
              <a:tblGrid>
                <a:gridCol w="2438280"/>
                <a:gridCol w="1676520"/>
                <a:gridCol w="2212920"/>
                <a:gridCol w="2133720"/>
                <a:gridCol w="1143000"/>
              </a:tblGrid>
              <a:tr h="630720">
                <a:tc>
                  <a:txBody>
                    <a:bodyPr lIns="90000" rIns="90000" tIns="15012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508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 красител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508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 ароматизатор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508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 подсластител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508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т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960">
                <a:tc>
                  <a:txBody>
                    <a:bodyPr lIns="90000" rIns="90000" tIns="11916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к «Сады Придонья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012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7784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7784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11916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к «Добрый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012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7784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7784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11916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к «Малышам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012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ть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7784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т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7784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I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11916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012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7784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7784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 gridSpan="5">
                  <a:txBody>
                    <a:bodyPr lIns="90000" rIns="90000" tIns="11916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03" name="Рисунок 2" descr=""/>
          <p:cNvPicPr/>
          <p:nvPr/>
        </p:nvPicPr>
        <p:blipFill>
          <a:blip r:embed="rId1"/>
          <a:stretch/>
        </p:blipFill>
        <p:spPr>
          <a:xfrm>
            <a:off x="2808360" y="4211640"/>
            <a:ext cx="5002200" cy="3002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7:29:28Z</dcterms:created>
  <dc:creator>user</dc:creator>
  <dc:description/>
  <dc:language>en-US</dc:language>
  <cp:lastModifiedBy>user</cp:lastModifiedBy>
  <cp:lastPrinted>2017-12-04T09:49:46Z</cp:lastPrinted>
  <dcterms:modified xsi:type="dcterms:W3CDTF">2018-06-28T09:57:49Z</dcterms:modified>
  <cp:revision>59</cp:revision>
  <dc:subject/>
  <dc:title>Сколько в соке сока???</dc:title>
</cp:coreProperties>
</file>