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2125-F09C-4EC0-BBBA-3E34182FD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D575-2475-4F21-AFF5-161FCF77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E0ED-D70A-4F58-9A39-E56D39FCD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C792-7C70-4467-A298-91068B2AF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ACA4-E909-4B59-B322-AF2936739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7233-088D-46EB-A87C-AD65D347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D52A2-9851-4FAB-B774-1D0173DA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001BA-0D86-46F1-A727-6BD7F9BF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A711-C38F-4E6E-AA0D-26FEEB45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4D51-372C-43B0-8F1F-4DE7FC4C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6150-51DA-472B-8B82-AAD56B8B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2779-E190-40C8-9D77-06A46CB6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9454-06CA-4517-9B8A-7CA4E041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248B-3429-4D56-AC9F-8A8DAA76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56E9-0FA4-494A-9889-53EA3CFA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91E4-CBAE-4CCE-AF6F-32B1E2AD2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9602F-EABA-4F62-980C-88FA2267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E4B-0B0E-4071-AC5B-190586E6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B35-68E2-47A5-AEDA-57CE6402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996F-1ACD-4BD0-BB80-152AF9ED4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615-0027-4AB4-B678-CD8282A1B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BB3-506D-469D-9E43-B8C12746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D717-4DA4-49F1-BEE0-7926B213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1E7A-3A4D-4009-AA8E-BF0242B23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0000"/>
            </a:gs>
            <a:gs pos="50000">
              <a:srgbClr val="800000"/>
            </a:gs>
            <a:gs pos="100000">
              <a:srgbClr val="6a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A2AB-DCE6-440A-9C63-765FD95A10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0000"/>
            </a:gs>
            <a:gs pos="50000">
              <a:srgbClr val="800000"/>
            </a:gs>
            <a:gs pos="100000">
              <a:srgbClr val="6a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EAC5-0760-4094-A6CD-6400B171A9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vvo4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826920" y="620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храним историческую пам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наших земляках-ветеран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5292720" y="357336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зербаева Людмил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енцова Людмил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I:\Библиотека\Кравченко раиса яковлевна\Кравченко.jpg"/>
          <p:cNvPicPr/>
          <p:nvPr/>
        </p:nvPicPr>
        <p:blipFill>
          <a:blip r:embed="rId1"/>
          <a:stretch/>
        </p:blipFill>
        <p:spPr>
          <a:xfrm>
            <a:off x="378000" y="260280"/>
            <a:ext cx="1746000" cy="2521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2411280" y="260280"/>
            <a:ext cx="6408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равченко Раиса Яковлевна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лась 27 ноября 192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октября 1942 года молодых девушек провожали на телегах с лошадьми в другой посёлок. Раису провожал  папа. Он очень сложно переносил расставание  с дочкой. 7 ноября Раиса Яковлевна приняла присягу. Сразу после присяги началось распределение по группам. Кого послали в штаб разведгрупп, другие отправились к  связистам, а последних 8 человек в 41 отдельную роту химзащиты. И среди них была Раиса. Там они изучали газы, противогазы. 41 рота  входила в состав 87 полка. После обучения Раисе вручили удостоверение и сообщили, что  41 роту расформировали так как немцы прекратили газовые атаки. Расформированную 41 роту  перевели в 87 полк. Там всех распределили по батареям и в Сталинград не далеко от Красного октября.  К тому времени она была санитар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I:\Библиотека\Кравченко раиса яковлевна\Кравченко раиса яковлевна.jpg"/>
          <p:cNvPicPr/>
          <p:nvPr/>
        </p:nvPicPr>
        <p:blipFill>
          <a:blip r:embed="rId2"/>
          <a:stretch/>
        </p:blipFill>
        <p:spPr>
          <a:xfrm>
            <a:off x="5508720" y="3639960"/>
            <a:ext cx="3490920" cy="29559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250920" y="3639960"/>
            <a:ext cx="5041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гая раненным Раиса Яковлевна провела все дни Сталинградской битвы. Не одну жизнь спасла она и вынесла на своих хрупких плечах с поля боя раненных солдат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варищи Раисы Яковлевны погибли. Подруга Раиса Абрамова умерла, Раису Мельникову уб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ько в Берлине 26 апреля 1945 года у Раисы Яковлевны было лёгкое ранение в шею. Известие об окончании войны  Раиса встречала уже в госпита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539640" y="47628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ая Отечественная Война... Она оставила свой след в каждом городе, в каждой семье. Людская память до сих пор хранит тяжесть потерь, трудности испытаний, напряженное состояние тех суровых дней, когда вся страна жила одним порывом - победить! Все дальше уходят в прошлое огненные годы войны, все меньше остается живых свидетелей тех лет. Но подвиг наших дедов будет всегда жить в наших сердцах. Мы живём в городе Николаевске Волгоградской области. В нашем детском саду работа по воспитанию у детей патриотических чувств осуществляется во всех видах деятельности, начиная с младших групп. Большое внимание мы уделяем формированию у детей представления о Великой Отечественной войне,  воспитанию любви, чувству благодарности к ветеранам Великой Отечественной войны, чувство любви к Малой Родине; углубляем представления детей о Сталинградской битве, даём детям понятия о памяти, памятниках, о ритуале почтении памяти в нашем городе Николаевске, воспитываем чувство уважения к нашим землякам, участвующих в Великой Отечественной войне. В феврале 2013 года была проведена огромная работа по подготовке к празднованию к 70-летию Сталинградской битвы. Все готовились к этому празднику заранее. Мы ребятам прочитали очень много рассказов и стихов о войне, мы рассматривали вместе фотографии, альбомы, проспекты, открытки о Сталинградской битве. С помощью родителей была организована очень большая и разнообразная выставка на тему: «Война глазами дете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:\война-9мая подготовка-фото\SAM_3851.JPG"/>
          <p:cNvPicPr/>
          <p:nvPr/>
        </p:nvPicPr>
        <p:blipFill>
          <a:blip r:embed="rId1"/>
          <a:stretch/>
        </p:blipFill>
        <p:spPr>
          <a:xfrm>
            <a:off x="4788000" y="189000"/>
            <a:ext cx="412596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971640" y="282564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ом же году в мае месяце, ребята нашей группы участвовали в поздравлении ветеранов войны. Они исполнили у пассажирской переправы музыкальную композицию «Хотят ли русские войны» и подарили ветеранам живые цве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F:\война-9мая подготовка-фото\SAM_3832.JPG"/>
          <p:cNvPicPr/>
          <p:nvPr/>
        </p:nvPicPr>
        <p:blipFill>
          <a:blip r:embed="rId2"/>
          <a:stretch/>
        </p:blipFill>
        <p:spPr>
          <a:xfrm>
            <a:off x="324000" y="189000"/>
            <a:ext cx="4039920" cy="2808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F:\война-9мая подготовка-фото\SAM_3840.JPG"/>
          <p:cNvPicPr/>
          <p:nvPr/>
        </p:nvPicPr>
        <p:blipFill>
          <a:blip r:embed="rId3"/>
          <a:stretch/>
        </p:blipFill>
        <p:spPr>
          <a:xfrm>
            <a:off x="4788000" y="4076640"/>
            <a:ext cx="4167000" cy="2637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F:\война-9мая подготовка-фото\SAM_3842.JPG"/>
          <p:cNvPicPr/>
          <p:nvPr/>
        </p:nvPicPr>
        <p:blipFill>
          <a:blip r:embed="rId4"/>
          <a:stretch/>
        </p:blipFill>
        <p:spPr>
          <a:xfrm>
            <a:off x="395280" y="4084560"/>
            <a:ext cx="4068720" cy="26290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116000" y="3716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395280" y="2274840"/>
            <a:ext cx="828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торжественной части на берегу Волги дети с сотрудниками и родителями устроили «привал»: с большим аппетитом ели солдатскую кашу, пели песни, исполнили танцы «Яблочко», «Смуглянка-молдаванка», «Боевая машин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вшие, но очень довольные, мы вернулись в детский с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F:\война-9мая подготовка-фото\SAM_3859.JPG"/>
          <p:cNvPicPr/>
          <p:nvPr/>
        </p:nvPicPr>
        <p:blipFill>
          <a:blip r:embed="rId1"/>
          <a:stretch/>
        </p:blipFill>
        <p:spPr>
          <a:xfrm>
            <a:off x="430200" y="289080"/>
            <a:ext cx="3792600" cy="2439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F:\война-9мая подготовка-фото\SAM_3886.JPG"/>
          <p:cNvPicPr/>
          <p:nvPr/>
        </p:nvPicPr>
        <p:blipFill>
          <a:blip r:embed="rId2"/>
          <a:stretch/>
        </p:blipFill>
        <p:spPr>
          <a:xfrm>
            <a:off x="4888080" y="262080"/>
            <a:ext cx="3816360" cy="2493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F:\война-9мая подготовка-фото\SAM_3877.JPG"/>
          <p:cNvPicPr/>
          <p:nvPr/>
        </p:nvPicPr>
        <p:blipFill>
          <a:blip r:embed="rId3"/>
          <a:stretch/>
        </p:blipFill>
        <p:spPr>
          <a:xfrm>
            <a:off x="452520" y="3909960"/>
            <a:ext cx="3770280" cy="2693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F:\война-9мая подготовка-фото\SAM_3889.JPG"/>
          <p:cNvPicPr/>
          <p:nvPr/>
        </p:nvPicPr>
        <p:blipFill>
          <a:blip r:embed="rId4"/>
          <a:stretch/>
        </p:blipFill>
        <p:spPr>
          <a:xfrm>
            <a:off x="4888080" y="3867120"/>
            <a:ext cx="3816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I:\ПРОЕКТЫ и презентации\Георгиевская лента\Фото\SAM_2599.JPG"/>
          <p:cNvPicPr/>
          <p:nvPr/>
        </p:nvPicPr>
        <p:blipFill>
          <a:blip r:embed="rId1"/>
          <a:stretch/>
        </p:blipFill>
        <p:spPr>
          <a:xfrm>
            <a:off x="290520" y="260280"/>
            <a:ext cx="4308480" cy="302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4592520" y="3300480"/>
            <a:ext cx="4322880" cy="3236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I:\Достопримечательности Николаевска\Памятник И. Сивко.jpg"/>
          <p:cNvPicPr/>
          <p:nvPr/>
        </p:nvPicPr>
        <p:blipFill>
          <a:blip r:embed="rId3"/>
          <a:stretch/>
        </p:blipFill>
        <p:spPr>
          <a:xfrm>
            <a:off x="1093680" y="3789360"/>
            <a:ext cx="2314800" cy="25909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4932360" y="333360"/>
            <a:ext cx="410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е 2014 года мы с ребят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етили музей имени И.М. Сивко, котор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ходится в школе № 2 г. Николаевска. После экскурсии мы возложили цветы к памятнику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J:\DCIM\104SSCAM\SDC13949.JPG"/>
          <p:cNvPicPr/>
          <p:nvPr/>
        </p:nvPicPr>
        <p:blipFill>
          <a:blip r:embed="rId1"/>
          <a:stretch/>
        </p:blipFill>
        <p:spPr>
          <a:xfrm>
            <a:off x="395280" y="3384720"/>
            <a:ext cx="3960720" cy="2852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J:\DCIM\104SSCAM\SDC13966.JPG"/>
          <p:cNvPicPr/>
          <p:nvPr/>
        </p:nvPicPr>
        <p:blipFill>
          <a:blip r:embed="rId2"/>
          <a:stretch/>
        </p:blipFill>
        <p:spPr>
          <a:xfrm>
            <a:off x="4788000" y="3384720"/>
            <a:ext cx="4032000" cy="28526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611280" y="476280"/>
            <a:ext cx="8137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ом году в нашем городе Николаевске с 20.04.2015 г по 9.05.2015 г впервые проводилась акция «Открытка ветерану». Её организовали работники ГУП «Волгофарм» города Николаевска. По условиям акции необходимо было принести в аптеку поздравительную открытку «Победа глазами детей». На занятии по аппликации из предложенных воспитателем образцов дети выбрали и изготовили вот такую открыт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ем дети вместе с воспитателями сходили в аптеку ГУП «Волгофарм» по улице Октябрьская и вручили открытки заведующей аптекой. За участие в акции каждый ребёнок получил небольшой подарок (пачка сока и гематогена). Сначала все работы были размещены в торговом зале аптеки, а потом фармацевты раздавали открытки ветеранам, которые приходили в эту апт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J:\DCIM\104SSCAM\SDC13962.JPG"/>
          <p:cNvPicPr/>
          <p:nvPr/>
        </p:nvPicPr>
        <p:blipFill>
          <a:blip r:embed="rId1"/>
          <a:stretch/>
        </p:blipFill>
        <p:spPr>
          <a:xfrm>
            <a:off x="179280" y="476280"/>
            <a:ext cx="3961080" cy="30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J:\DCIM\104SSCAM\SDC13963.JPG"/>
          <p:cNvPicPr/>
          <p:nvPr/>
        </p:nvPicPr>
        <p:blipFill>
          <a:blip r:embed="rId2"/>
          <a:stretch/>
        </p:blipFill>
        <p:spPr>
          <a:xfrm>
            <a:off x="4716360" y="482760"/>
            <a:ext cx="4176720" cy="30175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611280" y="3860640"/>
            <a:ext cx="828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е 2015 года мы с ребятами приняли участие во Всероссийской а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еоргиевская ленточка». Дали понятие детям о том, что Георгиевская ленточка является символом  Дня Победы над фашизмом во Второй Мировой войне и День памяти погибших вои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2005 года проводится акция «Георгиевская ленточка». Привязывая ее на одежду, люди, таким образом, отдают дань памяти подвигу наших предков. Этот символ Дня Победы прижился в обществе, миллионы людей по всему миру, повязав ленточку, выражают свою благодарность ветеранам войны, гордость за их подвиг, почитают память погибши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J:\DCIM\104SSCAM\SDC14056.JPG"/>
          <p:cNvPicPr/>
          <p:nvPr/>
        </p:nvPicPr>
        <p:blipFill>
          <a:blip r:embed="rId1"/>
          <a:stretch/>
        </p:blipFill>
        <p:spPr>
          <a:xfrm>
            <a:off x="324000" y="364500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J:\DCIM\104SSCAM\SDC14019.JPG"/>
          <p:cNvPicPr/>
          <p:nvPr/>
        </p:nvPicPr>
        <p:blipFill>
          <a:blip r:embed="rId2"/>
          <a:stretch/>
        </p:blipFill>
        <p:spPr>
          <a:xfrm>
            <a:off x="4834080" y="3625920"/>
            <a:ext cx="3985920" cy="2990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J:\DCIM\104SSCAM\SDC14020.JPG"/>
          <p:cNvPicPr/>
          <p:nvPr/>
        </p:nvPicPr>
        <p:blipFill>
          <a:blip r:embed="rId3"/>
          <a:stretch/>
        </p:blipFill>
        <p:spPr>
          <a:xfrm>
            <a:off x="4834080" y="333360"/>
            <a:ext cx="3998880" cy="29163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324000" y="6206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539640" y="179064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ки передвижки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одительском уго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J:\DCIM\104SSCAM\SDC14067.JPG"/>
          <p:cNvPicPr/>
          <p:nvPr/>
        </p:nvPicPr>
        <p:blipFill>
          <a:blip r:embed="rId1"/>
          <a:stretch/>
        </p:blipFill>
        <p:spPr>
          <a:xfrm>
            <a:off x="2620800" y="260280"/>
            <a:ext cx="3961080" cy="2935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F:\IMG_8311.JPG"/>
          <p:cNvPicPr/>
          <p:nvPr/>
        </p:nvPicPr>
        <p:blipFill>
          <a:blip r:embed="rId2"/>
          <a:stretch/>
        </p:blipFill>
        <p:spPr>
          <a:xfrm>
            <a:off x="185760" y="3484440"/>
            <a:ext cx="3954600" cy="29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F:\IMG_8312.JPG"/>
          <p:cNvPicPr/>
          <p:nvPr/>
        </p:nvPicPr>
        <p:blipFill>
          <a:blip r:embed="rId3"/>
          <a:stretch/>
        </p:blipFill>
        <p:spPr>
          <a:xfrm>
            <a:off x="5073480" y="3484440"/>
            <a:ext cx="374508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D:\Конкурс Сохраним ист память\GLAVNYJJ-Sokhranim-istoricheskuyu-pamyat-800x450.jpg"/>
          <p:cNvPicPr/>
          <p:nvPr/>
        </p:nvPicPr>
        <p:blipFill>
          <a:blip r:embed="rId1"/>
          <a:stretch/>
        </p:blipFill>
        <p:spPr>
          <a:xfrm>
            <a:off x="762120" y="1285920"/>
            <a:ext cx="761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324000" y="374760"/>
            <a:ext cx="417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годы Великой Отечественной войны город Николаевск фактически был прифронтовым, но к счастью не пострадал от бомбардировок немецко-фашистской авиации. Здесь находились несколько госпиталей, а также временно располагались воинские части, шедшие к Сталингра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D:\матем.уголок\014.jpg"/>
          <p:cNvPicPr/>
          <p:nvPr/>
        </p:nvPicPr>
        <p:blipFill>
          <a:blip r:embed="rId1"/>
          <a:stretch/>
        </p:blipFill>
        <p:spPr>
          <a:xfrm>
            <a:off x="4932360" y="326880"/>
            <a:ext cx="4024440" cy="2571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250920" y="270828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первых дней нападения фашистской Германии на Советский Союз николаевцы стали жить по законам военного времени. На фронт было призвано и мобилизовано 9600 жителей, в том числе с территории Николаевского района в нынешних его границах — 5684 человека. Летом 1942 года во время ожесточенных боев на подступах к Сталинграду в Красную Армию ушли 350 человек — молодых людей, вчерашних десятиклассников, рабочих и колхозников. В сентябре-ноябре было мобилизовано еще 700 призывников. Они пополнили знаменитую 13-ю гвардейскую дивизию генерала А. И. Родимцева, которая формировалась в Николаевс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ятеро николаевцев удостоены за свои подвиги высокого звания Героев Советского Союза: матрос И.М. Сивко, лётчик И.И. Красноюрченко, артеллерист П.Ф.Харьковский, лётчик-штурмовик В.Б. Емельяненко, танкист Лобасёв М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сячи награждены орденами и меда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Конкурс Сохраним ист память\6297950.jpg"/>
          <p:cNvPicPr/>
          <p:nvPr/>
        </p:nvPicPr>
        <p:blipFill>
          <a:blip r:embed="rId1"/>
          <a:stretch/>
        </p:blipFill>
        <p:spPr>
          <a:xfrm>
            <a:off x="324000" y="333360"/>
            <a:ext cx="3014640" cy="2303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3780000" y="189000"/>
            <a:ext cx="4679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Сивко Иван Михайлович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дился в многодетной рабочей семье в слободе Николаевской (ныне город Николаевск Волгоградской области). Рус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Его отец долгие годы служил на Балтийском флоте, тем самым передал сыну любовь к морю. Весной 1939 Сивко переехал в Мурманск, устроился матросом на рыболовный траулер РТ-57 «Смена», ловил рыбу в Баренцевом море. С осени 1940 служил в учебном отряде Северного флота на Соловецких остров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24000" y="2743200"/>
            <a:ext cx="8496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начале Великой Отечественной войны молодой краснофлотец подал рапорт командованию отряда: «Прошу направить меня на фронт, так как я хочу защищать свою любимую Родину до последней капли крови и до полного разгрома фашистской гадины…» Сивко направили во 2-ой добровольческий отряд моряков-североморцев. В июле 1941 сложилась тяжёлая обстановка под Мурманском, немцы форсировали реку Большая Западная Лица. В срыве немецко-фашистского наступления существенную роль сыграл морской десант в губе Большая Западная Лица. В составе этого десанта воевал и Иван Сив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2 августа 1941 года отряд морской пехоты прикрывал основные силы десанта, выполнившего свою задачу. Одна из групп заграждения удерживала проход между высотами. Сивко сражался в стороне, отрезанный врагом от товарищей. Он оборонялся на сопке 2 часа. Когда кончились патроны, и вражеские солдаты окружили Ивана, надеясь взять его живым, он последней гранатой подорвал себя и фашис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 том бою Иван Михайлович Сивко уничтожил 26 вра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Иван Сивко похоронен в братской могиле в районе насосной станции западнее губы Андрее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krasnoyr.jpg"/>
          <p:cNvPicPr/>
          <p:nvPr/>
        </p:nvPicPr>
        <p:blipFill>
          <a:blip r:embed="rId1"/>
          <a:stretch/>
        </p:blipFill>
        <p:spPr>
          <a:xfrm>
            <a:off x="263520" y="189000"/>
            <a:ext cx="2438280" cy="2879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3059280" y="276120"/>
            <a:ext cx="5976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расноюрченко Иван Иванович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лся 3 сентября 1910 года в селе Николаевское, ныне город Волгоградской области, в семье крестьянина. После окончания школы механизации сельского хозяйства работал в зерносовхозе механиком. С октября 1932 года Иван Красноюрченко учился в Ленинградском институте инженеров - механиков социалистического земледелия. В августе 1934 года по партийной путёвке поступил на учёбу в 1-ю военную школу пилотов им. тов. Мясникова в Каче, после окончания которой служил пилотом и командиром звена в Забайкалье, а с 1936 года - в Монгол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95280" y="3068640"/>
            <a:ext cx="8569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ник командира эскадрильи 22 истребительного авиационного полка, лейтенант Красноюрченко совершил 111 боевых вылетов, участвовал в 33 воздушных боях и 45 штурмовых действиях по наземным войскам. Сбил 5 японских истреб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11.39 г. ему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ериод Великой Отечественной войны с июня 1941 г. служил в Войсках ПВО, был командиром авиационных дивизий и заместителем командира авиационного корпу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52 г. окончил Военную академию Геншта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1956 г. генерал-майор авиации Красноюрченко — в запасе. Жил в Киеве, работал директором за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ражден орденом Ленина, тремя орденами Красного Знамени, орденами Отечественной войны 1 степени, Красной Звезды, медалями, иностранными орде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р 01.04.197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нем Героя назван переулок в Николаевс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:\Harkovskiy-PF.jpg"/>
          <p:cNvPicPr/>
          <p:nvPr/>
        </p:nvPicPr>
        <p:blipFill>
          <a:blip r:embed="rId1"/>
          <a:stretch/>
        </p:blipFill>
        <p:spPr>
          <a:xfrm>
            <a:off x="324000" y="139680"/>
            <a:ext cx="2066760" cy="2784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2556000" y="139680"/>
            <a:ext cx="6408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Ха́рьковский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 Пётр Фёдорович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дился 10 августа 1923 года в селе Молчановка ныне Николаевского района Волгоградской области в семье крестьянина. Окончил 7 классов и школу ФЗУ. Работал котельщиком в Астрах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армии с 1942 года. Окончил курсы артиллерийской подгот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Участник Великой Отечественной войны с сентября 1942 года в должности разведчика-наблюдателя 7-й батареи 1-й (с марта 1943 года — 1-й гвардейской) артиллерийской дивизии. Воевал на Юго-Западном, Донском и Центральном фронтах. Участвовал в Сталинградской битве, боях на Курской дуге, освобождении Левобережной Украины. Отличился в боях на плацдарме после форсирования Днепр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79280" y="3068640"/>
            <a:ext cx="8856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период с 26 сентября по 4 октября 1943 года, находясь в расположении противника в районе села Страхолесье (Чернобыльский район Киевской области, Украина), выявил расположение артиллерийской батареи и крупной группировки войск противника и передал их координаты на командный пункт бригады. По целеуказаниям разведчиков батарея была уничтоже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 мужество и героизм, проявленные в борьбе с немецко-фашистскими захватчиками, Указом Президиума Верховного Совета СССР от 17 октября 1943 года гвардии сержанту Харьковскому Петру Фёдоровичу присвоено звание Героя Советского Союза с вручением ордена Ленина и медали «Золотая Звезда» (№ 276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завершающем этапе войны в составе 1-го Украинского фронта участвовал в освобождении Польши, Берлинской и Пражской наступательных операц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 1945 году старший сержант П. Ф.Xарьковский демобилизован. В 1947 году окончил Коломенский сельскохозяйственный техникум. Работал агрономом, директором и управляющим совхоза, начальником отдела Подольского дорожного участка. Жил в городе Климовск Москов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Умер 16 декабря 1998 года.Похоронен на местном Сергеевском кладби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Конкурс Сохраним ист память\emelyanenko-vasilij-borisovich.jpg"/>
          <p:cNvPicPr/>
          <p:nvPr/>
        </p:nvPicPr>
        <p:blipFill>
          <a:blip r:embed="rId1"/>
          <a:stretch/>
        </p:blipFill>
        <p:spPr>
          <a:xfrm>
            <a:off x="166680" y="189000"/>
            <a:ext cx="2152800" cy="280836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2340000" y="189000"/>
            <a:ext cx="6553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Емельяненко Василий Борисович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дился 16 января 1912 года в посёлке Николаевский, ныне город Николаевск Волгоградской области, в семье рабочего. Рус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 1932 году студент композиторского факультета Московской консерватории Василий Емельяненко поступил в Саратовскую школу пилотов Осоавиахима и через год окончил её. Ещё через год окончил Центральную лётно-инструкторскую школу в Моск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июне 1941 года работал лётчиком-инструктором николаевского аэроклуба. С началом Великой Отечественной войны добровольно пошёл в военкомат и был направлен в учебно-тренировочный центр Южного фронта. В мае 1942 года направлен на фронт в 7-й гвардейский штурмовой авиационный полк. Азы боевого применения штурмовика Ил-2 постигал под руководством Николая Антоновича Зу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66680" y="3481560"/>
            <a:ext cx="8726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азом Президиума Верховного Совета СССР от 13 апреля 1944 года за образцовое выполнение боевых заданий командования на фронте борьбы с немецко-фашистским захватчиками и проявленные при этом мужество и героизм гвардии капитану Емельяненко Василию Борисовичу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44 году направлен на учёбу в Военно-воздушную академию, которую окончил с золотой медалью. После войны работал преподавателем кафедры тактики авиации в Военной академии имени М. В. Фрунзе. С 1973 года полковник Емельяненко В. Б. — в запасе, затем в отстав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ндидат военных наук. Член Союза писателей СССР. Почётный гражданин города Николаев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силий Борисович Емельяненко скончался 24 февраля 2008 года в Моск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D:\img_1605.jpg"/>
          <p:cNvPicPr/>
          <p:nvPr/>
        </p:nvPicPr>
        <p:blipFill>
          <a:blip r:embed="rId1"/>
          <a:stretch/>
        </p:blipFill>
        <p:spPr>
          <a:xfrm>
            <a:off x="250920" y="333360"/>
            <a:ext cx="2160360" cy="29145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2843280" y="404640"/>
            <a:ext cx="597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Лобасев) Михаил Абрамович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лся в селе Политотдельском.В 1939 - командир башни танка "Т-28" 1-й роты 91-го танкового батальона 20-й танковой бригады 7-й армии Северо-Западного фронта, младший команди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 декабря 1939 г танковый взвод вёл разведку дороги, идущей к хутору Кангаспельто. Неожиданно взвод попал под сильный артеллерийсиий огонь. Экипаж танка вел бой в течении нескольких часов и им удалось пробиться из окружения, но при попытке покинуть танк разрывом снаряда были убиты командир танка В. Г. Груздев и два командира башен Б. В. Волк и М. А. Лобастев. Погибшие танкисты были похоронены на месте бо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24000" y="350028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азом Президиума Верховного Совета СССР от 15 января 1940 года за образцовое выполнение боевых заданий командования на фронте борьбы с финской белогвардейщиной и проявленные при этом отвагу и геройство младшему командиру Лобастеву Михаилу Абрамовичу присвоено звание Героя Советского Союза (посмертно).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ания Героя Советского Союза были удостоены все члены экипажа: Б. В. Волк, В. Г. Груздев, Е. А. Луппов, М. А. Лобастев, М.А. Ларченко, И.И. Коваль, К.С. Симонян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I:\Библиотека\Кобушко\Кобушко Вас. Иетр..jpg"/>
          <p:cNvPicPr/>
          <p:nvPr/>
        </p:nvPicPr>
        <p:blipFill>
          <a:blip r:embed="rId1"/>
          <a:stretch/>
        </p:blipFill>
        <p:spPr>
          <a:xfrm>
            <a:off x="250920" y="266760"/>
            <a:ext cx="2449440" cy="2801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3132000" y="266760"/>
            <a:ext cx="5761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обушко Василий Петрович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лся в 1910 году в гор. Николаевский Царицынской губернии.  В конце лета 1942 года  его отпустили на фронт в качестве политрука артиллерийской батареи. Воевал в знаменитой 64-ой армии М.С. Шумилова, которая именно здесь была переименована в 7-ю гвардейскую арм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вот добивать фашистов в «котле» Кобушко В. П. не довелось. Часть , в которой он служил, была направлена в Котельниково., где в жестоких боях была остановлена, а затем и повёрнута вспять группировка Манштейна, прорывавшая на помощь окружённы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ем с боями прошли Крым и Украину, штурмовали Севастополь, освобождали Молдавию, Румынию и Венгрию, подошли к границам Австрии и здесь остановились. Ждали переброски, но и она не состоялась. Так за 23 дня до 9 мая 1945 года для нашего земляка практически кончилась Великая Отечественная вой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http://podvignaroda.ru/filter/filterimage?path=VS/276/033-0690155-4845%2b011-4842/00000106.jpg&amp;id=33794015&amp;id1=c7d879b0a5539274ef70e55ae0d61457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326880" y="3357720"/>
            <a:ext cx="2373480" cy="316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I:\Библиотека\Кобушко\Кобушко В.П..jpg"/>
          <p:cNvPicPr/>
          <p:nvPr/>
        </p:nvPicPr>
        <p:blipFill>
          <a:blip r:embed="rId3"/>
          <a:stretch/>
        </p:blipFill>
        <p:spPr>
          <a:xfrm>
            <a:off x="5330880" y="4365720"/>
            <a:ext cx="3562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D:\90c4db73e928.jpg"/>
          <p:cNvPicPr/>
          <p:nvPr/>
        </p:nvPicPr>
        <p:blipFill>
          <a:blip r:embed="rId1"/>
          <a:stretch/>
        </p:blipFill>
        <p:spPr>
          <a:xfrm>
            <a:off x="250920" y="189000"/>
            <a:ext cx="2160360" cy="30160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2771640" y="333360"/>
            <a:ext cx="6193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обгайда Андрей Алексеевич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одился в 1914 г. в с. Политотдельское Николаевского района Сталинградской обл..  В 27 лет попал на фронт. За плечами было уже несколько месяцев фронтовой жизни, участвовал в боях под Харьковом. Получил ранение, лечился в госпитале Камышина. Только двое суток дали бойцу Собгайде, чтобы навестить сем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тро был уже в пути . В пути к горящему Сталинграду. Бои здесь шли за каждый метр земли, за каждый д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второй половине сентября 1942 года в доме на площади им. 9 января (ныне имени Ленина) несколько бойцов 62-й армии под командованием сержанта Павлова заняли оборону. 58 дней выдерживали бешенный натиск врага. В одном из них Андрей бы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108000" y="3360600"/>
            <a:ext cx="856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ен. Только гарнизон не покинул, старался помогать друзьям-товарищам. Рыл вместе с другими бойцами траншеи от дома до мельницы. Только это не помогло  наладить связь. Последняя, самая ожесточённая атака была отбита в середине ноября. Убиты командир роты Наумов, много раненых, в том числе Пав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ереди наступление . В одном из наступательных боёв погиб наш земляк Андрей Алексеевич Собгай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5:58:48Z</dcterms:created>
  <dc:creator>d</dc:creator>
  <dc:description/>
  <dc:language>en-US</dc:language>
  <cp:lastModifiedBy>AMD</cp:lastModifiedBy>
  <dcterms:modified xsi:type="dcterms:W3CDTF">2018-06-28T10:11:24Z</dcterms:modified>
  <cp:revision>175</cp:revision>
  <dc:subject/>
  <dc:title>Слайд 1</dc:title>
</cp:coreProperties>
</file>