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Произвольный показ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65E-1F25-4E2C-967E-7FD54DA0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DF2-3655-4EF0-A5C2-F5A52CFC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50C-1DD1-4C75-B8C6-DE540266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FD3-A7F8-48E5-94A8-442AFB1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22A0-87BB-4FD8-8A91-221E8C30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E82D-07A8-42D2-99BC-6D8C406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9689-2471-48F5-BA2C-A7F1A54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E7D-8C57-4ACD-A704-7D6DB38C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203-4DE3-4D70-881B-F9EEB2A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B14-14F7-4978-BC35-9B756FFE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67F-F368-45B0-8877-4121089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372-9832-4463-8762-3A36E118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0ECE-BA51-4249-B6A7-663B189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A720-21D2-4B49-93C0-085EC07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304-AD35-4B8C-8257-66B047F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DC3-36A7-48C3-8A25-726F743E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3058-EC3F-418D-AE45-349E5858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A85-4CCD-4802-8C75-069FC11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4A9-2566-4383-8E2C-F2F84EB3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A0B-C64A-4893-8937-0D28A26E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37D-87D8-4D3C-A585-B7584B9F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857-6D14-4AC6-8056-E3FFC15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F03-867E-4F76-9EDC-7B9AD0A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04C-6F4B-4002-8FFD-1052BF9B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D4B-A73B-4BBB-A0AE-7E044838E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2C98-CBDD-4059-9F8D-FDE5000E40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www.almavolga.ru/storage/9lgDF0ZK/enter_01_eyJ3Ijo1NjF9_preview.gif"/>
          <p:cNvPicPr/>
          <p:nvPr/>
        </p:nvPicPr>
        <p:blipFill>
          <a:blip r:embed="rId1"/>
          <a:stretch/>
        </p:blipFill>
        <p:spPr>
          <a:xfrm>
            <a:off x="0" y="0"/>
            <a:ext cx="3357720" cy="4071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990720" y="4071960"/>
            <a:ext cx="77724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иколаевский район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 страницах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ной книги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лгоградской обла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5143680" y="571680"/>
            <a:ext cx="2928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е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енцова Л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I:\Красная книга\Фото\SDC11813.JPG"/>
          <p:cNvPicPr/>
          <p:nvPr/>
        </p:nvPicPr>
        <p:blipFill>
          <a:blip r:embed="rId1"/>
          <a:stretch/>
        </p:blipFill>
        <p:spPr>
          <a:xfrm>
            <a:off x="155520" y="217440"/>
            <a:ext cx="4202280" cy="285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I:\Красная книга\Фото\SDC11815.JPG"/>
          <p:cNvPicPr/>
          <p:nvPr/>
        </p:nvPicPr>
        <p:blipFill>
          <a:blip r:embed="rId2"/>
          <a:stretch/>
        </p:blipFill>
        <p:spPr>
          <a:xfrm>
            <a:off x="142920" y="3286080"/>
            <a:ext cx="4214880" cy="3286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4500720" y="71424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п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G:\Красная книга\Фото\Пластилинография\IMG_3914.JPG"/>
          <p:cNvPicPr/>
          <p:nvPr/>
        </p:nvPicPr>
        <p:blipFill>
          <a:blip r:embed="rId3"/>
          <a:stretch/>
        </p:blipFill>
        <p:spPr>
          <a:xfrm>
            <a:off x="4476600" y="261936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I:\Красная книга\Фото\Выставка\IMG_3948.JPG"/>
          <p:cNvPicPr/>
          <p:nvPr/>
        </p:nvPicPr>
        <p:blipFill>
          <a:blip r:embed="rId1"/>
          <a:stretch/>
        </p:blipFill>
        <p:spPr>
          <a:xfrm>
            <a:off x="290520" y="3429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:\Красная книга\Фото\Выставка\IMG_3947.JPG"/>
          <p:cNvPicPr/>
          <p:nvPr/>
        </p:nvPicPr>
        <p:blipFill>
          <a:blip r:embed="rId2"/>
          <a:stretch/>
        </p:blipFill>
        <p:spPr>
          <a:xfrm>
            <a:off x="4846680" y="3429000"/>
            <a:ext cx="4046400" cy="31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:\Красная книга\Фото\Выставка\IMG_3946.JPG"/>
          <p:cNvPicPr/>
          <p:nvPr/>
        </p:nvPicPr>
        <p:blipFill>
          <a:blip r:embed="rId3"/>
          <a:stretch/>
        </p:blipFill>
        <p:spPr>
          <a:xfrm>
            <a:off x="282600" y="333360"/>
            <a:ext cx="4137120" cy="2941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4538520" y="333360"/>
            <a:ext cx="4354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а работ родителей с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 страницам Красной книги  Волгоградской обла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:\Красная книга\Фото\Занятия\IMG_3931.JPG"/>
          <p:cNvPicPr/>
          <p:nvPr/>
        </p:nvPicPr>
        <p:blipFill>
          <a:blip r:embed="rId1"/>
          <a:stretch/>
        </p:blipFill>
        <p:spPr>
          <a:xfrm>
            <a:off x="181080" y="3392640"/>
            <a:ext cx="4248000" cy="32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I:\Красная книга\Фото\Занятия\IMG_3940.JPG"/>
          <p:cNvPicPr/>
          <p:nvPr/>
        </p:nvPicPr>
        <p:blipFill>
          <a:blip r:embed="rId2"/>
          <a:stretch/>
        </p:blipFill>
        <p:spPr>
          <a:xfrm>
            <a:off x="4643280" y="339264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395280" y="16200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дактические игры по ознакомлению с Красной книг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лишнее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го не стало», «Разрезные картинки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тицы в природ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I:\Красная книга\Фото\Занятия\IMG_3932.JPG"/>
          <p:cNvPicPr/>
          <p:nvPr/>
        </p:nvPicPr>
        <p:blipFill>
          <a:blip r:embed="rId3"/>
          <a:stretch/>
        </p:blipFill>
        <p:spPr>
          <a:xfrm>
            <a:off x="4643280" y="162000"/>
            <a:ext cx="4284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:\Красная книга\Фото\Акция Подари книгу\DSCN0029.JPG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297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:\Красная книга\Фото\Акция Подари книгу\DSCN0033.JPG"/>
          <p:cNvPicPr/>
          <p:nvPr/>
        </p:nvPicPr>
        <p:blipFill>
          <a:blip r:embed="rId2"/>
          <a:stretch/>
        </p:blipFill>
        <p:spPr>
          <a:xfrm>
            <a:off x="4714920" y="344664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G:\Красная книга\Фото\Акция Подари книгу\DSCN0035.JPG"/>
          <p:cNvPicPr/>
          <p:nvPr/>
        </p:nvPicPr>
        <p:blipFill>
          <a:blip r:embed="rId3"/>
          <a:stretch/>
        </p:blipFill>
        <p:spPr>
          <a:xfrm>
            <a:off x="214200" y="3429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4929120" y="71424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дари книгу в экологический каби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:\DCIM\105NIKON\DSCN0041.JPG"/>
          <p:cNvPicPr/>
          <p:nvPr/>
        </p:nvPicPr>
        <p:blipFill>
          <a:blip r:embed="rId1"/>
          <a:stretch/>
        </p:blipFill>
        <p:spPr>
          <a:xfrm>
            <a:off x="1279440" y="1155600"/>
            <a:ext cx="7088400" cy="472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971640" y="333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Н «Экологическое ассорти» в старшей группе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83528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ы «Солнышко» и «Луч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J:\DCIM\105NIKON\DSCN0051.JPG"/>
          <p:cNvPicPr/>
          <p:nvPr/>
        </p:nvPicPr>
        <p:blipFill>
          <a:blip r:embed="rId1"/>
          <a:stretch/>
        </p:blipFill>
        <p:spPr>
          <a:xfrm>
            <a:off x="324000" y="260280"/>
            <a:ext cx="4464000" cy="313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J:\DCIM\105NIKON\DSCN0060.JPG"/>
          <p:cNvPicPr/>
          <p:nvPr/>
        </p:nvPicPr>
        <p:blipFill>
          <a:blip r:embed="rId2"/>
          <a:stretch/>
        </p:blipFill>
        <p:spPr>
          <a:xfrm>
            <a:off x="4788000" y="339264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34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934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детей с понятием «Красная книга Волгоградской области» и закрепить знания детей о животном и растительном мире Николаевского рай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880" y="928440"/>
            <a:ext cx="7858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ение знаний детей о редких животных и растениях Николаевского района. Повышение  уровня знаний у родителей и детей об экологии родного города, охране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 непосредственного участия родителей и детей в организации и проведении различных экологических меро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чувства понимания прекрасного, любви к природе, бережного отношения к 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I:\детский сад фото\Я\SDC13545.JPG"/>
          <p:cNvPicPr/>
          <p:nvPr/>
        </p:nvPicPr>
        <p:blipFill>
          <a:blip r:embed="rId1"/>
          <a:stretch/>
        </p:blipFill>
        <p:spPr>
          <a:xfrm>
            <a:off x="5435640" y="1170000"/>
            <a:ext cx="3457440" cy="500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J:\DCIM\105NIKON\DSCN0085.JPG"/>
          <p:cNvPicPr/>
          <p:nvPr/>
        </p:nvPicPr>
        <p:blipFill>
          <a:blip r:embed="rId2"/>
          <a:stretch/>
        </p:blipFill>
        <p:spPr>
          <a:xfrm>
            <a:off x="1619280" y="1133640"/>
            <a:ext cx="1811160" cy="243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:\DCIM\105NIKON\DSCN0086.JPG"/>
          <p:cNvPicPr/>
          <p:nvPr/>
        </p:nvPicPr>
        <p:blipFill>
          <a:blip r:embed="rId3"/>
          <a:stretch/>
        </p:blipFill>
        <p:spPr>
          <a:xfrm>
            <a:off x="441360" y="37782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:\DCIM\105NIKON\DSCN0088.JPG"/>
          <p:cNvPicPr/>
          <p:nvPr/>
        </p:nvPicPr>
        <p:blipFill>
          <a:blip r:embed="rId4"/>
          <a:stretch/>
        </p:blipFill>
        <p:spPr>
          <a:xfrm>
            <a:off x="2987640" y="3730680"/>
            <a:ext cx="2146320" cy="2862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75564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методической  литературой в библиот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539640" y="428760"/>
            <a:ext cx="37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а - передви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J:\DCIM\105NIKON\DSCN0090.JPG"/>
          <p:cNvPicPr/>
          <p:nvPr/>
        </p:nvPicPr>
        <p:blipFill>
          <a:blip r:embed="rId1"/>
          <a:stretch/>
        </p:blipFill>
        <p:spPr>
          <a:xfrm>
            <a:off x="214200" y="2627280"/>
            <a:ext cx="529452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J:\DCIM\105NIKON\DSCN0037.JPG"/>
          <p:cNvPicPr/>
          <p:nvPr/>
        </p:nvPicPr>
        <p:blipFill>
          <a:blip r:embed="rId2"/>
          <a:stretch/>
        </p:blipFill>
        <p:spPr>
          <a:xfrm>
            <a:off x="4135320" y="193680"/>
            <a:ext cx="4792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J:\DCIM\104SSCAM\SDC15053.JPG"/>
          <p:cNvPicPr/>
          <p:nvPr/>
        </p:nvPicPr>
        <p:blipFill>
          <a:blip r:embed="rId1"/>
          <a:stretch/>
        </p:blipFill>
        <p:spPr>
          <a:xfrm>
            <a:off x="4676760" y="228600"/>
            <a:ext cx="4287960" cy="3105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J:\DCIM\104SSCAM\SDC15056.JPG"/>
          <p:cNvPicPr/>
          <p:nvPr/>
        </p:nvPicPr>
        <p:blipFill>
          <a:blip r:embed="rId2"/>
          <a:stretch/>
        </p:blipFill>
        <p:spPr>
          <a:xfrm>
            <a:off x="246240" y="3354480"/>
            <a:ext cx="4375080" cy="3243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4859280" y="33544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мотр през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46240" y="549360"/>
            <a:ext cx="4254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ьское собрание в старшей группе  «Экологическое воспитание дошкольни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40328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F:\фото д\SAM_4222.JPG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294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фото д\SAM_4209.JPG"/>
          <p:cNvPicPr/>
          <p:nvPr/>
        </p:nvPicPr>
        <p:blipFill>
          <a:blip r:embed="rId2"/>
          <a:stretch/>
        </p:blipFill>
        <p:spPr>
          <a:xfrm>
            <a:off x="4714920" y="3714840"/>
            <a:ext cx="420516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фото д\SAM_4216.JPG"/>
          <p:cNvPicPr/>
          <p:nvPr/>
        </p:nvPicPr>
        <p:blipFill>
          <a:blip r:embed="rId3"/>
          <a:stretch/>
        </p:blipFill>
        <p:spPr>
          <a:xfrm>
            <a:off x="214200" y="3714840"/>
            <a:ext cx="4286520" cy="292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1285920" y="32860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714760" y="3071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курсия в библиот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J:\DCIM\Библиотека 13.12.15\DSCN0011.JPG"/>
          <p:cNvPicPr/>
          <p:nvPr/>
        </p:nvPicPr>
        <p:blipFill>
          <a:blip r:embed="rId4"/>
          <a:stretch/>
        </p:blipFill>
        <p:spPr>
          <a:xfrm>
            <a:off x="4851360" y="125280"/>
            <a:ext cx="4164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I:\Красная книга\Фото\SDC15339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2754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324000" y="26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для детей презен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то живёт на страницах Красной книги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I:\Красная книга\Фото\SDC15333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03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I:\Красная книга\Фото\Занятия\IMG_3915.JPG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:\Красная книга\Фото\Занятия\IMG_3917.JPG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5467680" y="6206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42920" y="3933720"/>
            <a:ext cx="400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през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тицы Волгоградской обла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5:34:30Z</dcterms:created>
  <dc:creator>OEM</dc:creator>
  <dc:description/>
  <dc:language>en-US</dc:language>
  <cp:lastModifiedBy>AMD</cp:lastModifiedBy>
  <dcterms:modified xsi:type="dcterms:W3CDTF">2018-06-28T10:20:27Z</dcterms:modified>
  <cp:revision>119</cp:revision>
  <dc:subject/>
  <dc:title>Слайд 1</dc:title>
</cp:coreProperties>
</file>