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Произвольный показ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12E-D369-4431-9582-1F728ECB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DE8-71CC-4065-983A-4942FB92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014-29C8-4CD2-92FE-95584340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E62-04F2-455F-811A-F1EB458D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6566-CF1B-481C-B5A7-3D97DD45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4420-9426-4AD2-A210-DEB751B6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FB16-6677-4234-9D3F-5CD7E45D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A5B6-985D-4ACD-A692-BAFE5F51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0B22-1E61-478C-ACC9-33EA1FB4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491C-670F-4F60-9CF7-889F2FBB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0C6D-DC13-4065-9CD5-E6E87DB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1E3-50D1-49B2-BE67-4D4F48A0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68CC-61B4-41FF-AAD5-391B6BDB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132C-0F9C-4895-BD44-04855CF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31B5-F724-49A7-8AD2-13EE4CDD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16C8-82E0-40E2-8A75-D04777D3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F3D9-01D4-403F-84BC-97C11582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448-6B5F-428D-AEAA-9A19FA2D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2DC-A6A2-44E6-A5F0-07B055DE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A94-B7C8-4623-802F-658294A8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335-F417-4BB1-86A1-36E713B4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CF1-98AC-4332-A6C0-773ECD6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AE5-BD23-4338-851E-D6631FE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5D2-DBD7-4F16-BF94-1B5680FB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49D4-D001-412E-95C3-C24AFD3CB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DAA3-9C43-4B17-A3BA-9A990FC0F6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http://www.almavolga.ru/storage/9lgDF0ZK/enter_01_eyJ3Ijo1NjF9_preview.gif"/>
          <p:cNvPicPr/>
          <p:nvPr/>
        </p:nvPicPr>
        <p:blipFill>
          <a:blip r:embed="rId1"/>
          <a:stretch/>
        </p:blipFill>
        <p:spPr>
          <a:xfrm>
            <a:off x="0" y="0"/>
            <a:ext cx="3357720" cy="4071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990720" y="4071960"/>
            <a:ext cx="77724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иколаевский район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 страницах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ной книги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лгоградской област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5143680" y="571680"/>
            <a:ext cx="2928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зербае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енцова Л.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I:\Красная книга\Фото\SDC11813.JPG"/>
          <p:cNvPicPr/>
          <p:nvPr/>
        </p:nvPicPr>
        <p:blipFill>
          <a:blip r:embed="rId1"/>
          <a:stretch/>
        </p:blipFill>
        <p:spPr>
          <a:xfrm>
            <a:off x="155520" y="217440"/>
            <a:ext cx="4202280" cy="285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I:\Красная книга\Фото\SDC11815.JPG"/>
          <p:cNvPicPr/>
          <p:nvPr/>
        </p:nvPicPr>
        <p:blipFill>
          <a:blip r:embed="rId2"/>
          <a:stretch/>
        </p:blipFill>
        <p:spPr>
          <a:xfrm>
            <a:off x="142920" y="3286080"/>
            <a:ext cx="4214880" cy="32860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4500720" y="714240"/>
            <a:ext cx="40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я п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G:\Красная книга\Фото\Пластилинография\IMG_3914.JPG"/>
          <p:cNvPicPr/>
          <p:nvPr/>
        </p:nvPicPr>
        <p:blipFill>
          <a:blip r:embed="rId3"/>
          <a:stretch/>
        </p:blipFill>
        <p:spPr>
          <a:xfrm>
            <a:off x="4476600" y="261936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I:\Красная книга\Фото\Выставка\IMG_3948.JPG"/>
          <p:cNvPicPr/>
          <p:nvPr/>
        </p:nvPicPr>
        <p:blipFill>
          <a:blip r:embed="rId1"/>
          <a:stretch/>
        </p:blipFill>
        <p:spPr>
          <a:xfrm>
            <a:off x="290520" y="3429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I:\Красная книга\Фото\Выставка\IMG_3947.JPG"/>
          <p:cNvPicPr/>
          <p:nvPr/>
        </p:nvPicPr>
        <p:blipFill>
          <a:blip r:embed="rId2"/>
          <a:stretch/>
        </p:blipFill>
        <p:spPr>
          <a:xfrm>
            <a:off x="4846680" y="3429000"/>
            <a:ext cx="4046400" cy="31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:\Красная книга\Фото\Выставка\IMG_3946.JPG"/>
          <p:cNvPicPr/>
          <p:nvPr/>
        </p:nvPicPr>
        <p:blipFill>
          <a:blip r:embed="rId3"/>
          <a:stretch/>
        </p:blipFill>
        <p:spPr>
          <a:xfrm>
            <a:off x="282600" y="333360"/>
            <a:ext cx="4137120" cy="29415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"/>
          <p:cNvSpPr/>
          <p:nvPr/>
        </p:nvSpPr>
        <p:spPr>
          <a:xfrm>
            <a:off x="4538520" y="333360"/>
            <a:ext cx="4354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авка работ родителей с дет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 страницам Красной книги  Волгоградской обла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I:\Красная книга\Фото\Занятия\IMG_3931.JPG"/>
          <p:cNvPicPr/>
          <p:nvPr/>
        </p:nvPicPr>
        <p:blipFill>
          <a:blip r:embed="rId1"/>
          <a:stretch/>
        </p:blipFill>
        <p:spPr>
          <a:xfrm>
            <a:off x="181080" y="3392640"/>
            <a:ext cx="4248000" cy="32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I:\Красная книга\Фото\Занятия\IMG_3940.JPG"/>
          <p:cNvPicPr/>
          <p:nvPr/>
        </p:nvPicPr>
        <p:blipFill>
          <a:blip r:embed="rId2"/>
          <a:stretch/>
        </p:blipFill>
        <p:spPr>
          <a:xfrm>
            <a:off x="4643280" y="339264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395280" y="16200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дактические игры по ознакомлению с Красной книг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то лишнее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его не стало», «Разрезные картинки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тицы в природ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I:\Красная книга\Фото\Занятия\IMG_3932.JPG"/>
          <p:cNvPicPr/>
          <p:nvPr/>
        </p:nvPicPr>
        <p:blipFill>
          <a:blip r:embed="rId3"/>
          <a:stretch/>
        </p:blipFill>
        <p:spPr>
          <a:xfrm>
            <a:off x="4643280" y="162000"/>
            <a:ext cx="42847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G:\Красная книга\Фото\Акция Подари книгу\DSCN0029.JPG"/>
          <p:cNvPicPr/>
          <p:nvPr/>
        </p:nvPicPr>
        <p:blipFill>
          <a:blip r:embed="rId1"/>
          <a:stretch/>
        </p:blipFill>
        <p:spPr>
          <a:xfrm>
            <a:off x="214200" y="214200"/>
            <a:ext cx="4143600" cy="2973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G:\Красная книга\Фото\Акция Подари книгу\DSCN0033.JPG"/>
          <p:cNvPicPr/>
          <p:nvPr/>
        </p:nvPicPr>
        <p:blipFill>
          <a:blip r:embed="rId2"/>
          <a:stretch/>
        </p:blipFill>
        <p:spPr>
          <a:xfrm>
            <a:off x="4714920" y="3446640"/>
            <a:ext cx="4214880" cy="3160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G:\Красная книга\Фото\Акция Подари книгу\DSCN0035.JPG"/>
          <p:cNvPicPr/>
          <p:nvPr/>
        </p:nvPicPr>
        <p:blipFill>
          <a:blip r:embed="rId3"/>
          <a:stretch/>
        </p:blipFill>
        <p:spPr>
          <a:xfrm>
            <a:off x="214200" y="3429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4929120" y="71424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дари книгу в экологический кабин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J:\DCIM\105NIKON\DSCN0041.JPG"/>
          <p:cNvPicPr/>
          <p:nvPr/>
        </p:nvPicPr>
        <p:blipFill>
          <a:blip r:embed="rId1"/>
          <a:stretch/>
        </p:blipFill>
        <p:spPr>
          <a:xfrm>
            <a:off x="1279440" y="1155600"/>
            <a:ext cx="7088400" cy="47275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971640" y="333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ВН «Экологическое ассорти» в старшей группе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1835280" y="60213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ы «Солнышко» и «Лучик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J:\DCIM\105NIKON\DSCN0051.JPG"/>
          <p:cNvPicPr/>
          <p:nvPr/>
        </p:nvPicPr>
        <p:blipFill>
          <a:blip r:embed="rId1"/>
          <a:stretch/>
        </p:blipFill>
        <p:spPr>
          <a:xfrm>
            <a:off x="324000" y="260280"/>
            <a:ext cx="4464000" cy="313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J:\DCIM\105NIKON\DSCN0060.JPG"/>
          <p:cNvPicPr/>
          <p:nvPr/>
        </p:nvPicPr>
        <p:blipFill>
          <a:blip r:embed="rId2"/>
          <a:stretch/>
        </p:blipFill>
        <p:spPr>
          <a:xfrm>
            <a:off x="4788000" y="339264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345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934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 детей с понятием «Красная книга Волгоградской области» и закрепить знания детей о животном и растительном мире Николаевского райо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880" y="928440"/>
            <a:ext cx="7858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бщение знаний детей о редких животных и растениях Николаевского района. Повышение  уровня знаний у родителей и детей об экологии родного города, охране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ение непосредственного участия родителей и детей в организации и проведении различных экологических меропри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чувства понимания прекрасного, любви к природе, бережного отношения к 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I:\детский сад фото\Я\SDC13545.JPG"/>
          <p:cNvPicPr/>
          <p:nvPr/>
        </p:nvPicPr>
        <p:blipFill>
          <a:blip r:embed="rId1"/>
          <a:stretch/>
        </p:blipFill>
        <p:spPr>
          <a:xfrm>
            <a:off x="5435640" y="1170000"/>
            <a:ext cx="3457440" cy="500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J:\DCIM\105NIKON\DSCN0085.JPG"/>
          <p:cNvPicPr/>
          <p:nvPr/>
        </p:nvPicPr>
        <p:blipFill>
          <a:blip r:embed="rId2"/>
          <a:stretch/>
        </p:blipFill>
        <p:spPr>
          <a:xfrm>
            <a:off x="1619280" y="1133640"/>
            <a:ext cx="1811160" cy="243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J:\DCIM\105NIKON\DSCN0086.JPG"/>
          <p:cNvPicPr/>
          <p:nvPr/>
        </p:nvPicPr>
        <p:blipFill>
          <a:blip r:embed="rId3"/>
          <a:stretch/>
        </p:blipFill>
        <p:spPr>
          <a:xfrm>
            <a:off x="441360" y="377820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:\DCIM\105NIKON\DSCN0088.JPG"/>
          <p:cNvPicPr/>
          <p:nvPr/>
        </p:nvPicPr>
        <p:blipFill>
          <a:blip r:embed="rId4"/>
          <a:stretch/>
        </p:blipFill>
        <p:spPr>
          <a:xfrm>
            <a:off x="2987640" y="3730680"/>
            <a:ext cx="2146320" cy="2862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75564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методической  литературой в библиоте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539640" y="428760"/>
            <a:ext cx="37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ка - передвиж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J:\DCIM\105NIKON\DSCN0090.JPG"/>
          <p:cNvPicPr/>
          <p:nvPr/>
        </p:nvPicPr>
        <p:blipFill>
          <a:blip r:embed="rId1"/>
          <a:stretch/>
        </p:blipFill>
        <p:spPr>
          <a:xfrm>
            <a:off x="214200" y="2627280"/>
            <a:ext cx="5294520" cy="397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J:\DCIM\105NIKON\DSCN0037.JPG"/>
          <p:cNvPicPr/>
          <p:nvPr/>
        </p:nvPicPr>
        <p:blipFill>
          <a:blip r:embed="rId2"/>
          <a:stretch/>
        </p:blipFill>
        <p:spPr>
          <a:xfrm>
            <a:off x="4135320" y="193680"/>
            <a:ext cx="4792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4" descr="J:\DCIM\104SSCAM\SDC15053.JPG"/>
          <p:cNvPicPr/>
          <p:nvPr/>
        </p:nvPicPr>
        <p:blipFill>
          <a:blip r:embed="rId1"/>
          <a:stretch/>
        </p:blipFill>
        <p:spPr>
          <a:xfrm>
            <a:off x="4676760" y="228600"/>
            <a:ext cx="4287960" cy="3105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J:\DCIM\104SSCAM\SDC15056.JPG"/>
          <p:cNvPicPr/>
          <p:nvPr/>
        </p:nvPicPr>
        <p:blipFill>
          <a:blip r:embed="rId2"/>
          <a:stretch/>
        </p:blipFill>
        <p:spPr>
          <a:xfrm>
            <a:off x="246240" y="3354480"/>
            <a:ext cx="4375080" cy="32432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4859280" y="33544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мотр през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246240" y="549360"/>
            <a:ext cx="4254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ьское собрание в старшей группе  «Экологическое воспитание дошкольник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403280" y="620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F:\фото д\SAM_4222.JPG"/>
          <p:cNvPicPr/>
          <p:nvPr/>
        </p:nvPicPr>
        <p:blipFill>
          <a:blip r:embed="rId1"/>
          <a:stretch/>
        </p:blipFill>
        <p:spPr>
          <a:xfrm>
            <a:off x="214200" y="142920"/>
            <a:ext cx="4214880" cy="294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фото д\SAM_4209.JPG"/>
          <p:cNvPicPr/>
          <p:nvPr/>
        </p:nvPicPr>
        <p:blipFill>
          <a:blip r:embed="rId2"/>
          <a:stretch/>
        </p:blipFill>
        <p:spPr>
          <a:xfrm>
            <a:off x="4714920" y="3714840"/>
            <a:ext cx="4205160" cy="29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фото д\SAM_4216.JPG"/>
          <p:cNvPicPr/>
          <p:nvPr/>
        </p:nvPicPr>
        <p:blipFill>
          <a:blip r:embed="rId3"/>
          <a:stretch/>
        </p:blipFill>
        <p:spPr>
          <a:xfrm>
            <a:off x="214200" y="3714840"/>
            <a:ext cx="4286520" cy="292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1285920" y="328608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714760" y="30718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курсия в библиоте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9" descr="J:\DCIM\Библиотека 13.12.15\DSCN0011.JPG"/>
          <p:cNvPicPr/>
          <p:nvPr/>
        </p:nvPicPr>
        <p:blipFill>
          <a:blip r:embed="rId4"/>
          <a:stretch/>
        </p:blipFill>
        <p:spPr>
          <a:xfrm>
            <a:off x="4851360" y="125280"/>
            <a:ext cx="41641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I:\Красная книга\Фото\SDC15339.JPG"/>
          <p:cNvPicPr/>
          <p:nvPr/>
        </p:nvPicPr>
        <p:blipFill>
          <a:blip r:embed="rId1"/>
          <a:stretch/>
        </p:blipFill>
        <p:spPr>
          <a:xfrm>
            <a:off x="500040" y="1500120"/>
            <a:ext cx="4214880" cy="2754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324000" y="260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 для детей презен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то живёт на страницах Красной книги 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I:\Красная книга\Фото\SDC15333.JPG"/>
          <p:cNvPicPr/>
          <p:nvPr/>
        </p:nvPicPr>
        <p:blipFill>
          <a:blip r:embed="rId2"/>
          <a:stretch/>
        </p:blipFill>
        <p:spPr>
          <a:xfrm>
            <a:off x="4714920" y="3429000"/>
            <a:ext cx="42037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I:\Красная книга\Фото\Занятия\IMG_3915.JPG"/>
          <p:cNvPicPr/>
          <p:nvPr/>
        </p:nvPicPr>
        <p:blipFill>
          <a:blip r:embed="rId1"/>
          <a:stretch/>
        </p:blipFill>
        <p:spPr>
          <a:xfrm>
            <a:off x="108000" y="115920"/>
            <a:ext cx="439272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I:\Красная книга\Фото\Занятия\IMG_3917.JPG"/>
          <p:cNvPicPr/>
          <p:nvPr/>
        </p:nvPicPr>
        <p:blipFill>
          <a:blip r:embed="rId2"/>
          <a:stretch/>
        </p:blipFill>
        <p:spPr>
          <a:xfrm>
            <a:off x="4500720" y="3429000"/>
            <a:ext cx="4392360" cy="33130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5467680" y="62064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142920" y="3933720"/>
            <a:ext cx="400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 през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тицы Волгоградской област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5:34:30Z</dcterms:created>
  <dc:creator>OEM</dc:creator>
  <dc:description/>
  <dc:language>en-US</dc:language>
  <cp:lastModifiedBy>AMD</cp:lastModifiedBy>
  <dcterms:modified xsi:type="dcterms:W3CDTF">2018-06-28T10:20:27Z</dcterms:modified>
  <cp:revision>119</cp:revision>
  <dc:subject/>
  <dc:title>Слайд 1</dc:title>
</cp:coreProperties>
</file>