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5.jpeg" ContentType="image/jpeg"/>
  <Override PartName="/ppt/media/image61.png" ContentType="image/png"/>
  <Override PartName="/ppt/media/image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png" ContentType="image/png"/>
  <Override PartName="/ppt/media/image58.jpeg" ContentType="image/jpeg"/>
  <Override PartName="/ppt/media/image40.jpeg" ContentType="image/jpeg"/>
  <Override PartName="/ppt/media/image56.png" ContentType="image/pn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22506-F483-4F87-A387-C50F9C6D54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AC6418-27CF-4432-8A8B-3E3AA4A0DDA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296-1947-45DA-85A5-0CC71AD8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F108-B8B8-4D31-B5AF-C7B6D4B6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38FA-8492-4FAE-9CBB-64A80326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907F-7E72-4318-8248-33EA1E03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DF0-0C97-4357-A146-9B066761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C5868-3F16-406F-A940-6A665D19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80B4-CCA3-4E3D-9061-3900A508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7AC4C-18C0-4FFE-9F5F-72FB4E87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703E-8E2F-4C62-ABC0-25C00BD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D7A36-AAC5-42BA-8D55-8E402994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C1C08-1B5C-44FC-97F8-8E6CC743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E58-5125-4C86-BDD1-B10F4687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CF71D-2AB7-4A68-9E6A-DF863EA90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870B-8B51-44ED-8408-E45856E3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7A9B-53E8-4A7B-8173-49598434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F2C9-45E4-4F28-8D41-E89F0AA24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49EF-92C0-4F61-BF54-2E411195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BC11D-46F5-445C-BAE9-72FBEC7E2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CB611-E9C3-4C64-9D2E-954E5F91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897C6-4FF8-4A5B-855F-CE00B355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36746-CC9D-4158-97BC-B3CEB7BDD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3E9F2-C059-4C39-9737-44840767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F25A-98B8-43A4-8407-47EBAB84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4CAE8-F78C-43F0-AE71-449545E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DBA2B-8159-415E-AE90-96709381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C793-6D77-49C1-AB38-A93269AF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64FE2-84B5-4474-8D97-CEE8EFAA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BB401-4B40-4462-A3CA-A3E5D43FF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07D8A-6E80-40DF-9405-159B8E5E2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B404D-4158-4A1B-AE95-DECCEFB0C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F6A-8850-438C-9BDC-E4678A3A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37C-8740-4BBB-802E-2D37B8AFA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E98-B43F-411B-BC67-8E0BF101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953-A935-4833-9F4A-EFCD1FC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715-1F72-401D-9B59-CCB33C5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FAE-046C-4072-A192-083829DA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E0B707-5469-460E-B1BF-30C7359A16B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7F198A-FAAB-491F-82AA-FFF245BEC58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EEFB8C-63A7-4762-9F19-F13A232276D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mediasubs.ru/group/uploads/fo/formula-schastya/image2/ThhY2YtND.jpg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g-fotki.yandex.ru/get/6203/153292660.11a/0_6d4c7_3fdef46_XL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moiskazki.ucoz.ru/vybor.jpg" TargetMode="External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323640" y="404640"/>
            <a:ext cx="8640720" cy="9428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бота с информацией как один из при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истемно- деятельностного под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i-olymp.ru/sites/default/files/content/otchet-exp.png"/>
          <p:cNvPicPr/>
          <p:nvPr/>
        </p:nvPicPr>
        <p:blipFill>
          <a:blip r:embed="rId1"/>
          <a:stretch/>
        </p:blipFill>
        <p:spPr>
          <a:xfrm>
            <a:off x="467640" y="2493000"/>
            <a:ext cx="4170240" cy="316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volkovysk.grodno.unibel.by/sm.aspx?uid=814"/>
          <p:cNvPicPr/>
          <p:nvPr/>
        </p:nvPicPr>
        <p:blipFill>
          <a:blip r:embed="rId2"/>
          <a:stretch/>
        </p:blipFill>
        <p:spPr>
          <a:xfrm>
            <a:off x="4932000" y="2401920"/>
            <a:ext cx="4032000" cy="2953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езентацию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читель географи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ГУ «ЛШ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-III c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. №4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ронова Еле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79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о значе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86040" y="2786040"/>
            <a:ext cx="3428640" cy="759960"/>
          </a:xfrm>
          <a:prstGeom prst="rect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2071800" y="1214280"/>
            <a:ext cx="3785760" cy="100440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ктуаль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ценная в данный момент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214200" y="2571840"/>
            <a:ext cx="1999800" cy="130932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остовер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полученная без иск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28840" y="4286160"/>
            <a:ext cx="2214360" cy="191916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нят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выраженная на языке, понятном тому, кому она предназна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143240" y="4286160"/>
            <a:ext cx="2714400" cy="191916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достаточная для принятия правильного решения или по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000920" y="1225800"/>
            <a:ext cx="1856880" cy="405360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ез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полезность информации определяется субъектом, получившим информацию в зависимости от объёма возможностей её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10"/>
          <p:cNvCxnSpPr/>
          <p:nvPr/>
        </p:nvCxnSpPr>
        <p:spPr>
          <a:xfrm flipV="1">
            <a:off x="4142520" y="2215080"/>
            <a:ext cx="1800" cy="57204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4" name="Прямая со стрелкой 12"/>
          <p:cNvCxnSpPr>
            <a:stCxn id="207" idx="3"/>
          </p:cNvCxnSpPr>
          <p:nvPr/>
        </p:nvCxnSpPr>
        <p:spPr>
          <a:xfrm flipV="1">
            <a:off x="6215040" y="3143160"/>
            <a:ext cx="857520" cy="277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5" name="Прямая со стрелкой 14"/>
          <p:cNvCxnSpPr>
            <a:stCxn id="207" idx="1"/>
          </p:cNvCxnSpPr>
          <p:nvPr/>
        </p:nvCxnSpPr>
        <p:spPr>
          <a:xfrm flipH="1" flipV="1">
            <a:off x="2143080" y="3143160"/>
            <a:ext cx="643320" cy="277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6" name="Прямая со стрелкой 16"/>
          <p:cNvCxnSpPr/>
          <p:nvPr/>
        </p:nvCxnSpPr>
        <p:spPr>
          <a:xfrm flipH="1">
            <a:off x="2714400" y="3571560"/>
            <a:ext cx="429120" cy="71496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7" name="Прямая со стрелкой 18"/>
          <p:cNvCxnSpPr/>
          <p:nvPr/>
        </p:nvCxnSpPr>
        <p:spPr>
          <a:xfrm flipH="1">
            <a:off x="5428440" y="3572640"/>
            <a:ext cx="1800" cy="8575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http://detsad6.clan.su/novosti/vesna14/resurs.jpg"/>
          <p:cNvPicPr/>
          <p:nvPr/>
        </p:nvPicPr>
        <p:blipFill>
          <a:blip r:embed="rId1"/>
          <a:stretch/>
        </p:blipFill>
        <p:spPr>
          <a:xfrm>
            <a:off x="6948360" y="5034960"/>
            <a:ext cx="1979280" cy="163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79640" y="188640"/>
            <a:ext cx="5904360" cy="15814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В современном мире задачи образования изменились. Главное сейчас - это не только «дать» учащимся определенную сумму знаний, но и научить их самим добывать эти знания и применять 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ahoma"/>
                <a:ea typeface="Calibri"/>
              </a:rPr>
              <a:t>Основная задача образования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- адаптировать учащихся в современном мире, научить их правильно логически мыслить, принимать самостоятельные ре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79640" y="1772640"/>
            <a:ext cx="8784720" cy="63828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омпоненты овладения знаниями при системно-деятельностном подходе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395640" y="2853000"/>
            <a:ext cx="5544360" cy="200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рият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 полученной информации (выявление характерных признаков, сравнение, осознание, трансформация знаний, преобразование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минание (создание обр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оце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http://primwiki.ru/images/thumb/%D0%9E%D0%B1%D0%BD%D0%BE%D0%B2%D0%BB%D0%B5%D0%BD%D0%B8%D0%B5_3.jpg/180px-%D0%9E%D0%B1%D0%BD%D0%BE%D0%B2%D0%BB%D0%B5%D0%BD%D0%B8%D0%B5_3.jpg"/>
          <p:cNvPicPr/>
          <p:nvPr/>
        </p:nvPicPr>
        <p:blipFill>
          <a:blip r:embed="rId2"/>
          <a:stretch/>
        </p:blipFill>
        <p:spPr>
          <a:xfrm>
            <a:off x="251640" y="4941000"/>
            <a:ext cx="1714320" cy="1742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primwiki.ru/images/thumb/%D0%A1%D0%BE%D0%BF%D1%80%D0%BE%D0%B2%D0%BE%D0%B6%D0%B4%D0%B5%D0%BD%D0%B8%D0%B5.jpg/180px-%D0%A1%D0%BE%D0%BF%D1%80%D0%BE%D0%B2%D0%BE%D0%B6%D0%B4%D0%B5%D0%BD%D0%B8%D0%B5.jpg"/>
          <p:cNvPicPr/>
          <p:nvPr/>
        </p:nvPicPr>
        <p:blipFill>
          <a:blip r:embed="rId3"/>
          <a:stretch/>
        </p:blipFill>
        <p:spPr>
          <a:xfrm>
            <a:off x="3276000" y="5085360"/>
            <a:ext cx="2258640" cy="149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Источники информ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трелка вниз 5"/>
          <p:cNvSpPr/>
          <p:nvPr/>
        </p:nvSpPr>
        <p:spPr>
          <a:xfrm rot="2817000">
            <a:off x="2203920" y="1365480"/>
            <a:ext cx="484200" cy="956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Стрелка вниз 6"/>
          <p:cNvSpPr/>
          <p:nvPr/>
        </p:nvSpPr>
        <p:spPr>
          <a:xfrm rot="2817000">
            <a:off x="2226960" y="1258560"/>
            <a:ext cx="484200" cy="1083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8c6d6"/>
              </a:gs>
              <a:gs pos="100000">
                <a:srgbClr val="50a6bf"/>
              </a:gs>
            </a:gsLst>
            <a:lin ang="8214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Стрелка вниз 9"/>
          <p:cNvSpPr/>
          <p:nvPr/>
        </p:nvSpPr>
        <p:spPr>
          <a:xfrm rot="18682200">
            <a:off x="5740560" y="1241640"/>
            <a:ext cx="484200" cy="1116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8c6d6"/>
              </a:gs>
              <a:gs pos="100000">
                <a:srgbClr val="50a6bf"/>
              </a:gs>
            </a:gsLst>
            <a:lin ang="2478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67640" y="2205000"/>
            <a:ext cx="3456000" cy="17355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сновные (для всего учебного процес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й учеб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 материалы(словари, справочники, энциклопед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гляд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4932000" y="2205000"/>
            <a:ext cx="3600000" cy="22842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ополнительные(для отдельных сторон учебного процес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аточный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усы, шарады, заг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фо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о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:\Users\ВИЛЕАЛ\Desktop\442_small.jpg"/>
          <p:cNvPicPr/>
          <p:nvPr/>
        </p:nvPicPr>
        <p:blipFill>
          <a:blip r:embed="rId1"/>
          <a:stretch/>
        </p:blipFill>
        <p:spPr>
          <a:xfrm>
            <a:off x="251640" y="4293000"/>
            <a:ext cx="719640" cy="1056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Картинки по запросу учебники по экономики"/>
          <p:cNvPicPr/>
          <p:nvPr/>
        </p:nvPicPr>
        <p:blipFill>
          <a:blip r:embed="rId2"/>
          <a:stretch/>
        </p:blipFill>
        <p:spPr>
          <a:xfrm>
            <a:off x="395640" y="5589360"/>
            <a:ext cx="710280" cy="999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9" descr="C:\Users\ВИЛЕАЛ\Desktop\скачанные файлы.jpg"/>
          <p:cNvPicPr/>
          <p:nvPr/>
        </p:nvPicPr>
        <p:blipFill>
          <a:blip r:embed="rId3"/>
          <a:stretch/>
        </p:blipFill>
        <p:spPr>
          <a:xfrm>
            <a:off x="7524360" y="4653000"/>
            <a:ext cx="152568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C:\Users\ВИЛЕАЛ\Desktop\скачанные файлы (1).jpg"/>
          <p:cNvPicPr/>
          <p:nvPr/>
        </p:nvPicPr>
        <p:blipFill>
          <a:blip r:embed="rId4"/>
          <a:stretch/>
        </p:blipFill>
        <p:spPr>
          <a:xfrm>
            <a:off x="3996000" y="4005000"/>
            <a:ext cx="744120" cy="1064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C:\Users\ВИЛЕАЛ\Desktop\scrn_big_1.jpg"/>
          <p:cNvPicPr/>
          <p:nvPr/>
        </p:nvPicPr>
        <p:blipFill>
          <a:blip r:embed="rId5"/>
          <a:stretch/>
        </p:blipFill>
        <p:spPr>
          <a:xfrm>
            <a:off x="3780000" y="5517360"/>
            <a:ext cx="1505520" cy="1168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http://my-shop.ru/_files/product/2/31/307014.jpg"/>
          <p:cNvPicPr/>
          <p:nvPr/>
        </p:nvPicPr>
        <p:blipFill>
          <a:blip r:embed="rId6"/>
          <a:stretch/>
        </p:blipFill>
        <p:spPr>
          <a:xfrm>
            <a:off x="1835640" y="4941000"/>
            <a:ext cx="1616760" cy="1131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http://azdekor.ru/Spektr/SREDN_SKOOL/OBSHZN/N268/thumbs/Graphic_24.jpg"/>
          <p:cNvPicPr/>
          <p:nvPr/>
        </p:nvPicPr>
        <p:blipFill>
          <a:blip r:embed="rId7"/>
          <a:stretch/>
        </p:blipFill>
        <p:spPr>
          <a:xfrm rot="5400000">
            <a:off x="5713920" y="4776120"/>
            <a:ext cx="109944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Учеб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528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39960">
            <a:solidFill>
              <a:srgbClr val="4f81bd"/>
            </a:solidFill>
            <a:round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Работа с учебником – обязательный учебный труд школьни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чеников необходимо специально обучать приемам работы со всеми компонентами учебник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Эта работа должна вызывать интерес,  желание работать со всеми компонента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Качество обучения во многом зависит от желания и умения работать с учебником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В современных условиях изменяется роль учителя. Он не информатор учебного материала, а организатор деятельности учащихс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ребования  ВГОС к реализации деятельностного подход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Школьников необходимо научить самостоятельно думать: </a:t>
            </a: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обсуждать,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анализировать, сопоставлять, изучать, определять, выявлять, объяснять, систематизировать, обобщать, ставить вопросы,  высказывать свое мнение, оценивать, прогнозировать и т.д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ёмы работы с учебнико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67640" y="1700640"/>
            <a:ext cx="8208720" cy="719640"/>
          </a:xfrm>
          <a:prstGeom prst="rect">
            <a:avLst/>
          </a:prstGeom>
          <a:gradFill rotWithShape="0">
            <a:gsLst>
              <a:gs pos="0">
                <a:srgbClr val="f1ecf6"/>
              </a:gs>
              <a:gs pos="100000">
                <a:srgbClr val="cabce0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Формирование приёмов работы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5"/>
          <p:cNvSpPr/>
          <p:nvPr/>
        </p:nvSpPr>
        <p:spPr>
          <a:xfrm>
            <a:off x="4428000" y="3573000"/>
            <a:ext cx="4842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539640" y="2997000"/>
            <a:ext cx="8136720" cy="57564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Работа по ана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8"/>
          <p:cNvSpPr/>
          <p:nvPr/>
        </p:nvSpPr>
        <p:spPr>
          <a:xfrm>
            <a:off x="4428000" y="2421000"/>
            <a:ext cx="4842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539640" y="4149000"/>
            <a:ext cx="8280720" cy="1367640"/>
          </a:xfrm>
          <a:prstGeom prst="rect">
            <a:avLst/>
          </a:prstGeom>
          <a:gradFill rotWithShape="0">
            <a:gsLst>
              <a:gs pos="0">
                <a:srgbClr val="fff1ec"/>
              </a:gs>
              <a:gs pos="100000">
                <a:srgbClr val="ffd2bc"/>
              </a:gs>
            </a:gsLst>
            <a:lin ang="5400000"/>
          </a:gradFill>
          <a:ln>
            <a:solidFill>
              <a:srgbClr val="f7964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Выявление закономерностей, установление новых для учащихся прямых и обрат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графическая кар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39640" y="1628640"/>
            <a:ext cx="7848360" cy="47530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реди средств обучения географии одно из ведущих мест занимают карты. При систематической работе с картой учащиеся непроизвольно запоминают образ изучаемой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Карта отличается от других наглядных пособий (например, от картин) тем, что природные явления и объекты показаны на ней не в своем натуральном виде, а с помощью услов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риемы работы с картой могут быть направлены на индивидуальную, парную или групповую работу учащихся в зависимости от задач, которые учитель ставит перед началом работы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ёмы работы с карто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Блок-схема: перфолента 4"/>
          <p:cNvSpPr/>
          <p:nvPr/>
        </p:nvSpPr>
        <p:spPr>
          <a:xfrm>
            <a:off x="251640" y="148464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ур –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Блок-схема: перфолента 5"/>
          <p:cNvSpPr/>
          <p:nvPr/>
        </p:nvSpPr>
        <p:spPr>
          <a:xfrm>
            <a:off x="251640" y="206100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иск об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лок-схема: перфолента 7"/>
          <p:cNvSpPr/>
          <p:nvPr/>
        </p:nvSpPr>
        <p:spPr>
          <a:xfrm>
            <a:off x="251640" y="263700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иск а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лок-схема: перфолента 8"/>
          <p:cNvSpPr/>
          <p:nvPr/>
        </p:nvSpPr>
        <p:spPr>
          <a:xfrm>
            <a:off x="4572000" y="148464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тороны горизонта или Почини цеп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Блок-схема: перфолента 9"/>
          <p:cNvSpPr/>
          <p:nvPr/>
        </p:nvSpPr>
        <p:spPr>
          <a:xfrm>
            <a:off x="107640" y="3285000"/>
            <a:ext cx="3168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оставь трехзнач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лок-схема: перфолента 10"/>
          <p:cNvSpPr/>
          <p:nvPr/>
        </p:nvSpPr>
        <p:spPr>
          <a:xfrm>
            <a:off x="4572000" y="213300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азови недостающее звено или Смысловые пропо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лок-схема: перфолента 13"/>
          <p:cNvSpPr/>
          <p:nvPr/>
        </p:nvSpPr>
        <p:spPr>
          <a:xfrm>
            <a:off x="4788000" y="3357000"/>
            <a:ext cx="295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обота с контурной кар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Блок-схема: перфолента 14"/>
          <p:cNvSpPr/>
          <p:nvPr/>
        </p:nvSpPr>
        <p:spPr>
          <a:xfrm>
            <a:off x="4644000" y="270900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адачи с географически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:\фото\уроки фотки\IMG_7070.JPG"/>
          <p:cNvPicPr/>
          <p:nvPr/>
        </p:nvPicPr>
        <p:blipFill>
          <a:blip r:embed="rId1"/>
          <a:stretch/>
        </p:blipFill>
        <p:spPr>
          <a:xfrm>
            <a:off x="539640" y="4293000"/>
            <a:ext cx="2688120" cy="201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H:\фото\уроки фотки\IMG_6965.JPG"/>
          <p:cNvPicPr/>
          <p:nvPr/>
        </p:nvPicPr>
        <p:blipFill>
          <a:blip r:embed="rId2"/>
          <a:stretch/>
        </p:blipFill>
        <p:spPr>
          <a:xfrm>
            <a:off x="6084000" y="4293000"/>
            <a:ext cx="2665080" cy="208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_221"/>
          <p:cNvPicPr/>
          <p:nvPr/>
        </p:nvPicPr>
        <p:blipFill>
          <a:blip r:embed="rId3"/>
          <a:stretch/>
        </p:blipFill>
        <p:spPr>
          <a:xfrm>
            <a:off x="3420000" y="4581000"/>
            <a:ext cx="2279880" cy="1439640"/>
          </a:xfrm>
          <a:prstGeom prst="rect">
            <a:avLst/>
          </a:prstGeom>
          <a:ln w="9525">
            <a:noFill/>
          </a:ln>
        </p:spPr>
      </p:pic>
      <p:pic>
        <p:nvPicPr>
          <p:cNvPr id="262" name="Picture 5" descr="c_151"/>
          <p:cNvPicPr/>
          <p:nvPr/>
        </p:nvPicPr>
        <p:blipFill>
          <a:blip r:embed="rId4"/>
          <a:stretch/>
        </p:blipFill>
        <p:spPr>
          <a:xfrm>
            <a:off x="2988000" y="1556640"/>
            <a:ext cx="1343160" cy="172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Справочная литера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" descr="C:\Users\Лена\Desktop\sprav.jpg"/>
          <p:cNvPicPr/>
          <p:nvPr/>
        </p:nvPicPr>
        <p:blipFill>
          <a:blip r:embed="rId1"/>
          <a:stretch/>
        </p:blipFill>
        <p:spPr>
          <a:xfrm>
            <a:off x="323640" y="1628640"/>
            <a:ext cx="3452760" cy="4525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3780000" y="1556640"/>
            <a:ext cx="5363640" cy="484452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не может знать все, но он должен уметь найти ответ на интересующий его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 человека знающего все обо всем. Различные справочники необходимы каждому из нас – и школьнику, и студенту, и доктору, и ученому. С их помощью можно быстро навести справки по различным вопро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ах я часто использую слова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равочники по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ники находят новые для них понятия и тер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539640" y="1556640"/>
            <a:ext cx="8280720" cy="280332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художественных текстов на уроках географии полез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их помощью учитель географии формирует образ территории, развивая у учащихся логическое мышление и аналитические навыки, активизируя мыслительный процесс. Художественные тексты выступают носителями информации, дают учащимся дополнительный стимул к ее получению, активизируют позна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отрывков произведений можно создать различные логические упражнения и использовать их при изучении разных 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http://www.uzluga.ru/potrb/%D0%A5%D1%83%D0%B4%D0%BE%D0%B6%D0%B5%D1%81%D1%82%D0%B2%D0%B5%D0%BD%D0%BD%D0%BE%D0%B5+%D1%87%D1%82%D0%B5%D0%BD%D0%B8%D0%B5+%D0%BD%D0%B0+%D1%83%D1%80%D0%BE%D0%BA%D0%B0%D1%85+%D0%B3%D0%B5%D0%BE%D0%B3%D1%80%D0%B0%D1%84%D0%B8%D0%B8+%D0%BA%D0%B0%D0%BA+%D1%84%D0%B0%D0%BA%D1%82%D0%BE%D1%80+%D1%84%D0%BE%D1%80%D0%BC%D0%B8%D1%80%D0%BE%D0%B2%D0%B0%D0%BD%D0%B8%D1%8F+%D0%BC%D0%B8%D1%80%D0%BE%D0%B2%D0%BE%D0%B7%D0%B7%D1%80%D0%B5%D0%BD%D0%B8%D1%8F+%D1%88%D0%BA%D0%BE%D0%BB%D1%8C%D0%BD%D0%B8%D0%BA%D0%BE%D0%B2+%D0%9C%D0%B5%D0%B4%D0%B2%D0%B5%D0%B4%D0%B5%D0%B2%D0%B0+%D0%A2.+%D0%92.,+%D1%83%D1%87%D0%B8%D1%82%D0%B5%D0%BB%D1%8C+%D0%B3%D0%B5%D0%BE%D0%B3%D1%80%D0%B0%D1%84%D0%B8%D0%B8+%D0%BC%D0%BE%D1%83+%D1%81%D0%BE%D1%88+%E2%84%9632b/img25.jpg"/>
          <p:cNvPicPr/>
          <p:nvPr/>
        </p:nvPicPr>
        <p:blipFill>
          <a:blip r:embed="rId1"/>
          <a:stretch/>
        </p:blipFill>
        <p:spPr>
          <a:xfrm>
            <a:off x="0" y="4535640"/>
            <a:ext cx="3096000" cy="232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your-happy-life.com/wp-content/uploads/2013/05/CHitaet-knigu.jpg"/>
          <p:cNvPicPr/>
          <p:nvPr/>
        </p:nvPicPr>
        <p:blipFill>
          <a:blip r:embed="rId2"/>
          <a:stretch/>
        </p:blipFill>
        <p:spPr>
          <a:xfrm>
            <a:off x="5652000" y="4581000"/>
            <a:ext cx="3126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Наглядные пособия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3492000" y="1720800"/>
            <a:ext cx="5328360" cy="49683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гляд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о одно из условий сознательного усвоения учащимися знаний. Наглядность обогащает образное мышление учащихся, обеспечивает прочность знаний, умений и навыков, содействует развитию речи, памяти, оказывает эмоциональное воздействие на учащихся, формирует полноценного член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лово обобщает, а образ конкретизирует»,  т.е. ученик лучше поним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Для этого на уроках я применяю различную наглядность в виде схем, таблиц, диаграмм, плакатов. используя для их составления учебную, дополнительную, справочную литера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drofa.ru/images/data/cat/4113_big_1344925877.jpg"/>
          <p:cNvPicPr/>
          <p:nvPr/>
        </p:nvPicPr>
        <p:blipFill>
          <a:blip r:embed="rId1"/>
          <a:stretch/>
        </p:blipFill>
        <p:spPr>
          <a:xfrm>
            <a:off x="506520" y="1883520"/>
            <a:ext cx="26665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ысль в подар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640" y="1484640"/>
            <a:ext cx="8712720" cy="2448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и ученики - будут узнавать новое не от меня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будут открывать это новое с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я главная задача помочь им раскрыться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ь собственные иде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оганн Генрих Песталоцц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https://pixabay.com/static/uploads/photo/2014/04/03/11/53/open-book-312488_640.png"/>
          <p:cNvPicPr/>
          <p:nvPr/>
        </p:nvPicPr>
        <p:blipFill>
          <a:blip r:embed="rId1"/>
          <a:stretch/>
        </p:blipFill>
        <p:spPr>
          <a:xfrm>
            <a:off x="5292000" y="4293000"/>
            <a:ext cx="3434040" cy="234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Дидактические материа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39640" y="1556640"/>
            <a:ext cx="8136720" cy="9126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идактический материал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д учебного оборудования представляет собой печатное пособие, по которому учащиеся самостоятельно выполняют задания преподав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ятно 1 4"/>
          <p:cNvSpPr/>
          <p:nvPr/>
        </p:nvSpPr>
        <p:spPr>
          <a:xfrm>
            <a:off x="0" y="2421000"/>
            <a:ext cx="2699280" cy="1944000"/>
          </a:xfrm>
          <a:prstGeom prst="irregularSeal1">
            <a:avLst/>
          </a:prstGeom>
          <a:solidFill>
            <a:srgbClr val="00b0f0"/>
          </a:solidFill>
          <a:ln>
            <a:solidFill>
              <a:srgbClr val="c0504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здаточн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ятно 1 5"/>
          <p:cNvSpPr/>
          <p:nvPr/>
        </p:nvSpPr>
        <p:spPr>
          <a:xfrm>
            <a:off x="2988000" y="2637000"/>
            <a:ext cx="1439640" cy="151164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ятно 1 6"/>
          <p:cNvSpPr/>
          <p:nvPr/>
        </p:nvSpPr>
        <p:spPr>
          <a:xfrm>
            <a:off x="4572000" y="2421000"/>
            <a:ext cx="3168000" cy="2376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атистически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ятно 1 7"/>
          <p:cNvSpPr/>
          <p:nvPr/>
        </p:nvSpPr>
        <p:spPr>
          <a:xfrm>
            <a:off x="7452360" y="3141000"/>
            <a:ext cx="1691280" cy="1728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ятно 1 8"/>
          <p:cNvSpPr/>
          <p:nvPr/>
        </p:nvSpPr>
        <p:spPr>
          <a:xfrm>
            <a:off x="395640" y="3861000"/>
            <a:ext cx="3528000" cy="2736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ллюстратив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ятно 1 10"/>
          <p:cNvSpPr/>
          <p:nvPr/>
        </p:nvSpPr>
        <p:spPr>
          <a:xfrm>
            <a:off x="5364000" y="4725000"/>
            <a:ext cx="2051280" cy="151164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Работа с «сырыми» данны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ВИЛЕАЛ\Desktop\2.JPG"/>
          <p:cNvPicPr/>
          <p:nvPr/>
        </p:nvPicPr>
        <p:blipFill>
          <a:blip r:embed="rId1"/>
          <a:stretch/>
        </p:blipFill>
        <p:spPr>
          <a:xfrm>
            <a:off x="179640" y="1700640"/>
            <a:ext cx="4088880" cy="216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Картинки по запросу работа с диаграммами на уроках экономики"/>
          <p:cNvPicPr/>
          <p:nvPr/>
        </p:nvPicPr>
        <p:blipFill>
          <a:blip r:embed="rId2"/>
          <a:stretch/>
        </p:blipFill>
        <p:spPr>
          <a:xfrm>
            <a:off x="251640" y="4365000"/>
            <a:ext cx="4032000" cy="2124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4428000" y="1845000"/>
            <a:ext cx="4464000" cy="37486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solidFill>
              <a:srgbClr val="f418da"/>
            </a:solidFill>
          </a:ln>
          <a:scene3d>
            <a:camera prst="orthographicFront"/>
            <a:lightRig dir="t" rig="threePt"/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«Сырые» данны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татистическая информация, результаты исследования, конкретные факты из жизни – все шире используются в преподавании эконом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делают процесс  обучения более интересным. Их использование позволяет выполнить выражаемые многими школьниками пожелания о том. Чтобы учебный курс приобрел связь с конкретными экономическими ситуациями или реш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Афориз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56440"/>
          </a:xfrm>
          <a:prstGeom prst="rect">
            <a:avLst/>
          </a:prstGeom>
          <a:gradFill rotWithShape="0">
            <a:gsLst>
              <a:gs pos="0">
                <a:srgbClr val="fce8e8"/>
              </a:gs>
              <a:gs pos="100000">
                <a:srgbClr val="f3b3b1"/>
              </a:gs>
            </a:gsLst>
            <a:lin ang="5400000"/>
          </a:gradFill>
          <a:ln w="11520">
            <a:solidFill>
              <a:srgbClr val="c0504d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Афоризм это миниатюра, притча, история, высказывание, которые, воздействуя на человека, запечатлевают в нем сильный, яркий, многозначно емкий след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Афоризмы могут быть использованы в дискуссиях, дебатах, семинарах по экономике или как информация к размышлению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467640" y="3429000"/>
            <a:ext cx="8208720" cy="3107160"/>
          </a:xfrm>
          <a:prstGeom prst="rect">
            <a:avLst/>
          </a:prstGeom>
          <a:solidFill>
            <a:srgbClr val="8064a2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еньше сырья, больше ума. (Девиз итальянской школы менеджмен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Только человеческие ресурсы могут производить экономические результаты. (П. Драк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роизводительность труда – это, прежде всего, настрой души, то есть отношение к порученному делу. (Из конференции представителей центров производительности в Ри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Легче подавить в себе первое желание, чем удовлетворить все последующие. (Ф. Ларошфук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отребитель потребляет не вещи, а ожидаемые выгоды; не косметику, а сулимые ею чары; не акции фирмы, а доходы от прироста капитала. (Т. Драйз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рием на работу – это победа надежды над опытом (Э. Воутилайн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Ребусы, шара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3" descr=""/>
          <p:cNvPicPr/>
          <p:nvPr/>
        </p:nvPicPr>
        <p:blipFill>
          <a:blip r:embed="rId1"/>
          <a:srcRect l="0" t="0" r="0" b="34818"/>
          <a:stretch/>
        </p:blipFill>
        <p:spPr>
          <a:xfrm>
            <a:off x="0" y="1268640"/>
            <a:ext cx="1584720" cy="1911960"/>
          </a:xfrm>
          <a:prstGeom prst="rect">
            <a:avLst/>
          </a:prstGeom>
          <a:ln w="9525">
            <a:noFill/>
          </a:ln>
        </p:spPr>
      </p:pic>
      <p:pic>
        <p:nvPicPr>
          <p:cNvPr id="290" name="Picture 16" descr="сок"/>
          <p:cNvPicPr/>
          <p:nvPr/>
        </p:nvPicPr>
        <p:blipFill>
          <a:blip r:embed="rId2"/>
          <a:stretch/>
        </p:blipFill>
        <p:spPr>
          <a:xfrm>
            <a:off x="1763640" y="1412640"/>
            <a:ext cx="111816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1187640" y="692640"/>
            <a:ext cx="719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2699640" y="1772640"/>
            <a:ext cx="1223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=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cument"/>
          <p:cNvSpPr/>
          <p:nvPr/>
        </p:nvSpPr>
        <p:spPr>
          <a:xfrm rot="16200000">
            <a:off x="4355640" y="2249640"/>
            <a:ext cx="2952000" cy="6264360"/>
          </a:xfrm>
          <a:custGeom>
            <a:avLst/>
            <a:gdLst>
              <a:gd name="textAreaLeft" fmla="*/ 133200 w 2952000"/>
              <a:gd name="textAreaRight" fmla="*/ 2818440 w 2952000"/>
              <a:gd name="textAreaTop" fmla="*/ 237240 h 6264360"/>
              <a:gd name="textAreaBottom" fmla="*/ 4764600 h 6264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ервое слово возглас сожал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торым называют хвойный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ез буквы одной это поиск лучшего реш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торое приносит пользу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2"/>
          <p:cNvSpPr/>
          <p:nvPr/>
        </p:nvSpPr>
        <p:spPr>
          <a:xfrm>
            <a:off x="0" y="1412640"/>
            <a:ext cx="4427640" cy="2232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4500000" y="1412640"/>
            <a:ext cx="4464000" cy="2232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296" name="Picture 18" descr=""/>
          <p:cNvPicPr/>
          <p:nvPr/>
        </p:nvPicPr>
        <p:blipFill>
          <a:blip r:embed="rId3"/>
          <a:srcRect l="3465" t="10750" r="4717" b="6951"/>
          <a:stretch/>
        </p:blipFill>
        <p:spPr>
          <a:xfrm>
            <a:off x="4428000" y="1484640"/>
            <a:ext cx="2231640" cy="208800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15"/>
          <p:cNvSpPr/>
          <p:nvPr/>
        </p:nvSpPr>
        <p:spPr>
          <a:xfrm>
            <a:off x="4932000" y="2709000"/>
            <a:ext cx="107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/>
                </a:solidFill>
                <a:latin typeface="Bookman Old Style"/>
              </a:rPr>
              <a:t>П=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0" descr=""/>
          <p:cNvPicPr/>
          <p:nvPr/>
        </p:nvPicPr>
        <p:blipFill>
          <a:blip r:embed="rId4"/>
          <a:stretch/>
        </p:blipFill>
        <p:spPr>
          <a:xfrm>
            <a:off x="6804360" y="1989000"/>
            <a:ext cx="1544400" cy="1593360"/>
          </a:xfrm>
          <a:prstGeom prst="rect">
            <a:avLst/>
          </a:prstGeom>
          <a:ln w="9525">
            <a:noFill/>
          </a:ln>
        </p:spPr>
      </p:pic>
      <p:sp>
        <p:nvSpPr>
          <p:cNvPr id="299" name="TextBox 17"/>
          <p:cNvSpPr/>
          <p:nvPr/>
        </p:nvSpPr>
        <p:spPr>
          <a:xfrm>
            <a:off x="8100360" y="1340640"/>
            <a:ext cx="575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9"/>
          <p:cNvSpPr/>
          <p:nvPr/>
        </p:nvSpPr>
        <p:spPr>
          <a:xfrm>
            <a:off x="0" y="4509000"/>
            <a:ext cx="2699280" cy="2160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Bookman Old Style"/>
              </a:rPr>
              <a:t>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Н=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"/>
          <p:cNvPicPr/>
          <p:nvPr/>
        </p:nvPicPr>
        <p:blipFill>
          <a:blip r:embed="rId5"/>
          <a:stretch/>
        </p:blipFill>
        <p:spPr>
          <a:xfrm>
            <a:off x="0" y="5183640"/>
            <a:ext cx="1619280" cy="167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Кроссвор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C:\Users\Лена\Desktop\s94454782.jpg"/>
          <p:cNvPicPr/>
          <p:nvPr/>
        </p:nvPicPr>
        <p:blipFill>
          <a:blip r:embed="rId1"/>
          <a:stretch/>
        </p:blipFill>
        <p:spPr>
          <a:xfrm>
            <a:off x="395640" y="1700640"/>
            <a:ext cx="4517640" cy="3384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5148000" y="1772640"/>
            <a:ext cx="3456000" cy="47530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1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ывоз товара за руб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2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стема экономических отношений, основанная на частной соб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3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венство спроса и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4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еспечение потребностей в товарах и ус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5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требность в товарах и ус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 Бизнес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7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остязательность на р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8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еньги, полученные от продажи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9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чреждение, торгующее день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5228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Интернет-ресур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563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современных технологий в образовании создает благоприятные условия для формирования личности учащихся и отвечает запросам современного обществ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я информационные ресурсы сети Интернет, можно, интегрируя их в учебный процесс, более эффективно решать целый ряд дидактических задач на уроке экономи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ом использование ресурс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воляет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уроки более интересны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лнить их более современным содержанием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вышение учебной и познавательной мотиваци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трелка вниз 3"/>
          <p:cNvSpPr/>
          <p:nvPr/>
        </p:nvSpPr>
        <p:spPr>
          <a:xfrm>
            <a:off x="4284000" y="4293000"/>
            <a:ext cx="1295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18da"/>
          </a:solidFill>
          <a:ln cap="rnd">
            <a:solidFill>
              <a:srgbClr val="0819fb"/>
            </a:solidFill>
            <a:beve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резент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49968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презентаций в учебном процессе обеспечивает возможность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ть учащимся более полную, достоверную информацию об изучаемых явлениях и процессах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ысить роль наглядности в учебном процесс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довлетворить запросы, желания и интересы учащихся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кономит учебное время, нежели при работе у классной доск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омощью презентаций эффективно решаются многие дидактические и воспитательные задач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изучении нового материала, предъявления новой информации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закреплении пройденного, отработки учебных умений и навыков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повторении, практического применения полученных знаний, умений навык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пьютерные презентаци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– один из приемов, позволяющих сделать учебный материал ярким и убедительным, но использовать данный прием можно далеко не для каждой темы и не на каждом занятии.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юсы презентаций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: урок становится наглядным, информация, воспроизведенная на слайдах, воспринимается быстро и легко, повышается качество обучения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2" descr="http://mediasubs.ru/group/uploads/fo/formula-schastya/image2/ThhY2Yt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905280"/>
            <a:ext cx="3069720" cy="2952360"/>
          </a:xfrm>
          <a:prstGeom prst="rect">
            <a:avLst/>
          </a:prstGeom>
          <a:ln w="9525">
            <a:noFill/>
          </a:ln>
        </p:spPr>
      </p:pic>
      <p:sp>
        <p:nvSpPr>
          <p:cNvPr id="311" name="TextBox 5"/>
          <p:cNvSpPr/>
          <p:nvPr/>
        </p:nvSpPr>
        <p:spPr>
          <a:xfrm>
            <a:off x="1908000" y="2133720"/>
            <a:ext cx="633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843640" y="260640"/>
            <a:ext cx="4969440" cy="34138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Хоть выйди ты не в белый 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А в поле за околицей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ока идёшь за кем- то в сл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орога не запомн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ато, куда б ты ни поп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 по какой распут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орога та, что сам иск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овек не позабуд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http://img-fotki.yandex.ru/get/6203/153292660.11a/0_6d4c7_3fdef46_X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933720"/>
            <a:ext cx="3454200" cy="25840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14" descr="http://moiskazki.ucoz.ru/vybor.jpg">
            <a:hlinkClick r:id="rId5"/>
          </p:cNvPr>
          <p:cNvPicPr/>
          <p:nvPr/>
        </p:nvPicPr>
        <p:blipFill>
          <a:blip r:embed="rId6"/>
          <a:srcRect l="0" t="14402" r="0" b="0"/>
          <a:stretch/>
        </p:blipFill>
        <p:spPr>
          <a:xfrm>
            <a:off x="0" y="1125360"/>
            <a:ext cx="2533320" cy="3260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2200" cy="6249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395640" y="332640"/>
            <a:ext cx="8424720" cy="264924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й науки не следует сообщать учащемуся готовыми, но его надо привести к тому, чтобы он сам их находил, сам ими овладевал. Такой метод обучения наилучший, самый трудный, самый редк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Дистервег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7640" y="3789000"/>
            <a:ext cx="3648240" cy="273600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932000" y="3861000"/>
            <a:ext cx="3552120" cy="266400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240" cy="2736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ая система общего среднего образования, все входящие в нее учебные направления, так или иначе, нацелены на формирование у школьников умений работать с информаци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1EFE38-FD5A-495C-B09C-852A2572CE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C:\Users\Лена\Desktop\Anglyiskii_v_shcole.jpg"/>
          <p:cNvPicPr/>
          <p:nvPr/>
        </p:nvPicPr>
        <p:blipFill>
          <a:blip r:embed="rId1"/>
          <a:stretch/>
        </p:blipFill>
        <p:spPr>
          <a:xfrm>
            <a:off x="0" y="4221000"/>
            <a:ext cx="3622680" cy="24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http://borisovna.rusedu.net/gallery/4998/Shkolnik.jpg"/>
          <p:cNvPicPr/>
          <p:nvPr/>
        </p:nvPicPr>
        <p:blipFill>
          <a:blip r:embed="rId2"/>
          <a:stretch/>
        </p:blipFill>
        <p:spPr>
          <a:xfrm>
            <a:off x="5148000" y="3113640"/>
            <a:ext cx="3536640" cy="374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3640" y="1340640"/>
            <a:ext cx="8496720" cy="3384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8064a2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rmAutofit fontScale="85000"/>
          </a:bodyPr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Общепринятого определен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и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не существуе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информация» 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происходит от латинского слова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что в переводе означает</a:t>
            </a:r>
            <a:r>
              <a:rPr b="0" lang="en-US" sz="2000" spc="-1" strike="noStrike">
                <a:solidFill>
                  <a:schemeClr val="dk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ведения, разъяснение, ознакомлени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- это любые сведения, принимаемые и передаваемые, сохраняемые различными источникам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- это вся совокупность сведений об окружающем нас мире, о всевозможных протекающих в нем процессах, которые могут быть восприняты живыми организмами, электронными машинами и другими информационными система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67640" y="260640"/>
            <a:ext cx="8064360" cy="69912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Что такое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physics.bsu.by/sites/default/files/images/departments/energy/info.jpg"/>
          <p:cNvPicPr/>
          <p:nvPr/>
        </p:nvPicPr>
        <p:blipFill>
          <a:blip r:embed="rId1"/>
          <a:stretch/>
        </p:blipFill>
        <p:spPr>
          <a:xfrm>
            <a:off x="323640" y="4149000"/>
            <a:ext cx="2251440" cy="2248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invest-servi-com.1gb.ru/images/6.jpg"/>
          <p:cNvPicPr/>
          <p:nvPr/>
        </p:nvPicPr>
        <p:blipFill>
          <a:blip r:embed="rId2"/>
          <a:stretch/>
        </p:blipFill>
        <p:spPr>
          <a:xfrm>
            <a:off x="6372360" y="3995280"/>
            <a:ext cx="2526480" cy="225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vashmaster77.ru/attachments/Image/1354118717_info.jpg?template=generic"/>
          <p:cNvPicPr/>
          <p:nvPr/>
        </p:nvPicPr>
        <p:blipFill>
          <a:blip r:embed="rId3"/>
          <a:stretch/>
        </p:blipFill>
        <p:spPr>
          <a:xfrm>
            <a:off x="3132000" y="4941000"/>
            <a:ext cx="2880000" cy="163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7640" y="404640"/>
            <a:ext cx="3312000" cy="3240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Информацию можно разделить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иды</a:t>
            </a: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 по различным категор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https://encrypted-tbn0.gstatic.com/images?q=tbn:ANd9GcRaFqDJ1vnkjuLw9I3vPQRPH5Q4cEdGIM8eKXXLe5-PQlPj51OI"/>
          <p:cNvPicPr/>
          <p:nvPr/>
        </p:nvPicPr>
        <p:blipFill>
          <a:blip r:embed="rId1"/>
          <a:stretch/>
        </p:blipFill>
        <p:spPr>
          <a:xfrm>
            <a:off x="3708000" y="404640"/>
            <a:ext cx="5258160" cy="3154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467640" y="4180320"/>
            <a:ext cx="7488360" cy="264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способу вос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форме предст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назна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зна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форме закреп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интеллектуальным затра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Times New Roman"/>
              </a:rPr>
              <a:t>Виды информации</a:t>
            </a:r>
            <a:br>
              <a:rPr sz="4000"/>
            </a:br>
            <a:r>
              <a:rPr b="1" lang="ru-RU" sz="4000" spc="-1" strike="noStrike">
                <a:solidFill>
                  <a:schemeClr val="dk1"/>
                </a:solidFill>
                <a:latin typeface="Times New Roman"/>
              </a:rPr>
              <a:t>по способу восприят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79640" y="227700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р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3" descr="глаз.jpg"/>
          <p:cNvPicPr/>
          <p:nvPr/>
        </p:nvPicPr>
        <p:blipFill>
          <a:blip r:embed="rId1"/>
          <a:stretch/>
        </p:blipFill>
        <p:spPr>
          <a:xfrm>
            <a:off x="323640" y="2781000"/>
            <a:ext cx="1549440" cy="1162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1979640" y="227700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5" descr="уши.jpeg"/>
          <p:cNvPicPr/>
          <p:nvPr/>
        </p:nvPicPr>
        <p:blipFill>
          <a:blip r:embed="rId2"/>
          <a:stretch/>
        </p:blipFill>
        <p:spPr>
          <a:xfrm>
            <a:off x="2195640" y="2781000"/>
            <a:ext cx="1223640" cy="1529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6"/>
          <p:cNvSpPr/>
          <p:nvPr/>
        </p:nvSpPr>
        <p:spPr>
          <a:xfrm>
            <a:off x="5508000" y="227700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ку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7" descr="язык.jpeg"/>
          <p:cNvPicPr/>
          <p:nvPr/>
        </p:nvPicPr>
        <p:blipFill>
          <a:blip r:embed="rId3"/>
          <a:stretch/>
        </p:blipFill>
        <p:spPr>
          <a:xfrm>
            <a:off x="5436000" y="2781000"/>
            <a:ext cx="1952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8"/>
          <p:cNvSpPr/>
          <p:nvPr/>
        </p:nvSpPr>
        <p:spPr>
          <a:xfrm>
            <a:off x="6876360" y="2277000"/>
            <a:ext cx="216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9" descr="нос.jpg"/>
          <p:cNvPicPr/>
          <p:nvPr/>
        </p:nvPicPr>
        <p:blipFill>
          <a:blip r:embed="rId4"/>
          <a:stretch/>
        </p:blipFill>
        <p:spPr>
          <a:xfrm>
            <a:off x="7524360" y="2781000"/>
            <a:ext cx="1378800" cy="165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0"/>
          <p:cNvSpPr/>
          <p:nvPr/>
        </p:nvSpPr>
        <p:spPr>
          <a:xfrm>
            <a:off x="3420000" y="227700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яз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21" descr="ладошки.jpeg"/>
          <p:cNvPicPr/>
          <p:nvPr/>
        </p:nvPicPr>
        <p:blipFill>
          <a:blip r:embed="rId5"/>
          <a:stretch/>
        </p:blipFill>
        <p:spPr>
          <a:xfrm>
            <a:off x="3636000" y="2781000"/>
            <a:ext cx="1728000" cy="172800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 стрелкой 23"/>
          <p:cNvCxnSpPr/>
          <p:nvPr/>
        </p:nvCxnSpPr>
        <p:spPr>
          <a:xfrm flipH="1">
            <a:off x="1475640" y="1412640"/>
            <a:ext cx="1224360" cy="86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4" name="Прямая со стрелкой 25"/>
          <p:cNvCxnSpPr/>
          <p:nvPr/>
        </p:nvCxnSpPr>
        <p:spPr>
          <a:xfrm flipH="1">
            <a:off x="3275640" y="1412640"/>
            <a:ext cx="216360" cy="86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5" name="Прямая со стрелкой 27"/>
          <p:cNvCxnSpPr/>
          <p:nvPr/>
        </p:nvCxnSpPr>
        <p:spPr>
          <a:xfrm>
            <a:off x="5364000" y="1412640"/>
            <a:ext cx="432360" cy="720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6" name="Прямая со стрелкой 29"/>
          <p:cNvCxnSpPr/>
          <p:nvPr/>
        </p:nvCxnSpPr>
        <p:spPr>
          <a:xfrm>
            <a:off x="6804000" y="1412640"/>
            <a:ext cx="1008720" cy="648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7" name="Прямая со стрелкой 31"/>
          <p:cNvCxnSpPr/>
          <p:nvPr/>
        </p:nvCxnSpPr>
        <p:spPr>
          <a:xfrm>
            <a:off x="4355640" y="1484640"/>
            <a:ext cx="360" cy="792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68" name="TextBox 32"/>
          <p:cNvSpPr/>
          <p:nvPr/>
        </p:nvSpPr>
        <p:spPr>
          <a:xfrm>
            <a:off x="539640" y="4826520"/>
            <a:ext cx="82807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информации происходит через информационные кан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рительный канал (зрительн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ховой канал (звуков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язательный канал (тактильн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усовой канал (вкусов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нятельный канал (обонятельная информ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Виды информации по форме представлен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323640" y="1989000"/>
            <a:ext cx="15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197964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кст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63600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ическ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36400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7092360" y="1989000"/>
            <a:ext cx="15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9" descr="часы.jpeg"/>
          <p:cNvPicPr/>
          <p:nvPr/>
        </p:nvPicPr>
        <p:blipFill>
          <a:blip r:embed="rId1"/>
          <a:stretch/>
        </p:blipFill>
        <p:spPr>
          <a:xfrm>
            <a:off x="467640" y="2637000"/>
            <a:ext cx="1142640" cy="1142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числа.jpeg"/>
          <p:cNvPicPr/>
          <p:nvPr/>
        </p:nvPicPr>
        <p:blipFill>
          <a:blip r:embed="rId2"/>
          <a:stretch/>
        </p:blipFill>
        <p:spPr>
          <a:xfrm>
            <a:off x="323640" y="3933000"/>
            <a:ext cx="1303920" cy="791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калькулятор.jpeg"/>
          <p:cNvPicPr/>
          <p:nvPr/>
        </p:nvPicPr>
        <p:blipFill>
          <a:blip r:embed="rId3"/>
          <a:stretch/>
        </p:blipFill>
        <p:spPr>
          <a:xfrm>
            <a:off x="0" y="5013000"/>
            <a:ext cx="2011320" cy="1142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книги.jpeg"/>
          <p:cNvPicPr/>
          <p:nvPr/>
        </p:nvPicPr>
        <p:blipFill>
          <a:blip r:embed="rId4"/>
          <a:stretch/>
        </p:blipFill>
        <p:spPr>
          <a:xfrm>
            <a:off x="2123640" y="2709000"/>
            <a:ext cx="1203480" cy="1142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3" descr="газета.jpeg"/>
          <p:cNvPicPr/>
          <p:nvPr/>
        </p:nvPicPr>
        <p:blipFill>
          <a:blip r:embed="rId5"/>
          <a:stretch/>
        </p:blipFill>
        <p:spPr>
          <a:xfrm>
            <a:off x="2123640" y="4077000"/>
            <a:ext cx="1440000" cy="1142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4" descr="тетрадь.jpeg"/>
          <p:cNvPicPr/>
          <p:nvPr/>
        </p:nvPicPr>
        <p:blipFill>
          <a:blip r:embed="rId6"/>
          <a:stretch/>
        </p:blipFill>
        <p:spPr>
          <a:xfrm>
            <a:off x="2339640" y="5589360"/>
            <a:ext cx="1079640" cy="771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картина.jpeg"/>
          <p:cNvPicPr/>
          <p:nvPr/>
        </p:nvPicPr>
        <p:blipFill>
          <a:blip r:embed="rId7"/>
          <a:stretch/>
        </p:blipFill>
        <p:spPr>
          <a:xfrm>
            <a:off x="3619440" y="2857680"/>
            <a:ext cx="1672200" cy="1003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6" descr="рисунок.jpeg"/>
          <p:cNvPicPr/>
          <p:nvPr/>
        </p:nvPicPr>
        <p:blipFill>
          <a:blip r:embed="rId8"/>
          <a:stretch/>
        </p:blipFill>
        <p:spPr>
          <a:xfrm>
            <a:off x="3708000" y="4077000"/>
            <a:ext cx="1656000" cy="1103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7" descr="фотография.jpeg"/>
          <p:cNvPicPr/>
          <p:nvPr/>
        </p:nvPicPr>
        <p:blipFill>
          <a:blip r:embed="rId9"/>
          <a:stretch/>
        </p:blipFill>
        <p:spPr>
          <a:xfrm>
            <a:off x="3924000" y="5517360"/>
            <a:ext cx="1447560" cy="1142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9"/>
          <p:cNvSpPr/>
          <p:nvPr/>
        </p:nvSpPr>
        <p:spPr>
          <a:xfrm>
            <a:off x="3780000" y="4077000"/>
            <a:ext cx="1656000" cy="1151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5" name="Рисунок 20" descr="колонки.jpeg"/>
          <p:cNvPicPr/>
          <p:nvPr/>
        </p:nvPicPr>
        <p:blipFill>
          <a:blip r:embed="rId10"/>
          <a:stretch/>
        </p:blipFill>
        <p:spPr>
          <a:xfrm>
            <a:off x="5580000" y="2781000"/>
            <a:ext cx="1257120" cy="1142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пение.jpg"/>
          <p:cNvPicPr/>
          <p:nvPr/>
        </p:nvPicPr>
        <p:blipFill>
          <a:blip r:embed="rId11"/>
          <a:stretch/>
        </p:blipFill>
        <p:spPr>
          <a:xfrm>
            <a:off x="5724000" y="4077000"/>
            <a:ext cx="935640" cy="1383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3" descr="балалайка.jpeg"/>
          <p:cNvPicPr/>
          <p:nvPr/>
        </p:nvPicPr>
        <p:blipFill>
          <a:blip r:embed="rId12"/>
          <a:stretch/>
        </p:blipFill>
        <p:spPr>
          <a:xfrm>
            <a:off x="5724000" y="5445360"/>
            <a:ext cx="1272240" cy="1142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4" descr="телевизор.jpeg"/>
          <p:cNvPicPr/>
          <p:nvPr/>
        </p:nvPicPr>
        <p:blipFill>
          <a:blip r:embed="rId13"/>
          <a:stretch/>
        </p:blipFill>
        <p:spPr>
          <a:xfrm>
            <a:off x="7308360" y="2781000"/>
            <a:ext cx="1142640" cy="11426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5" descr="кино.jpeg"/>
          <p:cNvPicPr/>
          <p:nvPr/>
        </p:nvPicPr>
        <p:blipFill>
          <a:blip r:embed="rId14"/>
          <a:stretch/>
        </p:blipFill>
        <p:spPr>
          <a:xfrm>
            <a:off x="7380360" y="4221000"/>
            <a:ext cx="1247760" cy="9356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видеокамера.jpeg"/>
          <p:cNvPicPr/>
          <p:nvPr/>
        </p:nvPicPr>
        <p:blipFill>
          <a:blip r:embed="rId15"/>
          <a:stretch/>
        </p:blipFill>
        <p:spPr>
          <a:xfrm>
            <a:off x="7236360" y="5517360"/>
            <a:ext cx="1630440" cy="114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28"/>
          <p:cNvCxnSpPr/>
          <p:nvPr/>
        </p:nvCxnSpPr>
        <p:spPr>
          <a:xfrm flipH="1">
            <a:off x="899280" y="1412640"/>
            <a:ext cx="1584720" cy="576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2" name="Прямая со стрелкой 30"/>
          <p:cNvCxnSpPr/>
          <p:nvPr/>
        </p:nvCxnSpPr>
        <p:spPr>
          <a:xfrm flipH="1">
            <a:off x="2771640" y="1412640"/>
            <a:ext cx="756360" cy="50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3" name="Прямая со стрелкой 32"/>
          <p:cNvCxnSpPr>
            <a:stCxn id="169" idx="2"/>
            <a:endCxn id="172" idx="0"/>
          </p:cNvCxnSpPr>
          <p:nvPr/>
        </p:nvCxnSpPr>
        <p:spPr>
          <a:xfrm flipH="1">
            <a:off x="4463640" y="1417320"/>
            <a:ext cx="108720" cy="57168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4" name="Прямая со стрелкой 34"/>
          <p:cNvCxnSpPr/>
          <p:nvPr/>
        </p:nvCxnSpPr>
        <p:spPr>
          <a:xfrm>
            <a:off x="5364000" y="1412640"/>
            <a:ext cx="648360" cy="576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5" name="Прямая со стрелкой 36"/>
          <p:cNvCxnSpPr/>
          <p:nvPr/>
        </p:nvCxnSpPr>
        <p:spPr>
          <a:xfrm>
            <a:off x="6444000" y="1412640"/>
            <a:ext cx="1224360" cy="648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51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о назначе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786040" y="3429000"/>
            <a:ext cx="3500280" cy="759960"/>
          </a:xfrm>
          <a:prstGeom prst="rect">
            <a:avLst/>
          </a:prstGeom>
          <a:solidFill>
            <a:srgbClr val="4f81bd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1928880" y="1285920"/>
            <a:ext cx="5500440" cy="10044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совая 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— содержит тривиальные сведения и оперирует набором понятий, понятным большей части соци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000080" y="5357880"/>
            <a:ext cx="7357680" cy="10044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Группов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содержит специфический набор понятий, которые необходимы и понятны в рамках узкой социальной группы, где используется данная информац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79640" y="2421000"/>
            <a:ext cx="2106000" cy="23148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артнерск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риентирована на использование узким кругом лиц, имеющих отношение к содержащимся в ней све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643800" y="2357280"/>
            <a:ext cx="2214360" cy="283392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Лич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набор сведений о какой-либо личности, определяющий социальное положение и типы социальных взаимодействий внутри попу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9"/>
          <p:cNvCxnSpPr>
            <a:stCxn id="197" idx="0"/>
          </p:cNvCxnSpPr>
          <p:nvPr/>
        </p:nvCxnSpPr>
        <p:spPr>
          <a:xfrm flipH="1" flipV="1">
            <a:off x="4500360" y="2285640"/>
            <a:ext cx="36000" cy="1143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3" name="Прямая со стрелкой 11"/>
          <p:cNvCxnSpPr>
            <a:stCxn id="197" idx="1"/>
          </p:cNvCxnSpPr>
          <p:nvPr/>
        </p:nvCxnSpPr>
        <p:spPr>
          <a:xfrm flipH="1" flipV="1">
            <a:off x="2285640" y="3786120"/>
            <a:ext cx="500760" cy="27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4" name="Прямая со стрелкой 13"/>
          <p:cNvCxnSpPr>
            <a:stCxn id="197" idx="3"/>
            <a:endCxn id="201" idx="1"/>
          </p:cNvCxnSpPr>
          <p:nvPr/>
        </p:nvCxnSpPr>
        <p:spPr>
          <a:xfrm flipV="1">
            <a:off x="6286320" y="3788280"/>
            <a:ext cx="357480" cy="255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5" name="Прямая со стрелкой 15"/>
          <p:cNvCxnSpPr>
            <a:stCxn id="197" idx="2"/>
          </p:cNvCxnSpPr>
          <p:nvPr/>
        </p:nvCxnSpPr>
        <p:spPr>
          <a:xfrm>
            <a:off x="4536000" y="4198320"/>
            <a:ext cx="36360" cy="11595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  <Words>1310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1:49:17Z</dcterms:created>
  <dc:creator>1</dc:creator>
  <dc:description/>
  <dc:language>en-US</dc:language>
  <cp:lastModifiedBy>Portable by punsh</cp:lastModifiedBy>
  <dcterms:modified xsi:type="dcterms:W3CDTF">2016-03-23T14:07:50Z</dcterms:modified>
  <cp:revision>300</cp:revision>
  <dc:subject/>
  <dc:title>ИНФОРМ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