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3634-5B9F-43F2-A265-40B8F9FE60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1B2B-AD3D-4AC8-B0DA-38F6585EE3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C6AC-E8AC-4150-9B7E-FD71AF5E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210A-8DFF-4857-A017-9B70F1C7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48F-664F-4BB1-9AC7-65D87896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684-7B9B-4EAA-8283-FC4B6593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90A-8773-486E-852D-08E481AC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E647-CA94-438A-9422-81ACE2A3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9192-350A-4069-99D8-EF630D21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6E92-7F73-4822-81CB-8A764438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1F94-1CD2-416A-9D93-63438FC9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BF5D-CEA6-4939-9A1D-9E3B33B8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94F1-4B8D-42E4-A16E-7DF635E0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585D-9BFD-4D5A-AB1A-7C0D7500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A44B-1514-4456-AA7E-38218B1EEA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Школьные файлы\ПАПКА  ДЛЯ  СКАЧИВАНИЯ\9381760.jpg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36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8800" y="1643040"/>
            <a:ext cx="65721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Физкультминутка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для  гла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13"/>
          <p:cNvGrpSpPr/>
          <p:nvPr/>
        </p:nvGrpSpPr>
        <p:grpSpPr>
          <a:xfrm>
            <a:off x="-154080" y="-216000"/>
            <a:ext cx="9298080" cy="7074000"/>
            <a:chOff x="-154080" y="-216000"/>
            <a:chExt cx="9298080" cy="7074000"/>
          </a:xfrm>
        </p:grpSpPr>
        <p:sp>
          <p:nvSpPr>
            <p:cNvPr id="51" name="Полилиния 9"/>
            <p:cNvSpPr/>
            <p:nvPr/>
          </p:nvSpPr>
          <p:spPr>
            <a:xfrm>
              <a:off x="-143280" y="3378960"/>
              <a:ext cx="920808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олилиния 6"/>
            <p:cNvSpPr/>
            <p:nvPr/>
          </p:nvSpPr>
          <p:spPr>
            <a:xfrm>
              <a:off x="-154080" y="3763080"/>
              <a:ext cx="9298080" cy="307908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Полилиния 7"/>
            <p:cNvSpPr/>
            <p:nvPr/>
          </p:nvSpPr>
          <p:spPr>
            <a:xfrm>
              <a:off x="676080" y="4177800"/>
              <a:ext cx="8388000" cy="268020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олилиния 4"/>
            <p:cNvSpPr/>
            <p:nvPr/>
          </p:nvSpPr>
          <p:spPr>
            <a:xfrm>
              <a:off x="-122400" y="4167360"/>
              <a:ext cx="8608680" cy="265932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Полилиния 11"/>
            <p:cNvSpPr/>
            <p:nvPr/>
          </p:nvSpPr>
          <p:spPr>
            <a:xfrm>
              <a:off x="2041560" y="470880"/>
              <a:ext cx="4298040" cy="19310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олилиния 12"/>
            <p:cNvSpPr/>
            <p:nvPr/>
          </p:nvSpPr>
          <p:spPr>
            <a:xfrm>
              <a:off x="597384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" name="Picture 3" descr="D:\Школьные файлы\ПАПКА  ДЛЯ  СКАЧИВАНИЯ\1239894510_1233707616_romaski.jpg"/>
          <p:cNvPicPr/>
          <p:nvPr/>
        </p:nvPicPr>
        <p:blipFill>
          <a:blip r:embed="rId1"/>
          <a:stretch/>
        </p:blipFill>
        <p:spPr>
          <a:xfrm>
            <a:off x="500040" y="4214880"/>
            <a:ext cx="2500200" cy="221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Школьные файлы\ПАПКА  ДЛЯ  СКАЧИВАНИЯ\strawberries.jpg"/>
          <p:cNvPicPr/>
          <p:nvPr/>
        </p:nvPicPr>
        <p:blipFill>
          <a:blip r:embed="rId2"/>
          <a:stretch/>
        </p:blipFill>
        <p:spPr>
          <a:xfrm>
            <a:off x="4000680" y="4429080"/>
            <a:ext cx="185724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D:\Школьные файлы\ПАПКА  ДЛЯ  СКАЧИВАНИЯ\Картинки для физкультминутки\2654996506cbdb1a3d6a3cb86602b146626f0ef9b9_s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4"/>
          <a:stretch/>
        </p:blipFill>
        <p:spPr>
          <a:xfrm>
            <a:off x="0" y="1773360"/>
            <a:ext cx="1881360" cy="1895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Школьные файлы\ПАПКА  ДЛЯ  СКАЧИВАНИЯ\Картинки для физкультминутки\babochka265.jpg"/>
          <p:cNvPicPr/>
          <p:nvPr/>
        </p:nvPicPr>
        <p:blipFill>
          <a:blip r:embed="rId5"/>
          <a:stretch/>
        </p:blipFill>
        <p:spPr>
          <a:xfrm>
            <a:off x="6786720" y="214200"/>
            <a:ext cx="2143080" cy="1650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D:\Школьные файлы\ПАПКА  ДЛЯ  СКАЧИВАНИЯ\Картинки для физкультминутки\56082879_1267888063_babochki_45.gif"/>
          <p:cNvPicPr/>
          <p:nvPr/>
        </p:nvPicPr>
        <p:blipFill>
          <a:blip r:embed="rId6"/>
          <a:stretch/>
        </p:blipFill>
        <p:spPr>
          <a:xfrm>
            <a:off x="214200" y="428760"/>
            <a:ext cx="1476360" cy="13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7"/>
          <a:stretch/>
        </p:blipFill>
        <p:spPr>
          <a:xfrm>
            <a:off x="3643200" y="428760"/>
            <a:ext cx="20242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C 0.11424 -0.12777 0.22847 -0.25555 0.35972 -0.26458 C 0.49097 -0.27361 0.72604 -0.08287 0.78715 -0.0537 E">
                                      <p:cBhvr>
                                        <p:cTn id="3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73472E-018 L -0.70088 0.01042 E">
                                      <p:cBhvr>
                                        <p:cTn id="55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87 0.01042 L -0.70591 0.5794 E"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L 0.7875 3.7037E-007 E">
                                      <p:cBhvr>
                                        <p:cTn id="6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5 -2.59259E-006 L 0.67152 0.56968 E">
                                      <p:cBhvr>
                                        <p:cTn id="72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65" name="Полилиния 2"/>
            <p:cNvSpPr/>
            <p:nvPr/>
          </p:nvSpPr>
          <p:spPr>
            <a:xfrm>
              <a:off x="10440" y="3378960"/>
              <a:ext cx="920808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олилиния 3"/>
            <p:cNvSpPr/>
            <p:nvPr/>
          </p:nvSpPr>
          <p:spPr>
            <a:xfrm>
              <a:off x="0" y="3763080"/>
              <a:ext cx="9298080" cy="307908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олилиния 4"/>
            <p:cNvSpPr/>
            <p:nvPr/>
          </p:nvSpPr>
          <p:spPr>
            <a:xfrm>
              <a:off x="830160" y="4177800"/>
              <a:ext cx="8388000" cy="268020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Полилиния 5"/>
            <p:cNvSpPr/>
            <p:nvPr/>
          </p:nvSpPr>
          <p:spPr>
            <a:xfrm>
              <a:off x="31320" y="4167360"/>
              <a:ext cx="8608680" cy="265932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Полилиния 6"/>
            <p:cNvSpPr/>
            <p:nvPr/>
          </p:nvSpPr>
          <p:spPr>
            <a:xfrm>
              <a:off x="2195640" y="470880"/>
              <a:ext cx="4298040" cy="19310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Полилиния 7"/>
            <p:cNvSpPr/>
            <p:nvPr/>
          </p:nvSpPr>
          <p:spPr>
            <a:xfrm>
              <a:off x="612792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2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714240" y="642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2"/>
          <a:stretch/>
        </p:blipFill>
        <p:spPr>
          <a:xfrm>
            <a:off x="7000920" y="421488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:\Школьные файлы\ПАПКА  ДЛЯ  СКАЧИВАНИЯ\Картинки для физкультминутки\egiky43.jpg"/>
          <p:cNvPicPr/>
          <p:nvPr/>
        </p:nvPicPr>
        <p:blipFill>
          <a:blip r:embed="rId3"/>
          <a:stretch/>
        </p:blipFill>
        <p:spPr>
          <a:xfrm>
            <a:off x="214200" y="37861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Школьные файлы\ПАПКА  ДЛЯ  СКАЧИВАНИЯ\Картинки для физкультминутки\OYN0S9CALODWEVCARF7V7YCAAKNR4QCAMG0SPACAJ00AVUCALRHLUECAVTF2ZJCADEK090CA806OK9CAYU7RX9CADUBHNDCAIX3O46CAGIMUAVCAQ27NVKCA5D00FACA61LDC6CAS7IDKMCA9ZNRLFCA1JLILT.jpg"/>
          <p:cNvPicPr/>
          <p:nvPr/>
        </p:nvPicPr>
        <p:blipFill>
          <a:blip r:embed="rId4"/>
          <a:stretch/>
        </p:blipFill>
        <p:spPr>
          <a:xfrm>
            <a:off x="500040" y="428616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Школьные файлы\ПАПКА  ДЛЯ  СКАЧИВАНИЯ\Картинки для физкультминутки\egiky08.jpg"/>
          <p:cNvPicPr/>
          <p:nvPr/>
        </p:nvPicPr>
        <p:blipFill>
          <a:blip r:embed="rId5"/>
          <a:stretch/>
        </p:blipFill>
        <p:spPr>
          <a:xfrm>
            <a:off x="5000760" y="4000680"/>
            <a:ext cx="214308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3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02593 C -0.01684 -0.03056 -0.00833 -0.02246 0.00226 -0.02593 C 0.03125 -0.01806 -0.01111 -0.02871 0.06407 -0.02593 C 0.07188 -0.0257 0.079 -0.02037 0.08646 -0.01898 C 0.09097 -0.01482 0.09393 -0.00834 0.09879 -0.00533 C 0.10903 0.00069 0.10677 -0.00625 0.11424 -0.0007 C 0.11788 0.00208 0.12066 0.00717 0.12466 0.00856 C 0.15122 0.01759 0.13368 0.01296 0.17813 0.01551 C 0.19497 0.02152 0.21077 0.0287 0.22813 0.03148 C 0.23316 0.03402 0.23854 0.0375 0.24358 0.04074 C 0.24549 0.04189 0.2467 0.0449 0.24879 0.04537 C 0.25591 0.04722 0.26354 0.04699 0.27118 0.04768 C 0.27292 0.04699 0.27448 0.04467 0.27622 0.04537 C 0.27865 0.04629 0.27969 0.05023 0.2816 0.05208 C 0.28368 0.05393 0.28611 0.05532 0.28837 0.05671 C 0.29618 0.06134 0.31025 0.0625 0.31597 0.06365 C 0.33212 0.07083 0.30295 0.05833 0.33472 0.06828 C 0.33785 0.06921 0.34063 0.07199 0.34358 0.07291 C 0.3474 0.0743 0.35157 0.07453 0.35573 0.07523 C 0.37014 0.08171 0.38629 0.0831 0.40052 0.0912 C 0.41372 0.09861 0.42413 0.11041 0.43837 0.11435 C 0.43611 0.11203 0.4316 0.11111 0.4316 0.1074 C 0.4316 0.10625 0.44288 0.1118 0.44358 0.11203 C 0.44931 0.11319 0.45504 0.11365 0.46059 0.11435 C 0.47118 0.12106 0.4757 0.12152 0.48837 0.12338 C 0.50417 0.12939 0.52032 0.13125 0.53663 0.13495 C 0.54497 0.15208 0.5408 0.14444 0.54879 0.15787 C 0.55 0.1625 0.54879 0.1706 0.55226 0.17176 C 0.56441 0.17592 0.57622 0.18009 0.58802 0.18333 C 0.59236 0.18588 0.59618 0.19027 0.60052 0.19236 C 0.61146 0.19791 0.62518 0.19814 0.63663 0.20162 C 0.64462 0.20393 0.63941 0.20347 0.64705 0.20856 C 0.64861 0.20972 0.6507 0.20972 0.65226 0.21088 C 0.65591 0.21342 0.65903 0.21689 0.6625 0.2199 C 0.66823 0.225 0.66771 0.22176 0.66771 0.22685 E">
                                      <p:cBhvr>
                                        <p:cTn id="107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36875 -0.00833 E">
                                      <p:cBhvr>
                                        <p:cTn id="120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Школьные файлы\ВСЕ  ДЛЯ  ОФОРМЛЕНИЯ\ШАБЛОНЫ  К ПРЕЗЕНТАЦИЯМ\сказ.фоны\03.jpg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lenagold.ru/fon/clipart/p/pti/ptah70.gif"/>
          <p:cNvPicPr/>
          <p:nvPr/>
        </p:nvPicPr>
        <p:blipFill>
          <a:blip r:embed="rId2"/>
          <a:stretch/>
        </p:blipFill>
        <p:spPr>
          <a:xfrm flipH="1">
            <a:off x="285840" y="7858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Школьные файлы\ПАПКА  ДЛЯ  СКАЧИВАНИЯ\Картинки для физкультминутки\babochka150.jpg"/>
          <p:cNvPicPr/>
          <p:nvPr/>
        </p:nvPicPr>
        <p:blipFill>
          <a:blip r:embed="rId3"/>
          <a:stretch/>
        </p:blipFill>
        <p:spPr>
          <a:xfrm>
            <a:off x="6715080" y="642960"/>
            <a:ext cx="20718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Школьные файлы\ПАПКА  ДЛЯ  СКАЧИВАНИЯ\Картинки для физкультминутки\babochka214.jpg"/>
          <p:cNvPicPr/>
          <p:nvPr/>
        </p:nvPicPr>
        <p:blipFill>
          <a:blip r:embed="rId4"/>
          <a:stretch/>
        </p:blipFill>
        <p:spPr>
          <a:xfrm>
            <a:off x="6924600" y="500040"/>
            <a:ext cx="183060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Школьные файлы\ПАПКА  ДЛЯ  СКАЧИВАНИЯ\Картинки для физкультминутки\39KDVHCAZ1KNJECAHAR6CSCABW08FACAB2H14QCAR9BNKKCA5S2DJ7CAG9HRB3CA71VG7ECA3OH0ENCAUMRJLHCA9EHBA6CAQW5GLYCA90ETW7CAA0ZF6ICAPN7WFVCAT5315YCAOVS1UACAAH8MSWCAY39EYF.jpg"/>
          <p:cNvPicPr/>
          <p:nvPr/>
        </p:nvPicPr>
        <p:blipFill>
          <a:blip r:embed="rId5"/>
          <a:stretch/>
        </p:blipFill>
        <p:spPr>
          <a:xfrm>
            <a:off x="3571920" y="4643280"/>
            <a:ext cx="714240" cy="824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6"/>
          <a:stretch/>
        </p:blipFill>
        <p:spPr>
          <a:xfrm>
            <a:off x="7858080" y="5643720"/>
            <a:ext cx="1000080" cy="92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7"/>
          <a:stretch/>
        </p:blipFill>
        <p:spPr>
          <a:xfrm>
            <a:off x="2000160" y="5572080"/>
            <a:ext cx="92880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8"/>
          <a:stretch/>
        </p:blipFill>
        <p:spPr>
          <a:xfrm>
            <a:off x="6572160" y="450072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9"/>
          <a:stretch/>
        </p:blipFill>
        <p:spPr>
          <a:xfrm>
            <a:off x="428760" y="5743440"/>
            <a:ext cx="733320" cy="111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10"/>
          <a:stretch/>
        </p:blipFill>
        <p:spPr>
          <a:xfrm>
            <a:off x="285840" y="4000680"/>
            <a:ext cx="73332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1.85185E-006 L 0.60643 0.13657 E">
                                      <p:cBhvr>
                                        <p:cTn id="135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-0.69306 -0.03148 E">
                                      <p:cBhvr>
                                        <p:cTn id="144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305 -0.03147 L -0.69305 0.64052 E">
                                      <p:cBhvr>
                                        <p:cTn id="147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96296E-006 L 0.01563 0.71412 E">
                                      <p:cBhvr>
                                        <p:cTn id="155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71412 L -0.42534 0.75602 E">
                                      <p:cBhvr>
                                        <p:cTn id="158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87" name="Полилиния 2"/>
            <p:cNvSpPr/>
            <p:nvPr/>
          </p:nvSpPr>
          <p:spPr>
            <a:xfrm>
              <a:off x="10440" y="3378960"/>
              <a:ext cx="920808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Полилиния 3"/>
            <p:cNvSpPr/>
            <p:nvPr/>
          </p:nvSpPr>
          <p:spPr>
            <a:xfrm>
              <a:off x="0" y="3763080"/>
              <a:ext cx="9298080" cy="307908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Полилиния 4"/>
            <p:cNvSpPr/>
            <p:nvPr/>
          </p:nvSpPr>
          <p:spPr>
            <a:xfrm>
              <a:off x="830160" y="4177800"/>
              <a:ext cx="8388000" cy="268020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Полилиния 5"/>
            <p:cNvSpPr/>
            <p:nvPr/>
          </p:nvSpPr>
          <p:spPr>
            <a:xfrm>
              <a:off x="31320" y="4167360"/>
              <a:ext cx="8608680" cy="265932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Полилиния 6"/>
            <p:cNvSpPr/>
            <p:nvPr/>
          </p:nvSpPr>
          <p:spPr>
            <a:xfrm>
              <a:off x="2195640" y="470880"/>
              <a:ext cx="4298040" cy="19310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Полилиния 7"/>
            <p:cNvSpPr/>
            <p:nvPr/>
          </p:nvSpPr>
          <p:spPr>
            <a:xfrm>
              <a:off x="612792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500040" y="85716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:\Школьные файлы\ПАПКА  ДЛЯ  СКАЧИВАНИЯ\Картинки для физкультминутки\65.gif"/>
          <p:cNvPicPr/>
          <p:nvPr/>
        </p:nvPicPr>
        <p:blipFill>
          <a:blip r:embed="rId2"/>
          <a:stretch/>
        </p:blipFill>
        <p:spPr>
          <a:xfrm>
            <a:off x="5929200" y="3857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Школьные файлы\ПАПКА  ДЛЯ  СКАЧИВАНИЯ\Картинки для физкультминутки\65.gif"/>
          <p:cNvPicPr/>
          <p:nvPr/>
        </p:nvPicPr>
        <p:blipFill>
          <a:blip r:embed="rId3"/>
          <a:stretch/>
        </p:blipFill>
        <p:spPr>
          <a:xfrm flipH="1">
            <a:off x="928800" y="378612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1880" y="571680"/>
            <a:ext cx="5857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Calibri"/>
              </a:rPr>
              <a:t>Б У Д Ь Т Е </a:t>
            </a:r>
            <a:br>
              <a:rPr sz="6600"/>
            </a:br>
            <a:r>
              <a:rPr b="1" lang="en-US" sz="6600" spc="-1" strike="noStrike">
                <a:solidFill>
                  <a:srgbClr val="77933c"/>
                </a:solidFill>
                <a:latin typeface="Calibri"/>
              </a:rPr>
              <a:t>З Д О Р О В Ы 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15:24Z</dcterms:created>
  <dc:creator>WIN7XP</dc:creator>
  <dc:description/>
  <dc:language>en-US</dc:language>
  <cp:lastModifiedBy>Admin</cp:lastModifiedBy>
  <dcterms:modified xsi:type="dcterms:W3CDTF">2011-10-02T11:20:31Z</dcterms:modified>
  <cp:revision>87</cp:revision>
  <dc:subject/>
  <dc:title>Слайд 1</dc:title>
</cp:coreProperties>
</file>