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1.gif" ContentType="image/gif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8F7A-F362-40A3-954B-04CF034533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2D5D-9924-46A9-AFEC-4D4376086EF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FFFC-BFAD-40F8-95B4-6593B321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9646-28E4-4BB6-8E77-7C2C22E1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0249-6ECA-4B6A-BB7E-DC9EFE45A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269E-9F3A-4926-9D5E-53DAD331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8349-978B-479A-9988-E03A312EE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249-194D-461B-93C5-7C2B1EB7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1CEB-0A5B-476F-B3D6-C6C89289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E436-C41F-49A1-AEEA-0D08D22D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7E2E-F7DB-48FA-A46C-1532665B4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AA8B-AB93-4605-96F2-07E2F6F47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1850-7D0A-477A-B90C-D8933A90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8AB3-EB76-4295-B3F6-5A042593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2FA1A-0E84-4716-B113-F71AA829C7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Школьные файлы\ПАПКА  ДЛЯ  СКАЧИВАНИЯ\9381760.jpg"/>
          <p:cNvPicPr/>
          <p:nvPr/>
        </p:nvPicPr>
        <p:blipFill>
          <a:blip r:embed="rId1"/>
          <a:stretch/>
        </p:blipFill>
        <p:spPr>
          <a:xfrm>
            <a:off x="-380880" y="0"/>
            <a:ext cx="9524880" cy="7362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28800" y="1643040"/>
            <a:ext cx="657216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Физкультминутка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"/>
                <a:ea typeface="Arial"/>
              </a:rPr>
              <a:t>для  глаз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Группа 13"/>
          <p:cNvGrpSpPr/>
          <p:nvPr/>
        </p:nvGrpSpPr>
        <p:grpSpPr>
          <a:xfrm>
            <a:off x="-154080" y="-216000"/>
            <a:ext cx="9298080" cy="7074000"/>
            <a:chOff x="-154080" y="-216000"/>
            <a:chExt cx="9298080" cy="7074000"/>
          </a:xfrm>
        </p:grpSpPr>
        <p:sp>
          <p:nvSpPr>
            <p:cNvPr id="51" name="Полилиния 9"/>
            <p:cNvSpPr/>
            <p:nvPr/>
          </p:nvSpPr>
          <p:spPr>
            <a:xfrm>
              <a:off x="-143280" y="3378960"/>
              <a:ext cx="9208080" cy="1019160"/>
            </a:xfrm>
            <a:prstGeom prst="pie">
              <a:avLst/>
            </a:pr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Полилиния 6"/>
            <p:cNvSpPr/>
            <p:nvPr/>
          </p:nvSpPr>
          <p:spPr>
            <a:xfrm>
              <a:off x="-154080" y="3763080"/>
              <a:ext cx="9298080" cy="3079080"/>
            </a:xfrm>
            <a:prstGeom prst="pie">
              <a:avLst/>
            </a:pr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Полилиния 7"/>
            <p:cNvSpPr/>
            <p:nvPr/>
          </p:nvSpPr>
          <p:spPr>
            <a:xfrm>
              <a:off x="676080" y="4177800"/>
              <a:ext cx="8388000" cy="2680200"/>
            </a:xfrm>
            <a:prstGeom prst="pie">
              <a:avLst/>
            </a:pr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Полилиния 4"/>
            <p:cNvSpPr/>
            <p:nvPr/>
          </p:nvSpPr>
          <p:spPr>
            <a:xfrm>
              <a:off x="-122400" y="4167360"/>
              <a:ext cx="8608680" cy="2659320"/>
            </a:xfrm>
            <a:prstGeom prst="pie">
              <a:avLst/>
            </a:pr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Полилиния 11"/>
            <p:cNvSpPr/>
            <p:nvPr/>
          </p:nvSpPr>
          <p:spPr>
            <a:xfrm>
              <a:off x="2041560" y="470880"/>
              <a:ext cx="4298040" cy="19310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Полилиния 12"/>
            <p:cNvSpPr/>
            <p:nvPr/>
          </p:nvSpPr>
          <p:spPr>
            <a:xfrm>
              <a:off x="5973840" y="-216000"/>
              <a:ext cx="3164040" cy="1847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7" name="Picture 3" descr="D:\Школьные файлы\ПАПКА  ДЛЯ  СКАЧИВАНИЯ\1239894510_1233707616_romaski.jpg"/>
          <p:cNvPicPr/>
          <p:nvPr/>
        </p:nvPicPr>
        <p:blipFill>
          <a:blip r:embed="rId1"/>
          <a:stretch/>
        </p:blipFill>
        <p:spPr>
          <a:xfrm>
            <a:off x="500040" y="4214880"/>
            <a:ext cx="2500200" cy="221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D:\Школьные файлы\ПАПКА  ДЛЯ  СКАЧИВАНИЯ\strawberries.jpg"/>
          <p:cNvPicPr/>
          <p:nvPr/>
        </p:nvPicPr>
        <p:blipFill>
          <a:blip r:embed="rId2"/>
          <a:stretch/>
        </p:blipFill>
        <p:spPr>
          <a:xfrm>
            <a:off x="4000680" y="4429080"/>
            <a:ext cx="1857240" cy="188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D:\Школьные файлы\ПАПКА  ДЛЯ  СКАЧИВАНИЯ\Картинки для физкультминутки\2654996506cbdb1a3d6a3cb86602b146626f0ef9b9_s.jpg"/>
          <p:cNvPicPr/>
          <p:nvPr/>
        </p:nvPicPr>
        <p:blipFill>
          <a:blip r:embed="rId3"/>
          <a:stretch/>
        </p:blipFill>
        <p:spPr>
          <a:xfrm>
            <a:off x="6286680" y="428616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4"/>
          <a:stretch/>
        </p:blipFill>
        <p:spPr>
          <a:xfrm>
            <a:off x="0" y="1773360"/>
            <a:ext cx="1881360" cy="1895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D:\Школьные файлы\ПАПКА  ДЛЯ  СКАЧИВАНИЯ\Картинки для физкультминутки\babochka265.jpg"/>
          <p:cNvPicPr/>
          <p:nvPr/>
        </p:nvPicPr>
        <p:blipFill>
          <a:blip r:embed="rId5"/>
          <a:stretch/>
        </p:blipFill>
        <p:spPr>
          <a:xfrm>
            <a:off x="6786720" y="214200"/>
            <a:ext cx="2143080" cy="16509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D:\Школьные файлы\ПАПКА  ДЛЯ  СКАЧИВАНИЯ\Картинки для физкультминутки\56082879_1267888063_babochki_45.gif"/>
          <p:cNvPicPr/>
          <p:nvPr/>
        </p:nvPicPr>
        <p:blipFill>
          <a:blip r:embed="rId6"/>
          <a:stretch/>
        </p:blipFill>
        <p:spPr>
          <a:xfrm>
            <a:off x="214200" y="428760"/>
            <a:ext cx="1476360" cy="1357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7"/>
          <a:stretch/>
        </p:blipFill>
        <p:spPr>
          <a:xfrm>
            <a:off x="3643200" y="428760"/>
            <a:ext cx="2024280" cy="20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3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6 C 0.11424 -0.12777 0.22847 -0.25555 0.35972 -0.26458 C 0.49097 -0.27361 0.72604 -0.08287 0.78715 -0.0537 E">
                                      <p:cBhvr>
                                        <p:cTn id="39" dur="5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1.73472E-018 L -0.70088 0.01042 E">
                                      <p:cBhvr>
                                        <p:cTn id="55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70087 0.01042 L -0.70591 0.5794 E">
                                      <p:cBhvr>
                                        <p:cTn id="59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3.7037E-007 L 0.7875 3.7037E-007 E">
                                      <p:cBhvr>
                                        <p:cTn id="68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875 -2.59259E-006 L 0.67152 0.56968 E">
                                      <p:cBhvr>
                                        <p:cTn id="72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"/>
          <p:cNvGrpSpPr/>
          <p:nvPr/>
        </p:nvGrpSpPr>
        <p:grpSpPr>
          <a:xfrm>
            <a:off x="0" y="-216000"/>
            <a:ext cx="9298080" cy="7074000"/>
            <a:chOff x="0" y="-216000"/>
            <a:chExt cx="9298080" cy="7074000"/>
          </a:xfrm>
        </p:grpSpPr>
        <p:sp>
          <p:nvSpPr>
            <p:cNvPr id="65" name="Полилиния 2"/>
            <p:cNvSpPr/>
            <p:nvPr/>
          </p:nvSpPr>
          <p:spPr>
            <a:xfrm>
              <a:off x="10440" y="3378960"/>
              <a:ext cx="9208080" cy="1019160"/>
            </a:xfrm>
            <a:prstGeom prst="pie">
              <a:avLst/>
            </a:pr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Полилиния 3"/>
            <p:cNvSpPr/>
            <p:nvPr/>
          </p:nvSpPr>
          <p:spPr>
            <a:xfrm>
              <a:off x="0" y="3763080"/>
              <a:ext cx="9298080" cy="3079080"/>
            </a:xfrm>
            <a:prstGeom prst="pie">
              <a:avLst/>
            </a:pr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Полилиния 4"/>
            <p:cNvSpPr/>
            <p:nvPr/>
          </p:nvSpPr>
          <p:spPr>
            <a:xfrm>
              <a:off x="830160" y="4177800"/>
              <a:ext cx="8388000" cy="2680200"/>
            </a:xfrm>
            <a:prstGeom prst="pie">
              <a:avLst/>
            </a:pr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" name="Полилиния 5"/>
            <p:cNvSpPr/>
            <p:nvPr/>
          </p:nvSpPr>
          <p:spPr>
            <a:xfrm>
              <a:off x="31320" y="4167360"/>
              <a:ext cx="8608680" cy="2659320"/>
            </a:xfrm>
            <a:prstGeom prst="pie">
              <a:avLst/>
            </a:pr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" name="Полилиния 6"/>
            <p:cNvSpPr/>
            <p:nvPr/>
          </p:nvSpPr>
          <p:spPr>
            <a:xfrm>
              <a:off x="2195640" y="470880"/>
              <a:ext cx="4298040" cy="19310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Полилиния 7"/>
            <p:cNvSpPr/>
            <p:nvPr/>
          </p:nvSpPr>
          <p:spPr>
            <a:xfrm>
              <a:off x="6127920" y="-216000"/>
              <a:ext cx="3164040" cy="1847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1" name="Picture 2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1"/>
          <a:stretch/>
        </p:blipFill>
        <p:spPr>
          <a:xfrm>
            <a:off x="714240" y="64296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2"/>
          <a:stretch/>
        </p:blipFill>
        <p:spPr>
          <a:xfrm>
            <a:off x="7000920" y="4214880"/>
            <a:ext cx="1857240" cy="2214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D:\Школьные файлы\ПАПКА  ДЛЯ  СКАЧИВАНИЯ\Картинки для физкультминутки\egiky43.jpg"/>
          <p:cNvPicPr/>
          <p:nvPr/>
        </p:nvPicPr>
        <p:blipFill>
          <a:blip r:embed="rId3"/>
          <a:stretch/>
        </p:blipFill>
        <p:spPr>
          <a:xfrm>
            <a:off x="214200" y="3786120"/>
            <a:ext cx="714600" cy="714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D:\Школьные файлы\ПАПКА  ДЛЯ  СКАЧИВАНИЯ\Картинки для физкультминутки\OYN0S9CALODWEVCARF7V7YCAAKNR4QCAMG0SPACAJ00AVUCALRHLUECAVTF2ZJCADEK090CA806OK9CAYU7RX9CADUBHNDCAIX3O46CAGIMUAVCAQ27NVKCA5D00FACA61LDC6CAS7IDKMCA9ZNRLFCA1JLILT.jpg"/>
          <p:cNvPicPr/>
          <p:nvPr/>
        </p:nvPicPr>
        <p:blipFill>
          <a:blip r:embed="rId4"/>
          <a:stretch/>
        </p:blipFill>
        <p:spPr>
          <a:xfrm>
            <a:off x="500040" y="4286160"/>
            <a:ext cx="2000160" cy="2143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D:\Школьные файлы\ПАПКА  ДЛЯ  СКАЧИВАНИЯ\Картинки для физкультминутки\egiky08.jpg"/>
          <p:cNvPicPr/>
          <p:nvPr/>
        </p:nvPicPr>
        <p:blipFill>
          <a:blip r:embed="rId5"/>
          <a:stretch/>
        </p:blipFill>
        <p:spPr>
          <a:xfrm>
            <a:off x="5000760" y="4000680"/>
            <a:ext cx="2143080" cy="2571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500"/>
                            </p:stCondLst>
                            <p:childTnLst>
                              <p:par>
                                <p:cTn id="10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5" dur="3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708 -0.02593 C -0.01684 -0.03056 -0.00833 -0.02246 0.00226 -0.02593 C 0.03125 -0.01806 -0.01111 -0.02871 0.06407 -0.02593 C 0.07188 -0.0257 0.079 -0.02037 0.08646 -0.01898 C 0.09097 -0.01482 0.09393 -0.00834 0.09879 -0.00533 C 0.10903 0.00069 0.10677 -0.00625 0.11424 -0.0007 C 0.11788 0.00208 0.12066 0.00717 0.12466 0.00856 C 0.15122 0.01759 0.13368 0.01296 0.17813 0.01551 C 0.19497 0.02152 0.21077 0.0287 0.22813 0.03148 C 0.23316 0.03402 0.23854 0.0375 0.24358 0.04074 C 0.24549 0.04189 0.2467 0.0449 0.24879 0.04537 C 0.25591 0.04722 0.26354 0.04699 0.27118 0.04768 C 0.27292 0.04699 0.27448 0.04467 0.27622 0.04537 C 0.27865 0.04629 0.27969 0.05023 0.2816 0.05208 C 0.28368 0.05393 0.28611 0.05532 0.28837 0.05671 C 0.29618 0.06134 0.31025 0.0625 0.31597 0.06365 C 0.33212 0.07083 0.30295 0.05833 0.33472 0.06828 C 0.33785 0.06921 0.34063 0.07199 0.34358 0.07291 C 0.3474 0.0743 0.35157 0.07453 0.35573 0.07523 C 0.37014 0.08171 0.38629 0.0831 0.40052 0.0912 C 0.41372 0.09861 0.42413 0.11041 0.43837 0.11435 C 0.43611 0.11203 0.4316 0.11111 0.4316 0.1074 C 0.4316 0.10625 0.44288 0.1118 0.44358 0.11203 C 0.44931 0.11319 0.45504 0.11365 0.46059 0.11435 C 0.47118 0.12106 0.4757 0.12152 0.48837 0.12338 C 0.50417 0.12939 0.52032 0.13125 0.53663 0.13495 C 0.54497 0.15208 0.5408 0.14444 0.54879 0.15787 C 0.55 0.1625 0.54879 0.1706 0.55226 0.17176 C 0.56441 0.17592 0.57622 0.18009 0.58802 0.18333 C 0.59236 0.18588 0.59618 0.19027 0.60052 0.19236 C 0.61146 0.19791 0.62518 0.19814 0.63663 0.20162 C 0.64462 0.20393 0.63941 0.20347 0.64705 0.20856 C 0.64861 0.20972 0.6507 0.20972 0.65226 0.21088 C 0.65591 0.21342 0.65903 0.21689 0.6625 0.2199 C 0.66823 0.225 0.66771 0.22176 0.66771 0.22685 E">
                                      <p:cBhvr>
                                        <p:cTn id="107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3.33333E-006 L -0.36875 -0.00833 E">
                                      <p:cBhvr>
                                        <p:cTn id="120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D:\Школьные файлы\ВСЕ  ДЛЯ  ОФОРМЛЕНИЯ\ШАБЛОНЫ  К ПРЕЗЕНТАЦИЯМ\сказ.фоны\03.jpg"/>
          <p:cNvPicPr/>
          <p:nvPr/>
        </p:nvPicPr>
        <p:blipFill>
          <a:blip r:embed="rId1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lenagold.ru/fon/clipart/p/pti/ptah70.gif"/>
          <p:cNvPicPr/>
          <p:nvPr/>
        </p:nvPicPr>
        <p:blipFill>
          <a:blip r:embed="rId2"/>
          <a:stretch/>
        </p:blipFill>
        <p:spPr>
          <a:xfrm flipH="1">
            <a:off x="285840" y="78588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D:\Школьные файлы\ПАПКА  ДЛЯ  СКАЧИВАНИЯ\Картинки для физкультминутки\babochka150.jpg"/>
          <p:cNvPicPr/>
          <p:nvPr/>
        </p:nvPicPr>
        <p:blipFill>
          <a:blip r:embed="rId3"/>
          <a:stretch/>
        </p:blipFill>
        <p:spPr>
          <a:xfrm>
            <a:off x="6715080" y="642960"/>
            <a:ext cx="2071800" cy="1143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D:\Школьные файлы\ПАПКА  ДЛЯ  СКАЧИВАНИЯ\Картинки для физкультминутки\babochka214.jpg"/>
          <p:cNvPicPr/>
          <p:nvPr/>
        </p:nvPicPr>
        <p:blipFill>
          <a:blip r:embed="rId4"/>
          <a:stretch/>
        </p:blipFill>
        <p:spPr>
          <a:xfrm>
            <a:off x="6924600" y="500040"/>
            <a:ext cx="1830600" cy="9288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D:\Школьные файлы\ПАПКА  ДЛЯ  СКАЧИВАНИЯ\Картинки для физкультминутки\39KDVHCAZ1KNJECAHAR6CSCABW08FACAB2H14QCAR9BNKKCA5S2DJ7CAG9HRB3CA71VG7ECA3OH0ENCAUMRJLHCA9EHBA6CAQW5GLYCA90ETW7CAA0ZF6ICAPN7WFVCAT5315YCAOVS1UACAAH8MSWCAY39EYF.jpg"/>
          <p:cNvPicPr/>
          <p:nvPr/>
        </p:nvPicPr>
        <p:blipFill>
          <a:blip r:embed="rId5"/>
          <a:stretch/>
        </p:blipFill>
        <p:spPr>
          <a:xfrm>
            <a:off x="3571920" y="4643280"/>
            <a:ext cx="714240" cy="824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6"/>
          <a:stretch/>
        </p:blipFill>
        <p:spPr>
          <a:xfrm>
            <a:off x="7858080" y="5643720"/>
            <a:ext cx="1000080" cy="928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7"/>
          <a:stretch/>
        </p:blipFill>
        <p:spPr>
          <a:xfrm>
            <a:off x="2000160" y="5572080"/>
            <a:ext cx="928800" cy="99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D:\Школьные файлы\ПАПКА  ДЛЯ  СКАЧИВАНИЯ\Картинки для физкультминутки\369UFMCAGQT9DPCARQ21L3CAVCK347CAUT62QGCAUL3AODCASV6NRZCA6Q7FZKCAAJEZKRCA6AANO1CAI6F8E2CADQC73HCADLA68MCA1II8GJCASVHIYKCAYNR6CVCAHRHM7WCAORC608CAIXCXQ6CAQZVCVE.jpg"/>
          <p:cNvPicPr/>
          <p:nvPr/>
        </p:nvPicPr>
        <p:blipFill>
          <a:blip r:embed="rId8"/>
          <a:stretch/>
        </p:blipFill>
        <p:spPr>
          <a:xfrm>
            <a:off x="6572160" y="4500720"/>
            <a:ext cx="928800" cy="1000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D:\Школьные файлы\ПАПКА  ДЛЯ  СКАЧИВАНИЯ\Картинки для физкультминутки\E0VH21CAPKOEZ3CAL3TUATCAZWR6AHCALN18GRCASZU733CAW7BUBVCA0P77X2CA7B30MECAN1BXPYCAK13F5LCATO6WSPCA51NG53CAINWAOACAJ71TOOCAYQC2JQCAFX8X2UCA52DMQOCAFEFSNCCAZQ06HR.jpg"/>
          <p:cNvPicPr/>
          <p:nvPr/>
        </p:nvPicPr>
        <p:blipFill>
          <a:blip r:embed="rId9"/>
          <a:stretch/>
        </p:blipFill>
        <p:spPr>
          <a:xfrm>
            <a:off x="428760" y="5743440"/>
            <a:ext cx="733320" cy="1114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D:\Школьные файлы\ПАПКА  ДЛЯ  СКАЧИВАНИЯ\Картинки для физкультминутки\E0VH21CAPKOEZ3CAL3TUATCAZWR6AHCALN18GRCASZU733CAW7BUBVCA0P77X2CA7B30MECAN1BXPYCAK13F5LCATO6WSPCA51NG53CAINWAOACAJ71TOOCAYQC2JQCAFX8X2UCA52DMQOCAFEFSNCCAZQ06HR.jpg"/>
          <p:cNvPicPr/>
          <p:nvPr/>
        </p:nvPicPr>
        <p:blipFill>
          <a:blip r:embed="rId10"/>
          <a:stretch/>
        </p:blipFill>
        <p:spPr>
          <a:xfrm>
            <a:off x="285840" y="4000680"/>
            <a:ext cx="733320" cy="1114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73472E-018 -1.85185E-006 L 0.60643 0.13657 E">
                                      <p:cBhvr>
                                        <p:cTn id="135" dur="3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0"/>
                            </p:stCondLst>
                            <p:childTnLst>
                              <p:par>
                                <p:cTn id="1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8000"/>
                            </p:stCondLst>
                            <p:childTnLst>
                              <p:par>
                                <p:cTn id="1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3.7037E-007 L -0.69306 -0.03148 E">
                                      <p:cBhvr>
                                        <p:cTn id="144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9305 -0.03147 L -0.69305 0.64052 E">
                                      <p:cBhvr>
                                        <p:cTn id="147" dur="3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2.96296E-006 L 0.01563 0.71412 E">
                                      <p:cBhvr>
                                        <p:cTn id="155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63 0.71412 L -0.42534 0.75602 E">
                                      <p:cBhvr>
                                        <p:cTn id="158" dur="3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0"/>
                            </p:stCondLst>
                            <p:childTnLst>
                              <p:par>
                                <p:cTn id="1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5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7000"/>
                            </p:stCondLst>
                            <p:childTnLst>
                              <p:par>
                                <p:cTn id="18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2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9000"/>
                            </p:stCondLst>
                            <p:childTnLst>
                              <p:par>
                                <p:cTn id="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20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40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Группа 1"/>
          <p:cNvGrpSpPr/>
          <p:nvPr/>
        </p:nvGrpSpPr>
        <p:grpSpPr>
          <a:xfrm>
            <a:off x="0" y="-216000"/>
            <a:ext cx="9298080" cy="7074000"/>
            <a:chOff x="0" y="-216000"/>
            <a:chExt cx="9298080" cy="7074000"/>
          </a:xfrm>
        </p:grpSpPr>
        <p:sp>
          <p:nvSpPr>
            <p:cNvPr id="87" name="Полилиния 2"/>
            <p:cNvSpPr/>
            <p:nvPr/>
          </p:nvSpPr>
          <p:spPr>
            <a:xfrm>
              <a:off x="10440" y="3378960"/>
              <a:ext cx="9208080" cy="1019160"/>
            </a:xfrm>
            <a:prstGeom prst="pie">
              <a:avLst/>
            </a:prstGeom>
            <a:solidFill>
              <a:srgbClr val="3c8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Полилиния 3"/>
            <p:cNvSpPr/>
            <p:nvPr/>
          </p:nvSpPr>
          <p:spPr>
            <a:xfrm>
              <a:off x="0" y="3763080"/>
              <a:ext cx="9298080" cy="3079080"/>
            </a:xfrm>
            <a:prstGeom prst="pie">
              <a:avLst/>
            </a:prstGeom>
            <a:solidFill>
              <a:srgbClr val="57b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Полилиния 4"/>
            <p:cNvSpPr/>
            <p:nvPr/>
          </p:nvSpPr>
          <p:spPr>
            <a:xfrm>
              <a:off x="830160" y="4177800"/>
              <a:ext cx="8388000" cy="2680200"/>
            </a:xfrm>
            <a:prstGeom prst="pie">
              <a:avLst/>
            </a:prstGeom>
            <a:solidFill>
              <a:srgbClr val="53b0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Полилиния 5"/>
            <p:cNvSpPr/>
            <p:nvPr/>
          </p:nvSpPr>
          <p:spPr>
            <a:xfrm>
              <a:off x="31320" y="4167360"/>
              <a:ext cx="8608680" cy="2659320"/>
            </a:xfrm>
            <a:prstGeom prst="pie">
              <a:avLst/>
            </a:prstGeom>
            <a:solidFill>
              <a:srgbClr val="4ea5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Полилиния 6"/>
            <p:cNvSpPr/>
            <p:nvPr/>
          </p:nvSpPr>
          <p:spPr>
            <a:xfrm>
              <a:off x="2195640" y="470880"/>
              <a:ext cx="4298040" cy="193104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Полилиния 7"/>
            <p:cNvSpPr/>
            <p:nvPr/>
          </p:nvSpPr>
          <p:spPr>
            <a:xfrm>
              <a:off x="6127920" y="-216000"/>
              <a:ext cx="3164040" cy="1847880"/>
            </a:xfrm>
            <a:prstGeom prst="pie">
              <a:avLst/>
            </a:prstGeom>
            <a:gradFill rotWithShape="0">
              <a:gsLst>
                <a:gs pos="0">
                  <a:srgbClr val="ffffff">
                    <a:alpha val="52156"/>
                  </a:srgbClr>
                </a:gs>
                <a:gs pos="100000">
                  <a:srgbClr val="ffffff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3" name="Picture 3" descr="D:\Школьные файлы\ПАПКА  ДЛЯ  СКАЧИВАНИЯ\Картинки для физкультминутки\0933743b951e8e2db1a81ff8c4607450.jpg"/>
          <p:cNvPicPr/>
          <p:nvPr/>
        </p:nvPicPr>
        <p:blipFill>
          <a:blip r:embed="rId1"/>
          <a:stretch/>
        </p:blipFill>
        <p:spPr>
          <a:xfrm>
            <a:off x="500040" y="857160"/>
            <a:ext cx="2143080" cy="2154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D:\Школьные файлы\ПАПКА  ДЛЯ  СКАЧИВАНИЯ\Картинки для физкультминутки\65.gif"/>
          <p:cNvPicPr/>
          <p:nvPr/>
        </p:nvPicPr>
        <p:blipFill>
          <a:blip r:embed="rId2"/>
          <a:stretch/>
        </p:blipFill>
        <p:spPr>
          <a:xfrm>
            <a:off x="5929200" y="385776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D:\Школьные файлы\ПАПКА  ДЛЯ  СКАЧИВАНИЯ\Картинки для физкультминутки\65.gif"/>
          <p:cNvPicPr/>
          <p:nvPr/>
        </p:nvPicPr>
        <p:blipFill>
          <a:blip r:embed="rId3"/>
          <a:stretch/>
        </p:blipFill>
        <p:spPr>
          <a:xfrm flipH="1">
            <a:off x="928800" y="3786120"/>
            <a:ext cx="2286000" cy="2428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71880" y="571680"/>
            <a:ext cx="58579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77933c"/>
                </a:solidFill>
                <a:latin typeface="Calibri"/>
              </a:rPr>
              <a:t>Б У Д Ь Т Е </a:t>
            </a:r>
            <a:br>
              <a:rPr sz="6600"/>
            </a:br>
            <a:r>
              <a:rPr b="1" lang="en-US" sz="6600" spc="-1" strike="noStrike">
                <a:solidFill>
                  <a:srgbClr val="77933c"/>
                </a:solidFill>
                <a:latin typeface="Calibri"/>
              </a:rPr>
              <a:t>З Д О Р О В Ы 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3000"/>
                            </p:stCondLst>
                            <p:childTnLst>
                              <p:par>
                                <p:cTn id="21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1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9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5T16:15:24Z</dcterms:created>
  <dc:creator>WIN7XP</dc:creator>
  <dc:description/>
  <dc:language>en-US</dc:language>
  <cp:lastModifiedBy>Admin</cp:lastModifiedBy>
  <dcterms:modified xsi:type="dcterms:W3CDTF">2011-10-02T11:20:31Z</dcterms:modified>
  <cp:revision>87</cp:revision>
  <dc:subject/>
  <dc:title>Слайд 1</dc:title>
</cp:coreProperties>
</file>