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C8E8-2354-4F3B-AF36-7325DBD18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9C2-9E25-49B8-AA0B-6F5DFE04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3F71-69C8-4D8C-BF05-80DFF4E5D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1B64-B3AA-4823-9196-61A2A64D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4DE9-78FB-4491-99C6-BAF21146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8C37-31A7-44B8-A681-CC92E118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5BFC-1E24-40BD-8AB0-7A6EF1D1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B6BA-D2FF-4D9B-AF10-B1E46862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E434-C7CC-49D9-B13D-47F3BB614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E562-244E-402E-ACCC-5D189A86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660E-1F98-4912-ADFF-EAFB8A8C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424-6046-4656-84A0-C8893644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AE4E-6144-44FC-9E0B-7527412A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66F9-8562-48A6-B20F-B911D021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FF94-02BB-4EF7-94DE-21E7D1B34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581E-B454-4224-94EF-08BFA63C9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FF680-9837-4176-9C9B-E8A7BDE1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B8E51-4A84-4773-8F42-2BAB836B1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CD50E-B780-4F5F-A437-C0342D2E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362FD3-7FE6-40AA-9538-013782F9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D76EB-71F1-43E5-9377-59CA1940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2463-B0AA-4BCA-B38F-BC0D9F58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D080-2894-49A5-BCBC-5CD3C704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78153-27A7-46D8-A733-BF3A8737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37A50-C342-4D9C-A4C2-DB2C4684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EBD31-7197-4AE8-A988-88CD5DA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8C7DB-998B-4EB0-97A6-D1EE5EC0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86D80-D558-4ADB-A5A3-B76EEAC0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87F77-59E9-4BB4-8C91-5F420E80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AAD5-B5CA-4BE0-AFD9-9664B782C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5855-09D4-40B5-830C-9AE29936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F8CC-F1D7-424C-8282-1E47A582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A4A-7990-4631-8EB7-9F941614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DC5-DC0B-48A6-8B97-266297F5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3946-A1E5-4D54-B7A7-FBEACD5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9A41-69BA-4389-AFFB-F66FC432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0B45-9E0C-4616-9B90-FF947019A0AE}" type="slidenum">
              <a:rPr b="1" lang="ru-RU" sz="2400" spc="-1" strike="noStrike">
                <a:solidFill>
                  <a:srgbClr val="d1282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E923-7298-41C5-AC59-F1449ADFD46C}" type="slidenum">
              <a:rPr b="1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5EFE-78C6-4712-BC9A-3527CA2998E0}" type="slidenum">
              <a:rPr b="1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gaga.ru/pozdravlenya/stihi/1146753463-detskie-stihi-dlya-detey-2-3-let-korotkie.html" TargetMode="External"/><Relationship Id="rId3" Type="http://schemas.openxmlformats.org/officeDocument/2006/relationships/hyperlink" Target="http://www.bugaga.ru/pozdravlenya/stihi/1146753463-detskie-stihi-dlya-detey-2-3-let-korotkie.html" TargetMode="External"/><Relationship Id="rId4" Type="http://schemas.openxmlformats.org/officeDocument/2006/relationships/hyperlink" Target="http://www.bugaga.ru/pozdravlenya/stihi/1146753463-detskie-stihi-dlya-detey-2-3-let-korotkie.html" TargetMode="External"/><Relationship Id="rId5" Type="http://schemas.openxmlformats.org/officeDocument/2006/relationships/hyperlink" Target="https://yandex.ru/images/search?text=&#1072;&#1085;&#1080;&#1084;&#1072;&#1094;&#1080;&#1103;%20&#1089;&#1095;&#1077;&#1090;%20&#1087;&#1072;&#1083;&#1100;&#1095;&#1077;&#1074;&amp;img_url=https%3A%2F%2Fthumbs.dreamstime.com%2Fz%2Fcounting-hands-0-to-5-6836763.jpg&amp;pos=4&amp;rpt=simage" TargetMode="External"/><Relationship Id="rId6" Type="http://schemas.openxmlformats.org/officeDocument/2006/relationships/hyperlink" Target="https://yandex.ru/images/search?text=&#1072;&#1085;&#1080;&#1084;&#1072;&#1094;&#1080;&#1103;%20&#1089;&#1095;&#1077;&#1090;%20&#1087;&#1072;&#1083;&#1100;&#1095;&#1077;&#1074;&amp;img_url=https%3A%2F%2Fthumbs.dreamstime.com%2Fz%2Fcounting-hands-0-to-5-6836763.jpg&amp;pos=4&amp;rpt=simage" TargetMode="External"/><Relationship Id="rId7" Type="http://schemas.openxmlformats.org/officeDocument/2006/relationships/hyperlink" Target="https://yandex.ru/images/search?text=&#1072;&#1085;&#1080;&#1084;&#1072;&#1094;&#1080;&#1103;%20&#1089;&#1095;&#1077;&#1090;%20&#1087;&#1072;&#1083;&#1100;&#1095;&#1077;&#1074;&amp;img_url=https%3A%2F%2Fthumbs.dreamstime.com%2Fz%2Fcounting-hands-0-to-5-6836763.jpg&amp;pos=4&amp;rpt=simage" TargetMode="External"/><Relationship Id="rId8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9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10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11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12" Type="http://schemas.openxmlformats.org/officeDocument/2006/relationships/hyperlink" Target="https://yandex.ru/images/search?p=2&amp;text=&#1072;&#1085;&#1080;&#1084;&#1072;&#1094;&#1080;&#1103;%20&#1088;&#1091;&#1082;&#1080;%20&#1079;&#1072;&#1084;&#1086;&#1082;&amp;img_url=https%3A%2F%2Favatars.mds.yandex.net%2Fget-zen_doc%2F235990%2Fpub_5a896b19610493e66e6d0617_5a896c79799d9d42e1efc558%2Fscale_600&amp;pos=73&amp;rpt=simage" TargetMode="External"/><Relationship Id="rId13" Type="http://schemas.openxmlformats.org/officeDocument/2006/relationships/hyperlink" Target="https://yandex.ru/images/search?p=2&amp;text=&#1072;&#1085;&#1080;&#1084;&#1072;&#1094;&#1080;&#1103;%20&#1088;&#1091;&#1082;&#1080;%20&#1079;&#1072;&#1084;&#1086;&#1082;&amp;img_url=https%3A%2F%2Favatars.mds.yandex.net%2Fget-zen_doc%2F235990%2Fpub_5a896b19610493e66e6d0617_5a896c79799d9d42e1efc558%2Fscale_600&amp;pos=73&amp;rpt=simage" TargetMode="External"/><Relationship Id="rId14" Type="http://schemas.openxmlformats.org/officeDocument/2006/relationships/hyperlink" Target="https://yandex.ru/images/search?p=2&amp;text=&#1072;&#1085;&#1080;&#1084;&#1072;&#1094;&#1080;&#1103;%20&#1088;&#1091;&#1082;&#1080;%20&#1079;&#1072;&#1084;&#1086;&#1082;&amp;img_url=https%3A%2F%2Favatars.mds.yandex.net%2Fget-zen_doc%2F235990%2Fpub_5a896b19610493e66e6d0617_5a896c79799d9d42e1efc558%2Fscale_600&amp;pos=73&amp;rpt=simage" TargetMode="External"/><Relationship Id="rId15" Type="http://schemas.openxmlformats.org/officeDocument/2006/relationships/hyperlink" Target="https://yandex.ru/images/search?text=&#1072;&#1085;&#1080;&#1084;&#1072;&#1094;&#1080;&#1103;%20&#1082;&#1088;&#1091;&#1075;&#1086;&#1074;&#1099;&#1077;%20&#1076;&#1074;&#1080;&#1078;&#1077;&#1085;&#1080;&#1103;%20&#1087;&#1072;&#1083;&#1100;&#1094;&#1077;&#1074;&amp;img_url=https%3A%2F%2Fotvet.imgsmail.ru%2Fdownload%2Fu_5113e0d37360e698bf94bbadf342bb8b_800.gif&amp;pos=6&amp;rpt=simage" TargetMode="External"/><Relationship Id="rId16" Type="http://schemas.openxmlformats.org/officeDocument/2006/relationships/hyperlink" Target="https://yandex.ru/images/search?text=&#1072;&#1085;&#1080;&#1084;&#1072;&#1094;&#1080;&#1103;%20&#1082;&#1088;&#1091;&#1075;&#1086;&#1074;&#1099;&#1077;%20&#1076;&#1074;&#1080;&#1078;&#1077;&#1085;&#1080;&#1103;%20&#1087;&#1072;&#1083;&#1100;&#1094;&#1077;&#1074;&amp;img_url=https%3A%2F%2Fotvet.imgsmail.ru%2Fdownload%2Fu_5113e0d37360e698bf94bbadf342bb8b_800.gif&amp;pos=6&amp;rpt=simage" TargetMode="External"/><Relationship Id="rId17" Type="http://schemas.openxmlformats.org/officeDocument/2006/relationships/hyperlink" Target="https://yandex.ru/images/search?text=&#1072;&#1085;&#1080;&#1084;&#1072;&#1094;&#1080;&#1103;%20&#1082;&#1088;&#1091;&#1075;&#1086;&#1074;&#1099;&#1077;%20&#1076;&#1074;&#1080;&#1078;&#1077;&#1085;&#1080;&#1103;%20&#1087;&#1072;&#1083;&#1100;&#1094;&#1077;&#1074;&amp;img_url=https%3A%2F%2Fotvet.imgsmail.ru%2Fdownload%2Fu_5113e0d37360e698bf94bbadf342bb8b_800.gif&amp;pos=6&amp;rpt=simage" TargetMode="External"/><Relationship Id="rId18" Type="http://schemas.openxmlformats.org/officeDocument/2006/relationships/hyperlink" Target="https://yandex.ru/images/search?p=1&amp;text=&#1072;&#1085;&#1080;&#1084;&#1072;&#1094;&#1080;&#1103;%20&#1082;&#1091;&#1083;&#1072;&#1082;&amp;img_url=http%3A%2F%2Ftoonator.com%2Fpreview%2F2dinoz7ivros&amp;pos=42&amp;rpt=simage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394" t="0" r="24607" b="3964"/>
          <a:stretch/>
        </p:blipFill>
        <p:spPr>
          <a:xfrm>
            <a:off x="-31680" y="0"/>
            <a:ext cx="9175680" cy="6958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7760" y="33336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КУЛЬТМИНУТКА «ПАЛЬЧИКИ»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1341360"/>
            <a:ext cx="8362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тор: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мирнова Анастасия Олегов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жительств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осква, Востряковкий проез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, долж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БОУ Школа №657, воспита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ятие мышечной усталости, общего напряжения 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и подготовительная группа (5 -7 лет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компьютер, проектор, экран, большой телевизор или мультимедийная установк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использ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езент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спользовать как игровой при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http://st-gdefon.gallery.world/wallpapers_original/499767_gallery.world.jpg?9b30f88865a6ee068aa988b568d8492f"/>
          <p:cNvPicPr/>
          <p:nvPr/>
        </p:nvPicPr>
        <p:blipFill>
          <a:blip r:embed="rId2"/>
          <a:srcRect l="394" t="0" r="24607" b="3964"/>
          <a:stretch/>
        </p:blipFill>
        <p:spPr>
          <a:xfrm>
            <a:off x="-31680" y="0"/>
            <a:ext cx="9175680" cy="695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600" spc="-1" strike="noStrike">
                <a:solidFill>
                  <a:srgbClr val="7030a0"/>
                </a:solidFill>
                <a:latin typeface="Arial Black"/>
              </a:rPr>
              <a:t>РАЗ, ДВА, ТРИ, ЧЕТЫРЕ, ПЯТЬ</a:t>
            </a:r>
            <a:br>
              <a:rPr sz="36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ЧИТАЕМ ПАЛЬЧИКИ, ЗАГИБАЯ ИХ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4" name="Picture 8" descr="https://yaustal.com/uploads/posts/2015-06/1434202140_pochemu-u-cheloveka-pyat-palcev-3.jpg"/>
          <p:cNvPicPr/>
          <p:nvPr/>
        </p:nvPicPr>
        <p:blipFill>
          <a:blip r:embed="rId3"/>
          <a:stretch/>
        </p:blipFill>
        <p:spPr>
          <a:xfrm>
            <a:off x="2000160" y="1341360"/>
            <a:ext cx="5112000" cy="5112000"/>
          </a:xfrm>
          <a:prstGeom prst="rect">
            <a:avLst/>
          </a:prstGeom>
          <a:ln w="0">
            <a:noFill/>
          </a:ln>
        </p:spPr>
      </p:pic>
      <p:pic>
        <p:nvPicPr>
          <p:cNvPr id="135" name="fonovaya_muzyka_Detskaya_-_fonovaya_muzyka_Detskaya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784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ПОШЛИ ПАЛЬЧИКИ ГУЛЯТЬ,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ШАГАЕМ ПАЛЬЧИКАМИ ПО СТОЛУ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8" name="Picture 2" descr="http://multator.ru/preview/odromrb1wx69"/>
          <p:cNvPicPr/>
          <p:nvPr/>
        </p:nvPicPr>
        <p:blipFill>
          <a:blip r:embed="rId2"/>
          <a:stretch/>
        </p:blipFill>
        <p:spPr>
          <a:xfrm>
            <a:off x="984240" y="2379600"/>
            <a:ext cx="7128000" cy="356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784"/>
          <a:stretch/>
        </p:blipFill>
        <p:spPr>
          <a:xfrm>
            <a:off x="0" y="0"/>
            <a:ext cx="9191520" cy="695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ПОДРУЖИЛИСЬ,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ОЕДИНЯЕМ ПАЛЬЦЫ РУК В ЗАМОК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1" name="Picture 2" descr="https://avatars.mds.yandex.net/get-zen_doc/235990/pub_5a896b19610493e66e6d0617_5a896c79799d9d42e1efc558/scale_600"/>
          <p:cNvPicPr/>
          <p:nvPr/>
        </p:nvPicPr>
        <p:blipFill>
          <a:blip r:embed="rId2"/>
          <a:stretch/>
        </p:blipFill>
        <p:spPr>
          <a:xfrm>
            <a:off x="1332000" y="1717560"/>
            <a:ext cx="6912000" cy="425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4506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9520" y="1557360"/>
            <a:ext cx="84963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ПОКРУЖИЛИСЬ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ДЕЛАЕМ КРУГОВЫЕ ДВИЖЕНИЯ БОЛЬШИМИ ПАЛЬЦАМИ РУК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4" name="Picture 2" descr="https://otvet.imgsmail.ru/download/u_5113e0d37360e698bf94bbadf342bb8b_800.gif"/>
          <p:cNvPicPr/>
          <p:nvPr/>
        </p:nvPicPr>
        <p:blipFill>
          <a:blip r:embed="rId2"/>
          <a:stretch/>
        </p:blipFill>
        <p:spPr>
          <a:xfrm>
            <a:off x="1639800" y="1484280"/>
            <a:ext cx="581652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423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9520" y="1483920"/>
            <a:ext cx="84963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И ДРУГ ДРУГУ ПОКЛОНИЛИСЬ!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ГИБАЕМ И РАЗГИБАЕМ ПАЛЬЦЫ РУК В КУЛАЧЕК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Picture 4" descr="http://multator.ru/preview/2dinoz7ivros"/>
          <p:cNvPicPr/>
          <p:nvPr/>
        </p:nvPicPr>
        <p:blipFill>
          <a:blip r:embed="rId2"/>
          <a:stretch/>
        </p:blipFill>
        <p:spPr>
          <a:xfrm>
            <a:off x="755640" y="2492280"/>
            <a:ext cx="7450200" cy="37260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456"/>
          <a:stretch/>
        </p:blipFill>
        <p:spPr>
          <a:xfrm>
            <a:off x="0" y="-9360"/>
            <a:ext cx="9191520" cy="6867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06360" y="177480"/>
            <a:ext cx="8578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 для детей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www.bugaga.ru/pozdravlenya/stihi/1146753463-detskie-stihi-dlya-detey-2-3-let-korotkie.htm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ибание пальчиков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5"/>
              </a:rPr>
              <a:t>https://yandex.ru/images/search?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6"/>
              </a:rPr>
              <a:t>анимация%20счет%20пальчев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7"/>
              </a:rPr>
              <a:t>img_url=https%3A%2F%2Fthumbs.dreamstime.com%2Fz%2Fcounting-hands-0-to-5-6836763.jpg&amp;pos=4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слайд 2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и идут по столу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8"/>
              </a:rPr>
              <a:t>https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9"/>
              </a:rPr>
              <a:t>://yandex.ru/images/search?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0"/>
              </a:rPr>
              <a:t>анимация%20пальчики%20идут%20по%20столу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1"/>
              </a:rPr>
              <a:t>img_url=http%3A%2F%2Ftoonator.com%2Fpreview%2Fodromrb1wx69&amp;pos=15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слайд 3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 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2"/>
              </a:rPr>
              <a:t>https://yandex.ru/images/search?p=2&amp;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3"/>
              </a:rPr>
              <a:t>анимация%20руки%20замок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4"/>
              </a:rPr>
              <a:t>img_url=https%3A%2F%2Favatars.mds.yandex.net%2Fget-zen_doc%2F235990%2Fpub_5a896b19610493e66e6d0617_5a896c79799d9d42e1efc558%2Fscale_600&amp;pos=73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слайд 4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ые движение больших пальцев 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5"/>
              </a:rPr>
              <a:t>https://yandex.ru/images/search?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6"/>
              </a:rPr>
              <a:t>анимация%20круговые%20движения%20пальцев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7"/>
              </a:rPr>
              <a:t>img_url=https%3A%2F%2Fotvet.imgsmail.ru%2Fdownload%2Fu_5113e0d37360e698bf94bbadf342bb8b_800.gif&amp;pos=6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слайд 5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чек  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8"/>
              </a:rPr>
              <a:t>https://yandex.ru/images/search?p=1&amp;text=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я%20кулак&amp;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g_url=http%3A%2F%2Ftoonator.com%2Fpreview%2F2dinoz7ivros&amp;pos=42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слайд 6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узыкальное сопровождение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ttp://muz-color.ru/?s=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новая%20музыка%20Детская%20весела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4:10:12Z</dcterms:created>
  <dc:creator>User</dc:creator>
  <dc:description/>
  <dc:language>en-US</dc:language>
  <cp:lastModifiedBy>Пользователь Windows</cp:lastModifiedBy>
  <dcterms:modified xsi:type="dcterms:W3CDTF">2018-06-25T18:11:01Z</dcterms:modified>
  <cp:revision>45</cp:revision>
  <dc:subject/>
  <dc:title>Презентация PowerPoint</dc:title>
</cp:coreProperties>
</file>