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gif" ContentType="image/gif"/>
  <Override PartName="/ppt/media/image6.jpeg" ContentType="image/jpe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CAB-C62F-4630-922C-07796089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E3CA-24F2-4A3C-9BB0-DFC690B0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7D05-E0A9-48F2-B40A-D39FF4084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348E-149C-4DE1-AB1D-5D995D653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B94B1-52C5-476F-9700-79A7B6A0D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250F-5EDF-45C9-B2D1-47480400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CD71F-A98F-4FAE-B312-95F06CF9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06A2A-60A2-493B-A8DD-8DFDDE80D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B4BED-2A14-4620-9141-21F6B9CB6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7F3C-4BFF-46E2-82AB-F3C8B016E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488A-3863-45FD-A2E3-2BF82521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C384-368F-4455-BDCC-4DCA980AC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049AC-760C-4EDE-91C9-7A91AF2B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39BF6-70DB-4C25-9C79-12FEFEF3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7D1CD-0F7C-4F98-AB4A-BC8F775F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64421-9C30-490C-9D65-9927B3B8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4E05-B423-42FB-BB53-142D5279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5C4A8-84DF-4D7E-8F40-76D43EE5C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323B7-1D03-4A7E-982D-6DE645756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0FBF9-AB0B-4D80-A05C-4D4DA408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6B9A-6B3F-45FC-BCA3-68D07C578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D2C90-D529-4354-8B3A-A2069CCF1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6EFA-18EA-480F-821B-2F7B2F8BA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DBBBA-4235-4074-BC53-3703152F5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537CC-D2E5-4127-9C65-FD24C6C52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80B0A-3D35-40C0-A921-DB7B381A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E46A1-3664-4644-B577-46BFE650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2A28E-9C6A-4D33-86C3-C235AE1E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A9537-646C-445B-9D0B-EFF0B593D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03336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09880" y="175212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03336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09880" y="4037040"/>
            <a:ext cx="245340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29BB1-68EA-455D-9866-DF3DFC45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A14E-78D3-41E8-A36F-EA2B6B31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2C26-822E-4A7A-BFDE-6EC232D77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5791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C8F1-8EB9-4E20-9A02-F398ADAF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8FEF-3FD3-4F04-A885-B6172706E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03704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0AD3-D1D1-4C5E-AB5D-7EC653D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752120"/>
            <a:ext cx="371844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037040"/>
            <a:ext cx="7620120" cy="20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DA05-5626-4D42-BED7-65D7B386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d1282e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3986-D9C3-4A04-AEA7-EAD0799B36BB}" type="slidenum">
              <a:rPr b="1" lang="ru-RU" sz="2400" spc="-1" strike="noStrike">
                <a:solidFill>
                  <a:srgbClr val="d1282e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001080" y="0"/>
            <a:ext cx="142920" cy="137160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001080" y="1371600"/>
            <a:ext cx="142920" cy="5486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ED7A-34A2-400B-B00F-CCD17664B7C3}" type="slidenum">
              <a:rPr b="1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9001080" y="4846680"/>
            <a:ext cx="142920" cy="2011320"/>
          </a:xfrm>
          <a:prstGeom prst="rect">
            <a:avLst/>
          </a:prstGeom>
          <a:solidFill>
            <a:srgbClr val="d128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9001080" y="0"/>
            <a:ext cx="142920" cy="484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5791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1282e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752120"/>
            <a:ext cx="762012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spcAft>
                <a:spcPts val="601"/>
              </a:spcAft>
              <a:buClr>
                <a:srgbClr val="d1282e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71840"/>
            <a:ext cx="3429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56840" y="6492600"/>
            <a:ext cx="34290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 rot="16200000">
            <a:off x="8227080" y="5885640"/>
            <a:ext cx="1316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7A25-4816-4B99-9F31-47FC4E5A0660}" type="slidenum">
              <a:rPr b="1" lang="ru-RU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bugaga.ru/pozdravlenya/stihi/1146753463-detskie-stihi-dlya-detey-2-3-let-korotkie.html" TargetMode="External"/><Relationship Id="rId3" Type="http://schemas.openxmlformats.org/officeDocument/2006/relationships/hyperlink" Target="http://www.bugaga.ru/pozdravlenya/stihi/1146753463-detskie-stihi-dlya-detey-2-3-let-korotkie.html" TargetMode="External"/><Relationship Id="rId4" Type="http://schemas.openxmlformats.org/officeDocument/2006/relationships/hyperlink" Target="http://www.bugaga.ru/pozdravlenya/stihi/1146753463-detskie-stihi-dlya-detey-2-3-let-korotkie.html" TargetMode="External"/><Relationship Id="rId5" Type="http://schemas.openxmlformats.org/officeDocument/2006/relationships/hyperlink" Target="https://yandex.ru/images/search?text=&#1072;&#1085;&#1080;&#1084;&#1072;&#1094;&#1080;&#1103;%20&#1089;&#1095;&#1077;&#1090;%20&#1087;&#1072;&#1083;&#1100;&#1095;&#1077;&#1074;&amp;img_url=https%3A%2F%2Fthumbs.dreamstime.com%2Fz%2Fcounting-hands-0-to-5-6836763.jpg&amp;pos=4&amp;rpt=simage" TargetMode="External"/><Relationship Id="rId6" Type="http://schemas.openxmlformats.org/officeDocument/2006/relationships/hyperlink" Target="https://yandex.ru/images/search?text=&#1072;&#1085;&#1080;&#1084;&#1072;&#1094;&#1080;&#1103;%20&#1089;&#1095;&#1077;&#1090;%20&#1087;&#1072;&#1083;&#1100;&#1095;&#1077;&#1074;&amp;img_url=https%3A%2F%2Fthumbs.dreamstime.com%2Fz%2Fcounting-hands-0-to-5-6836763.jpg&amp;pos=4&amp;rpt=simage" TargetMode="External"/><Relationship Id="rId7" Type="http://schemas.openxmlformats.org/officeDocument/2006/relationships/hyperlink" Target="https://yandex.ru/images/search?text=&#1072;&#1085;&#1080;&#1084;&#1072;&#1094;&#1080;&#1103;%20&#1089;&#1095;&#1077;&#1090;%20&#1087;&#1072;&#1083;&#1100;&#1095;&#1077;&#1074;&amp;img_url=https%3A%2F%2Fthumbs.dreamstime.com%2Fz%2Fcounting-hands-0-to-5-6836763.jpg&amp;pos=4&amp;rpt=simage" TargetMode="External"/><Relationship Id="rId8" Type="http://schemas.openxmlformats.org/officeDocument/2006/relationships/hyperlink" Target="https://yandex.ru/images/search?text=&#1072;&#1085;&#1080;&#1084;&#1072;&#1094;&#1080;&#1103;%20&#1087;&#1072;&#1083;&#1100;&#1095;&#1080;&#1082;&#1080;%20&#1080;&#1076;&#1091;&#1090;%20&#1087;&#1086;%20&#1089;&#1090;&#1086;&#1083;&#1091;&amp;img_url=http%3A%2F%2Ftoonator.com%2Fpreview%2Fodromrb1wx69&amp;pos=15&amp;rpt=simage" TargetMode="External"/><Relationship Id="rId9" Type="http://schemas.openxmlformats.org/officeDocument/2006/relationships/hyperlink" Target="https://yandex.ru/images/search?text=&#1072;&#1085;&#1080;&#1084;&#1072;&#1094;&#1080;&#1103;%20&#1087;&#1072;&#1083;&#1100;&#1095;&#1080;&#1082;&#1080;%20&#1080;&#1076;&#1091;&#1090;%20&#1087;&#1086;%20&#1089;&#1090;&#1086;&#1083;&#1091;&amp;img_url=http%3A%2F%2Ftoonator.com%2Fpreview%2Fodromrb1wx69&amp;pos=15&amp;rpt=simage" TargetMode="External"/><Relationship Id="rId10" Type="http://schemas.openxmlformats.org/officeDocument/2006/relationships/hyperlink" Target="https://yandex.ru/images/search?text=&#1072;&#1085;&#1080;&#1084;&#1072;&#1094;&#1080;&#1103;%20&#1087;&#1072;&#1083;&#1100;&#1095;&#1080;&#1082;&#1080;%20&#1080;&#1076;&#1091;&#1090;%20&#1087;&#1086;%20&#1089;&#1090;&#1086;&#1083;&#1091;&amp;img_url=http%3A%2F%2Ftoonator.com%2Fpreview%2Fodromrb1wx69&amp;pos=15&amp;rpt=simage" TargetMode="External"/><Relationship Id="rId11" Type="http://schemas.openxmlformats.org/officeDocument/2006/relationships/hyperlink" Target="https://yandex.ru/images/search?text=&#1072;&#1085;&#1080;&#1084;&#1072;&#1094;&#1080;&#1103;%20&#1087;&#1072;&#1083;&#1100;&#1095;&#1080;&#1082;&#1080;%20&#1080;&#1076;&#1091;&#1090;%20&#1087;&#1086;%20&#1089;&#1090;&#1086;&#1083;&#1091;&amp;img_url=http%3A%2F%2Ftoonator.com%2Fpreview%2Fodromrb1wx69&amp;pos=15&amp;rpt=simage" TargetMode="External"/><Relationship Id="rId12" Type="http://schemas.openxmlformats.org/officeDocument/2006/relationships/hyperlink" Target="https://yandex.ru/images/search?p=2&amp;text=&#1072;&#1085;&#1080;&#1084;&#1072;&#1094;&#1080;&#1103;%20&#1088;&#1091;&#1082;&#1080;%20&#1079;&#1072;&#1084;&#1086;&#1082;&amp;img_url=https%3A%2F%2Favatars.mds.yandex.net%2Fget-zen_doc%2F235990%2Fpub_5a896b19610493e66e6d0617_5a896c79799d9d42e1efc558%2Fscale_600&amp;pos=73&amp;rpt=simage" TargetMode="External"/><Relationship Id="rId13" Type="http://schemas.openxmlformats.org/officeDocument/2006/relationships/hyperlink" Target="https://yandex.ru/images/search?p=2&amp;text=&#1072;&#1085;&#1080;&#1084;&#1072;&#1094;&#1080;&#1103;%20&#1088;&#1091;&#1082;&#1080;%20&#1079;&#1072;&#1084;&#1086;&#1082;&amp;img_url=https%3A%2F%2Favatars.mds.yandex.net%2Fget-zen_doc%2F235990%2Fpub_5a896b19610493e66e6d0617_5a896c79799d9d42e1efc558%2Fscale_600&amp;pos=73&amp;rpt=simage" TargetMode="External"/><Relationship Id="rId14" Type="http://schemas.openxmlformats.org/officeDocument/2006/relationships/hyperlink" Target="https://yandex.ru/images/search?p=2&amp;text=&#1072;&#1085;&#1080;&#1084;&#1072;&#1094;&#1080;&#1103;%20&#1088;&#1091;&#1082;&#1080;%20&#1079;&#1072;&#1084;&#1086;&#1082;&amp;img_url=https%3A%2F%2Favatars.mds.yandex.net%2Fget-zen_doc%2F235990%2Fpub_5a896b19610493e66e6d0617_5a896c79799d9d42e1efc558%2Fscale_600&amp;pos=73&amp;rpt=simage" TargetMode="External"/><Relationship Id="rId15" Type="http://schemas.openxmlformats.org/officeDocument/2006/relationships/hyperlink" Target="https://yandex.ru/images/search?text=&#1072;&#1085;&#1080;&#1084;&#1072;&#1094;&#1080;&#1103;%20&#1082;&#1088;&#1091;&#1075;&#1086;&#1074;&#1099;&#1077;%20&#1076;&#1074;&#1080;&#1078;&#1077;&#1085;&#1080;&#1103;%20&#1087;&#1072;&#1083;&#1100;&#1094;&#1077;&#1074;&amp;img_url=https%3A%2F%2Fotvet.imgsmail.ru%2Fdownload%2Fu_5113e0d37360e698bf94bbadf342bb8b_800.gif&amp;pos=6&amp;rpt=simage" TargetMode="External"/><Relationship Id="rId16" Type="http://schemas.openxmlformats.org/officeDocument/2006/relationships/hyperlink" Target="https://yandex.ru/images/search?text=&#1072;&#1085;&#1080;&#1084;&#1072;&#1094;&#1080;&#1103;%20&#1082;&#1088;&#1091;&#1075;&#1086;&#1074;&#1099;&#1077;%20&#1076;&#1074;&#1080;&#1078;&#1077;&#1085;&#1080;&#1103;%20&#1087;&#1072;&#1083;&#1100;&#1094;&#1077;&#1074;&amp;img_url=https%3A%2F%2Fotvet.imgsmail.ru%2Fdownload%2Fu_5113e0d37360e698bf94bbadf342bb8b_800.gif&amp;pos=6&amp;rpt=simage" TargetMode="External"/><Relationship Id="rId17" Type="http://schemas.openxmlformats.org/officeDocument/2006/relationships/hyperlink" Target="https://yandex.ru/images/search?text=&#1072;&#1085;&#1080;&#1084;&#1072;&#1094;&#1080;&#1103;%20&#1082;&#1088;&#1091;&#1075;&#1086;&#1074;&#1099;&#1077;%20&#1076;&#1074;&#1080;&#1078;&#1077;&#1085;&#1080;&#1103;%20&#1087;&#1072;&#1083;&#1100;&#1094;&#1077;&#1074;&amp;img_url=https%3A%2F%2Fotvet.imgsmail.ru%2Fdownload%2Fu_5113e0d37360e698bf94bbadf342bb8b_800.gif&amp;pos=6&amp;rpt=simage" TargetMode="External"/><Relationship Id="rId18" Type="http://schemas.openxmlformats.org/officeDocument/2006/relationships/hyperlink" Target="https://yandex.ru/images/search?p=1&amp;text=&#1072;&#1085;&#1080;&#1084;&#1072;&#1094;&#1080;&#1103;%20&#1082;&#1091;&#1083;&#1072;&#1082;&amp;img_url=http%3A%2F%2Ftoonator.com%2Fpreview%2F2dinoz7ivros&amp;pos=42&amp;rpt=simage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394" t="0" r="24607" b="3964"/>
          <a:stretch/>
        </p:blipFill>
        <p:spPr>
          <a:xfrm>
            <a:off x="-31680" y="0"/>
            <a:ext cx="9175680" cy="69580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37760" y="333360"/>
            <a:ext cx="821844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ФИЗКУЛЬТМИНУТКА «ПАЛЬЧИКИ»</a:t>
            </a: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4000" y="1341360"/>
            <a:ext cx="8362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втор: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Смирнова Анастасия Олеговн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жительства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од Москва, Востряковкий проезд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работы, должность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ГБОУ Школа №657, воспитател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нятие мышечной усталости, общего напряжения 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шая и подготовительная группа (5 -7 лет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С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 компьютер, проектор, экран, большой телевизор или мультимедийная установка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использовани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презент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526db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комендаци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использовать как игровой прием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http://st-gdefon.gallery.world/wallpapers_original/499767_gallery.world.jpg?9b30f88865a6ee068aa988b568d8492f"/>
          <p:cNvPicPr/>
          <p:nvPr/>
        </p:nvPicPr>
        <p:blipFill>
          <a:blip r:embed="rId2"/>
          <a:srcRect l="394" t="0" r="24607" b="3964"/>
          <a:stretch/>
        </p:blipFill>
        <p:spPr>
          <a:xfrm>
            <a:off x="-31680" y="0"/>
            <a:ext cx="9175680" cy="6958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600" spc="-1" strike="noStrike">
                <a:solidFill>
                  <a:srgbClr val="7030a0"/>
                </a:solidFill>
                <a:latin typeface="Arial Black"/>
              </a:rPr>
              <a:t>РАЗ, ДВА, ТРИ, ЧЕТЫРЕ, ПЯТЬ</a:t>
            </a:r>
            <a:br>
              <a:rPr sz="36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ЧИТАЕМ ПАЛЬЧИКИ, ЗАГИБАЯ ИХ)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4" name="Picture 8" descr="https://yaustal.com/uploads/posts/2015-06/1434202140_pochemu-u-cheloveka-pyat-palcev-3.jpg"/>
          <p:cNvPicPr/>
          <p:nvPr/>
        </p:nvPicPr>
        <p:blipFill>
          <a:blip r:embed="rId3"/>
          <a:stretch/>
        </p:blipFill>
        <p:spPr>
          <a:xfrm>
            <a:off x="2000160" y="1341360"/>
            <a:ext cx="5112000" cy="5112000"/>
          </a:xfrm>
          <a:prstGeom prst="rect">
            <a:avLst/>
          </a:prstGeom>
          <a:ln w="0">
            <a:noFill/>
          </a:ln>
        </p:spPr>
      </p:pic>
      <p:pic>
        <p:nvPicPr>
          <p:cNvPr id="135" name="fonovaya_muzyka_Detskaya_-_fonovaya_muzyka_Detskaya.mp3" descr=""/>
          <p:cNvPicPr/>
          <p:nvPr/>
        </p:nvPicPr>
        <p:blipFill>
          <a:blip r:embed="rId4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3784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Arial Black"/>
              </a:rPr>
              <a:t>ПОШЛИ ПАЛЬЧИКИ ГУЛЯТЬ,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ШАГАЕМ ПАЛЬЧИКАМИ ПО СТОЛУ)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38" name="Picture 2" descr="http://multator.ru/preview/odromrb1wx69"/>
          <p:cNvPicPr/>
          <p:nvPr/>
        </p:nvPicPr>
        <p:blipFill>
          <a:blip r:embed="rId2"/>
          <a:stretch/>
        </p:blipFill>
        <p:spPr>
          <a:xfrm>
            <a:off x="984240" y="2379600"/>
            <a:ext cx="7128000" cy="356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3784"/>
          <a:stretch/>
        </p:blipFill>
        <p:spPr>
          <a:xfrm>
            <a:off x="0" y="0"/>
            <a:ext cx="9191520" cy="695808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4960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Arial Black"/>
              </a:rPr>
              <a:t>ПОДРУЖИЛИСЬ,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ОЕДИНЯЕМ ПАЛЬЦЫ РУК В ЗАМОК)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1" name="Picture 2" descr="https://avatars.mds.yandex.net/get-zen_doc/235990/pub_5a896b19610493e66e6d0617_5a896c79799d9d42e1efc558/scale_600"/>
          <p:cNvPicPr/>
          <p:nvPr/>
        </p:nvPicPr>
        <p:blipFill>
          <a:blip r:embed="rId2"/>
          <a:stretch/>
        </p:blipFill>
        <p:spPr>
          <a:xfrm>
            <a:off x="1332000" y="1717560"/>
            <a:ext cx="6912000" cy="425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4506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99520" y="1557360"/>
            <a:ext cx="849636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Arial Black"/>
              </a:rPr>
              <a:t>ПОКРУЖИЛИСЬ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ДЕЛАЕМ КРУГОВЫЕ ДВИЖЕНИЯ БОЛЬШИМИ ПАЛЬЦАМИ РУК)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4" name="Picture 2" descr="https://otvet.imgsmail.ru/download/u_5113e0d37360e698bf94bbadf342bb8b_800.gif"/>
          <p:cNvPicPr/>
          <p:nvPr/>
        </p:nvPicPr>
        <p:blipFill>
          <a:blip r:embed="rId2"/>
          <a:stretch/>
        </p:blipFill>
        <p:spPr>
          <a:xfrm>
            <a:off x="1639800" y="1484280"/>
            <a:ext cx="5816520" cy="4753080"/>
          </a:xfrm>
          <a:prstGeom prst="rect">
            <a:avLst/>
          </a:prstGeom>
          <a:ln w="0">
            <a:noFill/>
          </a:ln>
        </p:spPr>
      </p:pic>
    </p:spTree>
  </p:cSld>
  <p:transition advTm="3000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3423"/>
          <a:stretch/>
        </p:blipFill>
        <p:spPr>
          <a:xfrm>
            <a:off x="-47520" y="0"/>
            <a:ext cx="919152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99520" y="1483920"/>
            <a:ext cx="849636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br>
              <a:rPr sz="2500"/>
            </a:br>
            <a:r>
              <a:rPr b="0" lang="ru-RU" sz="3200" spc="-1" strike="noStrike">
                <a:solidFill>
                  <a:srgbClr val="7030a0"/>
                </a:solidFill>
                <a:latin typeface="Arial Black"/>
              </a:rPr>
              <a:t>И ДРУГ ДРУГУ ПОКЛОНИЛИСЬ!</a:t>
            </a:r>
            <a:br>
              <a:rPr sz="3200"/>
            </a:br>
            <a:r>
              <a:rPr b="0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(СГИБАЕМ И РАЗГИБАЕМ ПАЛЬЦЫ РУК В КУЛАЧЕК</a:t>
            </a:r>
            <a:br>
              <a:rPr sz="3200"/>
            </a:br>
            <a:endParaRPr b="0" lang="en-US" sz="3600" spc="-1" strike="noStrike">
              <a:solidFill>
                <a:srgbClr val="d1282e"/>
              </a:solidFill>
              <a:latin typeface="Arial Black"/>
            </a:endParaRPr>
          </a:p>
        </p:txBody>
      </p:sp>
      <p:pic>
        <p:nvPicPr>
          <p:cNvPr id="147" name="Picture 4" descr="http://multator.ru/preview/2dinoz7ivros"/>
          <p:cNvPicPr/>
          <p:nvPr/>
        </p:nvPicPr>
        <p:blipFill>
          <a:blip r:embed="rId2"/>
          <a:stretch/>
        </p:blipFill>
        <p:spPr>
          <a:xfrm>
            <a:off x="755640" y="2492280"/>
            <a:ext cx="7450200" cy="3726000"/>
          </a:xfrm>
          <a:prstGeom prst="rect">
            <a:avLst/>
          </a:prstGeom>
          <a:ln w="0">
            <a:noFill/>
          </a:ln>
        </p:spPr>
      </p:pic>
    </p:spTree>
  </p:cSld>
  <p:transition advTm="4000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http://st-gdefon.gallery.world/wallpapers_original/499767_gallery.world.jpg?9b30f88865a6ee068aa988b568d8492f"/>
          <p:cNvPicPr/>
          <p:nvPr/>
        </p:nvPicPr>
        <p:blipFill>
          <a:blip r:embed="rId1"/>
          <a:srcRect l="0" t="0" r="24607" b="3456"/>
          <a:stretch/>
        </p:blipFill>
        <p:spPr>
          <a:xfrm>
            <a:off x="0" y="-9360"/>
            <a:ext cx="9191520" cy="6867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306360" y="177480"/>
            <a:ext cx="857880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ихи для детей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2"/>
              </a:rPr>
              <a:t>http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3"/>
              </a:rPr>
              <a:t>://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4"/>
              </a:rPr>
              <a:t>www.bugaga.ru/pozdravlenya/stihi/1146753463-detskie-stihi-dlya-detey-2-3-let-korotkie.html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ибание пальчиков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5"/>
              </a:rPr>
              <a:t>https://yandex.ru/images/search?text=</a:t>
            </a:r>
            <a:r>
              <a:rPr b="1" lang="ru-RU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6"/>
              </a:rPr>
              <a:t>анимация%20счет%20пальчев&amp;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7"/>
              </a:rPr>
              <a:t>img_url=https%3A%2F%2Fthumbs.dreamstime.com%2Fz%2Fcounting-hands-0-to-5-6836763.jpg&amp;pos=4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слайд 2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ьчики идут по столу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8"/>
              </a:rPr>
              <a:t>https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9"/>
              </a:rPr>
              <a:t>://yandex.ru/images/search?text=</a:t>
            </a:r>
            <a:r>
              <a:rPr b="1" lang="ru-RU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0"/>
              </a:rPr>
              <a:t>анимация%20пальчики%20идут%20по%20столу&amp;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1"/>
              </a:rPr>
              <a:t>img_url=http%3A%2F%2Ftoonator.com%2Fpreview%2Fodromrb1wx69&amp;pos=15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слайд 3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ок 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2"/>
              </a:rPr>
              <a:t>https://yandex.ru/images/search?p=2&amp;text=</a:t>
            </a:r>
            <a:r>
              <a:rPr b="1" lang="ru-RU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3"/>
              </a:rPr>
              <a:t>анимация%20руки%20замок&amp;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4"/>
              </a:rPr>
              <a:t>img_url=https%3A%2F%2Favatars.mds.yandex.net%2Fget-zen_doc%2F235990%2Fpub_5a896b19610493e66e6d0617_5a896c79799d9d42e1efc558%2Fscale_600&amp;pos=73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(слайд 4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говые движение больших пальцев 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5"/>
              </a:rPr>
              <a:t>https://yandex.ru/images/search?text=</a:t>
            </a:r>
            <a:r>
              <a:rPr b="1" lang="ru-RU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6"/>
              </a:rPr>
              <a:t>анимация%20круговые%20движения%20пальцев&amp;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7"/>
              </a:rPr>
              <a:t>img_url=https%3A%2F%2Fotvet.imgsmail.ru%2Fdownload%2Fu_5113e0d37360e698bf94bbadf342bb8b_800.gif&amp;pos=6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(слайд 5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ачек   </a:t>
            </a:r>
            <a:r>
              <a:rPr b="1" lang="en-US" sz="1700" spc="-1" strike="noStrike" u="sng">
                <a:solidFill>
                  <a:srgbClr val="cc9900"/>
                </a:solidFill>
                <a:uFillTx/>
                <a:latin typeface="Times New Roman"/>
                <a:ea typeface="Times New Roman"/>
                <a:hlinkClick r:id="rId18"/>
              </a:rPr>
              <a:t>https://yandex.ru/images/search?p=1&amp;text=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имация%20кулак&amp;</a:t>
            </a:r>
            <a:r>
              <a:rPr b="1" lang="en-US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g_url=http%3A%2F%2Ftoonator.com%2Fpreview%2F2dinoz7ivros&amp;pos=42&amp;rpt=simage</a:t>
            </a:r>
            <a:r>
              <a:rPr b="1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слайд 6)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Музыкальное сопровождение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http://muz-color.ru/?s=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новая%20музыка%20Детская%20веселая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5T14:10:12Z</dcterms:created>
  <dc:creator>User</dc:creator>
  <dc:description/>
  <dc:language>en-US</dc:language>
  <cp:lastModifiedBy>Пользователь Windows</cp:lastModifiedBy>
  <dcterms:modified xsi:type="dcterms:W3CDTF">2018-06-25T18:11:01Z</dcterms:modified>
  <cp:revision>45</cp:revision>
  <dc:subject/>
  <dc:title>Презентация PowerPoint</dc:title>
</cp:coreProperties>
</file>