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A8B-54A6-4959-919D-A21BB559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DFBE-A38A-4FAE-8D73-ECEBADC0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EAE-977E-4579-AB0C-7ECB6A42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C38-3995-49BF-931E-0FCDE428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DF52-A1BD-4386-B748-F6396187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E409-18F3-4BD7-A45A-6C67EFE0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B5FB-CB39-422D-8DE6-D07F3A28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6804-6CB5-48D6-A08D-CADC9BD5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75D1-F87B-4B99-B8D3-17417CBD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2ADD-7BBF-4E5D-BC24-6F5E9B72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AF61-6F40-4DC6-82F4-26D2750D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A9F-C31D-44F8-A43B-70E9473C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9310-FE8C-4F2D-8C24-74098938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84CF-0438-46FD-96E0-683A5BDA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1990-D0B5-4D9F-87B3-236508F4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57F5-53D9-4F28-B8FF-6D14BB2E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9448-7C91-4CD8-9351-BE8AB87F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1583-94C1-43FE-BD61-09CD8B2F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00AB-0B13-4284-9B46-076D2488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7EF-715A-4E63-9C2C-C7650BD8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98A-9827-4758-B9C7-4732C277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F9EA-9F79-40E4-BB2A-1B438568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4BC-302A-48E0-A5D3-E49E724E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702-4097-4E26-9B5B-9E8527DB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A7B0-59EA-4FD6-A264-116D131FE79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72D0-7A2B-48E8-BA61-9C2473AA4401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84836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                   </a:t>
            </a:r>
            <a:br>
              <a:rPr sz="4400"/>
            </a:b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Колокольность в музыке и                                                                                          изобразительном искусстве</a:t>
            </a:r>
            <a:br>
              <a:rPr sz="3200"/>
            </a:b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Весть святого торжества</a:t>
            </a:r>
            <a:br>
              <a:rPr sz="48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ю выполнил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ковая Е.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музыки, 1к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СОШ №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Театральное действ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5" name="Picture 5" descr="1233082950_1"/>
          <p:cNvPicPr/>
          <p:nvPr/>
        </p:nvPicPr>
        <p:blipFill>
          <a:blip r:embed="rId1"/>
          <a:stretch/>
        </p:blipFill>
        <p:spPr>
          <a:xfrm>
            <a:off x="1676520" y="1752480"/>
            <a:ext cx="5638680" cy="4235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наменный распев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5053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уховная музыка берёт начало от византийской церкви, она слилась с музыкой народной и возродила к жизни уникальный по самобытности музыкальный спла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Дм37"/>
          <p:cNvPicPr/>
          <p:nvPr/>
        </p:nvPicPr>
        <p:blipFill>
          <a:blip r:embed="rId1"/>
          <a:stretch/>
        </p:blipFill>
        <p:spPr>
          <a:xfrm>
            <a:off x="3886200" y="2286000"/>
            <a:ext cx="5257800" cy="3494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В православном богослужении музыке отводится большая часть времени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Мужской Патриарший хор свято Данилова монастыря"/>
          <p:cNvPicPr/>
          <p:nvPr/>
        </p:nvPicPr>
        <p:blipFill>
          <a:blip r:embed="rId1"/>
          <a:stretch/>
        </p:blipFill>
        <p:spPr>
          <a:xfrm>
            <a:off x="0" y="1676520"/>
            <a:ext cx="8852040" cy="5900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 католических церквях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ДМ20"/>
          <p:cNvPicPr/>
          <p:nvPr/>
        </p:nvPicPr>
        <p:blipFill>
          <a:blip r:embed="rId1"/>
          <a:stretch/>
        </p:blipFill>
        <p:spPr>
          <a:xfrm>
            <a:off x="2514600" y="1828800"/>
            <a:ext cx="295920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«Фантазии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.Рахманинов «Сюита для двух фортепиан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юита – музыкальное произведение, состоящее из нескольких частей разного характе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Части сюиты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-я часть «Слёз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харак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инструмен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онтраст (противопоставлен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-ая часть «Светлый праздник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харак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инструмен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онтра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498960" y="2514600"/>
            <a:ext cx="817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2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Какому празднику посвятил своё произве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композитор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2. Как называется праздничный колокольный перезвон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3. Дать определение «сюит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http://images.yandex.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ская, Е. Д. Методика работы с учебниками «Музыка». 1-4 класс [Текст] : пособие для учителя / Е. Д. Критская. – М. : Просвещение, 2002. – 207 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ы общеобразовательных учреждений. Музыка. 1-8 классы [Текст] / Под руководством Д. Б. Кабалевского. – М. : Просвещение, 2005. – 224 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ednist_tserkv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145" name="WordArt 5"/>
          <p:cNvSpPr txBox="1"/>
          <p:nvPr/>
        </p:nvSpPr>
        <p:spPr>
          <a:xfrm>
            <a:off x="3886200" y="3886200"/>
            <a:ext cx="51814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8900000"/>
                </a:gradFill>
                <a:latin typeface="Bookman Old Style"/>
              </a:rPr>
              <a:t>Спасибо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89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8900000"/>
                </a:gradFill>
                <a:latin typeface="Bookman Old Style"/>
              </a:rPr>
              <a:t>за урок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8900000"/>
              </a:gradFill>
              <a:latin typeface="Bookman Old Style"/>
              <a:ea typeface="Bookman Old Style"/>
            </a:endParaRPr>
          </a:p>
        </p:txBody>
      </p:sp>
    </p:spTree>
  </p:cSld>
  <p:transition spd="med">
    <p:strips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84836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                   </a:t>
            </a:r>
            <a:br>
              <a:rPr sz="4400"/>
            </a:b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Колокольность в музыке и                                                                                          изобразительном искусстве</a:t>
            </a:r>
            <a:br>
              <a:rPr sz="3200"/>
            </a:b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Весть святого торжества</a:t>
            </a:r>
            <a:br>
              <a:rPr sz="48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ю выполнил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харова А. 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музы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Школа №14» г. Полысае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емеровская об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Духовная музы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97200"/>
            <a:ext cx="426564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зыка, предназначенная для церковного богослужения. Она призвана эмоционально выражать смысл и содержание проводимой службы, обогащать, углублять и усиливать чувства и переживания верующ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дм23"/>
          <p:cNvPicPr/>
          <p:nvPr/>
        </p:nvPicPr>
        <p:blipFill>
          <a:blip r:embed="rId1"/>
          <a:stretch/>
        </p:blipFill>
        <p:spPr>
          <a:xfrm>
            <a:off x="5029200" y="1905120"/>
            <a:ext cx="3657600" cy="2498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Функции богослуже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34290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731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гаща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1731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глубля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1731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иливает чувства и переживания верующи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ДМ21"/>
          <p:cNvPicPr/>
          <p:nvPr/>
        </p:nvPicPr>
        <p:blipFill>
          <a:blip r:embed="rId1"/>
          <a:stretch/>
        </p:blipFill>
        <p:spPr>
          <a:xfrm>
            <a:off x="3505320" y="1752480"/>
            <a:ext cx="533376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локольный звон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32004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б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зво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лагове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" descr="сканирование0001"/>
          <p:cNvPicPr/>
          <p:nvPr/>
        </p:nvPicPr>
        <p:blipFill>
          <a:blip r:embed="rId1"/>
          <a:stretch/>
        </p:blipFill>
        <p:spPr>
          <a:xfrm>
            <a:off x="4267080" y="2438280"/>
            <a:ext cx="4253040" cy="3327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Богослужебный культ -это целый комплекс храмового искусств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117880"/>
            <a:ext cx="3201840" cy="34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рхитек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вопи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ы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атральное действ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00053-b"/>
          <p:cNvPicPr/>
          <p:nvPr/>
        </p:nvPicPr>
        <p:blipFill>
          <a:blip r:embed="rId1"/>
          <a:stretch/>
        </p:blipFill>
        <p:spPr>
          <a:xfrm>
            <a:off x="3505320" y="2057400"/>
            <a:ext cx="5410080" cy="3610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Архитектур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дм25"/>
          <p:cNvPicPr/>
          <p:nvPr/>
        </p:nvPicPr>
        <p:blipFill>
          <a:blip r:embed="rId1"/>
          <a:stretch/>
        </p:blipFill>
        <p:spPr>
          <a:xfrm>
            <a:off x="4191120" y="1752480"/>
            <a:ext cx="4572000" cy="4648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Дм30"/>
          <p:cNvPicPr/>
          <p:nvPr/>
        </p:nvPicPr>
        <p:blipFill>
          <a:blip r:embed="rId2"/>
          <a:stretch/>
        </p:blipFill>
        <p:spPr>
          <a:xfrm>
            <a:off x="304920" y="1752480"/>
            <a:ext cx="3303360" cy="4381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Живопись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5" name="Picture 4" descr="ДМ3"/>
          <p:cNvPicPr/>
          <p:nvPr/>
        </p:nvPicPr>
        <p:blipFill>
          <a:blip r:embed="rId1"/>
          <a:stretch/>
        </p:blipFill>
        <p:spPr>
          <a:xfrm>
            <a:off x="380880" y="2590920"/>
            <a:ext cx="2664000" cy="2962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ДМ2"/>
          <p:cNvPicPr/>
          <p:nvPr/>
        </p:nvPicPr>
        <p:blipFill>
          <a:blip r:embed="rId2"/>
          <a:stretch/>
        </p:blipFill>
        <p:spPr>
          <a:xfrm>
            <a:off x="3352680" y="3809880"/>
            <a:ext cx="2689200" cy="2714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Дм1"/>
          <p:cNvPicPr/>
          <p:nvPr/>
        </p:nvPicPr>
        <p:blipFill>
          <a:blip r:embed="rId3"/>
          <a:stretch/>
        </p:blipFill>
        <p:spPr>
          <a:xfrm>
            <a:off x="6400800" y="2133720"/>
            <a:ext cx="259092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узы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ДМ21"/>
          <p:cNvPicPr/>
          <p:nvPr/>
        </p:nvPicPr>
        <p:blipFill>
          <a:blip r:embed="rId1"/>
          <a:stretch/>
        </p:blipFill>
        <p:spPr>
          <a:xfrm>
            <a:off x="1371600" y="1752480"/>
            <a:ext cx="6095880" cy="4578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J0177806"/>
          <p:cNvPicPr/>
          <p:nvPr/>
        </p:nvPicPr>
        <p:blipFill>
          <a:blip r:embed="rId1"/>
          <a:stretch/>
        </p:blipFill>
        <p:spPr>
          <a:xfrm>
            <a:off x="1143000" y="1727280"/>
            <a:ext cx="6553080" cy="4368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я</cp:lastModifiedBy>
  <dcterms:modified xsi:type="dcterms:W3CDTF">2018-06-29T09:58:10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