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08C-A2E6-4AF9-A570-94D4DCD5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D90-1576-4F53-A95D-BECB9801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F28-1C82-4B2C-ACAB-08DC6448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DE7-6576-430E-B7B8-4AC8E21E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BC5B-2C45-425F-B604-6D693881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ADBC-1699-48DC-9A18-B4F624CB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52C7-3CFB-44FB-96B3-8BC4831F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F241-4149-42E3-AD07-C3F59473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9612-5C0C-439A-AC01-9D684D95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A1B9-9286-4858-8321-3B476398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872C-B0F4-43AC-BACA-11DC9A3C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A2E-84AA-4950-8F0B-635BD8A9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DD80-0D5C-4136-9EBA-179BF47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6461-F2FD-458B-9140-929773D5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E56B-8D38-4FF6-8E47-F3A92D87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822D-ED2B-46F9-9DDA-4B7A90E4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2B03-E840-42E4-951D-1EECA58B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42B-0910-48FA-A618-0794B80F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B75-659A-44E4-B020-E07C7DC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4ED-0751-4ED2-A3E2-133D6F0F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549-9D6C-4D73-8401-1F404560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736-6DA9-4482-A945-27C06AC0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CBF-7681-436D-838F-F8A7EF28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C8A-F530-477C-8A54-AF4CD677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BFF0-5D2B-48CD-A1D8-8A87AFDBC6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83CF-6ADD-4CB2-B8F5-5C321D8F92B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 </a:t>
            </a:r>
            <a:br>
              <a:rPr sz="44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Колокольность в музыке и                                                                                          изобразительном искусстве</a:t>
            </a:r>
            <a:br>
              <a:rPr sz="32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Весть святого торжества</a:t>
            </a:r>
            <a:br>
              <a:rPr sz="48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выполнил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ковая Е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узыки, 1к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Театральное действие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5" name="Picture 5" descr="1233082950_1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4235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наменный распе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5053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ховная музыка берёт начало от византийской церкви, она слилась с музыкой народной и возродила к жизни уникальный по самобытности музыкальный спла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Дм37"/>
          <p:cNvPicPr/>
          <p:nvPr/>
        </p:nvPicPr>
        <p:blipFill>
          <a:blip r:embed="rId1"/>
          <a:stretch/>
        </p:blipFill>
        <p:spPr>
          <a:xfrm>
            <a:off x="3886200" y="2286000"/>
            <a:ext cx="5257800" cy="3494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420000"/>
                </a:solidFill>
                <a:latin typeface="Times New Roman"/>
              </a:rPr>
              <a:t>В православном богослужении музыке отводится большая часть времени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Мужской Патриарший хор свято Данилова монастыря"/>
          <p:cNvPicPr/>
          <p:nvPr/>
        </p:nvPicPr>
        <p:blipFill>
          <a:blip r:embed="rId1"/>
          <a:stretch/>
        </p:blipFill>
        <p:spPr>
          <a:xfrm>
            <a:off x="0" y="1676520"/>
            <a:ext cx="8852040" cy="5900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 католических церквях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ДМ20"/>
          <p:cNvPicPr/>
          <p:nvPr/>
        </p:nvPicPr>
        <p:blipFill>
          <a:blip r:embed="rId1"/>
          <a:stretch/>
        </p:blipFill>
        <p:spPr>
          <a:xfrm>
            <a:off x="2514600" y="1828800"/>
            <a:ext cx="295920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«Фантазии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Рахманинов «Сюита для двух фортепиан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юита – музыкальное произведение, состоящее из нескольких частей разного харак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Части сюит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-я часть «Слёз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нструме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траст (противопоставл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-ая часть «Светлый праздни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нструме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тра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498960" y="2514600"/>
            <a:ext cx="817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42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Какому празднику посвятил своё произ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композитор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2. Как называется праздничный колокольный перезво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3. Дать определение «сюит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images.yandex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ская, Е. Д. Методика работы с учебниками «Музыка». 1-4 класс [Текст] : пособие для учителя / Е. Д. Критская. – М. : Просвещение, 2002. – 207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ы общеобразовательных учреждений. Музыка. 1-8 классы [Текст] / Под руководством Д. Б. Кабалевского. – М. : Просвещение, 2005. – 224 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ednist_tserkv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45" name="WordArt 5"/>
          <p:cNvSpPr txBox="1"/>
          <p:nvPr/>
        </p:nvSpPr>
        <p:spPr>
          <a:xfrm>
            <a:off x="3886200" y="3886200"/>
            <a:ext cx="51814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Bookman Old Style"/>
              </a:rPr>
              <a:t>Спасибо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Bookman Old Style"/>
              </a:rPr>
              <a:t>за урок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Bookman Old Style"/>
              <a:ea typeface="Bookman Old Style"/>
            </a:endParaRPr>
          </a:p>
        </p:txBody>
      </p:sp>
    </p:spTree>
  </p:cSld>
  <p:transition spd="med">
    <p:strips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 </a:t>
            </a:r>
            <a:br>
              <a:rPr sz="44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Колокольность в музыке и                                                                                          изобразительном искусстве</a:t>
            </a:r>
            <a:br>
              <a:rPr sz="3200"/>
            </a:b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Весть святого торжества</a:t>
            </a:r>
            <a:br>
              <a:rPr sz="4800"/>
            </a:b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выполнил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харова А. 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узы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Школа №14» г. Полысае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меровская об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Духовная музы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97200"/>
            <a:ext cx="426564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зыка, предназначенная для церковного богослужения. Она призвана эмоционально выражать смысл и содержание проводимой службы, обогащать, углублять и усиливать чувства и переживания верующ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дм23"/>
          <p:cNvPicPr/>
          <p:nvPr/>
        </p:nvPicPr>
        <p:blipFill>
          <a:blip r:embed="rId1"/>
          <a:stretch/>
        </p:blipFill>
        <p:spPr>
          <a:xfrm>
            <a:off x="5029200" y="190512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Функции богослуж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429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31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гащ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1731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лубля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1731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иливает чувства и переживания верующ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ДМ21"/>
          <p:cNvPicPr/>
          <p:nvPr/>
        </p:nvPicPr>
        <p:blipFill>
          <a:blip r:embed="rId1"/>
          <a:stretch/>
        </p:blipFill>
        <p:spPr>
          <a:xfrm>
            <a:off x="3505320" y="1752480"/>
            <a:ext cx="533376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локольный звон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3200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зв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агов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сканирование0001"/>
          <p:cNvPicPr/>
          <p:nvPr/>
        </p:nvPicPr>
        <p:blipFill>
          <a:blip r:embed="rId1"/>
          <a:stretch/>
        </p:blipFill>
        <p:spPr>
          <a:xfrm>
            <a:off x="4267080" y="2438280"/>
            <a:ext cx="4253040" cy="332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Богослужебный культ -это целый комплекс храмового искусств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17880"/>
            <a:ext cx="320184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тек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атральное действ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00053-b"/>
          <p:cNvPicPr/>
          <p:nvPr/>
        </p:nvPicPr>
        <p:blipFill>
          <a:blip r:embed="rId1"/>
          <a:stretch/>
        </p:blipFill>
        <p:spPr>
          <a:xfrm>
            <a:off x="3505320" y="2057400"/>
            <a:ext cx="5410080" cy="361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Архитектур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дм25"/>
          <p:cNvPicPr/>
          <p:nvPr/>
        </p:nvPicPr>
        <p:blipFill>
          <a:blip r:embed="rId1"/>
          <a:stretch/>
        </p:blipFill>
        <p:spPr>
          <a:xfrm>
            <a:off x="4191120" y="1752480"/>
            <a:ext cx="4572000" cy="464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Дм30"/>
          <p:cNvPicPr/>
          <p:nvPr/>
        </p:nvPicPr>
        <p:blipFill>
          <a:blip r:embed="rId2"/>
          <a:stretch/>
        </p:blipFill>
        <p:spPr>
          <a:xfrm>
            <a:off x="304920" y="1752480"/>
            <a:ext cx="330336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Живопись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5" name="Picture 4" descr="ДМ3"/>
          <p:cNvPicPr/>
          <p:nvPr/>
        </p:nvPicPr>
        <p:blipFill>
          <a:blip r:embed="rId1"/>
          <a:stretch/>
        </p:blipFill>
        <p:spPr>
          <a:xfrm>
            <a:off x="380880" y="2590920"/>
            <a:ext cx="2664000" cy="2962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ДМ2"/>
          <p:cNvPicPr/>
          <p:nvPr/>
        </p:nvPicPr>
        <p:blipFill>
          <a:blip r:embed="rId2"/>
          <a:stretch/>
        </p:blipFill>
        <p:spPr>
          <a:xfrm>
            <a:off x="3352680" y="3809880"/>
            <a:ext cx="2689200" cy="271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Дм1"/>
          <p:cNvPicPr/>
          <p:nvPr/>
        </p:nvPicPr>
        <p:blipFill>
          <a:blip r:embed="rId3"/>
          <a:stretch/>
        </p:blipFill>
        <p:spPr>
          <a:xfrm>
            <a:off x="6400800" y="2133720"/>
            <a:ext cx="25909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узы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ДМ21"/>
          <p:cNvPicPr/>
          <p:nvPr/>
        </p:nvPicPr>
        <p:blipFill>
          <a:blip r:embed="rId1"/>
          <a:stretch/>
        </p:blipFill>
        <p:spPr>
          <a:xfrm>
            <a:off x="1371600" y="1752480"/>
            <a:ext cx="6095880" cy="4578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J0177806"/>
          <p:cNvPicPr/>
          <p:nvPr/>
        </p:nvPicPr>
        <p:blipFill>
          <a:blip r:embed="rId1"/>
          <a:stretch/>
        </p:blipFill>
        <p:spPr>
          <a:xfrm>
            <a:off x="1143000" y="1727280"/>
            <a:ext cx="6553080" cy="436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</cp:lastModifiedBy>
  <dcterms:modified xsi:type="dcterms:W3CDTF">2018-06-29T09:58:1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