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621-4D8B-4A1E-88F3-08185738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2B4-0CC9-46F5-AF18-2898BC4B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609-0795-4F44-A466-A4CA9563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116-96AB-4CB9-AD9E-493E815A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819-CBCE-4573-8F92-5CCE910E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48C-B27C-4DF9-820F-804C3EC1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CD5-A6E4-4C67-BB69-D8A235D1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3C9-0888-4F2F-9BA3-748B8397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248-929B-4A8E-A101-B16BAB5E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F74-882A-4331-AB19-68B499B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0DE-338A-4D32-897E-4D1E024D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365-D05F-4034-8B0F-68F2DB2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4A56-4B59-4F4F-B8F3-46B3E946B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Desktop\CT2CxjBWUAA0Sd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5"/>
          <p:cNvSpPr txBox="1"/>
          <p:nvPr/>
        </p:nvSpPr>
        <p:spPr>
          <a:xfrm>
            <a:off x="179280" y="189000"/>
            <a:ext cx="878544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Обобщающее занятие 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по теме: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«СССР на путях строительств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нового общества».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5"/>
          <p:cNvSpPr txBox="1"/>
          <p:nvPr/>
        </p:nvSpPr>
        <p:spPr>
          <a:xfrm>
            <a:off x="468360" y="5229360"/>
            <a:ext cx="820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Верховный Сове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https://videouroki.net/videouroki/conspekty/istnovdo1945/25-stroitiel-stvo-novogho-obshchiestva-urok-obobshchieniia-po-istorii-rossii-1920-1930-kh-ghgh.files/image00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Г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 науке существуют две точки зрения: правильная марксистская и неправильная буржуазная. Как враждебная она не имеет права на существование». Такая идея утвердилась в СССР в 1930-е годы. «Враждебными буржуазными» объявлялись не только точки зрения, но и целые научные направления, в том числе и э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Генетик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https://videouroki.net/videouroki/conspekty/istnovdo1945/25-stroitiel-stvo-novogho-obshchiestva-urok-obobshchieniia-po-istorii-rossii-1920-1930-kh-ghgh.files/image00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ква «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колхозы организовывались быстро и на правильной идеологической основе, Компартия призвала передовых сознательных рабочих для работы в деревне. Как их стали называть (по приблизительной численност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Двадцатипятитысячники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https://videouroki.net/videouroki/conspekty/istnovdo1945/25-stroitiel-stvo-novogho-obshchiestva-urok-obobshchieniia-po-istorii-rossii-1920-1930-kh-ghgh.files/image006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ы «Большого террора» в СССР (1937 – 1938), когда было репрессировано более 1,5 миллионов человека, иногда называют именно так, по фамилии тогдашнего наркома внутренних 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Ежовщин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https://videouroki.net/videouroki/conspekty/istnovdo1945/25-stroitiel-stvo-novogho-obshchiestva-urok-obobshchieniia-po-istorii-rossii-1920-1930-kh-ghgh.files/image007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Ж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енью 1929 года между СССР и Китаем разгорелся серьёзный конфликт из-за КВЖД. А что такое КВЖ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Железная дорог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https://videouroki.net/videouroki/conspekty/istnovdo1945/25-stroitiel-stvo-novogho-obshchiestva-urok-obobshchieniia-po-istorii-rossii-1920-1930-kh-ghgh.files/image008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З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разовании СССР 30 декабря 1922 года приняли участие 4 советские республики. Укажите сокращённое название одной из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288144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едыдущих уроках вы изучали развитие советского государства в 1920 – 1930-е годы, знакомились с теми изменениями, которые произошли в экономике, политической системе, духовной жизни общ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1" descr="0c7e490bb7e2ba5118bcf33176e"/>
          <p:cNvPicPr/>
          <p:nvPr/>
        </p:nvPicPr>
        <p:blipFill>
          <a:blip r:embed="rId1"/>
          <a:stretch/>
        </p:blipFill>
        <p:spPr>
          <a:xfrm>
            <a:off x="179280" y="3284640"/>
            <a:ext cx="4681800" cy="338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45" name="Picture 10" descr="http://abali.ru/wp-content/uploads/2015/03/stalin.jpg"/>
          <p:cNvPicPr/>
          <p:nvPr/>
        </p:nvPicPr>
        <p:blipFill>
          <a:blip r:embed="rId2"/>
          <a:stretch/>
        </p:blipFill>
        <p:spPr>
          <a:xfrm>
            <a:off x="5724360" y="3284640"/>
            <a:ext cx="2519640" cy="33843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ЗСФСР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https://videouroki.net/videouroki/conspekty/istnovdo1945/25-stroitiel-stvo-novogho-obshchiestva-urok-obobshchieniia-po-istorii-rossii-1920-1930-kh-ghgh.files/image009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ятилетку в четыре года!», «Догнать и перегнать!» С каким процессом в советской истории связаны эти лозун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Индустриал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https://videouroki.net/videouroki/conspekty/istnovdo1945/25-stroitiel-stvo-novogho-obshchiestva-urok-obobshchieniia-po-istorii-rossii-1920-1930-kh-ghgh.files/image010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К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политика проводилась в национальных республиках и областях СССР в 20-е годы. Её целью было расширение использования национальных языков и выдвижение представителей титульных наций на руководящие дол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Корен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https://videouroki.net/videouroki/conspekty/istnovdo1945/25-stroitiel-stvo-novogho-obshchiestva-urok-obobshchieniia-po-istorii-rossii-1920-1930-kh-ghgh.files/image01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Л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ий учёный, инженер Юрий Кондратюк ещё в 1916 году рассчитал оптимальную траекторию полёта к этому космическому объекту. «Трасса Кондратюка» была положена в основу программы НАСА (Национального управления по воздухоплаванию и исследованию космического пространства США) «Аполлон». Программа была успешно реализована в 1960 – 197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5"/>
          <p:cNvSpPr txBox="1"/>
          <p:nvPr/>
        </p:nvSpPr>
        <p:spPr>
          <a:xfrm>
            <a:off x="1763640" y="5373720"/>
            <a:ext cx="57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Лун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5" descr="https://videouroki.net/videouroki/conspekty/istnovdo1945/25-stroitiel-stvo-novogho-obshchiestva-urok-obobshchieniia-po-istorii-rossii-1920-1930-kh-ghgh.files/image01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ый комиссар иностранных дел СССР, более всего известен подписанием пакта о ненападении с Германией 23 августа 1939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Молот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https://videouroki.net/videouroki/conspekty/istnovdo1945/25-stroitiel-stvo-novogho-obshchiestva-urok-obobshchieniia-po-istorii-rossii-1920-1930-kh-ghgh.files/image01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773000"/>
            <a:ext cx="91440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термин используется для характеристики большой разбежки в ценах на промышленную (высокие) и сельскохозяйственную (низкие) продукцию в начале 1920-х г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79280" y="260280"/>
            <a:ext cx="8785440" cy="2448000"/>
          </a:xfrm>
          <a:prstGeom prst="rect">
            <a:avLst/>
          </a:pr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те прочность ваших знаний, ответив на вопросы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ллектуальной игры «Мультимедийная азбу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ни будут сопровождаться иллюстрациями, которые помогут вспомнить отве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569081-7"/>
          <p:cNvPicPr/>
          <p:nvPr/>
        </p:nvPicPr>
        <p:blipFill>
          <a:blip r:embed="rId1"/>
          <a:stretch/>
        </p:blipFill>
        <p:spPr>
          <a:xfrm>
            <a:off x="2050920" y="3068640"/>
            <a:ext cx="4969080" cy="356724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Ножницы це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" descr="https://videouroki.net/videouroki/conspekty/istnovdo1945/25-stroitiel-stvo-novogho-obshchiestva-urok-obobshchieniia-po-istorii-rossii-1920-1930-kh-ghgh.files/image01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ия или группа, которая выступает против господствующей партии или мнения, поддерживаемого большинством. В конце 1920-х годов это явление в СССР исче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Оппози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5" descr="https://videouroki.net/videouroki/conspekty/istnovdo1945/25-stroitiel-stvo-novogho-obshchiestva-urok-obobshchieniia-po-istorii-rossii-1920-1930-kh-ghgh.files/image01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П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овая культурно-просветительская и литературно-художественная организации в СССР в 1920-е годы, которая ставила целью создание новой культуры и призывала выбросить «на свалку истории» культурные достижения и традиции прошл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Пролеткуль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https://videouroki.net/videouroki/conspekty/istnovdo1945/25-stroitiel-stvo-novogho-obshchiestva-urok-obobshchieniia-po-istorii-rossii-1920-1930-kh-ghgh.files/image016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ей и крестьянской молодёжи часто не хватало общего уровня образования для учёбы в вузах. Эти учреждения создавались для того, чтобы помочь юношам и девушкам ускоренно пройти курс средн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Рабфак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https://videouroki.net/videouroki/conspekty/istnovdo1945/25-stroitiel-stvo-novogho-obshchiestva-urok-obobshchieniia-po-istorii-rossii-1920-1930-kh-ghgh.files/image017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С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хтёр, поставивший рекорд производительности по добыче угля. Это положило началу массовому социалистическому соревнованию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Стаханов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https://videouroki.net/videouroki/conspekty/istnovdo1945/25-stroitiel-stvo-novogho-obshchiestva-urok-obobshchieniia-po-istorii-rossii-1920-1930-kh-ghgh.files/image018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сё в государстве, ничего вне государства, ничего против государства». Этот лозунг характеризует политических режим, установившийся в СССР в 193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s://videouroki.net/videouroki/conspekty/istnovdo1945/25-stroitiel-stvo-novogho-obshchiestva-urok-obobshchieniia-po-istorii-rossii-1920-1930-kh-ghgh.files/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Тоталитаризм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5" descr="https://videouroki.net/videouroki/conspekty/istnovdo1945/25-stroitiel-stvo-novogho-obshchiestva-urok-obobshchieniia-po-istorii-rossii-1920-1930-kh-ghgh.files/image019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начально в СССР было 4 союзных республики, но постепенно их число росло. Такой статус получила эта республика в 1924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Узбекиста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https://videouroki.net/videouroki/conspekty/istnovdo1945/25-stroitiel-stvo-novogho-obshchiestva-urok-obobshchieniia-po-istorii-rossii-1920-1930-kh-ghgh.files/image020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Ф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це августа 1922 года по предложению Владимира Ленина за границу было выслано около 160 деятелей культуры и учёных с «чуждыми взглядами». Судно, на котором они отправились в Германию, получило в истории именно такое наз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Философский пароход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" descr="https://videouroki.net/videouroki/conspekty/istnovdo1945/25-stroitiel-stvo-novogho-obshchiestva-urok-obobshchieniia-po-istorii-rossii-1920-1930-kh-ghgh.files/image021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йоне этого дальневосточного озера в августе 1938 года происходили бои с японскими частями, попытавшимися вторгнуться на территорию Советского Сою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Хаса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https://videouroki.net/videouroki/conspekty/istnovdo1945/25-stroitiel-stvo-novogho-obshchiestva-urok-obobshchieniia-po-istorii-rossii-1920-1930-kh-ghgh.files/image02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Ц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форма ограничения свободы слова и печати была широко распространена в СССР. Основной её орган – Главлит: Главное управление по делам литературы и издатель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Цензура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https://videouroki.net/videouroki/conspekty/istnovdo1945/25-stroitiel-stvo-novogho-obshchiestva-urok-obobshchieniia-po-istorii-rossii-1920-1930-kh-ghgh.files/image02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Ч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советский денежный знак после реформы 1922 – 1924 года. До конца 20-х годов был конвертируемой валю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484280"/>
            <a:ext cx="8569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1920-х годов решался вопрос о том, каким будет союзное государство образовавшихся после Октябрьской революции советских республик. Иосиф Сталин предложил, чтобы все они вошли в состав РСФСР как самоуправляющиеся части. Эта идея получила название план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Червонец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4" descr="https://videouroki.net/videouroki/conspekty/istnovdo1945/25-stroitiel-stvo-novogho-obshchiestva-urok-obobshchieniia-po-istorii-rossii-1920-1930-kh-ghgh.files/image024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Ш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ёный-энциклопедист: математик, географ, геофизик, астроном. Стал инициатором издания «Большой Советской Энциклопедии». Широко известен как полярный исследователь. Возглавляемая им экспедиция на пароходе ледокольного типа «Сибиряков» впервые совершила плавание по Северному морскому пути за одну навиг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Шмидт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https://videouroki.net/videouroki/conspekty/istnovdo1945/25-stroitiel-stvo-novogho-obshchiestva-urok-obobshchieniia-po-istorii-rossii-1920-1930-kh-ghgh.files/image025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Э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ители социалистической партии, пользовавшейся большой популярностью у российских крестьян. Летом 1922 года большевики организовали показательный процесс над её руководителями, пытаясь доказать, что партия предала революционные традиции и идеалы социал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Эсеры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4" descr="https://videouroki.net/videouroki/conspekty/istnovdo1945/25-stroitiel-stvo-novogho-obshchiestva-urok-obobshchieniia-po-istorii-rossii-1920-1930-kh-ghgh.files/image026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жество по поводу круглой даты. Широкое празднование 50-летия Иосифа Сталина в декабре 1929 года дало своеобразный толчок формированию культа личности вожд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5"/>
          <p:cNvSpPr txBox="1"/>
          <p:nvPr/>
        </p:nvSpPr>
        <p:spPr>
          <a:xfrm>
            <a:off x="1042920" y="537372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Юбилей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5" descr="https://videouroki.net/videouroki/conspekty/istnovdo1945/25-stroitiel-stvo-novogho-obshchiestva-urok-obobshchieniia-po-istorii-rossii-1920-1930-kh-ghgh.files/image027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ский партийный и государственный деятель, который возглавил антирелигиозную кампанию. Председатель «Союза воинствующих безбожников», автор лозунга: «Борьба против религии – борьба за социализ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5"/>
          <p:cNvSpPr txBox="1"/>
          <p:nvPr/>
        </p:nvSpPr>
        <p:spPr>
          <a:xfrm>
            <a:off x="468360" y="537372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Ярославский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4" descr="https://videouroki.net/videouroki/conspekty/istnovdo1945/25-stroitiel-stvo-novogho-obshchiestva-urok-obobshchieniia-po-istorii-rossii-1920-1930-kh-ghgh.files/image028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1890720" y="-123840"/>
            <a:ext cx="5362560" cy="71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19250400_14th_communist_party_conference_original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480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188" name="WordArt 45"/>
          <p:cNvSpPr txBox="1"/>
          <p:nvPr/>
        </p:nvSpPr>
        <p:spPr>
          <a:xfrm>
            <a:off x="468360" y="4724280"/>
            <a:ext cx="8207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Спасибо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за внимание!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5"/>
          <p:cNvSpPr txBox="1"/>
          <p:nvPr/>
        </p:nvSpPr>
        <p:spPr>
          <a:xfrm>
            <a:off x="250920" y="4941720"/>
            <a:ext cx="8713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Автономизация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https://videouroki.net/videouroki/conspekty/istnovdo1945/25-stroitiel-stvo-novogho-obshchiestva-urok-obobshchieniia-po-istorii-rossii-1920-1930-kh-ghgh.files/image002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лекты презентаций, включающих в себя всю годовую программу (все темы), а также проверочные материалы (тесты)  и поурочное годовое планирование по истории, обществознанию, МХК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 можете скачать на сайте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http://presentation-history.ru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Б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з «старых большевиков» – руководителей ВКП(б) с дореволюционным стажем. Ленин называл его «любимцем партии». В 1929 году был обвинён в «правом уклоне» за протест против жёсткой политики в деревне. В 1938 году расстрелян как «враг наро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5"/>
          <p:cNvSpPr txBox="1"/>
          <p:nvPr/>
        </p:nvSpPr>
        <p:spPr>
          <a:xfrm>
            <a:off x="468360" y="537372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latin typeface="Arial Unicode MS"/>
              </a:rPr>
              <a:t>Бухарин</a:t>
            </a:r>
            <a:endParaRPr b="1" lang="en-US" sz="18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99"/>
              </a:solidFill>
              <a:latin typeface="Arial Unicode MS"/>
              <a:ea typeface="Arial Unicode MS"/>
            </a:endParaRPr>
          </a:p>
        </p:txBody>
      </p:sp>
      <p:pic>
        <p:nvPicPr>
          <p:cNvPr id="58" name="Рисунок 5" descr="https://videouroki.net/videouroki/conspekty/istnovdo1945/25-stroitiel-stvo-novogho-obshchiestva-urok-obobshchieniia-po-istorii-rossii-1920-1930-kh-ghgh.files/image003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уква «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Октябрьской революции высшим органом государственной власти стал Съезд Советов рабочих, солдатских и крестьянских депутатов. Какой орган стал выполнять эту функцию по Конституции 1936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7:16:39Z</dcterms:created>
  <dc:creator>Нафор Маточ</dc:creator>
  <dc:description/>
  <dc:language>en-US</dc:language>
  <cp:lastModifiedBy>ДОМ</cp:lastModifiedBy>
  <dcterms:modified xsi:type="dcterms:W3CDTF">2017-11-13T17:14:52Z</dcterms:modified>
  <cp:revision>668</cp:revision>
  <dc:subject/>
  <dc:title>Политическое развитие в 20-е гг.</dc:title>
</cp:coreProperties>
</file>