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C615-4EDD-4C09-9F8D-A460CCE8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F835-A4D3-4516-998E-0B62052A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B24B-7703-43F8-A951-081D57569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020D-E65A-4038-884F-3603826F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4358-6B80-41B3-B7AF-9FC13925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99B6-6ECB-42DB-BA5A-1A2B37B0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CDCF-8C8A-4B8E-906C-EFE0B3E9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39C6-D30D-4F3E-96F0-FAAACC7D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73F6-D2B2-40E1-8EFF-25259ED3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6DF-CA80-4FED-BD96-8AE10099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08E3-85EF-4987-B7DE-68E80BF8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0E8A-D822-4A21-9A6E-682C5831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326E-9AE9-4322-9C69-60AD4A41ED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узыка и изобразительное искус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а учитель музыки Волковая Е.В., 1к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ОУ СОШ №98, г. Вороне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"Ни одного дня без строчки..."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Beethoven_9_Symphony"/>
          <p:cNvPicPr/>
          <p:nvPr/>
        </p:nvPicPr>
        <p:blipFill>
          <a:blip r:embed="rId1"/>
          <a:stretch/>
        </p:blipFill>
        <p:spPr>
          <a:xfrm>
            <a:off x="304920" y="2438280"/>
            <a:ext cx="4762440" cy="4200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mvt3-facsimile-s"/>
          <p:cNvPicPr/>
          <p:nvPr/>
        </p:nvPicPr>
        <p:blipFill>
          <a:blip r:embed="rId2"/>
          <a:stretch/>
        </p:blipFill>
        <p:spPr>
          <a:xfrm>
            <a:off x="3429000" y="1981080"/>
            <a:ext cx="5524560" cy="4448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heilegenstadter_testament_b"/>
          <p:cNvPicPr/>
          <p:nvPr/>
        </p:nvPicPr>
        <p:blipFill>
          <a:blip r:embed="rId3"/>
          <a:stretch/>
        </p:blipFill>
        <p:spPr>
          <a:xfrm>
            <a:off x="1219320" y="1671480"/>
            <a:ext cx="6324480" cy="5186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1"/>
          <p:cNvSpPr/>
          <p:nvPr/>
        </p:nvSpPr>
        <p:spPr>
          <a:xfrm>
            <a:off x="1447920" y="1704600"/>
            <a:ext cx="60195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8716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"Почему я пишу?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То, что у меня на сердце, должно найти себе выход. Вот поэтому я и пишу."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81" name="Picture 13" descr="Eroica_Beethoven_title"/>
          <p:cNvPicPr/>
          <p:nvPr/>
        </p:nvPicPr>
        <p:blipFill>
          <a:blip r:embed="rId4"/>
          <a:stretch/>
        </p:blipFill>
        <p:spPr>
          <a:xfrm>
            <a:off x="7086600" y="0"/>
            <a:ext cx="20574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2530-1"/>
          <p:cNvPicPr/>
          <p:nvPr/>
        </p:nvPicPr>
        <p:blipFill>
          <a:blip r:embed="rId1"/>
          <a:stretch/>
        </p:blipFill>
        <p:spPr>
          <a:xfrm rot="635400">
            <a:off x="6286320" y="3276720"/>
            <a:ext cx="2857320" cy="3333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puskin"/>
          <p:cNvPicPr/>
          <p:nvPr/>
        </p:nvPicPr>
        <p:blipFill>
          <a:blip r:embed="rId2"/>
          <a:stretch/>
        </p:blipFill>
        <p:spPr>
          <a:xfrm>
            <a:off x="6286680" y="0"/>
            <a:ext cx="2857320" cy="3124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990720" y="0"/>
            <a:ext cx="58672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«…следовать за  мыслями великого человека есть наука самая занимательная».          А.С. Пушк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В рукописях Бетховена можно наблюдать работу скульптора, обтёсывающего материал, из которого рождается образ-тема симфо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218960" y="0"/>
            <a:ext cx="7924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Почему так популярна Симфония №5 Бетховена? Какое значение она имеет для современников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66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Georgia"/>
              </a:rPr>
              <a:t>Смогли ли мы определить, «что на сердце» у Бетховена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Бетховен в этом сражении с судьбой оказывается побежденным или победителем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1371240" y="0"/>
            <a:ext cx="76201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Что может связывать искусства разных временных исторических периодов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Georgia"/>
              </a:rPr>
              <a:t>Какое отношение имеет работа Масару Эмото «Послания воды. Тайные коды кристаллов льда» к Симфонии №5 Бетховен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6248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Фрагмент главы 4 из книги Юлиуса Футчика «Репортаж с петлей на ше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20574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33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Georgia"/>
              </a:rPr>
              <a:t>«…Постарайся понять. Поверь, в этом была сила.</a:t>
            </a:r>
            <a:br>
              <a:rPr sz="2800"/>
            </a:br>
            <a:r>
              <a:rPr b="1" i="1" lang="ru-RU" sz="2800" spc="-1" strike="noStrike">
                <a:solidFill>
                  <a:srgbClr val="663300"/>
                </a:solidFill>
                <a:latin typeface="Georgia"/>
              </a:rPr>
              <a:t>Утренний привет из соседней камеры: сегодня оттуда выстукивают два такта из Бетховена торжественнее, настойчивее, чем обычно, и стена передает их тоже в ином, необычном тоне.</a:t>
            </a:r>
            <a:br>
              <a:rPr sz="2800"/>
            </a:br>
            <a:r>
              <a:rPr b="1" i="1" lang="ru-RU" sz="2800" spc="-1" strike="noStrike">
                <a:solidFill>
                  <a:srgbClr val="663300"/>
                </a:solidFill>
                <a:latin typeface="Georgia"/>
              </a:rPr>
              <a:t>Мы стараемся одеться получше. И так во всех камерах.</a:t>
            </a:r>
            <a:br>
              <a:rPr sz="2800"/>
            </a:br>
            <a:r>
              <a:rPr b="1" i="1" lang="ru-RU" sz="2800" spc="-1" strike="noStrike">
                <a:solidFill>
                  <a:srgbClr val="663300"/>
                </a:solidFill>
                <a:latin typeface="Georgia"/>
              </a:rPr>
              <a:t>К завтраку мы уже в полном параде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1219320"/>
            <a:ext cx="7086600" cy="26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663300"/>
                </a:solidFill>
                <a:latin typeface="Georgia"/>
              </a:rPr>
              <a:t>Образы борьбы и победы в искусств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752120" y="4114440"/>
            <a:ext cx="72392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Задачи урок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Раскрыть образный строй одной из самых знаменитых симфоний – Симфонии №5 Людвига ван Бетхов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роследить за творческим процессом сочинения музыки композитором, особенностями её симфоническ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066680" y="152280"/>
            <a:ext cx="7848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Есть в музыке этих композиторов то   возвышенное благородство и человечность, которые отличали их на протяжении всей жизн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img1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943600" y="3048120"/>
            <a:ext cx="2857680" cy="3419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47885049_bach"/>
          <p:cNvPicPr/>
          <p:nvPr/>
        </p:nvPicPr>
        <p:blipFill>
          <a:blip r:embed="rId2"/>
          <a:stretch/>
        </p:blipFill>
        <p:spPr>
          <a:xfrm>
            <a:off x="438120" y="3048120"/>
            <a:ext cx="2685960" cy="3409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42286140_26773655"/>
          <p:cNvPicPr/>
          <p:nvPr/>
        </p:nvPicPr>
        <p:blipFill>
          <a:blip r:embed="rId3"/>
          <a:stretch/>
        </p:blipFill>
        <p:spPr>
          <a:xfrm>
            <a:off x="3322800" y="3071880"/>
            <a:ext cx="239220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190760" y="15998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Родился в 1770 году в немецком городе Бо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очему люди помнят его музыку до сих п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«…то , что у меня на сердце, должно найти себе выход…»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82034_or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380880"/>
            <a:ext cx="4172040" cy="6096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0" y="5485680"/>
            <a:ext cx="411480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92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eorgia"/>
              </a:rPr>
              <a:t>Памятник Бетховену в Вене.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Georgia"/>
              </a:rPr>
              <a:t>(1770-1827)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962520" y="228600"/>
            <a:ext cx="41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 Black"/>
              </a:rPr>
              <a:t>   </a:t>
            </a:r>
            <a:r>
              <a:rPr b="1" lang="ru-RU" sz="4000" spc="-1" strike="noStrike">
                <a:solidFill>
                  <a:srgbClr val="663300"/>
                </a:solidFill>
                <a:latin typeface="Georgia"/>
              </a:rPr>
              <a:t>Людвиг ван Бетховен</a:t>
            </a:r>
            <a:endParaRPr b="0" lang="en-US" sz="4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Georgia"/>
              </a:rPr>
              <a:t>Симфония №5 посвящена судьбе земли, судьбе человечеств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76720" y="19047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1902 год…Частичная потеря слух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оздаёт одно произведение за другим, полные волевого порыв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Его музыку сравнивают                     с героическими образами в живописи и скульптур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 flipH="1" rot="20400000">
            <a:off x="-378720" y="1447200"/>
            <a:ext cx="28954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Слушаем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первую 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часть 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симфонии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56" name="Rectangle 8"/>
          <p:cNvSpPr/>
          <p:nvPr/>
        </p:nvSpPr>
        <p:spPr>
          <a:xfrm rot="1200600">
            <a:off x="838080" y="4038120"/>
            <a:ext cx="26672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Определяем главную идею первой части симфонии</a:t>
            </a:r>
            <a:r>
              <a:rPr b="0" lang="ru-RU" sz="3200" spc="-1" strike="noStrike">
                <a:solidFill>
                  <a:srgbClr val="000000"/>
                </a:solidFill>
                <a:latin typeface="com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57" name="27 - Л. ван Бетховен - Симфония №5 - Первая часть.mp3" descr=""/>
          <p:cNvPicPr/>
          <p:nvPr/>
        </p:nvPicPr>
        <p:blipFill>
          <a:blip r:embed="rId1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9" descr="b8f256cf20b8"/>
          <p:cNvPicPr/>
          <p:nvPr/>
        </p:nvPicPr>
        <p:blipFill>
          <a:blip r:embed="rId1"/>
          <a:srcRect l="18781" t="2499" r="24882" b="0"/>
          <a:stretch/>
        </p:blipFill>
        <p:spPr>
          <a:xfrm>
            <a:off x="6500880" y="228600"/>
            <a:ext cx="2490840" cy="6477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post-9736-1263026522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0" y="0"/>
            <a:ext cx="4114800" cy="60199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21"/>
          <p:cNvSpPr/>
          <p:nvPr/>
        </p:nvSpPr>
        <p:spPr>
          <a:xfrm>
            <a:off x="2057400" y="228600"/>
            <a:ext cx="441972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кульптура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Микеланджело Буонарроти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-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"Восставший раб"...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Образ прекрасного и сильного юноши, пытающегося разорвать путы.</a:t>
            </a:r>
            <a:endParaRPr b="0" lang="en-US" sz="2400" spc="-1" strike="noStrike">
              <a:solidFill>
                <a:srgbClr val="000000"/>
              </a:solidFill>
              <a:latin typeface="com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реческая скульптура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ика Самофракийская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богиня побе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b8f256cf20b8"/>
          <p:cNvPicPr/>
          <p:nvPr/>
        </p:nvPicPr>
        <p:blipFill>
          <a:blip r:embed="rId1"/>
          <a:srcRect l="18781" t="2499" r="24882" b="0"/>
          <a:stretch/>
        </p:blipFill>
        <p:spPr>
          <a:xfrm>
            <a:off x="6653160" y="228600"/>
            <a:ext cx="2490840" cy="6477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ost-9736-1263026522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0" y="0"/>
            <a:ext cx="4114800" cy="60199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7"/>
          <p:cNvSpPr/>
          <p:nvPr/>
        </p:nvSpPr>
        <p:spPr>
          <a:xfrm>
            <a:off x="1981080" y="228600"/>
            <a:ext cx="45720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равни            образ преодоления, победы, торжества, выраженный в скульптурах и в симфонической музыке Бетховена.     Что в них общего?</a:t>
            </a:r>
            <a:endParaRPr b="0" lang="en-US" sz="36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64" name="29 - Л. ван Бетховен - Симфония №5 - Четвертая часть.mp3" descr=""/>
          <p:cNvPicPr/>
          <p:nvPr/>
        </p:nvPicPr>
        <p:blipFill>
          <a:blip r:embed="rId3"/>
          <a:stretch/>
        </p:blipFill>
        <p:spPr>
          <a:xfrm>
            <a:off x="8380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315200" cy="18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Georgia"/>
              </a:rPr>
              <a:t>А вот как вода видит Симфонию №5     Людвига ван Бетховена. Оцените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image001"/>
          <p:cNvPicPr/>
          <p:nvPr/>
        </p:nvPicPr>
        <p:blipFill>
          <a:blip r:embed="rId1"/>
          <a:srcRect l="12501" t="0" r="10940" b="0"/>
          <a:stretch/>
        </p:blipFill>
        <p:spPr>
          <a:xfrm>
            <a:off x="1828800" y="2590920"/>
            <a:ext cx="3733920" cy="34336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1288440" y="6095880"/>
            <a:ext cx="807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Масару Эмото «Послания воды»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pic>
        <p:nvPicPr>
          <p:cNvPr id="68" name="Picture 10" descr="image012"/>
          <p:cNvPicPr/>
          <p:nvPr/>
        </p:nvPicPr>
        <p:blipFill>
          <a:blip r:embed="rId2"/>
          <a:stretch/>
        </p:blipFill>
        <p:spPr>
          <a:xfrm>
            <a:off x="6400800" y="2590920"/>
            <a:ext cx="236232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Georgia"/>
              </a:rPr>
              <a:t>Земли решается судьба. Оркестр Бетховена играет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23920" y="1904760"/>
            <a:ext cx="44197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С этими словами ты часто встречаешься во всех видах искус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3276720" y="2133720"/>
            <a:ext cx="129528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72" name="AutoShape 9"/>
          <p:cNvSpPr/>
          <p:nvPr/>
        </p:nvSpPr>
        <p:spPr>
          <a:xfrm>
            <a:off x="1371600" y="1905120"/>
            <a:ext cx="3809880" cy="2361960"/>
          </a:xfrm>
          <a:prstGeom prst="rightArrowCallout">
            <a:avLst>
              <a:gd name="adj1" fmla="val 25002"/>
              <a:gd name="adj2" fmla="val 25000"/>
              <a:gd name="adj3" fmla="val 26884"/>
              <a:gd name="adj4" fmla="val 6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73" name="AutoShape 11"/>
          <p:cNvSpPr/>
          <p:nvPr/>
        </p:nvSpPr>
        <p:spPr>
          <a:xfrm>
            <a:off x="380880" y="1981080"/>
            <a:ext cx="4343400" cy="2819520"/>
          </a:xfrm>
          <a:prstGeom prst="rightArrowCallout">
            <a:avLst>
              <a:gd name="adj1" fmla="val 25002"/>
              <a:gd name="adj2" fmla="val 25000"/>
              <a:gd name="adj3" fmla="val 42641"/>
              <a:gd name="adj4" fmla="val 66667"/>
            </a:avLst>
          </a:prstGeom>
          <a:solidFill>
            <a:srgbClr val="ccec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Эскиз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Этюд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Набросок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Зарисовка</a:t>
            </a: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4648320" y="228600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Где ты встречаешься с этими словами?</a:t>
            </a:r>
            <a:endParaRPr b="0" lang="en-US" sz="3600" spc="-1" strike="noStrike">
              <a:solidFill>
                <a:srgbClr val="000000"/>
              </a:solidFill>
              <a:latin typeface="comic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1219320" y="4952880"/>
            <a:ext cx="792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оздание произведения всегда связано с поиском единства формы и содержания.</a:t>
            </a:r>
            <a:endParaRPr b="0" lang="en-US" sz="3600" spc="-1" strike="noStrike">
              <a:solidFill>
                <a:srgbClr val="000000"/>
              </a:solidFill>
              <a:latin typeface="com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я</cp:lastModifiedBy>
  <dcterms:modified xsi:type="dcterms:W3CDTF">2018-06-29T10:16:4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