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1B65-B466-47FD-962F-502C1FB36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7EBE-6854-40F6-90A1-9A348457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98DC-4590-4E85-B515-5631E6331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1B30-FE1C-4CC9-BC24-8825DFBE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460B-7EF0-4A07-8112-9B022C7E9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0124-2D22-4301-B5FE-9EB91027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B6C5-A983-498C-BEE6-879756976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54AA-AF5C-44CA-BF0B-9DD2042B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20A66-B7D1-4359-9D7D-4DDBD998B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1484C-5419-4CC9-A597-5BA72C998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68D5-279D-4DF4-9E7F-C5F55D9F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692-F5DC-4229-AA2F-7FF695177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5851-D70F-458E-9E19-0E33AB3D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9C3B-8286-4E5B-B4DD-2800198D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B42E-04F9-4091-A0DC-9DF032D9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2EC7-EF4D-4CA3-B1A5-3A3133D3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A5891-1A9C-42B4-8926-C9B75E3D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D69FF-0F7A-48CE-BF73-1615F329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2D9F1-DF2C-4DA7-8B71-2F4EF49E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F9373-3102-42E2-94DD-2110552A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4C019-B58F-4BCB-B368-C719B0ED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C67E2-A957-406D-AACA-CDE63FE0D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71A2-9C57-4636-A0DB-EA2DAB75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41E09-EBF2-4BDE-8553-A725B0D5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22EF8-69FD-4756-BB48-4A2B5096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ABB5F-182D-4193-8D91-0CCCEDD8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28AF5-70CB-4C24-BBED-7671A71D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AFEB1-159D-46D9-A1A3-5B545149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9D76BD-3969-43E4-8928-9851ED7C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C386F-08EC-4F54-9E04-71FCEEE08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FBB5-6359-44A8-B6F0-98B178AA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A26-9C8F-480A-9724-8C751370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D253-0328-4D9D-B368-06017461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340-BCBB-470E-8B47-5BB30BAE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EC9D-40B4-4AFC-95B4-FF10C9FD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10E5-F5A8-4E2F-9B4F-BE775097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7DAF3-B3E6-4CB0-8F22-25FC28B3DAF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3AEAB-3E37-4E6F-8A24-5DE8F73DA2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2BD0-3E54-48A8-859B-4F2FB33293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0" y="246816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кация химических элементо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иограф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184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дился Д.И.Менделеев  27 января (6 февраля) 1834 г. в городе Тобольс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7" descr="вид Тобольска"/>
          <p:cNvPicPr/>
          <p:nvPr/>
        </p:nvPicPr>
        <p:blipFill>
          <a:blip r:embed="rId1"/>
          <a:stretch/>
        </p:blipFill>
        <p:spPr>
          <a:xfrm>
            <a:off x="5508720" y="3500280"/>
            <a:ext cx="3306600" cy="2302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3" name="Picture 4" descr="ДИМ 1855"/>
          <p:cNvPicPr/>
          <p:nvPr/>
        </p:nvPicPr>
        <p:blipFill>
          <a:blip r:embed="rId2"/>
          <a:stretch/>
        </p:blipFill>
        <p:spPr>
          <a:xfrm>
            <a:off x="539640" y="3213000"/>
            <a:ext cx="2189160" cy="3024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Биограф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Мария Дмитриевна Менделеева"/>
          <p:cNvPicPr/>
          <p:nvPr/>
        </p:nvPicPr>
        <p:blipFill>
          <a:blip r:embed="rId1"/>
          <a:stretch/>
        </p:blipFill>
        <p:spPr>
          <a:xfrm>
            <a:off x="611280" y="2565360"/>
            <a:ext cx="3085920" cy="386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56" name="Picture 6" descr="иван Павлович Менделеев"/>
          <p:cNvPicPr/>
          <p:nvPr/>
        </p:nvPicPr>
        <p:blipFill>
          <a:blip r:embed="rId2"/>
          <a:stretch/>
        </p:blipFill>
        <p:spPr>
          <a:xfrm>
            <a:off x="5940360" y="1628640"/>
            <a:ext cx="2790720" cy="3818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7" name="Text Box 8"/>
          <p:cNvSpPr/>
          <p:nvPr/>
        </p:nvSpPr>
        <p:spPr>
          <a:xfrm>
            <a:off x="0" y="1268280"/>
            <a:ext cx="41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ария Дмитриевна Менделеева (1793 - 1830), мать уче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4716360" y="5732640"/>
            <a:ext cx="44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ван Павлович Менделеев (1783 - 1847), отец уче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Би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0" y="10526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.И. Менделеев учился в Тобольской гимназии, а затем в Педагогическом институте в Петербург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отно занимался физикой и математикой.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институте он встретил выдающихся учителей, умевших заронить в души своих слушателей глубокий интерес к нау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тоб"/>
          <p:cNvPicPr/>
          <p:nvPr/>
        </p:nvPicPr>
        <p:blipFill>
          <a:blip r:embed="rId1"/>
          <a:stretch/>
        </p:blipFill>
        <p:spPr>
          <a:xfrm>
            <a:off x="4284720" y="4581360"/>
            <a:ext cx="3456000" cy="21193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Arial"/>
              </a:rPr>
              <a:t>Би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0" y="142416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55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. Д. И. Менделеев окончил институт с золотой медалью, получил диплом старшего учите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6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. был избран профессором Петербурского технологичесгого институ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867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. занимал в университете кафедру неорганической хим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760" y="5000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снову работ по классификации химических элементов Д.И.Менделеева положены </a:t>
            </a:r>
            <a:br>
              <a:rPr sz="2800"/>
            </a:br>
            <a:r>
              <a:rPr b="0" lang="ru-RU" sz="2800" spc="-1" strike="noStrike">
                <a:solidFill>
                  <a:srgbClr val="c00000"/>
                </a:solidFill>
                <a:latin typeface="Arial"/>
              </a:rPr>
              <a:t>два признак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85880" y="20714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еличины атомных ве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c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Химические свой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12" descr="mendeleev[1]"/>
          <p:cNvPicPr/>
          <p:nvPr/>
        </p:nvPicPr>
        <p:blipFill>
          <a:blip r:embed="rId1"/>
          <a:stretch/>
        </p:blipFill>
        <p:spPr>
          <a:xfrm>
            <a:off x="5435640" y="1944720"/>
            <a:ext cx="3070080" cy="3860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214200" y="1413000"/>
            <a:ext cx="2519640" cy="361476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2786040" y="1571760"/>
            <a:ext cx="63579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 эле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томная масса элемент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ула летучего соединения с водород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ула высшего окси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ула соответствующего гидрокси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939240" y="285840"/>
            <a:ext cx="750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точка с химическим элемен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8"/>
          <p:cNvSpPr/>
          <p:nvPr/>
        </p:nvSpPr>
        <p:spPr>
          <a:xfrm>
            <a:off x="468360" y="2058840"/>
            <a:ext cx="934920" cy="1298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9"/>
          <p:cNvSpPr/>
          <p:nvPr/>
        </p:nvSpPr>
        <p:spPr>
          <a:xfrm>
            <a:off x="1476360" y="205884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0"/>
          <p:cNvSpPr/>
          <p:nvPr/>
        </p:nvSpPr>
        <p:spPr>
          <a:xfrm>
            <a:off x="2484360" y="2058840"/>
            <a:ext cx="93528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1"/>
          <p:cNvSpPr/>
          <p:nvPr/>
        </p:nvSpPr>
        <p:spPr>
          <a:xfrm>
            <a:off x="3492360" y="2058840"/>
            <a:ext cx="935280" cy="132264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3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(OH)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2"/>
          <p:cNvSpPr/>
          <p:nvPr/>
        </p:nvSpPr>
        <p:spPr>
          <a:xfrm>
            <a:off x="4500720" y="205884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3"/>
          <p:cNvSpPr/>
          <p:nvPr/>
        </p:nvSpPr>
        <p:spPr>
          <a:xfrm>
            <a:off x="5508720" y="205884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4"/>
          <p:cNvSpPr/>
          <p:nvPr/>
        </p:nvSpPr>
        <p:spPr>
          <a:xfrm>
            <a:off x="6516720" y="2058840"/>
            <a:ext cx="934920" cy="1322640"/>
          </a:xfrm>
          <a:prstGeom prst="rect">
            <a:avLst/>
          </a:prstGeom>
          <a:solidFill>
            <a:srgbClr val="fa9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5"/>
          <p:cNvSpPr/>
          <p:nvPr/>
        </p:nvSpPr>
        <p:spPr>
          <a:xfrm>
            <a:off x="468360" y="3573360"/>
            <a:ext cx="93492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6"/>
          <p:cNvSpPr/>
          <p:nvPr/>
        </p:nvSpPr>
        <p:spPr>
          <a:xfrm>
            <a:off x="1476360" y="3571920"/>
            <a:ext cx="934920" cy="132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7"/>
          <p:cNvSpPr/>
          <p:nvPr/>
        </p:nvSpPr>
        <p:spPr>
          <a:xfrm>
            <a:off x="2484360" y="3571920"/>
            <a:ext cx="935280" cy="132228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8"/>
          <p:cNvSpPr/>
          <p:nvPr/>
        </p:nvSpPr>
        <p:spPr>
          <a:xfrm>
            <a:off x="3492360" y="3571920"/>
            <a:ext cx="93528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9"/>
          <p:cNvSpPr/>
          <p:nvPr/>
        </p:nvSpPr>
        <p:spPr>
          <a:xfrm>
            <a:off x="4500720" y="3571920"/>
            <a:ext cx="93492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0"/>
          <p:cNvSpPr/>
          <p:nvPr/>
        </p:nvSpPr>
        <p:spPr>
          <a:xfrm>
            <a:off x="5508720" y="3571920"/>
            <a:ext cx="93492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1"/>
          <p:cNvSpPr/>
          <p:nvPr/>
        </p:nvSpPr>
        <p:spPr>
          <a:xfrm>
            <a:off x="6516720" y="3571920"/>
            <a:ext cx="934920" cy="1322280"/>
          </a:xfrm>
          <a:prstGeom prst="rect">
            <a:avLst/>
          </a:prstGeom>
          <a:solidFill>
            <a:srgbClr val="fa9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5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5"/>
          <p:cNvSpPr/>
          <p:nvPr/>
        </p:nvSpPr>
        <p:spPr>
          <a:xfrm>
            <a:off x="1237680" y="357120"/>
            <a:ext cx="610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ало классифик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мических элементов Д. И. Менделеевы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68360" y="2058840"/>
            <a:ext cx="934920" cy="1298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7"/>
          <p:cNvSpPr/>
          <p:nvPr/>
        </p:nvSpPr>
        <p:spPr>
          <a:xfrm>
            <a:off x="1476360" y="205884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484360" y="2058840"/>
            <a:ext cx="93528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>
            <a:off x="3492360" y="2058840"/>
            <a:ext cx="935280" cy="132264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3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(OH)</a:t>
            </a:r>
            <a:r>
              <a:rPr b="1" lang="ru-RU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4500720" y="205884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1"/>
          <p:cNvSpPr/>
          <p:nvPr/>
        </p:nvSpPr>
        <p:spPr>
          <a:xfrm>
            <a:off x="5508720" y="205884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2"/>
          <p:cNvSpPr/>
          <p:nvPr/>
        </p:nvSpPr>
        <p:spPr>
          <a:xfrm>
            <a:off x="6516720" y="2058840"/>
            <a:ext cx="934920" cy="1322640"/>
          </a:xfrm>
          <a:prstGeom prst="rect">
            <a:avLst/>
          </a:prstGeom>
          <a:solidFill>
            <a:srgbClr val="fa9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468360" y="3573360"/>
            <a:ext cx="93492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1476360" y="3571920"/>
            <a:ext cx="934920" cy="132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2484360" y="3571920"/>
            <a:ext cx="935280" cy="132228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3492360" y="3571920"/>
            <a:ext cx="93528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7"/>
          <p:cNvSpPr/>
          <p:nvPr/>
        </p:nvSpPr>
        <p:spPr>
          <a:xfrm>
            <a:off x="4500720" y="3571920"/>
            <a:ext cx="93492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8"/>
          <p:cNvSpPr/>
          <p:nvPr/>
        </p:nvSpPr>
        <p:spPr>
          <a:xfrm>
            <a:off x="5508720" y="3571920"/>
            <a:ext cx="93492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9"/>
          <p:cNvSpPr/>
          <p:nvPr/>
        </p:nvSpPr>
        <p:spPr>
          <a:xfrm>
            <a:off x="6516720" y="3571920"/>
            <a:ext cx="934920" cy="1322280"/>
          </a:xfrm>
          <a:prstGeom prst="rect">
            <a:avLst/>
          </a:prstGeom>
          <a:solidFill>
            <a:srgbClr val="fa9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5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20"/>
          <p:cNvSpPr/>
          <p:nvPr/>
        </p:nvSpPr>
        <p:spPr>
          <a:xfrm>
            <a:off x="1979640" y="476280"/>
            <a:ext cx="934920" cy="132228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22222E-006 L 0.11424 -0.00162 E">
                                      <p:cBhvr>
                                        <p:cTn id="129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0162 L 0.11025 2.59259E-006 E">
                                      <p:cBhvr>
                                        <p:cTn id="131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0.00324 L -0.05903 0.23241 E">
                                      <p:cBhvr>
                                        <p:cTn id="135" dur="20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55"/>
          <p:cNvSpPr/>
          <p:nvPr/>
        </p:nvSpPr>
        <p:spPr>
          <a:xfrm>
            <a:off x="179280" y="692280"/>
            <a:ext cx="1214640" cy="20206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6"/>
          <p:cNvSpPr/>
          <p:nvPr/>
        </p:nvSpPr>
        <p:spPr>
          <a:xfrm>
            <a:off x="1476360" y="692280"/>
            <a:ext cx="1214280" cy="20206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g(OH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57"/>
          <p:cNvSpPr/>
          <p:nvPr/>
        </p:nvSpPr>
        <p:spPr>
          <a:xfrm>
            <a:off x="2771640" y="692280"/>
            <a:ext cx="1143000" cy="202068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(OH)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8"/>
          <p:cNvSpPr/>
          <p:nvPr/>
        </p:nvSpPr>
        <p:spPr>
          <a:xfrm>
            <a:off x="3995640" y="692280"/>
            <a:ext cx="1144800" cy="20206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59"/>
          <p:cNvSpPr/>
          <p:nvPr/>
        </p:nvSpPr>
        <p:spPr>
          <a:xfrm>
            <a:off x="5219640" y="692280"/>
            <a:ext cx="1143000" cy="20206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0"/>
          <p:cNvSpPr/>
          <p:nvPr/>
        </p:nvSpPr>
        <p:spPr>
          <a:xfrm>
            <a:off x="6443640" y="692280"/>
            <a:ext cx="1214640" cy="20206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1"/>
          <p:cNvSpPr/>
          <p:nvPr/>
        </p:nvSpPr>
        <p:spPr>
          <a:xfrm>
            <a:off x="7740720" y="692280"/>
            <a:ext cx="1214280" cy="2020680"/>
          </a:xfrm>
          <a:prstGeom prst="rect">
            <a:avLst/>
          </a:prstGeom>
          <a:solidFill>
            <a:srgbClr val="fa9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,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O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7"/>
          <p:cNvSpPr/>
          <p:nvPr/>
        </p:nvSpPr>
        <p:spPr>
          <a:xfrm>
            <a:off x="324000" y="3284640"/>
            <a:ext cx="85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1.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Металлические свойства простых веществ, наиболее ярко выражены у щелочных металлов, ослабевают и сменяются неметаллическими, которые наиболее ярко выражены у галогенов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Arial Unicode MS"/>
              </a:rPr>
              <a:t>- Основные оксиды элементов начала ряда сменяет амфотерный оксид и далее кислотные, кислотность которых усиливает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трелка вправо 18"/>
          <p:cNvSpPr/>
          <p:nvPr/>
        </p:nvSpPr>
        <p:spPr>
          <a:xfrm>
            <a:off x="324000" y="2781360"/>
            <a:ext cx="8572320" cy="285840"/>
          </a:xfrm>
          <a:prstGeom prst="rightArrow">
            <a:avLst>
              <a:gd name="adj1" fmla="val 50000"/>
              <a:gd name="adj2" fmla="val 49983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0"/>
          <p:cNvSpPr/>
          <p:nvPr/>
        </p:nvSpPr>
        <p:spPr>
          <a:xfrm>
            <a:off x="214200" y="5732640"/>
            <a:ext cx="89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чение валентности атомов в высших оксидах возрастает от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до 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VII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2"/>
          <p:cNvSpPr/>
          <p:nvPr/>
        </p:nvSpPr>
        <p:spPr>
          <a:xfrm>
            <a:off x="250920" y="501336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26"/>
          <p:cNvSpPr/>
          <p:nvPr/>
        </p:nvSpPr>
        <p:spPr>
          <a:xfrm>
            <a:off x="395280" y="4869000"/>
            <a:ext cx="87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Основания через амфотерный гидроксид сменяются все более сильными кислота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7"/>
          <p:cNvSpPr/>
          <p:nvPr/>
        </p:nvSpPr>
        <p:spPr>
          <a:xfrm>
            <a:off x="900000" y="0"/>
            <a:ext cx="757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Изменение химических свойств в ряд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468360" y="2058840"/>
            <a:ext cx="934920" cy="1298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2484360" y="2060640"/>
            <a:ext cx="93528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3492360" y="2060640"/>
            <a:ext cx="93528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500720" y="205884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1"/>
          <p:cNvSpPr/>
          <p:nvPr/>
        </p:nvSpPr>
        <p:spPr>
          <a:xfrm>
            <a:off x="5508720" y="205884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2"/>
          <p:cNvSpPr/>
          <p:nvPr/>
        </p:nvSpPr>
        <p:spPr>
          <a:xfrm>
            <a:off x="6516720" y="2058840"/>
            <a:ext cx="934920" cy="1322640"/>
          </a:xfrm>
          <a:prstGeom prst="rect">
            <a:avLst/>
          </a:prstGeom>
          <a:solidFill>
            <a:srgbClr val="fa9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360" y="3573360"/>
            <a:ext cx="93492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1476360" y="3571920"/>
            <a:ext cx="934920" cy="132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2484360" y="3571920"/>
            <a:ext cx="935280" cy="132228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3492360" y="3571920"/>
            <a:ext cx="93528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7"/>
          <p:cNvSpPr/>
          <p:nvPr/>
        </p:nvSpPr>
        <p:spPr>
          <a:xfrm>
            <a:off x="4500720" y="3571920"/>
            <a:ext cx="93492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5508720" y="3571920"/>
            <a:ext cx="93492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9"/>
          <p:cNvSpPr/>
          <p:nvPr/>
        </p:nvSpPr>
        <p:spPr>
          <a:xfrm>
            <a:off x="6516720" y="3571920"/>
            <a:ext cx="934920" cy="1322280"/>
          </a:xfrm>
          <a:prstGeom prst="rect">
            <a:avLst/>
          </a:prstGeom>
          <a:solidFill>
            <a:srgbClr val="fa9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5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20"/>
          <p:cNvSpPr/>
          <p:nvPr/>
        </p:nvSpPr>
        <p:spPr>
          <a:xfrm>
            <a:off x="1476360" y="2060640"/>
            <a:ext cx="934920" cy="132228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25"/>
          <p:cNvSpPr/>
          <p:nvPr/>
        </p:nvSpPr>
        <p:spPr>
          <a:xfrm>
            <a:off x="468360" y="5084640"/>
            <a:ext cx="93492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26"/>
          <p:cNvSpPr/>
          <p:nvPr/>
        </p:nvSpPr>
        <p:spPr>
          <a:xfrm>
            <a:off x="1476360" y="5084640"/>
            <a:ext cx="93492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27"/>
          <p:cNvSpPr/>
          <p:nvPr/>
        </p:nvSpPr>
        <p:spPr>
          <a:xfrm>
            <a:off x="2484360" y="5084640"/>
            <a:ext cx="935280" cy="132264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28"/>
          <p:cNvSpPr/>
          <p:nvPr/>
        </p:nvSpPr>
        <p:spPr>
          <a:xfrm>
            <a:off x="2484360" y="5084640"/>
            <a:ext cx="93528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b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b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9"/>
          <p:cNvSpPr/>
          <p:nvPr/>
        </p:nvSpPr>
        <p:spPr>
          <a:xfrm>
            <a:off x="2484360" y="5084640"/>
            <a:ext cx="93528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48148E-006 L 0.10643 -0.00162 E">
                                      <p:cBhvr>
                                        <p:cTn id="182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2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шественники   Д. И. Менделе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-360" y="1413000"/>
            <a:ext cx="600084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Й. Я. Берцелиус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 шведский учёны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лассифицировал все элементы на металлы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и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металлы.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определил, что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таллам чаще всего соответствую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оксид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ан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металлам – кислотные оксиды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исло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→Na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→Na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 →SO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H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O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Рисунок 3" descr="http://www.by-time.ru/upload/iblock/599/123624402421a6.jpg"/>
          <p:cNvPicPr/>
          <p:nvPr/>
        </p:nvPicPr>
        <p:blipFill>
          <a:blip r:embed="rId1"/>
          <a:stretch/>
        </p:blipFill>
        <p:spPr>
          <a:xfrm>
            <a:off x="6000840" y="2714760"/>
            <a:ext cx="28573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6"/>
          <p:cNvSpPr/>
          <p:nvPr/>
        </p:nvSpPr>
        <p:spPr>
          <a:xfrm>
            <a:off x="4834080" y="1189080"/>
            <a:ext cx="934920" cy="129852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6850080" y="119052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8"/>
          <p:cNvSpPr/>
          <p:nvPr/>
        </p:nvSpPr>
        <p:spPr>
          <a:xfrm>
            <a:off x="7858080" y="119052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4834080" y="2703600"/>
            <a:ext cx="934920" cy="132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5842080" y="2701800"/>
            <a:ext cx="93492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6850080" y="2701800"/>
            <a:ext cx="934920" cy="132264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7858080" y="270180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4834080" y="4214880"/>
            <a:ext cx="934920" cy="132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9,098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22"/>
          <p:cNvSpPr/>
          <p:nvPr/>
        </p:nvSpPr>
        <p:spPr>
          <a:xfrm>
            <a:off x="5842080" y="4214880"/>
            <a:ext cx="934920" cy="132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23"/>
          <p:cNvSpPr/>
          <p:nvPr/>
        </p:nvSpPr>
        <p:spPr>
          <a:xfrm>
            <a:off x="6850080" y="4214880"/>
            <a:ext cx="934920" cy="132228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7,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(OH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4"/>
          <p:cNvSpPr/>
          <p:nvPr/>
        </p:nvSpPr>
        <p:spPr>
          <a:xfrm>
            <a:off x="6850080" y="4214880"/>
            <a:ext cx="934920" cy="132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b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b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5"/>
          <p:cNvSpPr/>
          <p:nvPr/>
        </p:nvSpPr>
        <p:spPr>
          <a:xfrm>
            <a:off x="6850080" y="4214880"/>
            <a:ext cx="934920" cy="132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0"/>
          <p:cNvSpPr/>
          <p:nvPr/>
        </p:nvSpPr>
        <p:spPr>
          <a:xfrm>
            <a:off x="7858080" y="4214880"/>
            <a:ext cx="934920" cy="132228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5842080" y="1190520"/>
            <a:ext cx="934920" cy="132264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32"/>
          <p:cNvSpPr/>
          <p:nvPr/>
        </p:nvSpPr>
        <p:spPr>
          <a:xfrm>
            <a:off x="4834080" y="4214880"/>
            <a:ext cx="934920" cy="132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30"/>
          <p:cNvSpPr/>
          <p:nvPr/>
        </p:nvSpPr>
        <p:spPr>
          <a:xfrm>
            <a:off x="857160" y="285840"/>
            <a:ext cx="77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Times New Roman"/>
                <a:ea typeface="Times New Roman"/>
              </a:rPr>
              <a:t>Изменение химических свойств в столбц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Стрелка вниз 31"/>
          <p:cNvSpPr/>
          <p:nvPr/>
        </p:nvSpPr>
        <p:spPr>
          <a:xfrm>
            <a:off x="4286160" y="1143000"/>
            <a:ext cx="285840" cy="5286240"/>
          </a:xfrm>
          <a:prstGeom prst="downArrow">
            <a:avLst>
              <a:gd name="adj1" fmla="val 50000"/>
              <a:gd name="adj2" fmla="val 50001"/>
            </a:avLst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32"/>
          <p:cNvSpPr/>
          <p:nvPr/>
        </p:nvSpPr>
        <p:spPr>
          <a:xfrm>
            <a:off x="214200" y="1357200"/>
            <a:ext cx="4000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таллические свойства усиливаются сверху вниз, а неметаллические ослабеваю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33"/>
          <p:cNvSpPr/>
          <p:nvPr/>
        </p:nvSpPr>
        <p:spPr>
          <a:xfrm>
            <a:off x="179280" y="3068640"/>
            <a:ext cx="350064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</a:t>
            </a:r>
            <a:r>
              <a:rPr b="0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ачение валентности атомов в высших оксидах не изменяет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6"/>
          <p:cNvSpPr/>
          <p:nvPr/>
        </p:nvSpPr>
        <p:spPr>
          <a:xfrm>
            <a:off x="468360" y="2058840"/>
            <a:ext cx="934920" cy="12988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i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2484360" y="2060640"/>
            <a:ext cx="93528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3492360" y="2060640"/>
            <a:ext cx="93528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4500720" y="205884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N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5508720" y="2058840"/>
            <a:ext cx="934920" cy="132264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12"/>
          <p:cNvSpPr/>
          <p:nvPr/>
        </p:nvSpPr>
        <p:spPr>
          <a:xfrm>
            <a:off x="6516720" y="2058840"/>
            <a:ext cx="934920" cy="1322640"/>
          </a:xfrm>
          <a:prstGeom prst="rect">
            <a:avLst/>
          </a:prstGeom>
          <a:solidFill>
            <a:srgbClr val="fa9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F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13"/>
          <p:cNvSpPr/>
          <p:nvPr/>
        </p:nvSpPr>
        <p:spPr>
          <a:xfrm>
            <a:off x="468360" y="3573360"/>
            <a:ext cx="93492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a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1476360" y="3571920"/>
            <a:ext cx="934920" cy="132228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Mg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5"/>
          <p:cNvSpPr/>
          <p:nvPr/>
        </p:nvSpPr>
        <p:spPr>
          <a:xfrm>
            <a:off x="2484360" y="3571920"/>
            <a:ext cx="935280" cy="132228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l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6"/>
          <p:cNvSpPr/>
          <p:nvPr/>
        </p:nvSpPr>
        <p:spPr>
          <a:xfrm>
            <a:off x="3492360" y="3571920"/>
            <a:ext cx="93528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7"/>
          <p:cNvSpPr/>
          <p:nvPr/>
        </p:nvSpPr>
        <p:spPr>
          <a:xfrm>
            <a:off x="4500720" y="3571920"/>
            <a:ext cx="93492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8"/>
          <p:cNvSpPr/>
          <p:nvPr/>
        </p:nvSpPr>
        <p:spPr>
          <a:xfrm>
            <a:off x="5508720" y="3571920"/>
            <a:ext cx="934920" cy="1322280"/>
          </a:xfrm>
          <a:prstGeom prst="rect">
            <a:avLst/>
          </a:prstGeom>
          <a:solidFill>
            <a:srgbClr val="ff6d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9"/>
          <p:cNvSpPr/>
          <p:nvPr/>
        </p:nvSpPr>
        <p:spPr>
          <a:xfrm>
            <a:off x="6516720" y="3571920"/>
            <a:ext cx="934920" cy="1322280"/>
          </a:xfrm>
          <a:prstGeom prst="rect">
            <a:avLst/>
          </a:prstGeom>
          <a:solidFill>
            <a:srgbClr val="fa9f3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5,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C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HClO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1"/>
          <p:cNvSpPr/>
          <p:nvPr/>
        </p:nvSpPr>
        <p:spPr>
          <a:xfrm>
            <a:off x="468360" y="5084640"/>
            <a:ext cx="93492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9,098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476360" y="5084640"/>
            <a:ext cx="93492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(OH)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3"/>
          <p:cNvSpPr/>
          <p:nvPr/>
        </p:nvSpPr>
        <p:spPr>
          <a:xfrm>
            <a:off x="2484360" y="5084640"/>
            <a:ext cx="935280" cy="132264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7,9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(OH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24"/>
          <p:cNvSpPr/>
          <p:nvPr/>
        </p:nvSpPr>
        <p:spPr>
          <a:xfrm>
            <a:off x="2484360" y="5084640"/>
            <a:ext cx="93528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b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b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b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5"/>
          <p:cNvSpPr/>
          <p:nvPr/>
        </p:nvSpPr>
        <p:spPr>
          <a:xfrm>
            <a:off x="2484360" y="5084640"/>
            <a:ext cx="93528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c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6"/>
          <p:cNvSpPr/>
          <p:nvPr/>
        </p:nvSpPr>
        <p:spPr>
          <a:xfrm>
            <a:off x="1979640" y="260280"/>
            <a:ext cx="4164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Открытие благородных газов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и положение водор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7"/>
          <p:cNvSpPr/>
          <p:nvPr/>
        </p:nvSpPr>
        <p:spPr>
          <a:xfrm>
            <a:off x="7667640" y="549360"/>
            <a:ext cx="936720" cy="132228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28"/>
          <p:cNvSpPr/>
          <p:nvPr/>
        </p:nvSpPr>
        <p:spPr>
          <a:xfrm>
            <a:off x="7667640" y="2060640"/>
            <a:ext cx="936720" cy="132228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9"/>
          <p:cNvSpPr/>
          <p:nvPr/>
        </p:nvSpPr>
        <p:spPr>
          <a:xfrm>
            <a:off x="7667640" y="3573360"/>
            <a:ext cx="936720" cy="1322640"/>
          </a:xfrm>
          <a:prstGeom prst="rect">
            <a:avLst/>
          </a:prstGeom>
          <a:solidFill>
            <a:srgbClr val="9ed3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0"/>
          <p:cNvSpPr/>
          <p:nvPr/>
        </p:nvSpPr>
        <p:spPr>
          <a:xfrm>
            <a:off x="3492360" y="5084640"/>
            <a:ext cx="935280" cy="132264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O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i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31"/>
          <p:cNvSpPr/>
          <p:nvPr/>
        </p:nvSpPr>
        <p:spPr>
          <a:xfrm>
            <a:off x="1476360" y="2060640"/>
            <a:ext cx="934920" cy="1322280"/>
          </a:xfrm>
          <a:prstGeom prst="rect">
            <a:avLst/>
          </a:prstGeom>
          <a:solidFill>
            <a:srgbClr val="91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e(OH)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2"/>
          <p:cNvSpPr/>
          <p:nvPr/>
        </p:nvSpPr>
        <p:spPr>
          <a:xfrm>
            <a:off x="468360" y="5084640"/>
            <a:ext cx="934920" cy="1322640"/>
          </a:xfrm>
          <a:prstGeom prst="rect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KO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4"/>
          <p:cNvSpPr/>
          <p:nvPr/>
        </p:nvSpPr>
        <p:spPr>
          <a:xfrm>
            <a:off x="6516720" y="547560"/>
            <a:ext cx="936720" cy="132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5"/>
          <p:cNvSpPr/>
          <p:nvPr/>
        </p:nvSpPr>
        <p:spPr>
          <a:xfrm>
            <a:off x="468360" y="549360"/>
            <a:ext cx="936720" cy="132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9" dur="1500" autoRev="1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70" dur="1500" autoRev="1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71" dur="1500" autoRev="1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1500" autoRev="1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74" dur="1500" autoRev="1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75" dur="1500" autoRev="1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7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8" dur="1500" autoRev="1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79" dur="1500" autoRev="1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80" dur="1500" autoRev="1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1500" autoRev="1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283" dur="1500" autoRev="1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284" dur="1500" autoRev="1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-171720"/>
            <a:ext cx="872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еский закон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ормулировка Д. И. Менделеее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13840" y="765000"/>
            <a:ext cx="89298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войства элементов, а потому и свойства образуемых ими простых и сложных тел находятся в периодической зависимости от их атомного веса</a:t>
            </a:r>
            <a:r>
              <a:rPr b="0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ь рож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го зак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марта 1869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63360" y="-136440"/>
            <a:ext cx="1847880" cy="26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7"/>
          <p:cNvSpPr/>
          <p:nvPr/>
        </p:nvSpPr>
        <p:spPr>
          <a:xfrm>
            <a:off x="63360" y="-136440"/>
            <a:ext cx="93916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9"/>
          <p:cNvSpPr/>
          <p:nvPr/>
        </p:nvSpPr>
        <p:spPr>
          <a:xfrm>
            <a:off x="63360" y="-136440"/>
            <a:ext cx="939168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8" descr="G:\Рисунок1.jpg"/>
          <p:cNvPicPr/>
          <p:nvPr/>
        </p:nvPicPr>
        <p:blipFill>
          <a:blip r:embed="rId1"/>
          <a:srcRect l="0" t="0" r="16337" b="0"/>
          <a:stretch/>
        </p:blipFill>
        <p:spPr>
          <a:xfrm>
            <a:off x="2755800" y="2197080"/>
            <a:ext cx="638820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 Периодического закона и Периодической систем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. И. Менделе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0" y="9810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иодический закон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Основа современной хим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Его открытие дало мощнейший толчок в развитии химических зна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Были разработаны теории строения атома и химической связ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я 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иодической системы Д. И. Менделеев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илось современное понятие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имическом элементе;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ыли уточнены представления о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стых веществах и соединения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явление периодической системы открыло новую, научную эру в истории химии и ряде смежных наук  появилась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тройная систем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 основе которой стало возможным обобщать, делать выводы, предвиде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шественники  Д. И. Менделе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9280" y="1268280"/>
            <a:ext cx="52149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. В. Дёберейне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 немецкий химик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29 г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едпринял первую значимую попытку систематизации элементов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Он заметил, что некоторые сходные по своим свойствам элементы можно объединить по три в группы, которые он назва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риадами. Триады Дёберейн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Рисунок 3" descr="http://www.sil.si.edu/digitalcollections/hst/scientific-identity/thumbnails/TNSIL14-D4-10.jpg"/>
          <p:cNvPicPr/>
          <p:nvPr/>
        </p:nvPicPr>
        <p:blipFill>
          <a:blip r:embed="rId1"/>
          <a:stretch/>
        </p:blipFill>
        <p:spPr>
          <a:xfrm>
            <a:off x="6215040" y="1785960"/>
            <a:ext cx="2643120" cy="335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1" name=""/>
          <p:cNvGraphicFramePr/>
          <p:nvPr/>
        </p:nvGraphicFramePr>
        <p:xfrm>
          <a:off x="642960" y="4929120"/>
          <a:ext cx="3429000" cy="1643040"/>
        </p:xfrm>
        <a:graphic>
          <a:graphicData uri="http://schemas.openxmlformats.org/drawingml/2006/table">
            <a:tbl>
              <a:tblPr/>
              <a:tblGrid>
                <a:gridCol w="685800"/>
                <a:gridCol w="685800"/>
                <a:gridCol w="685800"/>
                <a:gridCol w="685800"/>
                <a:gridCol w="685800"/>
              </a:tblGrid>
              <a:tr h="54792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5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475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32" name="TextBox 5"/>
          <p:cNvSpPr/>
          <p:nvPr/>
        </p:nvSpPr>
        <p:spPr>
          <a:xfrm>
            <a:off x="4872960" y="5805360"/>
            <a:ext cx="389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) = ( 7 + 39  ) / 2 = 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шественники Д. И. Менделе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0" y="1412640"/>
            <a:ext cx="5214960" cy="34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. Бегье де Шанкуртуа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профессор Парижской высшей школы)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62 г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едложил располагать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лементы по спирали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рядке возрастания их атомных мас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ираль Шанкурту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Рисунок 3" descr="http://0.tqn.com/d/chemistry/1/0/J/7/1/AEB_deChancourtois.jpg"/>
          <p:cNvPicPr/>
          <p:nvPr/>
        </p:nvPicPr>
        <p:blipFill>
          <a:blip r:embed="rId1"/>
          <a:stretch/>
        </p:blipFill>
        <p:spPr>
          <a:xfrm>
            <a:off x="6643800" y="1357200"/>
            <a:ext cx="2214360" cy="285768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C:\Documents and Settings\User\Local Settings\Temporary Internet Files\Content.Word\Изображение 004.jpg"/>
          <p:cNvPicPr/>
          <p:nvPr/>
        </p:nvPicPr>
        <p:blipFill>
          <a:blip r:embed="rId2"/>
          <a:stretch/>
        </p:blipFill>
        <p:spPr>
          <a:xfrm>
            <a:off x="4572000" y="4429080"/>
            <a:ext cx="271476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шественники  Д. И. Менделе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4000" y="1483920"/>
            <a:ext cx="5286240" cy="361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. Ньюлендс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глийский учёный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65 г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положил элементы в порядке возрастания их атомных масс. Заметил, что сходство в свойствах проявляется между каждым восьмым элементом. Такую закономерность Ньюлендс назвал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ом октав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аналогии с семью интервалами музыкальной гаммы.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ктава Ньюленд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Рисунок 4" descr="http://img0.liveinternet.ru/images/attach/c/0/51/686/51686648_newlands.jpg"/>
          <p:cNvPicPr/>
          <p:nvPr/>
        </p:nvPicPr>
        <p:blipFill>
          <a:blip r:embed="rId1"/>
          <a:stretch/>
        </p:blipFill>
        <p:spPr>
          <a:xfrm>
            <a:off x="6516720" y="1197000"/>
            <a:ext cx="2286000" cy="278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4643280" y="4262400"/>
          <a:ext cx="4500720" cy="2595600"/>
        </p:xfrm>
        <a:graphic>
          <a:graphicData uri="http://schemas.openxmlformats.org/drawingml/2006/table">
            <a:tbl>
              <a:tblPr/>
              <a:tblGrid>
                <a:gridCol w="793800"/>
                <a:gridCol w="492120"/>
                <a:gridCol w="642960"/>
                <a:gridCol w="642960"/>
                <a:gridCol w="693720"/>
                <a:gridCol w="592200"/>
                <a:gridCol w="642960"/>
              </a:tblGrid>
              <a:tr h="57060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д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р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м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ф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ол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л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с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60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550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4604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67788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Z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дшественники  Д. И. Менделее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714400" y="1052280"/>
            <a:ext cx="642924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Л. Мейер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немецкий химик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64 г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ложил химические элементы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порядке увеличения атомных масс и по валент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аблица Мейер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держала толь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 эле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Рисунок 3" descr="http://content.foto.mail.ru/inbox/groos/_answers/i-454.jpg"/>
          <p:cNvPicPr/>
          <p:nvPr/>
        </p:nvPicPr>
        <p:blipFill>
          <a:blip r:embed="rId1"/>
          <a:srcRect l="0" t="0" r="64207" b="17031"/>
          <a:stretch/>
        </p:blipFill>
        <p:spPr>
          <a:xfrm>
            <a:off x="250920" y="1484280"/>
            <a:ext cx="2357280" cy="302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4" name=""/>
          <p:cNvGraphicFramePr/>
          <p:nvPr/>
        </p:nvGraphicFramePr>
        <p:xfrm>
          <a:off x="3059280" y="3352680"/>
          <a:ext cx="5833800" cy="3505320"/>
        </p:xfrm>
        <a:graphic>
          <a:graphicData uri="http://schemas.openxmlformats.org/drawingml/2006/table">
            <a:tbl>
              <a:tblPr/>
              <a:tblGrid>
                <a:gridCol w="833400"/>
                <a:gridCol w="833400"/>
                <a:gridCol w="833400"/>
                <a:gridCol w="833400"/>
                <a:gridCol w="806400"/>
                <a:gridCol w="860400"/>
                <a:gridCol w="833400"/>
              </a:tblGrid>
              <a:tr h="1041480"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алентность 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4107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4107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I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4107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V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R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4107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S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C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/>
                    </a:solidFill>
                  </a:tcPr>
                </a:tc>
              </a:tr>
              <a:tr h="410760"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 ря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B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T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47520" rIns="47520" tIns="47520" bIns="4752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520" marR="47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268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лассификация химических элементов была не точной, не научной, не совершенной, так как за основу классификации брался не главный призна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14240" y="1714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Тема: </a:t>
            </a: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ериодический закон и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Периодическая система химических элементов</a:t>
            </a:r>
            <a:br>
              <a:rPr sz="4400"/>
            </a:b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 Д.И Менделее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4694400" cy="56163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4572000" y="2143080"/>
            <a:ext cx="45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.И. Менделе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(1834 — 1907 гг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7T17:31:49Z</dcterms:created>
  <dc:creator>1</dc:creator>
  <dc:description/>
  <dc:language>en-US</dc:language>
  <cp:lastModifiedBy>Светлана</cp:lastModifiedBy>
  <dcterms:modified xsi:type="dcterms:W3CDTF">2017-09-12T07:39:13Z</dcterms:modified>
  <cp:revision>55</cp:revision>
  <dc:subject/>
  <dc:title>Тема: Периодический закон Д.И Менделеева</dc:title>
</cp:coreProperties>
</file>