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8AB3-B92D-4DB2-8DF9-1248B9157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3069-FA8A-465A-A85E-A487AEB9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087-02B1-44C4-85CC-C7D4F185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FF89-895B-4E56-B7AB-F9AB67B17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BC5A6-3366-4FC7-AFB7-2A336FD5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0A1C-A129-4CDB-86FF-81084BE10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D105-5813-4AF1-9DA7-D591E5ECC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2A43-C82C-4694-A381-BE434AFF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A6D2-D2E2-40EE-8776-DDBCEAB2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B928E-EB9A-419A-B63E-D886D7DE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5B645-8F7B-4D24-B7CA-96FE90A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5970-97C5-4EE8-A6B0-CDD17BCB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584D-048F-4B9A-9456-48F58F41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43AF-5569-4426-B388-5BF790758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0A80-AEEE-4783-838F-EAB98293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E1DA-E59A-4FCE-8373-9E570BD9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0A95B-532D-4B66-9E53-3BD7EDFF0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20139-A577-462A-9AEA-6FF34A3F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FCB83-DD4E-4132-8D84-477F3094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5F5F-64FE-4A22-AE69-99090D53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B8222-BD49-4592-A82A-D82E7FAEA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833BC-B3B4-4162-A1B1-C595F23BC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8C00-14A4-4062-90E1-D10FC284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395F-E40C-42C5-8ED5-6C3A0272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C793A-D022-4051-8021-24272BAC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CEFF-AD54-4125-A2A3-95247ED9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B88B9-5693-4081-A1FB-3E804840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6B5BD-0052-4D61-96BE-E3DCC4D05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CC46C-B776-4F2C-B4E3-E0A99679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5C68F-7FA2-49E0-ADAC-ACA57756C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C1A1-45A0-45A8-ABCB-B62CF028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A9F-B9F6-4F02-8937-3660D8D2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5647-C6AD-48A6-917D-BA33A1DB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069A-FF71-4B3A-B97D-D8F74243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823-3D29-4BB0-8A81-FD648A8E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0386-9CA9-4519-9A26-74580571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4326-5EBE-4F65-9784-A34F532B84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8AB7-1E33-4B15-A1FB-50C12EC16E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37936-8C18-4FD0-9DD4-2552B833E2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246816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химических элемен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ограф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лся Д.И.Менделеев  27 января (6 февраля) 1834 г. в городе Тоболь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вид Тобольска"/>
          <p:cNvPicPr/>
          <p:nvPr/>
        </p:nvPicPr>
        <p:blipFill>
          <a:blip r:embed="rId1"/>
          <a:stretch/>
        </p:blipFill>
        <p:spPr>
          <a:xfrm>
            <a:off x="5508720" y="3500280"/>
            <a:ext cx="3306600" cy="2302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3" name="Picture 4" descr="ДИМ 1855"/>
          <p:cNvPicPr/>
          <p:nvPr/>
        </p:nvPicPr>
        <p:blipFill>
          <a:blip r:embed="rId2"/>
          <a:stretch/>
        </p:blipFill>
        <p:spPr>
          <a:xfrm>
            <a:off x="539640" y="3213000"/>
            <a:ext cx="2189160" cy="302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иограф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Мария Дмитриевна Менделеева"/>
          <p:cNvPicPr/>
          <p:nvPr/>
        </p:nvPicPr>
        <p:blipFill>
          <a:blip r:embed="rId1"/>
          <a:stretch/>
        </p:blipFill>
        <p:spPr>
          <a:xfrm>
            <a:off x="611280" y="2565360"/>
            <a:ext cx="3085920" cy="386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6" name="Picture 6" descr="иван Павлович Менделеев"/>
          <p:cNvPicPr/>
          <p:nvPr/>
        </p:nvPicPr>
        <p:blipFill>
          <a:blip r:embed="rId2"/>
          <a:stretch/>
        </p:blipFill>
        <p:spPr>
          <a:xfrm>
            <a:off x="5940360" y="1628640"/>
            <a:ext cx="2790720" cy="3818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7" name="Text Box 8"/>
          <p:cNvSpPr/>
          <p:nvPr/>
        </p:nvSpPr>
        <p:spPr>
          <a:xfrm>
            <a:off x="0" y="1268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я Дмитриевна Менделеева (1793 - 1830), мать уче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716360" y="573264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Павлович Менделеев (1783 - 1847), отец уче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И. Менделеев учился в Тобольской гимназии, а затем в Педагогическом институте в Петербург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но занимался физикой и математикой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нституте он встретил выдающихся учителей, умевших заронить в души своих слушателей глубокий интерес к нау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тоб"/>
          <p:cNvPicPr/>
          <p:nvPr/>
        </p:nvPicPr>
        <p:blipFill>
          <a:blip r:embed="rId1"/>
          <a:stretch/>
        </p:blipFill>
        <p:spPr>
          <a:xfrm>
            <a:off x="4284720" y="4581360"/>
            <a:ext cx="3456000" cy="2119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24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5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. Д. И. Менделеев окончил институт с золотой медалью, получил диплом старшего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6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. был избран профессором Петербурского технологичесгого институ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6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. занимал в университете кафедру неорганической хи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у работ по классификации химических элементов Д.И.Менделеева положены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ва призна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5880" y="20714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еличины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имические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mendeleev[1]"/>
          <p:cNvPicPr/>
          <p:nvPr/>
        </p:nvPicPr>
        <p:blipFill>
          <a:blip r:embed="rId1"/>
          <a:stretch/>
        </p:blipFill>
        <p:spPr>
          <a:xfrm>
            <a:off x="5435640" y="1944720"/>
            <a:ext cx="307008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214200" y="1413000"/>
            <a:ext cx="2519640" cy="36147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786040" y="1571760"/>
            <a:ext cx="63579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томная масса эле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ула летучего соединения с водор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ула высшего окс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ула соответствующего гидрокс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939240" y="28584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очка с химическим элем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8"/>
          <p:cNvSpPr/>
          <p:nvPr/>
        </p:nvSpPr>
        <p:spPr>
          <a:xfrm>
            <a:off x="468360" y="2058840"/>
            <a:ext cx="934920" cy="12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147636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0"/>
          <p:cNvSpPr/>
          <p:nvPr/>
        </p:nvSpPr>
        <p:spPr>
          <a:xfrm>
            <a:off x="2484360" y="2058840"/>
            <a:ext cx="93528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1"/>
          <p:cNvSpPr/>
          <p:nvPr/>
        </p:nvSpPr>
        <p:spPr>
          <a:xfrm>
            <a:off x="3492360" y="20588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2"/>
          <p:cNvSpPr/>
          <p:nvPr/>
        </p:nvSpPr>
        <p:spPr>
          <a:xfrm>
            <a:off x="4500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3"/>
          <p:cNvSpPr/>
          <p:nvPr/>
        </p:nvSpPr>
        <p:spPr>
          <a:xfrm>
            <a:off x="5508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4"/>
          <p:cNvSpPr/>
          <p:nvPr/>
        </p:nvSpPr>
        <p:spPr>
          <a:xfrm>
            <a:off x="6516720" y="2058840"/>
            <a:ext cx="934920" cy="132264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5"/>
          <p:cNvSpPr/>
          <p:nvPr/>
        </p:nvSpPr>
        <p:spPr>
          <a:xfrm>
            <a:off x="468360" y="357336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6"/>
          <p:cNvSpPr/>
          <p:nvPr/>
        </p:nvSpPr>
        <p:spPr>
          <a:xfrm>
            <a:off x="1476360" y="357192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7"/>
          <p:cNvSpPr/>
          <p:nvPr/>
        </p:nvSpPr>
        <p:spPr>
          <a:xfrm>
            <a:off x="2484360" y="3571920"/>
            <a:ext cx="93528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8"/>
          <p:cNvSpPr/>
          <p:nvPr/>
        </p:nvSpPr>
        <p:spPr>
          <a:xfrm>
            <a:off x="3492360" y="357192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9"/>
          <p:cNvSpPr/>
          <p:nvPr/>
        </p:nvSpPr>
        <p:spPr>
          <a:xfrm>
            <a:off x="4500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0"/>
          <p:cNvSpPr/>
          <p:nvPr/>
        </p:nvSpPr>
        <p:spPr>
          <a:xfrm>
            <a:off x="5508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1"/>
          <p:cNvSpPr/>
          <p:nvPr/>
        </p:nvSpPr>
        <p:spPr>
          <a:xfrm>
            <a:off x="6516720" y="3571920"/>
            <a:ext cx="934920" cy="13222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5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1237680" y="357120"/>
            <a:ext cx="610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класс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х элементов Д. И. Менделее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68360" y="2058840"/>
            <a:ext cx="934920" cy="12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47636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484360" y="2058840"/>
            <a:ext cx="93528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492360" y="20588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508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516720" y="2058840"/>
            <a:ext cx="934920" cy="132264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68360" y="357336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1476360" y="357192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2484360" y="3571920"/>
            <a:ext cx="93528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492360" y="357192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4500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5508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6516720" y="3571920"/>
            <a:ext cx="934920" cy="13222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5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1979640" y="47628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11424 -0.00162 E">
                                      <p:cBhvr>
                                        <p:cTn id="12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162 L 0.11025 2.59259E-006 E">
                                      <p:cBhvr>
                                        <p:cTn id="13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0324 L -0.05903 0.23241 E">
                                      <p:cBhvr>
                                        <p:cTn id="135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5"/>
          <p:cNvSpPr/>
          <p:nvPr/>
        </p:nvSpPr>
        <p:spPr>
          <a:xfrm>
            <a:off x="179280" y="692280"/>
            <a:ext cx="1214640" cy="202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1476360" y="692280"/>
            <a:ext cx="1214280" cy="202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2771640" y="692280"/>
            <a:ext cx="1143000" cy="20206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8"/>
          <p:cNvSpPr/>
          <p:nvPr/>
        </p:nvSpPr>
        <p:spPr>
          <a:xfrm>
            <a:off x="3995640" y="692280"/>
            <a:ext cx="1144800" cy="20206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9"/>
          <p:cNvSpPr/>
          <p:nvPr/>
        </p:nvSpPr>
        <p:spPr>
          <a:xfrm>
            <a:off x="5219640" y="692280"/>
            <a:ext cx="1143000" cy="20206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6443640" y="692280"/>
            <a:ext cx="1214640" cy="20206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7740720" y="692280"/>
            <a:ext cx="1214280" cy="20206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24000" y="328464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Металлические свойства простых веществ, наиболее ярко выражены у щелочных металлов, ослабевают и сменяются неметаллическими, которые наиболее ярко выражены у галоген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 Основные оксиды элементов начала ряда сменяет амфотерный оксид и далее кислотные, кислотность которых усиливае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право 18"/>
          <p:cNvSpPr/>
          <p:nvPr/>
        </p:nvSpPr>
        <p:spPr>
          <a:xfrm>
            <a:off x="324000" y="2781360"/>
            <a:ext cx="8572320" cy="28584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0"/>
          <p:cNvSpPr/>
          <p:nvPr/>
        </p:nvSpPr>
        <p:spPr>
          <a:xfrm>
            <a:off x="214200" y="573264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ение валентности атомов в высших оксидах возрастает от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о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250920" y="501336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6"/>
          <p:cNvSpPr/>
          <p:nvPr/>
        </p:nvSpPr>
        <p:spPr>
          <a:xfrm>
            <a:off x="395280" y="486900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Основания через амфотерный гидроксид сменяются все более сильными кисло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900000" y="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Изменение химических свойств в ряд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68360" y="2058840"/>
            <a:ext cx="934920" cy="12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484360" y="206064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492360" y="206064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500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508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6516720" y="2058840"/>
            <a:ext cx="934920" cy="132264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360" y="357336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1476360" y="357192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2484360" y="3571920"/>
            <a:ext cx="93528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492360" y="357192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4500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5508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6516720" y="3571920"/>
            <a:ext cx="934920" cy="13222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5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1476360" y="206064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468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1476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9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L 0.10643 -0.00162 E">
                                      <p:cBhvr>
                                        <p:cTn id="182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 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1413000"/>
            <a:ext cx="6000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. Я. Берцелиус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 шведский учё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цировал все элементы на металл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металлы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пределил, ч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аллам чаще всего соответств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кси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металлам – кислотные окси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сл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→Na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→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→SO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H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http://www.by-time.ru/upload/iblock/599/123624402421a6.jpg"/>
          <p:cNvPicPr/>
          <p:nvPr/>
        </p:nvPicPr>
        <p:blipFill>
          <a:blip r:embed="rId1"/>
          <a:stretch/>
        </p:blipFill>
        <p:spPr>
          <a:xfrm>
            <a:off x="6000840" y="271476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834080" y="1189080"/>
            <a:ext cx="934920" cy="12985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850080" y="119052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7858080" y="119052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834080" y="270360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5842080" y="270180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6850080" y="2701800"/>
            <a:ext cx="93492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7858080" y="270180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4834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,098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5842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6850080" y="421488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7,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4"/>
          <p:cNvSpPr/>
          <p:nvPr/>
        </p:nvSpPr>
        <p:spPr>
          <a:xfrm>
            <a:off x="6850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6850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7858080" y="421488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5842080" y="1190520"/>
            <a:ext cx="93492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4834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0"/>
          <p:cNvSpPr/>
          <p:nvPr/>
        </p:nvSpPr>
        <p:spPr>
          <a:xfrm>
            <a:off x="857160" y="2858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Изменение химических свойств в столб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31"/>
          <p:cNvSpPr/>
          <p:nvPr/>
        </p:nvSpPr>
        <p:spPr>
          <a:xfrm>
            <a:off x="4286160" y="1143000"/>
            <a:ext cx="285840" cy="52862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2"/>
          <p:cNvSpPr/>
          <p:nvPr/>
        </p:nvSpPr>
        <p:spPr>
          <a:xfrm>
            <a:off x="214200" y="135720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ллические свойства усиливаются сверху вниз, а неметаллические ослабев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3"/>
          <p:cNvSpPr/>
          <p:nvPr/>
        </p:nvSpPr>
        <p:spPr>
          <a:xfrm>
            <a:off x="179280" y="3068640"/>
            <a:ext cx="3500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ение валентности атомов в высших оксидах не изменя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68360" y="2058840"/>
            <a:ext cx="934920" cy="12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2484360" y="206064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492360" y="206064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4500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5508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6516720" y="2058840"/>
            <a:ext cx="934920" cy="132264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468360" y="357336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1476360" y="357192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2484360" y="3571920"/>
            <a:ext cx="93528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3492360" y="357192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4500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5508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6516720" y="3571920"/>
            <a:ext cx="934920" cy="13222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5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468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,098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476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7,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1979640" y="260280"/>
            <a:ext cx="416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крытие благородных газо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положение 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7667640" y="549360"/>
            <a:ext cx="936720" cy="13222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7667640" y="2060640"/>
            <a:ext cx="936720" cy="13222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9"/>
          <p:cNvSpPr/>
          <p:nvPr/>
        </p:nvSpPr>
        <p:spPr>
          <a:xfrm>
            <a:off x="7667640" y="3573360"/>
            <a:ext cx="936720" cy="132264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3492360" y="50846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1476360" y="206064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468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6516720" y="547560"/>
            <a:ext cx="936720" cy="132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468360" y="549360"/>
            <a:ext cx="936720" cy="132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70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1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74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5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79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0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83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4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ий зако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улировка Д. И. Менделеее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13840" y="765000"/>
            <a:ext cx="8929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йства элементов, а потому и свойства образуемых ими простых и сложных тел находятся в периодической зависимости от их атомного веса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арта 1869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63360" y="-136440"/>
            <a:ext cx="1847880" cy="26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63360" y="-136440"/>
            <a:ext cx="9391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63360" y="-136440"/>
            <a:ext cx="9391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G:\Рисунок1.jpg"/>
          <p:cNvPicPr/>
          <p:nvPr/>
        </p:nvPicPr>
        <p:blipFill>
          <a:blip r:embed="rId1"/>
          <a:srcRect l="0" t="0" r="16337" b="0"/>
          <a:stretch/>
        </p:blipFill>
        <p:spPr>
          <a:xfrm>
            <a:off x="2755800" y="2197080"/>
            <a:ext cx="63882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ериодического закона и Периодической систем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И. Мендел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81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ический зак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нова современной хим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го открытие дало мощнейший толчок в развитии химически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Были разработаны теории строения атома и химическ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ической системы Д. И. Менделеев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лось современное понятие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мическом элементе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и уточнены представл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тых веществах и соедин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периодической системы открыло новую, научную эру в истории химии и ряде смежных наук  появилас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й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основе которой стало возможным обобщать, делать выводы, предв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268280"/>
            <a:ext cx="5214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. В. Дёберейн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 немецкий химик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29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дпринял первую значимую попытку систематизации элементо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Он заметил, что некоторые сходные по своим свойствам элементы можно объединить по три в группы, которые он назва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адами. Триады Дёберейн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http://www.sil.si.edu/digitalcollections/hst/scientific-identity/thumbnails/TNSIL14-D4-10.jpg"/>
          <p:cNvPicPr/>
          <p:nvPr/>
        </p:nvPicPr>
        <p:blipFill>
          <a:blip r:embed="rId1"/>
          <a:stretch/>
        </p:blipFill>
        <p:spPr>
          <a:xfrm>
            <a:off x="6215040" y="1785960"/>
            <a:ext cx="2643120" cy="33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642960" y="4929120"/>
          <a:ext cx="3429000" cy="1643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547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4872960" y="5805360"/>
            <a:ext cx="38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) = ( 7 + 39  ) / 2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412640"/>
            <a:ext cx="521496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Бегье де Шанкурту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профессор Парижской высшей школы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62 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дложил располагат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ементы по спирал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рядке возрастания их атомных м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раль Шанкурту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http://0.tqn.com/d/chemistry/1/0/J/7/1/AEB_deChancourtois.jpg"/>
          <p:cNvPicPr/>
          <p:nvPr/>
        </p:nvPicPr>
        <p:blipFill>
          <a:blip r:embed="rId1"/>
          <a:stretch/>
        </p:blipFill>
        <p:spPr>
          <a:xfrm>
            <a:off x="6643800" y="1357200"/>
            <a:ext cx="221436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C:\Documents and Settings\User\Local Settings\Temporary Internet Files\Content.Word\Изображение 004.jpg"/>
          <p:cNvPicPr/>
          <p:nvPr/>
        </p:nvPicPr>
        <p:blipFill>
          <a:blip r:embed="rId2"/>
          <a:stretch/>
        </p:blipFill>
        <p:spPr>
          <a:xfrm>
            <a:off x="4572000" y="4429080"/>
            <a:ext cx="2714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483920"/>
            <a:ext cx="528624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. Ньюленд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глийский учё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65 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оложил элементы в порядке возрастания их атомных масс. Заметил, что сходство в свойствах проявляется между каждым восьмым элементом. Такую закономерность Ньюлендс назва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ом окта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налогии с семью интервалами музыкальной гаммы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тава Ньюленд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http://img0.liveinternet.ru/images/attach/c/0/51/686/51686648_newlands.jpg"/>
          <p:cNvPicPr/>
          <p:nvPr/>
        </p:nvPicPr>
        <p:blipFill>
          <a:blip r:embed="rId1"/>
          <a:stretch/>
        </p:blipFill>
        <p:spPr>
          <a:xfrm>
            <a:off x="6516720" y="1197000"/>
            <a:ext cx="2286000" cy="27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643280" y="4262400"/>
          <a:ext cx="4500720" cy="2595600"/>
        </p:xfrm>
        <a:graphic>
          <a:graphicData uri="http://schemas.openxmlformats.org/drawingml/2006/table">
            <a:tbl>
              <a:tblPr/>
              <a:tblGrid>
                <a:gridCol w="793800"/>
                <a:gridCol w="492120"/>
                <a:gridCol w="642960"/>
                <a:gridCol w="642960"/>
                <a:gridCol w="693720"/>
                <a:gridCol w="592200"/>
                <a:gridCol w="642960"/>
              </a:tblGrid>
              <a:tr h="5706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6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5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6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67788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714400" y="1052280"/>
            <a:ext cx="6429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Л. Мей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емецкий хими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64 г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л химические элемент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орядке увеличения атомных масс и по вале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Мей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ла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3" descr="http://content.foto.mail.ru/inbox/groos/_answers/i-454.jpg"/>
          <p:cNvPicPr/>
          <p:nvPr/>
        </p:nvPicPr>
        <p:blipFill>
          <a:blip r:embed="rId1"/>
          <a:srcRect l="0" t="0" r="64207" b="17031"/>
          <a:stretch/>
        </p:blipFill>
        <p:spPr>
          <a:xfrm>
            <a:off x="250920" y="1484280"/>
            <a:ext cx="2357280" cy="30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3059280" y="3352680"/>
          <a:ext cx="5833800" cy="3505320"/>
        </p:xfrm>
        <a:graphic>
          <a:graphicData uri="http://schemas.openxmlformats.org/drawingml/2006/table">
            <a:tbl>
              <a:tblPr/>
              <a:tblGrid>
                <a:gridCol w="833400"/>
                <a:gridCol w="833400"/>
                <a:gridCol w="833400"/>
                <a:gridCol w="833400"/>
                <a:gridCol w="806400"/>
                <a:gridCol w="860400"/>
                <a:gridCol w="833400"/>
              </a:tblGrid>
              <a:tr h="10414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химических элементов была не точной, не научной, не совершенной, так как за основу классификации брался не главный при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: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иодический закон и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иодическая система химических элементов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Д.И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94400" cy="5616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4572000" y="21430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834 — 1907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31:49Z</dcterms:created>
  <dc:creator>1</dc:creator>
  <dc:description/>
  <dc:language>en-US</dc:language>
  <cp:lastModifiedBy>Светлана</cp:lastModifiedBy>
  <dcterms:modified xsi:type="dcterms:W3CDTF">2017-09-12T07:39:13Z</dcterms:modified>
  <cp:revision>55</cp:revision>
  <dc:subject/>
  <dc:title>Тема: Периодический закон Д.И Менделеева</dc:title>
</cp:coreProperties>
</file>