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0A6-6B2D-453F-BC2A-40F0F823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D79-7084-4D7E-A44B-DE168E2D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1CB-8D0D-4326-ADFE-6455FEE6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121-5350-4669-A73C-4E76F304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081-0A95-49D4-8BBD-5714B950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DC5-8B65-4FDE-AAAD-38928D3E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D01-FE30-4923-AA77-BD9A32B3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985-7F99-49A8-B968-F09DDD43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015-7106-438A-A091-437F108D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E40-0D10-49A7-9C9B-B8ADA06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8BE-53A3-4695-9FC5-2D87590D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70D-D404-45B9-9110-11C3557B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8997-39A5-4973-ADFF-4092A4031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SimSun-ExtB"/>
              </a:rPr>
              <a:t>Православные монастыри Москв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 ученица 4 класса «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№ 7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антелеева П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: Суворова Н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Богоявленский монастыр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ывший мужской монастырь в Москве, в Китай-городе (Богоявленский переулок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oscow BogoyavlenskyMonastery E27.jpg"/>
          <p:cNvPicPr/>
          <p:nvPr/>
        </p:nvPicPr>
        <p:blipFill>
          <a:blip r:embed="rId1"/>
          <a:stretch/>
        </p:blipFill>
        <p:spPr>
          <a:xfrm rot="414600">
            <a:off x="4572000" y="98100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220px-Lubyanka_CDM_view_from_Panoramic_view_point_05-2015_img09"/>
          <p:cNvPicPr/>
          <p:nvPr/>
        </p:nvPicPr>
        <p:blipFill>
          <a:blip r:embed="rId2"/>
          <a:stretch/>
        </p:blipFill>
        <p:spPr>
          <a:xfrm>
            <a:off x="4788000" y="3716280"/>
            <a:ext cx="1663560" cy="249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Симонов монастырь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прошлом один из самых крупных и богатых монастырей ближайшего Подмосковья, ныне в Южном административном округе Москвы. В XVI—XVII вв. входил в пояс укреплённых монастырей, защищавших подступы к Москве с юга. Подавляющее большинство построек было снесено в 1930-е годы; территория частично застроен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Simonov monastery 01.jpg"/>
          <p:cNvPicPr/>
          <p:nvPr/>
        </p:nvPicPr>
        <p:blipFill>
          <a:blip r:embed="rId1"/>
          <a:stretch/>
        </p:blipFill>
        <p:spPr>
          <a:xfrm rot="20938800">
            <a:off x="4859280" y="1125000"/>
            <a:ext cx="2857680" cy="1810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300px-Simonov_1882"/>
          <p:cNvPicPr/>
          <p:nvPr/>
        </p:nvPicPr>
        <p:blipFill>
          <a:blip r:embed="rId2"/>
          <a:stretch/>
        </p:blipFill>
        <p:spPr>
          <a:xfrm>
            <a:off x="4859280" y="4005360"/>
            <a:ext cx="2857680" cy="187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Большое 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1000512"/>
          <p:cNvPicPr/>
          <p:nvPr/>
        </p:nvPicPr>
        <p:blipFill>
          <a:blip r:embed="rId1"/>
          <a:stretch/>
        </p:blipFill>
        <p:spPr>
          <a:xfrm rot="1234200">
            <a:off x="826560" y="3429000"/>
            <a:ext cx="3621240" cy="2716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%D0%9F%D0%B5%D1%87%D0%B5%D1%80%D1%81%D0%BA%D0%B8%D0%B9%20%D0%BC%D0%BE%D0%BD%D0%B0%D1%81%D1%82%D1%8B%D1%80%D1%8C"/>
          <p:cNvPicPr/>
          <p:nvPr/>
        </p:nvPicPr>
        <p:blipFill>
          <a:blip r:embed="rId2"/>
          <a:stretch/>
        </p:blipFill>
        <p:spPr>
          <a:xfrm rot="20577600">
            <a:off x="5003640" y="3068280"/>
            <a:ext cx="3443400" cy="2263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0110"/>
          <p:cNvPicPr/>
          <p:nvPr/>
        </p:nvPicPr>
        <p:blipFill>
          <a:blip r:embed="rId3"/>
          <a:stretch/>
        </p:blipFill>
        <p:spPr>
          <a:xfrm rot="621000">
            <a:off x="1476000" y="188640"/>
            <a:ext cx="2122560" cy="141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220px-Valdaysky_Monastery_32"/>
          <p:cNvPicPr/>
          <p:nvPr/>
        </p:nvPicPr>
        <p:blipFill>
          <a:blip r:embed="rId4"/>
          <a:stretch/>
        </p:blipFill>
        <p:spPr>
          <a:xfrm rot="20484000">
            <a:off x="5219280" y="189000"/>
            <a:ext cx="1366920" cy="17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Новоспасский монастыр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47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торически мужской монастырь Русской православной церкви, расположенный в Москве за Таганкой, на Крутицком холме, у берега Москвы-реки. Известен своей тесной связью с родом Романовых. Архитектурный ансамбль сформировался в XVII—XVIII ве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27280" y="981000"/>
            <a:ext cx="4259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&amp;Ncy;&amp;ocy;&amp;vcy;&amp;ocy;&amp;scy;&amp;pcy;&amp;acy;&amp;scy;&amp;scy;&amp;kcy;&amp;icy;&amp;jcy; &amp;mcy;&amp;ocy;&amp;ncy;&amp;acy;&amp;scy;&amp;tcy;&amp;ycy;&amp;rcy;&amp;softcy; &amp;icy; &amp;tscy;&amp;iecy;&amp;rcy;&amp;kcy;&amp;ocy;&amp;vcy;&amp;softcy; &amp;Scy;&amp;ocy;&amp;rcy;&amp;ocy;&amp;kcy;&amp;acy; &amp;mcy;&amp;ucy;&amp;chcy;&amp;iecy;&amp;ncy;&amp;icy;&amp;kcy;&amp;ocy;&amp;vcy; &amp;Scy;&amp;iecy;&amp;vcy;&amp;acy;&amp;scy;&amp;tcy;&amp;icy;&amp;jcy;&amp;scy;&amp;kcy;&amp;icy;&amp;khcy;.jpg"/>
          <p:cNvPicPr/>
          <p:nvPr/>
        </p:nvPicPr>
        <p:blipFill>
          <a:blip r:embed="rId1"/>
          <a:stretch/>
        </p:blipFill>
        <p:spPr>
          <a:xfrm rot="20781000">
            <a:off x="4788000" y="1413000"/>
            <a:ext cx="2857320" cy="1895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220px-Novospassky_Monastery"/>
          <p:cNvPicPr/>
          <p:nvPr/>
        </p:nvPicPr>
        <p:blipFill>
          <a:blip r:embed="rId2"/>
          <a:stretch/>
        </p:blipFill>
        <p:spPr>
          <a:xfrm rot="857400">
            <a:off x="5651280" y="4149720"/>
            <a:ext cx="2095200" cy="15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Новоде́вичий Богородице-Смоленский монасты́р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ославный женский монастырь в Москве, на Девичьем поле в излучине Москвы-реки, близ Лужников, в самом конце исторической Пречистенки (в настоящее время Большой Пироговской улиц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нован великим князем Василием III в 1524 году — в честь Смоленской иконы Божией Матери «Одигитрия» — главной святыни Смоленска, в благодарность за овладение Смоленском в 1514 году. На протяжении первых двух столетий своего существования служил местом заточения царственных особ женского п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788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Russie - Moscou - Novodevichy 4.jpg"/>
          <p:cNvPicPr/>
          <p:nvPr/>
        </p:nvPicPr>
        <p:blipFill>
          <a:blip r:embed="rId1"/>
          <a:stretch/>
        </p:blipFill>
        <p:spPr>
          <a:xfrm rot="800400">
            <a:off x="4716000" y="1700280"/>
            <a:ext cx="270684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%D0%9A%D1%80%D0%B0%D1%81%D0%B8%D0%B2%D1%8B%D0%B9_%D0%B2%D0%B8%D0%B4_%D0%BD%D0%B0_%D0%9D%D0%BE%D0%B2%D0%BE%D0%B4%D0%B5%D0%B2%D0%B8%D1%87%D0%B8%D0%B9_%D0%9C%D0%BE%D0%BD%D0%B0%D1%81%D1%82%D1%8B%D1%80%D1%8C,_%D0%9C%D0%BE%D1%81%D0%BA%D0%B2%D0%B0"/>
          <p:cNvPicPr/>
          <p:nvPr/>
        </p:nvPicPr>
        <p:blipFill>
          <a:blip r:embed="rId2"/>
          <a:stretch/>
        </p:blipFill>
        <p:spPr>
          <a:xfrm>
            <a:off x="4716360" y="4437000"/>
            <a:ext cx="2976840" cy="198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Зачатьевский монастыр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вославный женский монастырь Русской православной церкви в районе Хамовники, между улицей Остоженка и рекой Моск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ан в 1360-е годы. Был закрыт в 1918 году и возобновлён в 1995 году в статусе ставропигиаль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двратная церковь Спаса Нерукотворного, единственная из сохранившихся в советское время, — архитектурный памятник конца XVII — начала XVIII 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Zachatyevsky convent (2013) by shakko 01.jpg"/>
          <p:cNvPicPr/>
          <p:nvPr/>
        </p:nvPicPr>
        <p:blipFill>
          <a:blip r:embed="rId1"/>
          <a:stretch/>
        </p:blipFill>
        <p:spPr>
          <a:xfrm rot="739200">
            <a:off x="4859280" y="1628640"/>
            <a:ext cx="2666880" cy="17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220px-Moscow_ZachatyevskyConventCathedral_C35"/>
          <p:cNvPicPr/>
          <p:nvPr/>
        </p:nvPicPr>
        <p:blipFill>
          <a:blip r:embed="rId2"/>
          <a:stretch/>
        </p:blipFill>
        <p:spPr>
          <a:xfrm>
            <a:off x="5003640" y="4149720"/>
            <a:ext cx="2095560" cy="199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Сретенский монастыр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ославный мужской монастырь, находящийся в центре современной Москвы, на улице Большая Лубянка (до конца XIX века — Сретенке, на Кучковом поле). До 1918 года имел статус заштатного; ныне ставропигиальны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retensky Monastery 3.JPG"/>
          <p:cNvPicPr/>
          <p:nvPr/>
        </p:nvPicPr>
        <p:blipFill>
          <a:blip r:embed="rId1"/>
          <a:stretch/>
        </p:blipFill>
        <p:spPr>
          <a:xfrm rot="21250800">
            <a:off x="4932360" y="1052640"/>
            <a:ext cx="2666880" cy="269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320px-%D0%A1%D0%BE%D0%B1%D0%BE%D1%80_%D0%A1%D1%80%D0%B5%D1%82%D0%B5%D0%BD%D1%81%D0%BA%D0%BE%D0%B3%D0%BE_%D0%BC%D0%BE%D0%BD%D0%B0%D1%81%D1%82%D1%8B%D1%80%D1%8F"/>
          <p:cNvPicPr/>
          <p:nvPr/>
        </p:nvPicPr>
        <p:blipFill>
          <a:blip r:embed="rId2"/>
          <a:stretch/>
        </p:blipFill>
        <p:spPr>
          <a:xfrm rot="676800">
            <a:off x="4642920" y="3860280"/>
            <a:ext cx="2880000" cy="214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Высоко-Петровский монастыр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жской ставропигиальный монастырь Русской православной церкви в Москве; расположен на улице Петро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положительно, основан в 1315 году святителем Петром, митрополитом Киевским, Московским и всея Руси. Известен по письменным источникам с 1317 года. Основная часть современного архитектурного комплекса монастыря сооружена в XVII—XVIII веках. В 1918 году был закрыт большевиками. Деятельность монастыря возобновлена с 2009 года. В 2015 году отмечается 700-летие со дня основания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VysokopetrovskyMonastery StPeter.JPG"/>
          <p:cNvPicPr/>
          <p:nvPr/>
        </p:nvPicPr>
        <p:blipFill>
          <a:blip r:embed="rId1"/>
          <a:stretch/>
        </p:blipFill>
        <p:spPr>
          <a:xfrm rot="342600">
            <a:off x="4859280" y="1196640"/>
            <a:ext cx="2592360" cy="235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305px-VysokopetrovskyMonastery"/>
          <p:cNvPicPr/>
          <p:nvPr/>
        </p:nvPicPr>
        <p:blipFill>
          <a:blip r:embed="rId2"/>
          <a:stretch/>
        </p:blipFill>
        <p:spPr>
          <a:xfrm>
            <a:off x="4643280" y="4221000"/>
            <a:ext cx="3672000" cy="189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Донской монастыр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вропигиальный мужской монастырь Русской Церкви, ныне находящийся в черте города Москвы. Расположен на юго-западе исторической части города, на Донской площади. Ближайшая станция метро — «Шаболовска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ан в 1591 году на месте расположения русского гуляй-города после отражения нападения крымского хана Газы II Гирея, отступившего с большими потерями, что было расценено как чу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Walls and towers of Donskoy Monastery 05.jpg"/>
          <p:cNvPicPr/>
          <p:nvPr/>
        </p:nvPicPr>
        <p:blipFill>
          <a:blip r:embed="rId1"/>
          <a:stretch/>
        </p:blipFill>
        <p:spPr>
          <a:xfrm rot="20832000">
            <a:off x="5148000" y="119664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220px-Donskoy_Monastery_Moscow_1882"/>
          <p:cNvPicPr/>
          <p:nvPr/>
        </p:nvPicPr>
        <p:blipFill>
          <a:blip r:embed="rId2"/>
          <a:stretch/>
        </p:blipFill>
        <p:spPr>
          <a:xfrm>
            <a:off x="5435640" y="4653000"/>
            <a:ext cx="2095560" cy="158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Рождественский монастыр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дин из древнейших женских монастырей Москвы. Расположен на пересечении улицы Рождественка и Рождественского бульвара, которым он дал им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Rozhdestvensky Convent 11.jpg"/>
          <p:cNvPicPr/>
          <p:nvPr/>
        </p:nvPicPr>
        <p:blipFill>
          <a:blip r:embed="rId1"/>
          <a:stretch/>
        </p:blipFill>
        <p:spPr>
          <a:xfrm rot="578400">
            <a:off x="4859280" y="148428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250px-Nikolai_Naidenov_%281882%29"/>
          <p:cNvPicPr/>
          <p:nvPr/>
        </p:nvPicPr>
        <p:blipFill>
          <a:blip r:embed="rId2"/>
          <a:stretch/>
        </p:blipFill>
        <p:spPr>
          <a:xfrm rot="20637600">
            <a:off x="5076720" y="3933360"/>
            <a:ext cx="2381400" cy="18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Заиконоспасский монастыр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йствующий православный ставропигиальный мужской монастырь Русской православной церкви, расположенный в Москве на Никольской улице, в Китай-городе. До Октябрьской революции был второклассным ставропигиальным необщежительным мужским монастырём. Именовался Спасским «за иконными рядами». Был известен как «учительский» вследствие создания в его стенах просветительской школы, реорганизованной затем в Славяно-греко-латинскую академию, ставшую основой Московской духовной академ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Moscow ZaikonospasskyMonastery G23.jpg"/>
          <p:cNvPicPr/>
          <p:nvPr/>
        </p:nvPicPr>
        <p:blipFill>
          <a:blip r:embed="rId1"/>
          <a:stretch/>
        </p:blipFill>
        <p:spPr>
          <a:xfrm rot="744000">
            <a:off x="4787640" y="1052640"/>
            <a:ext cx="2376360" cy="2292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220px-Moscow_09-13_img10_Zaikonospassky"/>
          <p:cNvPicPr/>
          <p:nvPr/>
        </p:nvPicPr>
        <p:blipFill>
          <a:blip r:embed="rId2"/>
          <a:stretch/>
        </p:blipFill>
        <p:spPr>
          <a:xfrm>
            <a:off x="5651640" y="3573360"/>
            <a:ext cx="1855800" cy="279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3T10:26:41Z</dcterms:created>
  <dc:creator>Наталья</dc:creator>
  <dc:description/>
  <dc:language>en-US</dc:language>
  <cp:lastModifiedBy>User</cp:lastModifiedBy>
  <dcterms:modified xsi:type="dcterms:W3CDTF">2018-06-29T14:47:27Z</dcterms:modified>
  <cp:revision>4</cp:revision>
  <dc:subject/>
  <dc:title>Монастыри Москвы</dc:title>
</cp:coreProperties>
</file>