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B1F-7ED9-4767-9525-B3A0A031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786-FA4E-4571-A859-12B01145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AC0-4A0C-4242-9A63-A218BFE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23B-2AFB-4050-A5FC-18272320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098-B631-4010-822F-5C88BE64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AE08-4ADA-444C-AB5E-36258A7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7BC8-96BB-44AE-A24B-49E7452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CCC4-DFB8-4E71-8090-1EFA997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173-8C58-43A8-89E0-73EE3F3A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0D0-A08B-4B3B-9AE8-C932D4A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788-040A-47BB-B8D9-5343784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77C-2FD5-441F-AFFA-B0E3E775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F57A-FEB1-4FAA-AF19-6F43BFA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8E80-5B4D-4E5A-9337-184B31A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B8EE-EF8E-4A97-A746-9FAA8BA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4FBA-F56B-4EFB-9F3B-AB5FFF04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0E9-D919-4E4D-AB7E-B96A5B6C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F1176-ADFB-4F1A-922A-18FED0FB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B21EA-09C0-4735-BDF8-9D192F9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C8B0D-CF3B-45C6-99B8-6569167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E913D-EEFF-4A25-9067-6D5534DE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8FFBA-8676-4699-8E7F-01F8B1B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B98-B37F-4F46-886A-1AC3F40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719E5-A8E1-4643-88EE-D7DBFA6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511DA-6A57-4797-ABAE-6F5A7DD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1A46F-1269-42E0-922A-D25FEEB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3A26C-35E4-4A5D-9A49-EB06B8A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F1AE2-290C-4080-849C-13391515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A145F-860F-40F9-B17A-38798700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A4823-E086-4A79-A1F8-77B7540E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1417-63D7-4A26-BFFB-F379F698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588F-06C4-44C4-A37C-35F9382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4F78-3745-4DD0-AD6D-F39D1D5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C6F-4D2F-4F68-9778-933BB5AA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54D1-3FF5-4F75-87F2-D115EA6E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E62E-C5FD-4442-9CEB-0A3A5B7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9BC9-558D-476C-8629-C8C57081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460F-3A75-42DC-81E0-4465C1C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8CA1-20E1-47E7-8975-E192BEE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F160-3EDC-44C5-918B-17BEE36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4115-4A0E-46D2-952A-6ED51159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F8AD8-2F0F-4C49-9001-AC7D256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950B-E06D-4AE7-829B-7974A75C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E2B6B-ED39-466A-A34C-1233CF19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7CE-878E-422E-AB86-D2080F22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F7A5F-C0C5-4C03-B59F-464F51A1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82AD3-3B1D-4ADD-B6FA-F32C633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C27B8-7B6A-4379-A9E9-C064D9A6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07E19-16BB-4254-94E4-776C8A25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92BDC-5316-4690-8A7C-75FF93A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D75C5-F8B7-4914-93D9-F0C6AF2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0B4FC-48B0-4142-91DE-C06FA9B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15239-C79C-4842-9FD4-98D0462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14DCA-9742-4C60-A3B9-CBCFB0E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B5EAE-B597-4C12-B2AC-F26377C8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450-CAA6-4549-B3E5-EC08D4D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2F18A-F799-442D-9EF9-B89098D5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6E0F1-1040-417B-B659-21F6FF6D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1C11A-0BDE-432D-A03C-C3EA1619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14A7D-BBA8-4771-AF88-0503BD5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B59AB-4C74-4F54-93AC-59DBB07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EDCB3-02E3-4EB2-B975-9CE721C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43D8F-A7E7-4883-B793-57DB3924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AB5BD-19A0-4DC7-9F8E-6011593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F383E-6167-4BB6-8CF9-C23942A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271A6-BAD2-49B7-BAC2-AAF59C3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EEC-4D2B-47B4-905D-ACBD969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07E51-8631-4EB9-8C50-A74AF2C2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4A403-33BD-419F-8D73-5EC33277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68121-F816-4176-AFC0-6B57BECB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87E04-7D19-4132-9AF1-E198D0A2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9F746-F9ED-4485-8F22-DE9F809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687B1-80E0-40C0-B2A6-BF6C1F3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FA3D4-7276-42EA-834F-274002BF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6A47C-7387-40A9-A231-D7666F43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0F482-C568-488B-A0D1-E7E8354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F9E88-9FBD-47F6-AF29-49D0F1F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AEB-D443-4C0E-9E44-1E8227B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3B5DA-ACB8-461E-A0F1-5F17051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7D15C-6DF7-460E-867E-46F8D7D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7A676-4DCC-4368-93E6-DAB091A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84672-972A-4434-B5C8-3F8786B8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DC9F4-1DB4-4C0D-9D59-3549DD6A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D0C-544F-4A5A-BCE5-188A3728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D1F5-6C7B-4304-B190-01989757B1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522-CDFC-4D13-89AF-90CA5230B9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50E-608D-4A97-9330-39AF706905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CA9C-4B0C-4584-AAD0-36D513E5AC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064F-F516-43A1-9ED2-846BEECDFE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801C-7B3C-497C-BB93-ABBB2E2D8F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D666-CF65-47A7-9A1F-296F202570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6"/>
          <p:cNvSpPr/>
          <p:nvPr/>
        </p:nvSpPr>
        <p:spPr>
          <a:xfrm>
            <a:off x="1187280" y="404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Муниципальное автономное дошкольное образовательное учреждение «Детский сад № 2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635280" y="4508280"/>
            <a:ext cx="4200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подготовил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Чуранова В.С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1692360" y="1700280"/>
            <a:ext cx="62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РУГЛЫЙ СТОЛ ДЛЯ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ма: «Формирование основ правового сознания у детей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4"/>
          <p:cNvSpPr/>
          <p:nvPr/>
        </p:nvSpPr>
        <p:spPr>
          <a:xfrm>
            <a:off x="1476360" y="83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ОЛШЕБНЫЙ СУНДУЧ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4" descr="mystica_Treasure-chest.png"/>
          <p:cNvPicPr/>
          <p:nvPr/>
        </p:nvPicPr>
        <p:blipFill>
          <a:blip r:embed="rId1"/>
          <a:stretch/>
        </p:blipFill>
        <p:spPr>
          <a:xfrm>
            <a:off x="2843280" y="2349360"/>
            <a:ext cx="3456000" cy="28386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6" descr="589318042dc07159fe95d05b.png"/>
          <p:cNvPicPr/>
          <p:nvPr/>
        </p:nvPicPr>
        <p:blipFill>
          <a:blip r:embed="rId2"/>
          <a:stretch/>
        </p:blipFill>
        <p:spPr>
          <a:xfrm>
            <a:off x="5940360" y="836640"/>
            <a:ext cx="2637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4"/>
          <p:cNvSpPr/>
          <p:nvPr/>
        </p:nvSpPr>
        <p:spPr>
          <a:xfrm>
            <a:off x="1835280" y="333360"/>
            <a:ext cx="6553080" cy="80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 жизни можно по–разному жи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горе можно и в рад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овремя есть, вовремя п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овремя делать гад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А можно и так: На рассвете вс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И, помышляя о чуд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Рукой обнажѐнной солнце дос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И подарить его люд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А.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692360" y="242100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Sitka Banner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2195640" y="476280"/>
            <a:ext cx="63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ить знания педагогов о нормативно – правовых актах, определяющих  прав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атизировать  знания  педагогов  по  осуществлению  прав  ребенка в ДОУ и 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пагандировать правовое воспитание детей в педагогическом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4"/>
          <p:cNvSpPr/>
          <p:nvPr/>
        </p:nvSpPr>
        <p:spPr>
          <a:xfrm>
            <a:off x="0" y="2703600"/>
            <a:ext cx="9144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вни закон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й уровен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кларация прав ребенка (принята ООН 20.11.1959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венция о правах ребёнка (принята ООН 20.11.1989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-й уровен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итуция Российской Федерации (принята 12.12.1993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ажданский, Уголовный и Семейный кодексы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едеральный закон «Об основных гарантиях прав ребёнка в Российской Федерации» (от 24.07.1998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он об образовании (№ 273 – ФЗ от 29.12.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сударственная программа Российской Федерации "Развитие образования" на 2013-2020 годы (утв. распоряжение  Правительства РФ от 15 мая 2013 г. N 792-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50920" y="260280"/>
            <a:ext cx="8605800" cy="22885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это  совокупность  устанавливаемых  и  охраняемых  государственной  властью  норм  и  правил,  регулирующих  отношения  людей  в  обществе. Благодаря  праву  человек  получает  возможность  не  только  что-либо  делать,  действовать,  поступать  каким – либо  образом,  но  и  требовать  соблюдения  своих 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4"/>
          <p:cNvSpPr/>
          <p:nvPr/>
        </p:nvSpPr>
        <p:spPr>
          <a:xfrm>
            <a:off x="1476360" y="476280"/>
            <a:ext cx="6769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венция ООН о правах ребёнка устанавливает ответственность государ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еспечение в максимально возможной степени выживания и здорового развития реб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от произвольного или незаконного вмешательства в осуществление права ребенка на личную жизнь, от посягательства на его честь и репутац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еспечение мер по борьбе с болезнями и недоеда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ризнание права каждого ребенка на уровень жизни, необходимый для физического, умственного, духовного, нравственного и социального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ребенка от всех форм сексуальной эксплуат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ребенка от жестокого обра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омощь ребенку, явившемуся жертвой любых видов жестокого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611280" y="476280"/>
            <a:ext cx="7020000" cy="2654280"/>
          </a:xfrm>
          <a:prstGeom prst="rect">
            <a:avLst/>
          </a:prstGeom>
          <a:solidFill>
            <a:srgbClr val="7598d9"/>
          </a:solidFill>
          <a:ln w="25560">
            <a:solidFill>
              <a:srgbClr val="546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головный кодекс РФ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усматривает уголовную ответствен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совершение физического и сексуального насилия, в том числе и в отношении несовершеннолетних (ст. 106-1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реступления против семьи и несовершеннолетних (ст. 150-1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Прямоугольник 6"/>
          <p:cNvGrpSpPr/>
          <p:nvPr/>
        </p:nvGrpSpPr>
        <p:grpSpPr>
          <a:xfrm>
            <a:off x="1292400" y="3292560"/>
            <a:ext cx="7546680" cy="3297240"/>
            <a:chOff x="1292400" y="3292560"/>
            <a:chExt cx="7546680" cy="3297240"/>
          </a:xfrm>
        </p:grpSpPr>
        <p:pic>
          <p:nvPicPr>
            <p:cNvPr id="36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292400" y="3292560"/>
              <a:ext cx="754668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403280" y="3357720"/>
              <a:ext cx="730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Семейный кодекс РФ гарантирует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аво ребенка на уважение его человеческого достоинства (ст. 54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аво ребенка на защиту его законных интересов и обязанности органа опеки и попечительства принять меры в случае нарушения его прав (ст. 56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и этом предусмотрены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лишение родительских прав как мера защиты детей от жестокого обращения с ними в семье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немедленное отобрание ребенка у родителей или других лиц, на попечении которых он находится, при непосредственной угрозе его жизни и здоровью (ст. 77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4"/>
          <p:cNvSpPr/>
          <p:nvPr/>
        </p:nvSpPr>
        <p:spPr>
          <a:xfrm>
            <a:off x="324000" y="26028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СТОКОЕ ОБРАЩ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ЕТЬМ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95280" y="2349360"/>
            <a:ext cx="8137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тыре основные формы жесто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ения с деть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насил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ксуальное насилие (или развращени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ическое (эмоциональное) насилие.                                                                       </a:t>
            </a:r>
            <a:r>
              <a:rPr b="0" i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 психической форме насилия относятся: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ое неприятие и постоянная критика;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грозы в адрес ребенка в словесной форме;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чания в оскорбительной форме, унижающие достоинство ребенка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намеренная физическая или социальная изоляция;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жь и невыполнение взрослыми своих обещаний;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кратное грубое психическое воздействие, вызывающее психическую трав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Пренебрежение нуждам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6"/>
          <p:cNvSpPr/>
          <p:nvPr/>
        </p:nvSpPr>
        <p:spPr>
          <a:xfrm>
            <a:off x="1332000" y="404640"/>
            <a:ext cx="66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и  взаимосвязанных  направления прав  и  обязанностей  родителей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 работы  по  ознакомлению  воспитателей  ДОУ  с  системой  нормативного  обеспечения  прав  детей  на  международном,  федеральном  и  региональном  уров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 практической  работы  педагога  детского  сада  с  родителями  по  укреплению  здоровья,  профилактике,  диагностике  и  коррекции  жестокого  обращения  с  детьми,  защите  их  прав  и 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 воспитателей  по  обмену  опытом,  проведение  совместных  встреч,  заседаний  методических  объединений,  конференций;  создание  общественного  банка  данных  о  жестоком  обращении  с  детьми;  проведение  разъяснительной  работы  в  средствах  массовой 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4"/>
          <p:cNvSpPr/>
          <p:nvPr/>
        </p:nvSpPr>
        <p:spPr>
          <a:xfrm>
            <a:off x="250920" y="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Международные документы, регулирующие права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кларация прав ребенка (1959), Конвенция о правах ребенка (198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 документы Российской Федерации, регулирующие права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итуция РФ (1993), Уголовный кодекс РФ, Семейный кодекс РФ, Об основных гарантиях прав ребенка в РФ, Закон об образовании в РФ № 273 – ФЗ (29.12.1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324000" y="393372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основные формы жестокого обращения 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насилие, психическое насилие, сексуальное насилие, пренебрежение нуждам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ую форму жестокого обращения с детьми характеризует следующее высказывание – «отсутствие элементарной заботы о ребенке, в результате чего нарушается его эмоциональное состояние и появляется угроза здоровью или развити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небрежение нуждам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4"/>
          <p:cNvSpPr/>
          <p:nvPr/>
        </p:nvSpPr>
        <p:spPr>
          <a:xfrm>
            <a:off x="1258920" y="404640"/>
            <a:ext cx="66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направления работы педагогов детского сада по охране прав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практической  работы педагога детского сада с родителями по  укреплению здоровья, профилактике, диагностике и коррекции жестокого  обращения с детьми, защите их прав и достоин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воспитателей по обмену опытом, проведение совместных встреч,  заседаний методических объединений, конференций; создание общественного  банка данных о жестоком обращении с деть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разъяснительной  работы в средствах массовой информаци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28:25Z</dcterms:created>
  <dc:creator>Lastochka</dc:creator>
  <dc:description/>
  <dc:language>en-US</dc:language>
  <cp:lastModifiedBy>Вера</cp:lastModifiedBy>
  <dcterms:modified xsi:type="dcterms:W3CDTF">2018-06-29T08:13:05Z</dcterms:modified>
  <cp:revision>63</cp:revision>
  <dc:subject/>
  <dc:title>Слайд 1</dc:title>
</cp:coreProperties>
</file>