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E26A-3F1D-4D22-B6F1-1CA8B68E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FC6C-3345-429B-86A5-B68009CC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E86-7A70-4B5B-977C-4F04C08F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4A89-00F5-496C-AD06-017C9885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21BA-AC45-41F6-BB12-AE81C641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95F3-BD70-4943-912C-65E7112A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9752-464F-40F9-A781-FB0E0C51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ABBC-B408-44E3-86D5-A3F31836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7BCA-B57C-4452-80B7-AA1E737D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EE36-53B5-4D86-A054-9F818249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70FE-405C-4593-A3CC-298C3313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135E-84DA-42EE-89F7-9414C029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0418-F011-495B-A596-AE2B721A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1A75-03EB-4C1B-B4D4-24363F28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F53F-0D83-4321-817A-5F1D31BF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9A62-AD83-4984-8BE7-3EF74D48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A066-1D65-4557-835F-1A058FB0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46582-93E6-43A2-9511-A49474B7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878D76-1ABE-45BD-933B-C8AFC3CD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A484FA-EA1E-4437-B9C0-F5EA7597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6484B-7B20-4651-B2BC-77008D9A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C575B-B99E-4DC5-A5D6-984D1D26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8930-DF6C-4897-909E-DD14D406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FA909C-A03B-454B-809E-82395EEF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097A7B-7FD4-4D6B-8DA2-83D9C8F5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EAD28-039B-4ABA-86F6-2B73E26D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8978CA-9DFB-4418-B0C1-99AED8E7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BB627-7277-4811-95DE-FB9018B0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E09143-5D62-403A-AF41-25C582DF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E234C-929B-4E91-BF8D-635BD48B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3478E-13CF-44F5-A17C-01C28DF5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4B654-9929-44DE-8277-9C7A4188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07E7E-6CD7-4D53-A3DC-30324C97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64E-E228-443F-A681-77A21763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F4A7C-2E01-4F65-B3E7-18446B93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5AD00-7C08-4EB0-9EAF-43A92368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6404C-4E66-4311-81EE-1749FD39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0435E-DC9D-489C-872A-E865F33E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AF430-6806-4DF6-842C-02727E9B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1E30A-931F-4922-8CA8-B914AC25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91000-0542-4AA5-88BE-12C3C951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872CB-5E10-4263-B474-B1A3D774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3AF53-7E2A-4D9F-B45A-6BA7D613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A5721C-6591-409C-B459-95C79688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31EF-6350-4E78-B8E4-902ADB48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CFB1D6-3054-4B93-8E4D-DEDF8E18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9EE197-FCBD-4399-82CF-BAE438A0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84535E-1F92-4F72-A036-651A22C9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B14F89-CC67-4A8B-BF88-883D9BC6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EF6AB9-39E6-47EC-84D5-619B9CB7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BEF6C6-7D26-452B-B489-E1786947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B2539C-9751-440B-9D21-AF22ADB6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9A8E49-85F4-4730-BB28-F75BA1E2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083AB8-C6C9-4CBB-ACD5-9B474F36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E1C7BE-5E54-42C9-9FFB-A0B8E602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ED4-801E-4B7E-B38A-D57BAB6D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B5EB9C-F09B-4FD1-95B0-4777C6C5F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5227AA-D7B5-4E41-9F6A-28AC02A1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5C8B42-83D6-4169-A1CD-8ACA743F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F69A98-1780-4E75-8124-A044D9FD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A6CDE9-56F8-4961-ABE9-EBD0A90D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55563F-72E7-4427-8882-F48B5991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B42F9A-3F39-4E7E-862B-7A804104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057C3F-3AAE-4AD2-B0CA-0EE796CC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4C42BD-2EC9-434D-BCAC-AB3037B1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8A24A7-09CC-45ED-BC14-92A8F363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AC2-2AB5-4C6A-97DE-D870CD11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A3CEC1-B4CE-4DB0-9318-302B7A67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D2B4C1-2D83-40D5-9C77-245EDDFB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D1FA8F-0C7B-414F-AA1B-435F17E8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AE3053-EE6C-4196-B48D-ED463DB1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0EC7E7-AFFF-45D3-9A91-EBB86F12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3998C0-F672-4A46-800C-61B18AE1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16B526-DA98-4160-9E2F-FE44B059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5D2222-86BC-4B88-80D0-8E5C3EBF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24B819-8A19-4F50-BBE2-FF1EC492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FD6C4C-3739-4E57-A284-C1F13EC5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17FB-AF39-49B7-8F28-E5BE9F6D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5DA714-94F3-4005-86DD-ED56E045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4B35FA-B81B-486C-8472-C4C218AA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9F8500-7B63-48CB-A8C0-EE025D52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98178C-C25A-4B31-9B79-EB80668E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F62F65-AF04-468D-A026-99B1F1BB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30D0-4E71-4CDA-926B-C0A36CD1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093D-7D00-431D-9B6B-97EC8A60CD4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7CD7-4C53-44D8-8CC8-36797D0447D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B7A0-7C49-412F-B9EC-D4788B6543D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D35B-A23D-4E0B-9774-7D9CA5CBC2A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EDC4-9E02-4D40-8517-781FBA9AD1F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3135-9AD4-4C87-A411-8EC4D086911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799D-1618-418C-9A77-43B48F67831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6"/>
          <p:cNvSpPr/>
          <p:nvPr/>
        </p:nvSpPr>
        <p:spPr>
          <a:xfrm>
            <a:off x="1187280" y="404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Муниципальное автономное дошкольное образовательное учреждение «Детский сад № 21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3635280" y="4508280"/>
            <a:ext cx="420048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подготовила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воспитатель Чуранова В.С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8"/>
          <p:cNvSpPr/>
          <p:nvPr/>
        </p:nvSpPr>
        <p:spPr>
          <a:xfrm>
            <a:off x="1692360" y="1700280"/>
            <a:ext cx="62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РУГЛЫЙ СТОЛ ДЛЯ ПЕДАГОГ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ема: «Формирование основ правового сознания у детей дошкольного возрас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4"/>
          <p:cNvSpPr/>
          <p:nvPr/>
        </p:nvSpPr>
        <p:spPr>
          <a:xfrm>
            <a:off x="1476360" y="83664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Г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ВОЛШЕБНЫЙ СУНДУЧ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Рисунок 4" descr="mystica_Treasure-chest.png"/>
          <p:cNvPicPr/>
          <p:nvPr/>
        </p:nvPicPr>
        <p:blipFill>
          <a:blip r:embed="rId1"/>
          <a:stretch/>
        </p:blipFill>
        <p:spPr>
          <a:xfrm>
            <a:off x="2843280" y="2349360"/>
            <a:ext cx="3456000" cy="283860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6" descr="589318042dc07159fe95d05b.png"/>
          <p:cNvPicPr/>
          <p:nvPr/>
        </p:nvPicPr>
        <p:blipFill>
          <a:blip r:embed="rId2"/>
          <a:stretch/>
        </p:blipFill>
        <p:spPr>
          <a:xfrm>
            <a:off x="5940360" y="836640"/>
            <a:ext cx="26370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4"/>
          <p:cNvSpPr/>
          <p:nvPr/>
        </p:nvSpPr>
        <p:spPr>
          <a:xfrm>
            <a:off x="1835280" y="333360"/>
            <a:ext cx="6553080" cy="80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abriola"/>
                <a:ea typeface="Arabic Typesetting"/>
              </a:rPr>
              <a:t>В жизни можно по–разному жить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abriola"/>
                <a:ea typeface="Arabic Typesetting"/>
              </a:rPr>
              <a:t> </a:t>
            </a:r>
            <a:r>
              <a:rPr b="1" i="1" lang="ru-RU" sz="3600" spc="-1" strike="noStrike">
                <a:solidFill>
                  <a:srgbClr val="7030a0"/>
                </a:solidFill>
                <a:latin typeface="Gabriola"/>
                <a:ea typeface="Arabic Typesetting"/>
              </a:rPr>
              <a:t>горе можно и в радост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abriola"/>
                <a:ea typeface="Arabic Typesetting"/>
              </a:rPr>
              <a:t>Вовремя есть, вовремя пи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abriola"/>
                <a:ea typeface="Arabic Typesetting"/>
              </a:rPr>
              <a:t>Вовремя делать гадос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abriola"/>
                <a:ea typeface="Arabic Typesetting"/>
              </a:rPr>
              <a:t>А можно и так: На рассвете вст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abriola"/>
                <a:ea typeface="Arabic Typesetting"/>
              </a:rPr>
              <a:t>И, помышляя о чуд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abriola"/>
                <a:ea typeface="Arabic Typesetting"/>
              </a:rPr>
              <a:t>Рукой обнажѐнной солнце дост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abriola"/>
                <a:ea typeface="Arabic Typesetting"/>
              </a:rPr>
              <a:t>И подарить его людя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Gabriola"/>
                <a:ea typeface="Arabic Typesetting"/>
              </a:rPr>
              <a:t>А.Вознес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5"/>
          <p:cNvSpPr/>
          <p:nvPr/>
        </p:nvSpPr>
        <p:spPr>
          <a:xfrm>
            <a:off x="1692360" y="2421000"/>
            <a:ext cx="60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Sitka Banner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4"/>
          <p:cNvSpPr/>
          <p:nvPr/>
        </p:nvSpPr>
        <p:spPr>
          <a:xfrm>
            <a:off x="2195640" y="476280"/>
            <a:ext cx="633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и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общить знания педагогов о нормативно – правовых актах, определяющих  права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истематизировать  знания  педагогов  по  осуществлению  прав  ребенка в ДОУ и  семь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пагандировать правовое воспитание детей в педагогическом коллекти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4"/>
          <p:cNvSpPr/>
          <p:nvPr/>
        </p:nvSpPr>
        <p:spPr>
          <a:xfrm>
            <a:off x="0" y="2703600"/>
            <a:ext cx="914400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ровни законо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 й уровен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кларация прав ребенка (принята ООН 20.11.1959 г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венция о правах ребёнка (принята ООН 20.11.1989 г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-й уровен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ституция Российской Федерации (принята 12.12.1993 г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ражданский, Уголовный и Семейный кодексы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-й уровен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едеральный закон «Об основных гарантиях прав ребёнка в Российской Федерации» (от 24.07.1998 г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кон об образовании (№ 273 – ФЗ от 29.12.1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осударственная программа Российской Федерации "Развитие образования" на 2013-2020 годы (утв. распоряжение  Правительства РФ от 15 мая 2013 г. N 792-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4"/>
          <p:cNvSpPr/>
          <p:nvPr/>
        </p:nvSpPr>
        <p:spPr>
          <a:xfrm>
            <a:off x="250920" y="260280"/>
            <a:ext cx="8605800" cy="22885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аво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– это  совокупность  устанавливаемых  и  охраняемых  государственной  властью  норм  и  правил,  регулирующих  отношения  людей  в  обществе. Благодаря  праву  человек  получает  возможность  не  только  что-либо  делать,  действовать,  поступать  каким – либо  образом,  но  и  требовать  соблюдения  своих  пр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4"/>
          <p:cNvSpPr/>
          <p:nvPr/>
        </p:nvSpPr>
        <p:spPr>
          <a:xfrm>
            <a:off x="1476360" y="476280"/>
            <a:ext cx="676908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венция ООН о правах ребёнка устанавливает ответственность государ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обеспечение в максимально возможной степени выживания и здорового развития ребен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защиту от произвольного или незаконного вмешательства в осуществление права ребенка на личную жизнь, от посягательства на его честь и репутаци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обеспечение мер по борьбе с болезнями и недоедание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признание права каждого ребенка на уровень жизни, необходимый для физического, умственного, духовного, нравственного и социального развит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защиту ребенка от всех форм сексуальной эксплуат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защиту ребенка от жестокого обращ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помощь ребенку, явившемуся жертвой любых видов жестокого обра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4"/>
          <p:cNvSpPr/>
          <p:nvPr/>
        </p:nvSpPr>
        <p:spPr>
          <a:xfrm>
            <a:off x="611280" y="476280"/>
            <a:ext cx="7020000" cy="2654280"/>
          </a:xfrm>
          <a:prstGeom prst="rect">
            <a:avLst/>
          </a:prstGeom>
          <a:solidFill>
            <a:srgbClr val="7598d9"/>
          </a:solidFill>
          <a:ln w="25560">
            <a:solidFill>
              <a:srgbClr val="546e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головный кодекс РФ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дусматривает уголовную ответственнос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совершение физического и сексуального насилия, в том числе и в отношении несовершеннолетних (ст. 106-135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преступления против семьи и несовершеннолетних (ст. 150-15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Прямоугольник 6"/>
          <p:cNvGrpSpPr/>
          <p:nvPr/>
        </p:nvGrpSpPr>
        <p:grpSpPr>
          <a:xfrm>
            <a:off x="1292400" y="3292560"/>
            <a:ext cx="7546680" cy="3297240"/>
            <a:chOff x="1292400" y="3292560"/>
            <a:chExt cx="7546680" cy="3297240"/>
          </a:xfrm>
        </p:grpSpPr>
        <p:pic>
          <p:nvPicPr>
            <p:cNvPr id="360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1292400" y="3292560"/>
              <a:ext cx="7546680" cy="32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1403280" y="3357720"/>
              <a:ext cx="730908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Семейный кодекс РФ гарантирует</a:t>
              </a:r>
              <a:r>
                <a:rPr b="0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• </a:t>
              </a:r>
              <a:r>
                <a:rPr b="0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право ребенка на уважение его человеческого достоинства (ст. 54)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• </a:t>
              </a:r>
              <a:r>
                <a:rPr b="0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право ребенка на защиту его законных интересов и обязанности органа опеки и попечительства принять меры в случае нарушения его прав (ст. 56)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при этом предусмотрены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• </a:t>
              </a:r>
              <a:r>
                <a:rPr b="0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лишение родительских прав как мера защиты детей от жестокого обращения с ними в семье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• </a:t>
              </a:r>
              <a:r>
                <a:rPr b="0" lang="ru-RU" sz="1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немедленное отобрание ребенка у родителей или других лиц, на попечении которых он находится, при непосредственной угрозе его жизни и здоровью (ст. 77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4"/>
          <p:cNvSpPr/>
          <p:nvPr/>
        </p:nvSpPr>
        <p:spPr>
          <a:xfrm>
            <a:off x="324000" y="260280"/>
            <a:ext cx="82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ЕСТОКОЕ ОБРАЩ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 ДЕТЬМИ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 ЭТО ТАКО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6"/>
          <p:cNvSpPr/>
          <p:nvPr/>
        </p:nvSpPr>
        <p:spPr>
          <a:xfrm>
            <a:off x="395280" y="2349360"/>
            <a:ext cx="813744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етыре основные формы жесто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ращения с деть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изическое насил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ексуальное насилие (или развращени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сихическое (эмоциональное) насилие.                                                                       </a:t>
            </a:r>
            <a:r>
              <a:rPr b="0" i="1" lang="ru-RU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К психической форме насилия относятся: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крытое неприятие и постоянная критика;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грозы в адрес ребенка в словесной форме;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мечания в оскорбительной форме, унижающие достоинство ребенка;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днамеренная физическая или социальная изоляция;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ожь и невыполнение взрослыми своих обещаний;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днократное грубое психическое воздействие, вызывающее психическую трав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 Пренебрежение нуждами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6"/>
          <p:cNvSpPr/>
          <p:nvPr/>
        </p:nvSpPr>
        <p:spPr>
          <a:xfrm>
            <a:off x="1332000" y="404640"/>
            <a:ext cx="662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и  взаимосвязанных  направления прав  и  обязанностей  родителей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дение  работы  по  ознакомлению  воспитателей  ДОУ  с  системой  нормативного  обеспечения  прав  детей  на  международном,  федеральном  и  региональном  уров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рганизация  практической  работы  педагога  детского  сада  с  родителями  по  укреплению  здоровья,  профилактике,  диагностике  и  коррекции  жестокого  обращения  с  детьми,  защите  их  прав  и  достоин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бота  воспитателей  по  обмену  опытом,  проведение  совместных  встреч,  заседаний  методических  объединений,  конференций;  создание  общественного  банка  данных  о  жестоком  обращении  с  детьми;  проведение  разъяснительной  работы  в  средствах  массовой  информ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4"/>
          <p:cNvSpPr/>
          <p:nvPr/>
        </p:nvSpPr>
        <p:spPr>
          <a:xfrm>
            <a:off x="250920" y="0"/>
            <a:ext cx="88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зовите Международные документы, регулирующие права реб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кларация прав ребенка (1959), Конвенция о правах ребенка (198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зовите  документы Российской Федерации, регулирующие права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ституция РФ (1993), Уголовный кодекс РФ, Семейный кодекс РФ, Об основных гарантиях прав ребенка в РФ, Закон об образовании в РФ № 273 – ФЗ (29.12.12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4"/>
          <p:cNvSpPr/>
          <p:nvPr/>
        </p:nvSpPr>
        <p:spPr>
          <a:xfrm>
            <a:off x="324000" y="393372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зовите основные формы жестокого обращения с деть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изическое насилие, психическое насилие, сексуальное насилие, пренебрежение нуждами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кую форму жестокого обращения с детьми характеризует следующее высказывание – «отсутствие элементарной заботы о ребенке, в результате чего нарушается его эмоциональное состояние и появляется угроза здоровью или развитию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небрежение нуждами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4"/>
          <p:cNvSpPr/>
          <p:nvPr/>
        </p:nvSpPr>
        <p:spPr>
          <a:xfrm>
            <a:off x="1258920" y="404640"/>
            <a:ext cx="669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зовите направления работы педагогов детского сада по охране прав ребен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7030a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рганизация практической  работы педагога детского сада с родителями по  укреплению здоровья, профилактике, диагностике и коррекции жестокого  обращения с детьми, защите их прав и достоин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7030a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бота воспитателей по обмену опытом, проведение совместных встреч,  заседаний методических объединений, конференций; создание общественного  банка данных о жестоком обращении с деть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7030a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дение разъяснительной  работы в средствах массовой информации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4T10:28:25Z</dcterms:created>
  <dc:creator>Lastochka</dc:creator>
  <dc:description/>
  <dc:language>en-US</dc:language>
  <cp:lastModifiedBy>Вера</cp:lastModifiedBy>
  <dcterms:modified xsi:type="dcterms:W3CDTF">2018-06-29T08:13:05Z</dcterms:modified>
  <cp:revision>63</cp:revision>
  <dc:subject/>
  <dc:title>Слайд 1</dc:title>
</cp:coreProperties>
</file>