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D26C-EF92-483C-9D1C-D421BCD52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048C-1290-4940-9099-47DED718E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B598-1F95-4580-8205-14984B8F2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DDB2-9829-481A-A5A7-CDB766424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315A-7147-44B2-8222-4079CF521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C8E52-8D28-4865-9C5B-5B57498AC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D320-FB47-453E-B40D-D40021D7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8FCE4-B100-4E09-9780-48B154B2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D2A58-15D6-428C-B7D3-036C158F4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F4D6-A5A5-42C9-86CA-00541039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E1A3E-39BF-4E17-B8DB-593E511B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BD2-0B8C-4122-9EA4-1D067AFC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7FD7-2BA0-44B0-9E67-B35001B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C94E-0DD0-4E36-935B-BD09DC942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308D0-2FA2-4773-AE5F-92642D5B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443EA-68D0-4936-A7AF-83B4A281B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A80D-FD9A-4D90-82E5-8B5D0DD4E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49FD5-3132-416A-B06A-523CDAEF7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B15DC-52E4-4B41-A6E6-57CBE1CA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65D8-5CEB-4E10-AE42-8EF5CB6D3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9E75A-310E-416F-A185-1D2606525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AF73A-F712-4EA2-B932-72D427DC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0F1-DF56-4834-A5E0-EF32C41B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CA195-3D48-4131-9BC7-5FF343A61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6A11C-CF92-4A3B-88EC-2FD01EE0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42F18-1DD6-49C8-A37F-D3F9D786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3BC82-13D7-4A3C-BED4-68B8CC34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A65E7-50BF-4234-9AD9-F8147BEE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E4EA0-E3F9-4C90-8B7E-7A78126B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051FD-7C4B-4DA0-9A6F-25945635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81169-39E6-4D9A-828E-03B59008D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BB8213-4E63-4548-8639-560EC1FB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5246-E90A-4A6F-B0EF-38DBE5CF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52D3-9829-4D93-BE6D-71A054A3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E7BA5-D861-4F86-A54E-B6B1D742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B5194-BDC2-4A4A-98CE-777DCD885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FBDEE-5B20-4343-9688-3B0F1A368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65088-F172-4C93-8492-3F4E9C1B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C1541-B90A-4804-BCD9-D3019731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A859DE-3683-42A5-8FB9-489841B7D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1DCA4-7E3E-4E95-8070-7CD412AA5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6B7CC-A717-4F18-9AB5-C5C1F9411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75332-7764-47E7-BDEC-8CA2AD337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FCCEF-601A-4E25-9622-285DE48B4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224-19C3-41D4-82C0-F66B829A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14034-3ED2-49A5-98D4-3A11CC65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AF50A-8F02-4D9F-BF7E-9C6D89DD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E8F9E-5810-4636-B865-7B97323E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90737-C46B-42B1-8AE3-FC40FDC3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2D4CA-214D-40F3-9E3D-FC8EB4E6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4B76B-A3A3-4B3D-840B-7222F2696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17838-611F-410D-8EF9-175390B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3A16F0-BF0A-426E-B6B5-0E2CDF0C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18A774-CA7D-470E-90FF-B190DA20C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E01C2-8AAC-4D70-81A2-E9F33D80F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4564-0D00-43ED-B6E2-6A35C7C5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54937-4A32-4F27-A1A6-802EDAD2F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4D96-6293-4FC7-839F-FAD4F667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47E-1D27-4A8C-B09E-C87C6587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7561-09C8-4188-A66E-E084E746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EFAB-8D83-46BF-8BC6-93AC43DD5DFB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E4D4-7080-43E5-8DAB-92E658F0C01E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F35D5-84CF-4A89-A161-9EC2D347F60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240F2-CCB7-4456-AEA3-3A020416855C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B29D1-1BDB-424A-8C6C-95AA22FB589A}" type="slidenum">
              <a:rPr b="0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4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3m + 2)+(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2m – 4)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3m + 2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 –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m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4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5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5m-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Алгоритм сложения многочленов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оставить сумму многочлен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скрыть скобки, перед которыми стоит знак «+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14440" indent="-1875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ивести подобные члены в полученном многочлен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(4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3m + 2)-(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2m – 4)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4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3m + 2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-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+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2m </a:t>
            </a:r>
            <a:r>
              <a:rPr b="1" lang="ru-RU" sz="3200" spc="-1" strike="noStrike">
                <a:solidFill>
                  <a:srgbClr val="c00000"/>
                </a:solidFill>
                <a:latin typeface="Verdana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4 =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3m</a:t>
            </a:r>
            <a:r>
              <a:rPr b="1" lang="ru-RU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 – m+ 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Алгоритм вычитания многочленов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составить разность многочленов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раскрыть скобки, перед которыми стоит знак «-»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Verdana"/>
              </a:rPr>
              <a:t>привести подобные члены в полученном многочлене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Решите уравнение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+ 5) – (3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– 7) = 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Верно ли решено уравнение?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(7</a:t>
            </a:r>
            <a:r>
              <a:rPr b="0" i="1" lang="ru-RU" sz="37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 – 9) + (2</a:t>
            </a:r>
            <a:r>
              <a:rPr b="0" i="1" lang="ru-RU" sz="37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 – 8) = 1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7х-9-2х+8=1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7х-2х=1+9-8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5х=2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Х=2:5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Х=0,4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c00000"/>
                </a:solidFill>
                <a:latin typeface="Verdana"/>
              </a:rPr>
              <a:t>Ответ: 0,4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8d3e"/>
                </a:solidFill>
                <a:latin typeface="Verdana"/>
              </a:rPr>
              <a:t>А теперь?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(7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– 9) + (2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 – 8) = 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7х-9+2х-8=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7х+2х=1+9+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9х=1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=18: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=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Verdana"/>
              </a:rPr>
              <a:t>Ответ: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Решите уравнение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+ 5(3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– 1) = 35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– 2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03280" y="529920"/>
            <a:ext cx="818352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+ 5(3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– 1) = 35</a:t>
            </a:r>
            <a:r>
              <a:rPr b="0" i="1" lang="ru-RU" sz="4400" spc="-1" strike="noStrike">
                <a:solidFill>
                  <a:srgbClr val="000000"/>
                </a:solidFill>
                <a:latin typeface="Verdana"/>
              </a:rPr>
              <a:t>х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 – 2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30х+15х-5=35х-2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45х-35х=5-25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10х=-20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Х=-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Verdana"/>
              </a:rPr>
              <a:t>Ответ: -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30280"/>
            <a:ext cx="8183520" cy="5470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зья мои, я очень ра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йти в приветливый ваш клас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 для меня уже награ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иманье ваших добрых глаз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Я знаю, каждый в классе г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 без труда, талант не впр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 ваших знаний и умений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ы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месте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сотворим урок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03280" y="530280"/>
            <a:ext cx="8183520" cy="54705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я знаю 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е я научился (научилась)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перь я умею __________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е мне понравилось ______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уроке мне пригодились знания ______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меня было сложно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урока я ухожу с ________настроением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61" name="Содержимое 2" descr=""/>
          <p:cNvPicPr/>
          <p:nvPr/>
        </p:nvPicPr>
        <p:blipFill>
          <a:blip r:embed="rId1"/>
          <a:stretch/>
        </p:blipFill>
        <p:spPr>
          <a:xfrm>
            <a:off x="579600" y="255600"/>
            <a:ext cx="650376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НИЕ – ЖЕ – СЛО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ЧИ – НИЕ – ВЫ – Т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ГО – МНО – ЕН – ЧЛ - 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Сложение и вычитание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многочленов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Что лишнее?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9а</a:t>
            </a:r>
            <a:r>
              <a:rPr b="0" lang="ru-RU" sz="44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4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+ а</a:t>
            </a:r>
            <a:r>
              <a:rPr b="0" lang="ru-RU" sz="44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а ∙ а ∙ 2b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(а ∙</a:t>
            </a: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b)</a:t>
            </a:r>
            <a:r>
              <a:rPr b="0" lang="ru-RU" sz="44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Назовите коэффициент одночлена</a:t>
            </a:r>
            <a:br>
              <a:rPr sz="29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Verdana"/>
              </a:rPr>
              <a:t>4 аb</a:t>
            </a:r>
            <a:r>
              <a:rPr b="0" lang="en-US" sz="37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abcd  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5abc     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Verdana"/>
              </a:rPr>
              <a:t>ad</a:t>
            </a: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5214960"/>
            <a:ext cx="818352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Какие из выражений не являются многочленами?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3а + 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4а</a:t>
            </a:r>
            <a:r>
              <a:rPr b="0" lang="ru-RU" sz="41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 + 3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4а</a:t>
            </a:r>
            <a:r>
              <a:rPr b="0" lang="ru-RU" sz="41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100" spc="-1" strike="noStrike">
                <a:solidFill>
                  <a:srgbClr val="000000"/>
                </a:solidFill>
                <a:latin typeface="Verdana"/>
              </a:rPr>
              <a:t> ∙ 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743040" indent="-74304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4100" spc="-1" strike="noStrike">
                <a:solidFill>
                  <a:srgbClr val="000000"/>
                </a:solidFill>
                <a:latin typeface="Verdana"/>
              </a:rPr>
              <a:t>5ас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Определите степень многочлена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+ b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+ 5c + 1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– 5 а + 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+ 4 b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+ b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ff8d3e"/>
                </a:solidFill>
                <a:latin typeface="Verdana"/>
              </a:rPr>
              <a:t>Приведите подобные члены многочлена: </a:t>
            </a:r>
            <a:br>
              <a:rPr sz="3200"/>
            </a:b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514440" indent="-5144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–7 а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2х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– х + х</a:t>
            </a:r>
            <a:r>
              <a:rPr b="0" lang="ru-RU" sz="4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+ 3 х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12а - 3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ru-RU" sz="4800" spc="-1" strike="noStrike">
                <a:solidFill>
                  <a:srgbClr val="000000"/>
                </a:solidFill>
                <a:latin typeface="Verdana"/>
              </a:rPr>
              <a:t> – 4а + 5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14:01:21Z</dcterms:created>
  <dc:creator>Tatyana</dc:creator>
  <dc:description/>
  <dc:language>en-US</dc:language>
  <cp:lastModifiedBy>Tatyana</cp:lastModifiedBy>
  <dcterms:modified xsi:type="dcterms:W3CDTF">2018-01-24T11:38:19Z</dcterms:modified>
  <cp:revision>19</cp:revision>
  <dc:subject/>
  <dc:title>Что лишнее?</dc:title>
</cp:coreProperties>
</file>