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9D0-CD84-4968-BCC7-DA754D7F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F822-D5D3-499A-8510-298EA219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D821-E615-41CF-BA9C-DEB0E69E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836E-8AF8-43D8-976D-3FFEC0B9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489A-519F-4542-A955-8FEC7D63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28790-2786-41EF-A32C-0CDE100B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7574-4640-41B8-A996-F2AADB18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A98F-63EA-45C5-AC8F-FAAC802B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291B-914F-4D86-9075-284134B7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F160-D947-4BF3-BEB4-C04421EC0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B6DC-2536-4D25-8465-21F6494AE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8C3-2F48-4985-849A-36979A1C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CA71F-81CA-40E3-B09E-24B157F0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7772-F1C1-473E-8F19-7F1783E3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03F5D-007A-49F9-B663-AF2C157B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DC30C-ECFC-438E-A940-3CFC81A2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D6A11-77E1-487A-99E0-505F9B75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5A974-0EBE-4BA4-9793-393E62B1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B698C-6485-4D0D-9050-C2EE0771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35F5C-1B5C-4686-8BB7-9F045D3E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69636-0EE5-4E06-B9AE-56400801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66440-D5E3-4E75-9ED8-BEBD9B03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3D9-204C-4A6E-8624-005D0EFAC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4A6EF-AD8C-4382-B1B2-3D51C5E0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DA35-630B-4495-81B6-E193E2B8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DCCD4-27BA-4DA1-A5A8-33CBE69A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546FC8-320F-413F-B80C-449C0388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DC4D-AE1E-4E2A-8077-8B90840B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D2FF7-E501-417E-B849-07133507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0A8F-65E2-4322-849E-9FE27CC5A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00D07-BA04-4384-851F-9AF06E77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BB12D-B010-4CF6-B236-8C2A9F01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4C5B-D701-4BC3-98DC-2EC54ADB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186-2FE2-4DBA-A12B-4B9CD01B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74BE5-1D06-40C6-9392-2D637AC5F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1B5C7-3CD1-49E5-B161-C2E5DE8A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6B100-81E4-4391-A42E-11FB79C49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742A9-E547-4554-82D3-A587E1C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2CA45-A880-49E8-93D4-B4C509BB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0D902-2EFE-4D3E-B942-4DBE6BE5C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95582-6D04-4DBA-BA5C-625DABD7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BF97B-B7EE-451A-A552-8C459BE9A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5A6A2-272E-42C6-9EE8-D557D191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DF752-FF0A-4F76-875A-ED00AF53B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9470-C3C6-42D1-90E1-D958C7B0A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621F8-486C-41B9-B9E3-DCF2C8B6D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5A615-1339-4DE7-B872-9C016ADE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F57C4E-3284-4894-A2BB-9AD5B533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DB43A-7415-4F0C-B89B-F85A64A8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B7F50-9C1E-4FF7-9335-9BB012D8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AB4D-82C3-4E9B-AA0B-807645C2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DE23CD-5176-4676-8703-7C616858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89E6A-16E5-4248-9C67-48AC67AF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F19CC-CFCC-4F3D-A388-00CF2D7F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13AC1D-515E-4F4D-85CE-E5502141B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801-EC44-410A-A272-D75EA37B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1AFA6-EAF0-40B2-956F-521DA5851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D8AE-553C-4EA9-8D3D-675B49A4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A8B-E46A-4062-92C3-98F820A4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2B6-5DD2-4E18-81C0-161153B0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4E47D-AB6F-4411-B973-2D0A553C09A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C7BB-2DF6-41E5-BF1E-E93F106D290F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A272-C9BD-467C-9EB8-1082A8693443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BFC96-BB51-4747-B585-CE4559D3972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CAFD-F870-4290-AC2B-A190027D68AD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4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3m + 2)+(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2m – 4)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4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3m + 2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 –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2m 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4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5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5m-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Алгоритм сложения многочленов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оставить сумму многочлен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скрыть скобки, перед которыми стоит знак «+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ивести подобные члены в полученном многочлен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4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3m + 2)-(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2m – 4)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4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3m + 2 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2m 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4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3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m+ 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Алгоритм вычитания многочленов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составить разность многочлен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раскрыть скобки, перед которыми стоит знак «-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вести подобные члены в полученном многочлене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ешите уравн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+ 5) – (3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– 7) = 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ерно ли решено уравнение?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(7</a:t>
            </a:r>
            <a:r>
              <a:rPr b="0" i="1" lang="ru-RU" sz="37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 – 9) + (2</a:t>
            </a:r>
            <a:r>
              <a:rPr b="0" i="1" lang="ru-RU" sz="37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 – 8) = 1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7х-9-2х+8=1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7х-2х=1+9-8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5х=2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Х=2:5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Х=0,4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00000"/>
                </a:solidFill>
                <a:latin typeface="Verdana"/>
              </a:rPr>
              <a:t>Ответ: 0,4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 теперь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7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– 9) + (2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– 8) =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7х-9+2х-8=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7х+2х=1+9+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9х=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=18: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=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Ответ: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ешите уравнение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+ 5(3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– 1) = 35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– 2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03280" y="529920"/>
            <a:ext cx="818352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+ 5(3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– 1) = 35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– 2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0х+15х-5=35х-2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45х-35х=5-2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0х=-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Х=-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Verdana"/>
              </a:rPr>
              <a:t>Ответ: -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30280"/>
            <a:ext cx="8183520" cy="5470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зья мои, я очень ра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йти в приветливый ваш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для меня уже награ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иманье ваших добрых глаз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знаю, каждый в классе г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 без труда, талант не впр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ваших знаний и ум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мест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отворим ур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3280" y="530280"/>
            <a:ext cx="8183520" cy="5470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перь я знаю 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е я научился (научилась)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перь я умею 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е мне понравилось 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е мне пригодились знания 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меня было сложн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урока я ухожу с ________настроением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Содержимое 2" descr=""/>
          <p:cNvPicPr/>
          <p:nvPr/>
        </p:nvPicPr>
        <p:blipFill>
          <a:blip r:embed="rId1"/>
          <a:stretch/>
        </p:blipFill>
        <p:spPr>
          <a:xfrm>
            <a:off x="579600" y="255600"/>
            <a:ext cx="65037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ИЕ – ЖЕ – СЛ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И – НИЕ – ВЫ – 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О – МНО – ЕН – ЧЛ - 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Сложение и вычитание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ногочленов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Что лишнее?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9а</a:t>
            </a:r>
            <a:r>
              <a:rPr b="0" lang="ru-RU" sz="4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4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+ а</a:t>
            </a:r>
            <a:r>
              <a:rPr b="0" lang="ru-RU" sz="4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 ∙ а ∙ 2b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(а ∙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зовите коэффициент одночлена</a:t>
            </a:r>
            <a:br>
              <a:rPr sz="29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4 аb</a:t>
            </a:r>
            <a:r>
              <a:rPr b="0" lang="en-US" sz="3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abcd   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5abc   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ad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5214960"/>
            <a:ext cx="8183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акие из выражений не являются многочленами?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3а + 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4а</a:t>
            </a:r>
            <a:r>
              <a:rPr b="0" lang="ru-RU" sz="41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4а</a:t>
            </a:r>
            <a:r>
              <a:rPr b="0" lang="ru-RU" sz="41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 ∙ 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5ас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пределите степень многочлена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+ b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+ 5c + 1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– 5 а + 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+ 4 b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+ b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ведите подобные члены многочлена: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–7 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х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– х + х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+ 3 х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12а - 3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– 4а + 5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14:01:21Z</dcterms:created>
  <dc:creator>Tatyana</dc:creator>
  <dc:description/>
  <dc:language>en-US</dc:language>
  <cp:lastModifiedBy>Tatyana</cp:lastModifiedBy>
  <dcterms:modified xsi:type="dcterms:W3CDTF">2018-01-24T11:38:19Z</dcterms:modified>
  <cp:revision>19</cp:revision>
  <dc:subject/>
  <dc:title>Что лишнее?</dc:title>
</cp:coreProperties>
</file>