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D1BE-C015-45BB-A62D-145AD0CD2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EBCE-B833-49B4-BB90-E8B7D6F20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3FB-1D05-4201-8C6A-77CDDB31F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1A4-6100-4942-8E6A-A5997E8D4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26D9-1149-4256-8E07-D7867EE5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7691-268C-4BB7-AEC8-4F85ADDE5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D8CB-F51F-4260-AD11-64C8CE4B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9067-0D61-4A38-A43F-2E5CD909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DF24-B510-4E5F-94B3-71AC772A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86EA-BC12-402D-BB9C-FA8E3738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4C9-1F31-4D6B-BE5B-6989CBC34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1D77-81A5-4E68-BA82-1A992DD69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799D-7F59-42DF-A25E-AA65D516B3B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ОЯ СЕМЬЯ В ГОДЫ 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1278000" y="2212920"/>
            <a:ext cx="6481080" cy="32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БДОУ «Детский сад №9» г. Сосногорс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ЗНАЮ. ПОМНЮ. ГОРЖУС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вторы  - составители: семья Хозяиновой Ма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спитанницы ДОУ №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Сосногор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8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воюродные прадед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154800" y="1066680"/>
            <a:ext cx="4798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Двоюродные прапрадедуш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илин Алексей Виссарионо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9 мая 1941 года был призван в арм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лужил на украинской гра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 звании рядов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 марта 1944 года числи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ез вести пропавш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илин Иван Виссарионо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 1941 года – на фро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командир пулемётного расчё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Дошёл до Берл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осле войны, по 1947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лужил в Герма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Оба награждены множеством меда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876920" y="1981080"/>
            <a:ext cx="3886200" cy="28926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609480" y="2286000"/>
            <a:ext cx="3333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Теперь я знаю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что война – это страш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Я не хочу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усть на Земле все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удет ми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усть будут счастли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и взрослые, и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495680" y="2076480"/>
            <a:ext cx="4343400" cy="28144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80" name=""/>
          <p:cNvSpPr/>
          <p:nvPr/>
        </p:nvSpPr>
        <p:spPr>
          <a:xfrm>
            <a:off x="381960" y="2209680"/>
            <a:ext cx="358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А ещё я знаю, что мо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рапрадедушки – геро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ни защитили нашу страну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419720" y="2109960"/>
            <a:ext cx="4419360" cy="2889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83" name=""/>
          <p:cNvSpPr/>
          <p:nvPr/>
        </p:nvSpPr>
        <p:spPr>
          <a:xfrm>
            <a:off x="914760" y="2133720"/>
            <a:ext cx="252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Я горжусь ими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уду помнить о н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СЕГ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419720" y="2057400"/>
            <a:ext cx="4419360" cy="28782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днажды, мы с мамой и папой смотрели фотографии. Одна была старенькая, чёрно-белая. Я спросила: «А это кто?»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Твой прапрадедушка, это военная фотография, с фронта», - ответила мама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«А что такое фронт?»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47" name=""/>
          <p:cNvSpPr/>
          <p:nvPr/>
        </p:nvSpPr>
        <p:spPr>
          <a:xfrm>
            <a:off x="155880" y="2286000"/>
            <a:ext cx="4571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днажды, мы с мамой и пап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смотрели фотограф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дна была старенькая, тёмно-сер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Я спросила: «А это - кто?»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«Твой прапрадедушк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это фотография – с войны»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тветила мама.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«С какой войны?» - спросила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1981080"/>
            <a:ext cx="3809880" cy="306864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155520" y="2209680"/>
            <a:ext cx="453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И тогда мама рассказала мне, что …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562720" y="1447920"/>
            <a:ext cx="2819160" cy="37335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155520" y="1905120"/>
            <a:ext cx="390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еликая Отечественная вой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была давно,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меня тогда ещ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и на свете-то не было.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Тогда напала на нас 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фашистская Герм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572000" y="2057400"/>
            <a:ext cx="4191120" cy="29019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Это была страшная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война.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орели от взрывов </a:t>
            </a:r>
            <a:br>
              <a:rPr sz="16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города и сё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84120" y="2438280"/>
            <a:ext cx="261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Это была страшная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ойна.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Горели от взрывов </a:t>
            </a:r>
            <a:br>
              <a:rPr sz="1800"/>
            </a:b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города и сё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809880" y="2133720"/>
            <a:ext cx="5029200" cy="26668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0" name=""/>
          <p:cNvSpPr/>
          <p:nvPr/>
        </p:nvSpPr>
        <p:spPr>
          <a:xfrm>
            <a:off x="762120" y="2590920"/>
            <a:ext cx="281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Кругом было гор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голод, разруха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Много погибло лю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572000" y="2133720"/>
            <a:ext cx="4191120" cy="279396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228600" y="2438280"/>
            <a:ext cx="337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есь наш народ вст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на защиту Роди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Ушли воевать на фронт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мои прапрадедуш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4038480" y="2133720"/>
            <a:ext cx="4724640" cy="26575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867280" y="1676520"/>
            <a:ext cx="2805120" cy="3352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460800" y="1676520"/>
            <a:ext cx="49903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ыстин Иван Ивано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Прошёл всю вой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Воевал на многих фронтах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дошёл до Берлина. Награждён медалям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«За отвагу», «За взятие Берлина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«За освобождение Варшавы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«За победу над Германией в Вели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Отечественной войн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Есть юбилейные меда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Быст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2971800" cy="342900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85080" y="1905120"/>
            <a:ext cx="471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Быстров Георгий Васильеви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С первого дня войны – на фронт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снайпе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В 1942 году был серьёзно ране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почти год находился в госпитал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омиссован по причине инвалид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 группы в 1943 го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Кроме многочисленных юбилей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медалей, имеет боевую меда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«За отвагу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7T13:12:10Z</dcterms:created>
  <dc:creator>Мамулька</dc:creator>
  <dc:description/>
  <dc:language>en-US</dc:language>
  <cp:lastModifiedBy>Мамулька</cp:lastModifiedBy>
  <dcterms:modified xsi:type="dcterms:W3CDTF">2018-06-29T04:27:01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