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9005-8F13-4208-BF1E-1EF9AC5A3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BF8C-029F-46F2-9941-CC4303AD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B10B-2CFF-439A-BEA6-4A909483A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F724-AAE4-44E2-B590-35E74BCA3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8FA9-F4C8-40D5-A93F-3CCB28AE5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2A64-45AF-4703-B558-59BD2DD0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4D72-5CF9-4306-AFDD-CBBCA12CE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C5D1-280E-48FD-9499-52B9EB8A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D359-C70B-409F-BADB-FC304F2C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358D-65C7-4C57-A3DB-D62BD36D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307C-C0AF-4E9D-8E48-9A262EE3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4112-0765-4D94-BB7B-5DE9978B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E14A-6567-414E-A452-6959597827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ОЯ СЕМЬЯ В ГОДЫ ВЕЛИКОЙ ОТЕЧЕСТВЕННОЙ ВОЙ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1278000" y="2212920"/>
            <a:ext cx="648108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БДОУ «Детский сад №9» г. Сосногор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НАЮ. ПОМНЮ. ГОРЖУ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ы  - составители: семья Хозяиновой Ма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питанницы ДОУ №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 Сосногор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8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воюродные прадеду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54800" y="1066680"/>
            <a:ext cx="4798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Двоюродные прапрадеду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Силин Алексей Виссарионови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9 мая 1941 года был призван в арм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Служил на украинской грани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в звании рядов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С марта 1944 года числи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без вести пропавш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Силин Иван Виссарионови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С 1941 года – на фронт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командир пулемётного расчё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Дошёл до Берл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После войны, по 1947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Служил в Герм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Оба награждены множеством меда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876920" y="1981080"/>
            <a:ext cx="3886200" cy="28926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609480" y="2286000"/>
            <a:ext cx="3333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Теперь я зна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что война – это страш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Я не хочу вой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Пусть на Земле всег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будет ми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Пусть будут счастл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и взрослые, и де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495680" y="2076480"/>
            <a:ext cx="4343400" cy="28144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381960" y="2209680"/>
            <a:ext cx="358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А ещё я знаю, что м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прапрадедушки – геро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Они защитили нашу стран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419720" y="2109960"/>
            <a:ext cx="4419360" cy="28890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914760" y="2133720"/>
            <a:ext cx="25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Я горжусь им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буду помнить о 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ВСЕГ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419720" y="2057400"/>
            <a:ext cx="4419360" cy="28782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днажды, мы с мамой и папой смотрели фотографии. Одна была старенькая, чёрно-белая. Я спросила: «А это кто?»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«Твой прапрадедушка, это военная фотография, с фронта», - ответила мама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«А что такое фронт?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55880" y="2286000"/>
            <a:ext cx="457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Однажды, мы с мамой и пап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смотрели фотограф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Одна была старенькая, тёмно-сер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Я спросила: «А это - кто?»</a:t>
            </a:r>
            <a:br>
              <a:rPr sz="1800"/>
            </a:b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«Твой прапрадедуш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это фотография – с войны»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ответила мама.</a:t>
            </a:r>
            <a:br>
              <a:rPr sz="1800"/>
            </a:b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«С какой войны?» - спросила 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1981080"/>
            <a:ext cx="3809880" cy="306864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155520" y="2209680"/>
            <a:ext cx="45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И тогда мама рассказала мне, что 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562720" y="1447920"/>
            <a:ext cx="2819160" cy="373356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155520" y="1905120"/>
            <a:ext cx="390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Великая Отечественная вой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была давно,</a:t>
            </a:r>
            <a:br>
              <a:rPr sz="1800"/>
            </a:b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меня тогда ещ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и на свете-то не было.</a:t>
            </a:r>
            <a:br>
              <a:rPr sz="1800"/>
            </a:b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Тогда напала на нас </a:t>
            </a:r>
            <a:br>
              <a:rPr sz="1800"/>
            </a:b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фашистская Герм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572000" y="2057400"/>
            <a:ext cx="4191120" cy="290196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Это была страшная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ойна.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Горели от взрывов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города и сё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84120" y="2438280"/>
            <a:ext cx="261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Это была страшная</a:t>
            </a:r>
            <a:br>
              <a:rPr sz="1800"/>
            </a:b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война.</a:t>
            </a:r>
            <a:br>
              <a:rPr sz="1800"/>
            </a:b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Горели от взрывов </a:t>
            </a:r>
            <a:br>
              <a:rPr sz="1800"/>
            </a:b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города и сё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809880" y="2133720"/>
            <a:ext cx="5029200" cy="26668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762120" y="2590920"/>
            <a:ext cx="281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Кругом было гор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голод, разрух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Много погибло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0" y="2133720"/>
            <a:ext cx="4191120" cy="279396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228600" y="2438280"/>
            <a:ext cx="337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Весь наш народ вст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на защиту Род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Ушли воевать на фронт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мои прапрадедуш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038480" y="2133720"/>
            <a:ext cx="4724640" cy="265752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867280" y="1676520"/>
            <a:ext cx="2805120" cy="33526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460800" y="1676520"/>
            <a:ext cx="49903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Пыстин Иван Иванови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Прошёл всю вой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Воевал на многих фронта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дошёл до Берлина. Награждён медаля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«За отвагу», «За взятие Берлина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«За освобождение Варшавы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«За победу над Германией в Вели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Отечественной войн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Есть юбилейные мед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ыст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791320" y="1600200"/>
            <a:ext cx="2971800" cy="34290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685080" y="1905120"/>
            <a:ext cx="4714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Быстров Георгий Васильеви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С первого дня войны – на фронт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снайп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В 1942 году был серьёзно ранен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почти год находился в госпита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Комиссован по причине инвалид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 группы в 1943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Кроме многочисленных юбилей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медалей, имеет боевую мед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«За отваг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7T13:12:10Z</dcterms:created>
  <dc:creator>Мамулька</dc:creator>
  <dc:description/>
  <dc:language>en-US</dc:language>
  <cp:lastModifiedBy>Мамулька</cp:lastModifiedBy>
  <dcterms:modified xsi:type="dcterms:W3CDTF">2018-06-29T04:27:0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