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FD4-D31C-413D-8CC8-1BC8A01A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C80-ACA3-41ED-83F1-3908566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1BB-D4A8-436C-96DD-8C0B5E3F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0C2-C392-4017-B1FC-FC59BB69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446-496E-4842-9580-609F769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675-8677-4946-8EB3-ABD065E4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1BF-9C90-447E-90D5-36D4C6EE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887-6670-4A82-A05A-067E853C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DF2-1AAB-4E1E-A460-C46EDF37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B92-E91B-49C5-AE4E-0437A01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1C9-B1B7-4797-AB05-2372330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BB7-6DB2-4EB3-AF5C-CECD274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301A-8807-453B-8588-1F9C43BB43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4;&#1087;&#1086;&#1079;&#1080;&#1090;&#1086;&#1088;" TargetMode="External"/><Relationship Id="rId2" Type="http://schemas.openxmlformats.org/officeDocument/2006/relationships/hyperlink" Target="http://ru.wikipedia.org/wiki/&#1055;&#1077;&#1076;&#1072;&#1075;&#1086;&#1075;" TargetMode="External"/><Relationship Id="rId3" Type="http://schemas.openxmlformats.org/officeDocument/2006/relationships/hyperlink" Target="http://ru.wikipedia.org/wiki/&#1044;&#1080;&#1088;&#1080;&#1078;&#1105;&#1088;" TargetMode="External"/><Relationship Id="rId4" Type="http://schemas.openxmlformats.org/officeDocument/2006/relationships/hyperlink" Target="http://ru.wikipedia.org/wiki/&#1052;&#1091;&#1079;&#1099;&#1082;&#1072;&#1083;&#1100;&#1085;&#1072;&#1103;_&#1082;&#1088;&#1080;&#1090;&#1080;&#1082;&#1072;" TargetMode="External"/><Relationship Id="rId5" Type="http://schemas.openxmlformats.org/officeDocument/2006/relationships/hyperlink" Target="http://ru.wikipedia.org/wiki/&#1054;&#1087;&#1077;&#1088;&#1072;" TargetMode="External"/><Relationship Id="rId6" Type="http://schemas.openxmlformats.org/officeDocument/2006/relationships/hyperlink" Target="http://ru.wikipedia.org/wiki/&#1057;&#1080;&#1084;&#1092;&#1086;&#1085;&#1080;&#1103;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казка о Золотом петушке»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.С. Пушкина в музык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" descr="D:\Documents and Settings\Admin\Мои документы\Мои результаты сканирования\сканирование00021.jpg"/>
          <p:cNvPicPr/>
          <p:nvPr/>
        </p:nvPicPr>
        <p:blipFill>
          <a:blip r:embed="rId1"/>
          <a:stretch/>
        </p:blipFill>
        <p:spPr>
          <a:xfrm>
            <a:off x="819000" y="2057400"/>
            <a:ext cx="2054520" cy="2525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Documents and Settings\Admin\Мои документы\Мои результаты сканирования\сканирование00020.jpg"/>
          <p:cNvPicPr/>
          <p:nvPr/>
        </p:nvPicPr>
        <p:blipFill>
          <a:blip r:embed="rId2"/>
          <a:stretch/>
        </p:blipFill>
        <p:spPr>
          <a:xfrm>
            <a:off x="3657600" y="2057400"/>
            <a:ext cx="207180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6172200" y="3200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«Сказка ложь, да в ней наме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Добрым молодцам урок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914400" y="4724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А.Римский-Корсаков Оп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олотой Петушок»         1907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886200" y="4800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С.Пушкин  «Сказка о золотом петушке» 1834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Н.А. Римский-Корсаков русский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композитор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едагог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ирижёр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, общественный деятель, 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узыкальный критик</a:t>
            </a:r>
            <a:r>
              <a:rPr b="0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.</a:t>
            </a:r>
            <a:r>
              <a:rPr b="0" lang="ru-RU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еди его сочинений — 15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оп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3 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симфон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 симфонические произведения, инструментальные концерты, кантаты, камерно-инструментальная, вокальная и духовная музы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12"/>
          <p:cNvPicPr/>
          <p:nvPr/>
        </p:nvPicPr>
        <p:blipFill>
          <a:blip r:embed="rId7"/>
          <a:stretch/>
        </p:blipFill>
        <p:spPr>
          <a:xfrm>
            <a:off x="175248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ера-это вид музыкально-театрального искусства, который основан на слиянии слова, музыки и сценического действ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бретто-краткое содержание опе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читатив-полупение-полуреч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«Золотой петушок» являет собой редкий в мировой классике пример сатирической оперы. Музыкальный язык оперы глубоко национален: в нем отражены самобытные особенности русской песенности и бытовых жанров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5" descr="Bilibin_stage"/>
          <p:cNvPicPr/>
          <p:nvPr/>
        </p:nvPicPr>
        <p:blipFill>
          <a:blip r:embed="rId1"/>
          <a:stretch/>
        </p:blipFill>
        <p:spPr>
          <a:xfrm>
            <a:off x="1219320" y="2286000"/>
            <a:ext cx="64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ткое оркестровое вступление открывается задорным кличем Петушка. Призывная музыка сменяется восточной мелодией, прихотливо изысканной, исполненной любовного томления. А прозрачный звон колокольчиков уведомляет о выходе Звездоче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2" descr="D:\Documents and Settings\Admin\Мои документы\Мои результаты сканирования\сканирование00014.jpg"/>
          <p:cNvPicPr/>
          <p:nvPr/>
        </p:nvPicPr>
        <p:blipFill>
          <a:blip r:embed="rId1"/>
          <a:stretch/>
        </p:blipFill>
        <p:spPr>
          <a:xfrm>
            <a:off x="1219320" y="3505320"/>
            <a:ext cx="2955960" cy="2693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572000" y="4114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ирики, кири-ку-ку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арствуй, лежа на боку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1" descr="D:\Documents and Settings\Admin\Мои документы\Мои результаты сканирования\сканирование0011111.jpg"/>
          <p:cNvPicPr/>
          <p:nvPr/>
        </p:nvPicPr>
        <p:blipFill>
          <a:blip r:embed="rId2"/>
          <a:stretch/>
        </p:blipFill>
        <p:spPr>
          <a:xfrm>
            <a:off x="324000" y="404640"/>
            <a:ext cx="8362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ак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В первом акте обрисовано Додоново царство: торжественный глуповато-примитивный марш становится его характеристикой. Переломный момент ознаменован появлением Звездочета. 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тушок наделен двумя кличами — спокойным, возвещающим о благополучии в стране Додона, и тревожным, предупреждающим о грозящей опасности. На развитии «тревожного» клича Петушка строится сцена смятения и страха. После ухода царевичей на войну вновь возвращается мирный напев Петуш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2" descr="D:\Documents and Settings\Admin\Мои документы\Мои результаты сканирования\сканирование00013.jpg"/>
          <p:cNvPicPr/>
          <p:nvPr/>
        </p:nvPicPr>
        <p:blipFill>
          <a:blip r:embed="rId1"/>
          <a:stretch/>
        </p:blipFill>
        <p:spPr>
          <a:xfrm>
            <a:off x="1066680" y="3429000"/>
            <a:ext cx="1171800" cy="215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Documents and Settings\Admin\Мои документы\Мои результаты сканирования\сканирование00012.jpg"/>
          <p:cNvPicPr/>
          <p:nvPr/>
        </p:nvPicPr>
        <p:blipFill>
          <a:blip r:embed="rId2"/>
          <a:stretch/>
        </p:blipFill>
        <p:spPr>
          <a:xfrm>
            <a:off x="2971800" y="3505320"/>
            <a:ext cx="1071720" cy="2054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_40544_7e28b13_XL"/>
          <p:cNvPicPr/>
          <p:nvPr/>
        </p:nvPicPr>
        <p:blipFill>
          <a:blip r:embed="rId3"/>
          <a:stretch/>
        </p:blipFill>
        <p:spPr>
          <a:xfrm>
            <a:off x="4800600" y="3201840"/>
            <a:ext cx="35053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зыка второго акта рисует зловещую картину ущелья, где лежат убитые сыновья Додона. Изменился и облик марша — ранее ухарский, победный, он звучит теперь неуверенно, робко. Напевы Шемаханской царицы предвосхищают ее появл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" descr="D:\Documents and Settings\Admin\Мои документы\Мои результаты сканирования\сканирование00015.jpg"/>
          <p:cNvPicPr/>
          <p:nvPr/>
        </p:nvPicPr>
        <p:blipFill>
          <a:blip r:embed="rId1"/>
          <a:stretch/>
        </p:blipFill>
        <p:spPr>
          <a:xfrm>
            <a:off x="838080" y="2819520"/>
            <a:ext cx="4138560" cy="305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08labm8h11311784198"/>
          <p:cNvPicPr/>
          <p:nvPr/>
        </p:nvPicPr>
        <p:blipFill>
          <a:blip r:embed="rId2"/>
          <a:stretch/>
        </p:blipFill>
        <p:spPr>
          <a:xfrm>
            <a:off x="5486400" y="2514600"/>
            <a:ext cx="278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инственно-настороженная музыка оркестрового вступления к третьему акту прерывается грозным кличем Петушка. И как в первом акте, — переломный момент наступает с появлением Звездочета. В его арии «Подари ты мне девицу, Шемаханскую царицу» снова возникает фантастический колорит. Предрекая кровавую развязку, злобно кричит Петушок: «Ки-ри-ку-ку! В темя клюну старику».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1" descr="1210-765x1024"/>
          <p:cNvPicPr/>
          <p:nvPr/>
        </p:nvPicPr>
        <p:blipFill>
          <a:blip r:embed="rId1"/>
          <a:stretch/>
        </p:blipFill>
        <p:spPr>
          <a:xfrm>
            <a:off x="1295280" y="2819520"/>
            <a:ext cx="256248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4736"/>
          <p:cNvPicPr/>
          <p:nvPr/>
        </p:nvPicPr>
        <p:blipFill>
          <a:blip r:embed="rId2"/>
          <a:stretch/>
        </p:blipFill>
        <p:spPr>
          <a:xfrm>
            <a:off x="4343400" y="2903400"/>
            <a:ext cx="3429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8:46:18Z</dcterms:created>
  <dc:creator>Администратор</dc:creator>
  <dc:description/>
  <dc:language>en-US</dc:language>
  <cp:lastModifiedBy>Наташа</cp:lastModifiedBy>
  <dcterms:modified xsi:type="dcterms:W3CDTF">2013-09-15T16:40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