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B945-D654-4F8E-833F-0677C14AE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5810-7FA5-4252-B78B-340212D7C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E8FE-9128-4A49-9D0A-6D61DC45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2CC8-D70E-47A5-A115-E54C3F39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2F25-7651-4BE9-9106-9519FA7D6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D444F-135B-4A7B-BAFB-AB1B0C87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5C92-3394-4150-AF70-F333B5FA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FB904-573E-4898-B2AD-4C683253C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7F88F-C9AB-4654-B8E6-222D7DC4D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7CB5-4D65-4448-89F0-68CD18163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E6F4-DBD0-40A9-AD41-A9415DF2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0A90-5AC5-47AD-BDB2-836EC01E8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DE73-8AFD-4157-92B8-7BF48D274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BA035-2D16-4ABA-AFC1-EB8D36DC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7E4EF-F8C3-4336-B7C9-0C7CB82C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8DB7E-D64E-409A-8EE9-C517BA629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75F91-D383-4DF7-AFA2-5D7CF836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A529-692F-4A37-941C-9F98B2FD1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3AA-CDD5-4EC2-B88B-15E6BF91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98FF-572C-420D-B0CA-9D7CB13B6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989B-E1C8-491C-B6FF-41D02994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21E9-1F95-4D93-B922-587D4597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F27A-E24C-482F-AB4E-85E49FB71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0535-B15A-4933-ACB3-7BF680FE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97B4-1BD8-4B93-9AAD-604DA98E9DC3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6847-B737-4D24-B903-7C163C06ADE7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1937_&#1075;&#1086;&#1076;" TargetMode="External"/><Relationship Id="rId3" Type="http://schemas.openxmlformats.org/officeDocument/2006/relationships/hyperlink" Target="http://ru.wikipedia.org/wiki/11_&#1080;&#1102;&#1083;&#1103;" TargetMode="External"/><Relationship Id="rId4" Type="http://schemas.openxmlformats.org/officeDocument/2006/relationships/hyperlink" Target="http://ru.wikipedia.org/wiki/1937_&#1075;&#1086;&#1076;" TargetMode="Externa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Rhapsody_in_Blue_%28film%29" TargetMode="External"/><Relationship Id="rId3" Type="http://schemas.openxmlformats.org/officeDocument/2006/relationships/hyperlink" Target="http://en.wikipedia.org/wiki/Rhapsody_in_Blue_%28film%29" TargetMode="External"/><Relationship Id="rId4" Type="http://schemas.openxmlformats.org/officeDocument/2006/relationships/hyperlink" Target="http://en.wikipedia.org/wiki/Rhapsody_in_Blue_%28film%29" TargetMode="External"/><Relationship Id="rId5" Type="http://schemas.openxmlformats.org/officeDocument/2006/relationships/hyperlink" Target="http://ru.wikipedia.org/w/index.php?title=&#1056;&#1072;&#1087;&#1089;&#1086;&#1076;&#1080;&#1103;_&#1074;_&#1073;&#1083;&#1102;&#1079;&#1086;&#1074;&#1099;&#1093;_&#1090;&#1086;&#1085;&#1072;&#1093;_%28&#1092;&#1080;&#1083;&#1100;&#1084;%29&amp;action=edit&amp;redlink=1" TargetMode="External"/><Relationship Id="rId6" Type="http://schemas.openxmlformats.org/officeDocument/2006/relationships/hyperlink" Target="http://ru.wikipedia.org/w/index.php?title=&#1056;&#1072;&#1087;&#1089;&#1086;&#1076;&#1080;&#1103;_&#1074;_&#1073;&#1083;&#1102;&#1079;&#1086;&#1074;&#1099;&#1093;_&#1090;&#1086;&#1085;&#1072;&#1093;_%28&#1092;&#1080;&#1083;&#1100;&#1084;%29&amp;action=edit&amp;redlink=1" TargetMode="External"/><Relationship Id="rId7" Type="http://schemas.openxmlformats.org/officeDocument/2006/relationships/hyperlink" Target="http://ru.wikipedia.org/wiki/&#1061;&#1088;&#1086;&#1085;&#1080;&#1082;&#1080;_&#1084;&#1086;&#1083;&#1086;&#1076;&#1086;&#1075;&#1086;_&#1048;&#1085;&#1076;&#1080;&#1072;&#1085;&#1099;_&#1044;&#1078;&#1086;&#1085;&#1089;&#1072;" TargetMode="External"/><Relationship Id="rId8" Type="http://schemas.openxmlformats.org/officeDocument/2006/relationships/hyperlink" Target="http://ru.wikipedia.org/wiki/&#1061;&#1088;&#1086;&#1085;&#1080;&#1082;&#1080;_&#1084;&#1086;&#1083;&#1086;&#1076;&#1086;&#1075;&#1086;_&#1048;&#1085;&#1076;&#1080;&#1072;&#1085;&#1099;_&#1044;&#1078;&#1086;&#1085;&#1089;&#1072;" TargetMode="External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6;&#1072;&#1087;&#1089;&#1086;&#1076;&#1080;&#1103;" TargetMode="External"/><Relationship Id="rId3" Type="http://schemas.openxmlformats.org/officeDocument/2006/relationships/hyperlink" Target="http://ru.wikipedia.org/wiki/12_&#1092;&#1077;&#1074;&#1088;&#1072;&#1083;&#1103;" TargetMode="External"/><Relationship Id="rId4" Type="http://schemas.openxmlformats.org/officeDocument/2006/relationships/hyperlink" Target="http://ru.wikipedia.org/wiki/1924" TargetMode="External"/><Relationship Id="rId5" Type="http://schemas.openxmlformats.org/officeDocument/2006/relationships/hyperlink" Target="http://ru.wikipedia.org/wiki/&#1053;&#1100;&#1102;-&#1049;&#1086;&#1088;&#1082;" TargetMode="External"/><Relationship Id="rId6" Type="http://schemas.openxmlformats.org/officeDocument/2006/relationships/hyperlink" Target="http://ru.wikipedia.org/wiki/&#1053;&#1100;&#1102;-&#1049;&#1086;&#1088;&#1082;" TargetMode="External"/><Relationship Id="rId7" Type="http://schemas.openxmlformats.org/officeDocument/2006/relationships/hyperlink" Target="http://ru.wikipedia.org/wiki/&#1044;&#1078;&#1072;&#1079;" TargetMode="External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26_&#1089;&#1077;&#1085;&#1090;&#1103;&#1073;&#1088;&#1103;" TargetMode="External"/><Relationship Id="rId3" Type="http://schemas.openxmlformats.org/officeDocument/2006/relationships/hyperlink" Target="http://ru.wikipedia.org/wiki/1898_&#1075;&#1086;&#1076;" TargetMode="External"/><Relationship Id="rId4" Type="http://schemas.openxmlformats.org/officeDocument/2006/relationships/hyperlink" Target="http://ru.wikipedia.org/wiki/&#1053;&#1100;&#1102;-&#1049;&#1086;&#1088;&#1082;" TargetMode="External"/><Relationship Id="rId5" Type="http://schemas.openxmlformats.org/officeDocument/2006/relationships/hyperlink" Target="http://ru.wikipedia.org/wiki/&#1053;&#1100;&#1102;-&#1049;&#1086;&#1088;&#1082;" TargetMode="External"/><Relationship Id="rId6" Type="http://schemas.openxmlformats.org/officeDocument/2006/relationships/hyperlink" Target="http://ru.wikipedia.org/wiki/&#1053;&#1100;&#1102;-&#1049;&#1086;&#1088;&#1082;" TargetMode="External"/><Relationship Id="rId7" Type="http://schemas.openxmlformats.org/officeDocument/2006/relationships/hyperlink" Target="http://ru.wikipedia.org/wiki/&#1041;&#1088;&#1091;&#1082;&#1083;&#1080;&#1085;" TargetMode="External"/><Relationship Id="rId8" Type="http://schemas.openxmlformats.org/officeDocument/2006/relationships/hyperlink" Target="http://ru.wikipedia.org/wiki/&#1045;&#1074;&#1088;&#1077;&#1081;" TargetMode="External"/><Relationship Id="rId9" Type="http://schemas.openxmlformats.org/officeDocument/2006/relationships/hyperlink" Target="http://ru.wikipedia.org/wiki/&#1054;&#1076;&#1077;&#1089;&#1089;&#1072;" TargetMode="External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Jerome_H._Remick" TargetMode="External"/><Relationship Id="rId3" Type="http://schemas.openxmlformats.org/officeDocument/2006/relationships/hyperlink" Target="http://ru.wikipedia.org/w/index.php?title=&#1056;&#1077;&#1084;&#1080;&#1082;,_&#1044;&#1078;&#1077;&#1088;&#1086;&#1084;&amp;action=edit&amp;redlink=1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41;&#1088;&#1086;&#1076;&#1074;&#1077;&#1081;" TargetMode="External"/><Relationship Id="rId3" Type="http://schemas.openxmlformats.org/officeDocument/2006/relationships/hyperlink" Target="http://en.wikipedia.org/wiki/Swanee_%28song%29" TargetMode="External"/><Relationship Id="rId4" Type="http://schemas.openxmlformats.org/officeDocument/2006/relationships/hyperlink" Target="http://ru.wikipedia.org/wiki/&#1064;&#1086;&#1091;" TargetMode="External"/><Relationship Id="rId5" Type="http://schemas.openxmlformats.org/officeDocument/2006/relationships/hyperlink" Target="http://ru.wikipedia.org/wiki/&#1069;&#1083;_&#1044;&#1078;&#1086;&#1083;&#1089;&#1086;&#1085;" TargetMode="External"/><Relationship Id="rId6" Type="http://schemas.openxmlformats.org/officeDocument/2006/relationships/hyperlink" Target="http://en.wikipedia.org/wiki/La_La_Lucille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en.wikipedia.org/wiki/Lady,_Be_Good_%28musical%29" TargetMode="External"/><Relationship Id="rId3" Type="http://schemas.openxmlformats.org/officeDocument/2006/relationships/hyperlink" Target="http://en.wikipedia.org/wiki/Lady,_Be_Good_%28musical%29" TargetMode="External"/><Relationship Id="rId4" Type="http://schemas.openxmlformats.org/officeDocument/2006/relationships/hyperlink" Target="http://en.wikipedia.org/wiki/Lady,_Be_Good_%28musical%29" TargetMode="External"/><Relationship Id="rId5" Type="http://schemas.openxmlformats.org/officeDocument/2006/relationships/hyperlink" Target="http://ru.wikipedia.org/wiki/&#1043;&#1077;&#1088;&#1096;&#1074;&#1080;&#1085;,_&#1040;&#1081;&#1088;&#1072;" TargetMode="External"/><Relationship Id="rId6" Type="http://schemas.openxmlformats.org/officeDocument/2006/relationships/hyperlink" Target="http://ru.wikipedia.org/wiki/&#1043;&#1077;&#1088;&#1096;&#1074;&#1080;&#1085;,_&#1040;&#1081;&#1088;&#1072;" TargetMode="External"/><Relationship Id="rId7" Type="http://schemas.openxmlformats.org/officeDocument/2006/relationships/hyperlink" Target="http://en.wikipedia.org/wiki/Of_Thee_I_Sing" TargetMode="External"/><Relationship Id="rId8" Type="http://schemas.openxmlformats.org/officeDocument/2006/relationships/hyperlink" Target="http://en.wikipedia.org/wiki/Of_Thee_I_Sing" TargetMode="External"/><Relationship Id="rId9" Type="http://schemas.openxmlformats.org/officeDocument/2006/relationships/hyperlink" Target="http://en.wikipedia.org/wiki/Of_Thee_I_Sing" TargetMode="External"/><Relationship Id="rId10" Type="http://schemas.openxmlformats.org/officeDocument/2006/relationships/hyperlink" Target="http://ru.wikipedia.org/wiki/&#1055;&#1091;&#1083;&#1080;&#1090;&#1094;&#1077;&#1088;&#1086;&#1074;&#1089;&#1082;&#1072;&#1103;_&#1087;&#1088;&#1077;&#1084;&#1080;&#1103;" TargetMode="External"/><Relationship Id="rId11" Type="http://schemas.openxmlformats.org/officeDocument/2006/relationships/hyperlink" Target="http://ru.wikipedia.org/wiki/&#1055;&#1091;&#1083;&#1080;&#1090;&#1094;&#1077;&#1088;&#1086;&#1074;&#1089;&#1082;&#1072;&#1103;_&#1087;&#1088;&#1077;&#1084;&#1080;&#1103;" TargetMode="External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ru.wikipedia.org/wiki/&#1055;&#1086;&#1088;&#1075;&#1080;_&#1080;_&#1041;&#1077;&#1089;&#1089;" TargetMode="External"/><Relationship Id="rId3" Type="http://schemas.openxmlformats.org/officeDocument/2006/relationships/hyperlink" Target="http://ru.wikipedia.org/wiki/&#1055;&#1086;&#1088;&#1075;&#1080;_&#1080;_&#1041;&#1077;&#1089;&#1089;" TargetMode="External"/><Relationship Id="rId4" Type="http://schemas.openxmlformats.org/officeDocument/2006/relationships/hyperlink" Target="http://ru.wikipedia.org/wiki/&#1055;&#1086;&#1088;&#1075;&#1080;_&#1080;_&#1041;&#1077;&#1089;&#1089;" TargetMode="External"/><Relationship Id="rId5" Type="http://schemas.openxmlformats.org/officeDocument/2006/relationships/hyperlink" Target="http://en.wikipedia.org/wiki/DuBose_Heyward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43200" y="1806120"/>
            <a:ext cx="630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РАПСОДИЯ В СТИЛЕ</a:t>
            </a:r>
            <a:br>
              <a:rPr sz="4400"/>
            </a:b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 БЛЮЗ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ДЖОРЖ ГЕРШВ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начал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1937 год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у Гершвина обнаружились симптомы опухоли головного мозга. Гершвина помещают в клинику "Седарс Синай", где он умер утром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11 июл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1937 год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не приходя в сознание после операции по удалению опухол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Интересные факты</a:t>
            </a:r>
            <a:br>
              <a:rPr sz="4400"/>
            </a:b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дним из хобби Гершвина было рисован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ершвин был влюблен в Александру Бледных — лучшую учениц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85 году братья Гершвины были награждены Золотой медалью Конгрес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45 году вышел фильм «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Рапсодия в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 блюзовых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 тонах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i="1" lang="ru-RU" sz="2800" spc="-1" strike="noStrike">
                <a:solidFill>
                  <a:srgbClr val="888888"/>
                </a:solidFill>
                <a:latin typeface="Times New Roman"/>
              </a:rPr>
              <a:t>(англ.)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русск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», посвящённый композитор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Образ композитора был также создан в приключенческом телесериале 1992—1993 гг «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Хроники молодого Индианы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 Джонс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» (сыграл Tom Beckett) — серия «Скандал 1920-го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Рапсодия”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Греческое слово “rhapsodia” означает народная эпическая песнь. Так называли древние греки сказания, которые пели народные певцы-рапсоды.Главы рапсодий исполняли нараспев, аккомпанируя себе на кифаре или лир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ХIХ веке название “рапсодия” пришло в профессиональную музыку и стало обозначать крупное одночастное произведение, как правило, для рояля или оркестра, в котором звучат различные народные мелод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ПРЕМЬЕРА РАПСОДИИ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Рапсоди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была впервые исполнена автором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12 февраля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1924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Нью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-Йорк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в сопровождении оркестра Пола Уайтмана.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Джордж играл партию солирующего рояля.Вечер премьеры Рапсодии, стал самой знаменательной датой биографии Гершвина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ьеса была заказана Уайтманом начинающему тогда композитору и музыканту Гершвину 5 января 1923, как эксперимент по созданию нового музыкального стиля, сочетающего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джаз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и классическую музы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В первых рядах находились прославленные музыканты: Рахманинов, Стравинский, Хейфец, Цимбалист, Стоковск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Прием Рапсодии был буквально беспримерен. И солист, и оркестр, и дирижер вызвали бесконечные овации. Наиболее прозорливые и тонкие ценители понимали, что Голубая рапсодия синтезирует в себе самые характерные черты музыки целой эпохи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«Рапсодия в стиле блюз» или, как её часто называют, «Голубая рапсодия» относится к числу наиболее известных произведений композитора. По своему жанру она приближается к фортепианному концерту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Произведение должно было называться «Американская рапсодия», известное нам название «Рапсодия в блюзовых тонах» было подсказано братом композитора Айрой Гершвином, после посещения им художественной выставки Джеймса Макнейла Уистлер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«Рапсодия в блюзовых тонах» стала визитной карточкой Гершвина. Ныне она с равным успехом исполняется музыкантами и академического и джазового направлени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усское название данного произведения «Голубая рапсодия» возникло под влиянием первичного значения английского слова blue, которое обозначает не только «синий, голубой», но и «грустный, печальный». Поэтому и само слово блюз буквально обозначает «грустная мелодия», «тоска», «печаль»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69343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ДЖОРЖ ГЕРШВИН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site" descr=""/>
          <p:cNvPicPr/>
          <p:nvPr/>
        </p:nvPicPr>
        <p:blipFill>
          <a:blip r:embed="rId2"/>
          <a:stretch/>
        </p:blipFill>
        <p:spPr>
          <a:xfrm>
            <a:off x="2362320" y="190512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БИОГРАФИЯ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Джордж Гершвин родился под именем Янкл Гершовиц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26 сентября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1898 год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нью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йоркском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район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Бруклин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в семье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еврейских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эмигрантов из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Одессы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В 12 лет начал самостоятельно учиться играть на фортепиано. Много позже, став прославленным композитором, Гершвин не переставал учиться, совершенствовать свою технику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С именем Джорджа Гершвина связана одна из наиболее интересных глав истории музыки Соединенных Штатов Америки . В Нью-Йорке прошла большая часть его жизни. Музыкальный быт нью-йоркской улицы был единственной питательной средой эстетических впечатлений детских лет.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Музыкальное образование Гершвина носило характер случайный. У одного педагога он усвоил первоначальные навыки игры на фортепиан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Занятия композицией дали юному Гершвину основные сведения в области гармонии и форм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georgia"/>
              </a:rPr>
              <a:t>Гершвин,был одним из первых по-настоящему талантливых музыкантов, понявших, какие богатства заключены в афро-американской музыке негров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ТВОРЧЕСТВО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14 году Гершвин начал профессионально заниматься музыкой, работая аккомпаниатором в музыкальном издательстве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Джерома Ремика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.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же через два года было выпущено первое авторское произведение молодого Гершвина — «When You Want ’Em, You Can’t Get ’Em». Несмотря на то, что оно не пользовалось особым успехом у публики, Гершвин привлёк внимание некоторых известных бродвейских продюсеров и режиссёров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БРОДВЕЙ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18—1919 годах на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Бродвее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появилось много произведений Гершвина: песня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Swane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  вошла в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шоу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Эла Джолсон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«Sinbad» и имела ошеломляющий успех — Джолсон многократно записал её на пластинки и исполнил в нескольких фильмах. А постановка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La La Lucille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1919 года была полностью основана на сочинениях Гершви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ТВОРЧЕСКИЙ СОЮЗ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В 1924 году Гершвин создал мюзикл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Lady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,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 Be Good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который стал первым настоящим успехом композитора на Бродвее. В этой постановке Гершвин впервые работал со своим братом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Айрой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6"/>
              </a:rPr>
              <a:t> Гершвином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который писал все тексты. Следующее десятилетие этот творческий союз был самым продуктивным и востребованным на Бродвее. Самым удачным их шоу было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7"/>
              </a:rPr>
              <a:t>Of Thee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8"/>
              </a:rPr>
              <a:t> I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9"/>
              </a:rPr>
              <a:t>Sing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, 1931; за него они получили 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10"/>
              </a:rPr>
              <a:t>Пулитцеровскую</a:t>
            </a:r>
            <a:r>
              <a:rPr b="0" lang="ru-RU" sz="2800" spc="-1" strike="noStrike" u="sng">
                <a:solidFill>
                  <a:srgbClr val="cc9900"/>
                </a:solidFill>
                <a:uFillTx/>
                <a:latin typeface="Times New Roman"/>
                <a:hlinkClick r:id="rId11"/>
              </a:rPr>
              <a:t> премию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 (1932), впервые присуждённую музыкальной постановк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МАСШТАБНАЯ РАБОТА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амой масштабной и амбициозной работой в биографии Гершвина стала «фольклорная» опера «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2"/>
              </a:rPr>
              <a:t>Порги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3"/>
              </a:rPr>
              <a:t> и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4"/>
              </a:rPr>
              <a:t> Бесс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», 1935, поставленная по роману </a:t>
            </a:r>
            <a:r>
              <a:rPr b="0" lang="ru-RU" sz="3200" spc="-1" strike="noStrike" u="sng">
                <a:solidFill>
                  <a:srgbClr val="cc9900"/>
                </a:solidFill>
                <a:uFillTx/>
                <a:latin typeface="Times New Roman"/>
                <a:hlinkClick r:id="rId5"/>
              </a:rPr>
              <a:t>Дюбоса Хейворда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принимавшего участие в написании либретто для опе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1T06:14:41Z</dcterms:created>
  <dc:creator>Пользователь</dc:creator>
  <dc:description/>
  <dc:language>en-US</dc:language>
  <cp:lastModifiedBy>Пользователь</cp:lastModifiedBy>
  <dcterms:modified xsi:type="dcterms:W3CDTF">2013-06-21T06:36:20Z</dcterms:modified>
  <cp:revision>1</cp:revision>
  <dc:subject/>
  <dc:title>РАПСОДИЯ В СТИЛЕ  БЛЮЗ</dc:title>
</cp:coreProperties>
</file>