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CCC4-ACE8-4A97-B2F3-9AD912394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282E-E2A7-4852-97AB-FC77057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2EDC-E090-4D41-BE10-63624C040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247-F755-4918-BE89-39F2ADD4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F602-EC1C-4216-8B77-BD829674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25C3A-8EBB-4D4E-8D46-14B48541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37D1-AF28-486D-81FF-50C3B7C5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A3B5-EF8B-4B2C-9E39-D0A14967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2FF1-8586-4258-B2A7-017704A6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30E5-EB40-4809-BC92-6001554A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CA09-F2DB-406A-890B-A2075662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C386-8CA7-408C-A931-60C51BD9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B317-13B7-46C7-AFBF-B98B3170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339E-7D1E-41AA-8AD5-9526966E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D3A7-CC77-4C9F-B994-3141B80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542A-6724-4BBF-AA2B-07799C7C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53B4-8FAE-4E8F-B88B-1AAE5A45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4503-8588-47C0-BF6D-ED464E7D3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E536-A5BC-4BA9-BE0D-054370AD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CC2-BA1A-441B-8E86-A7577930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F185-C487-4D9E-8736-B42ECDBC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3900-9317-4F04-89EE-7EAFB9CB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054-0B38-4034-9475-665DA388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E1FD-44A3-4F2C-BAF4-D44A2D09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C9F59-7C9B-4098-B215-2ACC9D2F78D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15AA-668E-4418-AFAC-7EF6D70C6CDA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1937_&#1075;&#1086;&#1076;" TargetMode="External"/><Relationship Id="rId3" Type="http://schemas.openxmlformats.org/officeDocument/2006/relationships/hyperlink" Target="http://ru.wikipedia.org/wiki/11_&#1080;&#1102;&#1083;&#1103;" TargetMode="External"/><Relationship Id="rId4" Type="http://schemas.openxmlformats.org/officeDocument/2006/relationships/hyperlink" Target="http://ru.wikipedia.org/wiki/1937_&#1075;&#1086;&#1076;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Rhapsody_in_Blue_%28film%29" TargetMode="External"/><Relationship Id="rId3" Type="http://schemas.openxmlformats.org/officeDocument/2006/relationships/hyperlink" Target="http://en.wikipedia.org/wiki/Rhapsody_in_Blue_%28film%29" TargetMode="External"/><Relationship Id="rId4" Type="http://schemas.openxmlformats.org/officeDocument/2006/relationships/hyperlink" Target="http://en.wikipedia.org/wiki/Rhapsody_in_Blue_%28film%29" TargetMode="External"/><Relationship Id="rId5" Type="http://schemas.openxmlformats.org/officeDocument/2006/relationships/hyperlink" Target="http://ru.wikipedia.org/w/index.php?title=&#1056;&#1072;&#1087;&#1089;&#1086;&#1076;&#1080;&#1103;_&#1074;_&#1073;&#1083;&#1102;&#1079;&#1086;&#1074;&#1099;&#1093;_&#1090;&#1086;&#1085;&#1072;&#1093;_%28&#1092;&#1080;&#1083;&#1100;&#1084;%29&amp;action=edit&amp;redlink=1" TargetMode="External"/><Relationship Id="rId6" Type="http://schemas.openxmlformats.org/officeDocument/2006/relationships/hyperlink" Target="http://ru.wikipedia.org/w/index.php?title=&#1056;&#1072;&#1087;&#1089;&#1086;&#1076;&#1080;&#1103;_&#1074;_&#1073;&#1083;&#1102;&#1079;&#1086;&#1074;&#1099;&#1093;_&#1090;&#1086;&#1085;&#1072;&#1093;_%28&#1092;&#1080;&#1083;&#1100;&#1084;%29&amp;action=edit&amp;redlink=1" TargetMode="External"/><Relationship Id="rId7" Type="http://schemas.openxmlformats.org/officeDocument/2006/relationships/hyperlink" Target="http://ru.wikipedia.org/wiki/&#1061;&#1088;&#1086;&#1085;&#1080;&#1082;&#1080;_&#1084;&#1086;&#1083;&#1086;&#1076;&#1086;&#1075;&#1086;_&#1048;&#1085;&#1076;&#1080;&#1072;&#1085;&#1099;_&#1044;&#1078;&#1086;&#1085;&#1089;&#1072;" TargetMode="External"/><Relationship Id="rId8" Type="http://schemas.openxmlformats.org/officeDocument/2006/relationships/hyperlink" Target="http://ru.wikipedia.org/wiki/&#1061;&#1088;&#1086;&#1085;&#1080;&#1082;&#1080;_&#1084;&#1086;&#1083;&#1086;&#1076;&#1086;&#1075;&#1086;_&#1048;&#1085;&#1076;&#1080;&#1072;&#1085;&#1099;_&#1044;&#1078;&#1086;&#1085;&#1089;&#1072;" TargetMode="Externa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6;&#1072;&#1087;&#1089;&#1086;&#1076;&#1080;&#1103;" TargetMode="External"/><Relationship Id="rId3" Type="http://schemas.openxmlformats.org/officeDocument/2006/relationships/hyperlink" Target="http://ru.wikipedia.org/wiki/12_&#1092;&#1077;&#1074;&#1088;&#1072;&#1083;&#1103;" TargetMode="External"/><Relationship Id="rId4" Type="http://schemas.openxmlformats.org/officeDocument/2006/relationships/hyperlink" Target="http://ru.wikipedia.org/wiki/1924" TargetMode="External"/><Relationship Id="rId5" Type="http://schemas.openxmlformats.org/officeDocument/2006/relationships/hyperlink" Target="http://ru.wikipedia.org/wiki/&#1053;&#1100;&#1102;-&#1049;&#1086;&#1088;&#1082;" TargetMode="External"/><Relationship Id="rId6" Type="http://schemas.openxmlformats.org/officeDocument/2006/relationships/hyperlink" Target="http://ru.wikipedia.org/wiki/&#1053;&#1100;&#1102;-&#1049;&#1086;&#1088;&#1082;" TargetMode="External"/><Relationship Id="rId7" Type="http://schemas.openxmlformats.org/officeDocument/2006/relationships/hyperlink" Target="http://ru.wikipedia.org/wiki/&#1044;&#1078;&#1072;&#1079;" TargetMode="Externa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26_&#1089;&#1077;&#1085;&#1090;&#1103;&#1073;&#1088;&#1103;" TargetMode="External"/><Relationship Id="rId3" Type="http://schemas.openxmlformats.org/officeDocument/2006/relationships/hyperlink" Target="http://ru.wikipedia.org/wiki/1898_&#1075;&#1086;&#1076;" TargetMode="External"/><Relationship Id="rId4" Type="http://schemas.openxmlformats.org/officeDocument/2006/relationships/hyperlink" Target="http://ru.wikipedia.org/wiki/&#1053;&#1100;&#1102;-&#1049;&#1086;&#1088;&#1082;" TargetMode="External"/><Relationship Id="rId5" Type="http://schemas.openxmlformats.org/officeDocument/2006/relationships/hyperlink" Target="http://ru.wikipedia.org/wiki/&#1053;&#1100;&#1102;-&#1049;&#1086;&#1088;&#1082;" TargetMode="External"/><Relationship Id="rId6" Type="http://schemas.openxmlformats.org/officeDocument/2006/relationships/hyperlink" Target="http://ru.wikipedia.org/wiki/&#1053;&#1100;&#1102;-&#1049;&#1086;&#1088;&#1082;" TargetMode="External"/><Relationship Id="rId7" Type="http://schemas.openxmlformats.org/officeDocument/2006/relationships/hyperlink" Target="http://ru.wikipedia.org/wiki/&#1041;&#1088;&#1091;&#1082;&#1083;&#1080;&#1085;" TargetMode="External"/><Relationship Id="rId8" Type="http://schemas.openxmlformats.org/officeDocument/2006/relationships/hyperlink" Target="http://ru.wikipedia.org/wiki/&#1045;&#1074;&#1088;&#1077;&#1081;" TargetMode="External"/><Relationship Id="rId9" Type="http://schemas.openxmlformats.org/officeDocument/2006/relationships/hyperlink" Target="http://ru.wikipedia.org/wiki/&#1054;&#1076;&#1077;&#1089;&#1089;&#1072;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Jerome_H._Remick" TargetMode="External"/><Relationship Id="rId3" Type="http://schemas.openxmlformats.org/officeDocument/2006/relationships/hyperlink" Target="http://ru.wikipedia.org/w/index.php?title=&#1056;&#1077;&#1084;&#1080;&#1082;,_&#1044;&#1078;&#1077;&#1088;&#1086;&#1084;&amp;action=edit&amp;redlink=1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1;&#1088;&#1086;&#1076;&#1074;&#1077;&#1081;" TargetMode="External"/><Relationship Id="rId3" Type="http://schemas.openxmlformats.org/officeDocument/2006/relationships/hyperlink" Target="http://en.wikipedia.org/wiki/Swanee_%28song%29" TargetMode="External"/><Relationship Id="rId4" Type="http://schemas.openxmlformats.org/officeDocument/2006/relationships/hyperlink" Target="http://ru.wikipedia.org/wiki/&#1064;&#1086;&#1091;" TargetMode="External"/><Relationship Id="rId5" Type="http://schemas.openxmlformats.org/officeDocument/2006/relationships/hyperlink" Target="http://ru.wikipedia.org/wiki/&#1069;&#1083;_&#1044;&#1078;&#1086;&#1083;&#1089;&#1086;&#1085;" TargetMode="External"/><Relationship Id="rId6" Type="http://schemas.openxmlformats.org/officeDocument/2006/relationships/hyperlink" Target="http://en.wikipedia.org/wiki/La_La_Lucille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Lady,_Be_Good_%28musical%29" TargetMode="External"/><Relationship Id="rId3" Type="http://schemas.openxmlformats.org/officeDocument/2006/relationships/hyperlink" Target="http://en.wikipedia.org/wiki/Lady,_Be_Good_%28musical%29" TargetMode="External"/><Relationship Id="rId4" Type="http://schemas.openxmlformats.org/officeDocument/2006/relationships/hyperlink" Target="http://en.wikipedia.org/wiki/Lady,_Be_Good_%28musical%29" TargetMode="External"/><Relationship Id="rId5" Type="http://schemas.openxmlformats.org/officeDocument/2006/relationships/hyperlink" Target="http://ru.wikipedia.org/wiki/&#1043;&#1077;&#1088;&#1096;&#1074;&#1080;&#1085;,_&#1040;&#1081;&#1088;&#1072;" TargetMode="External"/><Relationship Id="rId6" Type="http://schemas.openxmlformats.org/officeDocument/2006/relationships/hyperlink" Target="http://ru.wikipedia.org/wiki/&#1043;&#1077;&#1088;&#1096;&#1074;&#1080;&#1085;,_&#1040;&#1081;&#1088;&#1072;" TargetMode="External"/><Relationship Id="rId7" Type="http://schemas.openxmlformats.org/officeDocument/2006/relationships/hyperlink" Target="http://en.wikipedia.org/wiki/Of_Thee_I_Sing" TargetMode="External"/><Relationship Id="rId8" Type="http://schemas.openxmlformats.org/officeDocument/2006/relationships/hyperlink" Target="http://en.wikipedia.org/wiki/Of_Thee_I_Sing" TargetMode="External"/><Relationship Id="rId9" Type="http://schemas.openxmlformats.org/officeDocument/2006/relationships/hyperlink" Target="http://en.wikipedia.org/wiki/Of_Thee_I_Sing" TargetMode="External"/><Relationship Id="rId10" Type="http://schemas.openxmlformats.org/officeDocument/2006/relationships/hyperlink" Target="http://ru.wikipedia.org/wiki/&#1055;&#1091;&#1083;&#1080;&#1090;&#1094;&#1077;&#1088;&#1086;&#1074;&#1089;&#1082;&#1072;&#1103;_&#1087;&#1088;&#1077;&#1084;&#1080;&#1103;" TargetMode="External"/><Relationship Id="rId11" Type="http://schemas.openxmlformats.org/officeDocument/2006/relationships/hyperlink" Target="http://ru.wikipedia.org/wiki/&#1055;&#1091;&#1083;&#1080;&#1090;&#1094;&#1077;&#1088;&#1086;&#1074;&#1089;&#1082;&#1072;&#1103;_&#1087;&#1088;&#1077;&#1084;&#1080;&#1103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5;&#1086;&#1088;&#1075;&#1080;_&#1080;_&#1041;&#1077;&#1089;&#1089;" TargetMode="External"/><Relationship Id="rId3" Type="http://schemas.openxmlformats.org/officeDocument/2006/relationships/hyperlink" Target="http://ru.wikipedia.org/wiki/&#1055;&#1086;&#1088;&#1075;&#1080;_&#1080;_&#1041;&#1077;&#1089;&#1089;" TargetMode="External"/><Relationship Id="rId4" Type="http://schemas.openxmlformats.org/officeDocument/2006/relationships/hyperlink" Target="http://ru.wikipedia.org/wiki/&#1055;&#1086;&#1088;&#1075;&#1080;_&#1080;_&#1041;&#1077;&#1089;&#1089;" TargetMode="External"/><Relationship Id="rId5" Type="http://schemas.openxmlformats.org/officeDocument/2006/relationships/hyperlink" Target="http://en.wikipedia.org/wiki/DuBose_Heyward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3200" y="180612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РАПСОДИЯ В СТИЛЕ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БЛЮЗ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ЖОРЖ ГЕРШ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начал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1937 го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у Гершвина обнаружились симптомы опухоли головного мозга. Гершвина помещают в клинику "Седарс Синай", где он умер утро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11 июл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1937 го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не приходя в сознание после операции по удалению опухо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Интересные фак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дним из хобби Гершвина было рис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ершвин был влюблен в Александру Бледных — лучшую учениц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85 году братья Гершвины были награждены Золотой медалью Конгрес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45 году вышел фильм «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Рапсодия в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 блюзовых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 тона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888888"/>
                </a:solidFill>
                <a:latin typeface="Times New Roman"/>
              </a:rPr>
              <a:t>(англ.)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русск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», посвящённый композито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раз композитора был также создан в приключенческом телесериале 1992—1993 гг «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Хроники молодого Индианы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 Джонс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» (сыграл Tom Beckett) — серия «Скандал 1920-г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Рапсодия”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еческое слово “rhapsodia” означает народная эпическая песнь. Так называли древние греки сказания, которые пели народные певцы-рапсоды.Главы рапсодий исполняли нараспев, аккомпанируя себе на кифаре или ли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ХIХ веке название “рапсодия” пришло в профессиональную музыку и стало обозначать крупное одночастное произведение, как правило, для рояля или оркестра, в котором звучат различные народные мело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ПРЕМЬЕРА РАПСОД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Рапсод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была впервые исполнена автором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12 феврал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1924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Нью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-Йорк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 сопровождении оркестра Пола Уайтмана.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жордж играл партию солирующего рояля.Вечер премьеры Рапсодии, стал самой знаменательной датой биографии Гершвина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ьеса была заказана Уайтманом начинающему тогда композитору и музыканту Гершвину 5 января 1923, как эксперимент по созданию нового музыкального стиля, сочетающего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джаз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классическую музы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 первых рядах находились прославленные музыканты: Рахманинов, Стравинский, Хейфец, Цимбалист, Стоковс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ем Рапсодии был буквально беспримерен. И солист, и оркестр, и дирижер вызвали бесконечные овации. Наиболее прозорливые и тонкие ценители понимали, что Голубая рапсодия синтезирует в себе самые характерные черты музыки целой эпохи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«Рапсодия в стиле блюз» или, как её часто называют, «Голубая рапсодия» относится к числу наиболее известных произведений композитора. По своему жанру она приближается к фортепианному концерту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изведение должно было называться «Американская рапсодия», известное нам название «Рапсодия в блюзовых тонах» было подсказано братом композитора Айрой Гершвином, после посещения им художественной выставки Джеймса Макнейла Уист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Рапсодия в блюзовых тонах» стала визитной карточкой Гершвина. Ныне она с равным успехом исполняется музыкантами и академического и джазового направл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сское название данного произведения «Голубая рапсодия» возникло под влиянием первичного значения английского слова blue, которое обозначает не только «синий, голубой», но и «грустный, печальный». Поэтому и само слово блюз буквально обозначает «грустная мелодия», «тоска», «печаль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ДЖОРЖ ГЕРШВИН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ite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БИОГРАФ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жордж Гершвин родился под именем Янкл Гершовиц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26 сентябр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1898 го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нью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йоркском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район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Брукли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в семь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еврейских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эмигрантов из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Одесс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В 12 лет начал самостоятельно учиться играть на фортепиано. Много позже, став прославленным композитором, Гершвин не переставал учиться, совершенствовать свою техни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 именем Джорджа Гершвина связана одна из наиболее интересных глав истории музыки Соединенных Штатов Америки . В Нью-Йорке прошла большая часть его жизни. Музыкальный быт нью-йоркской улицы был единственной питательной средой эстетических впечатлений детских лет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узыкальное образование Гершвина носило характер случайный. У одного педагога он усвоил первоначальные навыки игры на фортепиа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Занятия композицией дали юному Гершвину основные сведения в области гармонии и фор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ершвин,был одним из первых по-настоящему талантливых музыкантов, понявших, какие богатства заключены в афро-американской музыке негров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ТВОРЧЕСТ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14 году Гершвин начал профессионально заниматься музыкой, работая аккомпаниатором в музыкальном издательстве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Джерома Ремика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же через два года было выпущено первое авторское произведение молодого Гершвина — «When You Want ’Em, You Can’t Get ’Em». Несмотря на то, что оно не пользовалось особым успехом у публики, Гершвин привлёк внимание некоторых известных бродвейских продюсеров и режиссё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БРОДВЕ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18—1919 годах на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Бродве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явилось много произведений Гершвина: песня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Swane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 вошла в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шо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Эла Джолсон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«Sinbad» и имела ошеломляющий успех — Джолсон многократно записал её на пластинки и исполнил в нескольких фильмах. А постановка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La La Lucill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1919 года была полностью основана на сочинениях Гершви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ТВОРЧЕСКИЙ СОЮЗ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24 году Гершвин создал мюзикл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Lady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,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 Be Goo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который стал первым настоящим успехом композитора на Бродвее. В этой постановке Гершвин впервые работал со своим братом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Айрой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 Гершвин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который писал все тексты. Следующее десятилетие этот творческий союз был самым продуктивным и востребованным на Бродвее. Самым удачным их шоу было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Of Thee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 I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Sing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1931; за него они получили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Пулитцеровскую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 преми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(1932), впервые присуждённую музыкальной постанов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МАСШТАБНАЯ РАБО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мой масштабной и амбициозной работой в биографии Гершвина стала «фольклорная» опера «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Порги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 и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 Бесс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», 1935, поставленная по роману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Дюбоса Хейвор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принимавшего участие в написании либретто для оп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06:14:41Z</dcterms:created>
  <dc:creator>Пользователь</dc:creator>
  <dc:description/>
  <dc:language>en-US</dc:language>
  <cp:lastModifiedBy>Пользователь</cp:lastModifiedBy>
  <dcterms:modified xsi:type="dcterms:W3CDTF">2013-06-21T06:36:20Z</dcterms:modified>
  <cp:revision>1</cp:revision>
  <dc:subject/>
  <dc:title>РАПСОДИЯ В СТИЛЕ  БЛЮЗ</dc:title>
</cp:coreProperties>
</file>