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106-6278-4F6D-8199-6D15013E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EA5-5AE8-4DD9-AAFA-B9ADABE3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85C-B2F0-4059-8607-CB4B5DE3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06B-248F-4C2E-8C62-CE3E3B89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1EE-2FEA-430D-BF6E-ADC77D95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C01-282F-4548-8422-CF24EC0E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0B57-D007-4869-926B-2F7133DC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ECF-DD42-42C1-BBDA-4A66B631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A73-DEAF-45F8-9F67-56018C5E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D38-19D9-4ECC-905C-1D42382A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D98-BCE2-493F-A365-7C7B8993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891-BC0B-4869-9074-31CD4B66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268E-8CE6-47B9-A2EB-EFBAF4B22C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ера «Снегуро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резентацию подготовила учитель музыки, 1кк, МБОУ СОШ№9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олковая Евгения Викто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4581360"/>
            <a:ext cx="7918200" cy="18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удесный венок, подаренный Снегурочке Весной, рождает в её сердце прекрасное человеческое чувство – любовь. Но… под лучами Ярилы-Солнца тает Снегурочка, волшебное дитя прир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1122634"/>
          <p:cNvPicPr/>
          <p:nvPr/>
        </p:nvPicPr>
        <p:blipFill>
          <a:blip r:embed="rId1"/>
          <a:stretch/>
        </p:blipFill>
        <p:spPr>
          <a:xfrm>
            <a:off x="1979640" y="476280"/>
            <a:ext cx="5111640" cy="386064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0002-004-Snegurochka"/>
          <p:cNvPicPr/>
          <p:nvPr/>
        </p:nvPicPr>
        <p:blipFill>
          <a:blip r:embed="rId1"/>
          <a:stretch/>
        </p:blipFill>
        <p:spPr>
          <a:xfrm>
            <a:off x="755640" y="549360"/>
            <a:ext cx="4160880" cy="572616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  <p:sp>
        <p:nvSpPr>
          <p:cNvPr id="66" name="Text Box 5"/>
          <p:cNvSpPr/>
          <p:nvPr/>
        </p:nvSpPr>
        <p:spPr>
          <a:xfrm>
            <a:off x="5054400" y="692280"/>
            <a:ext cx="3785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 звучит музы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сцене тая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с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волнован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пе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торжен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и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чтатель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мятеж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т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ос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цена таяния.mp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978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9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.А.Римский-Корсак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пера «Снегуроч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i?id=38882584-55-72&amp;n=21"/>
          <p:cNvPicPr/>
          <p:nvPr/>
        </p:nvPicPr>
        <p:blipFill>
          <a:blip r:embed="rId1"/>
          <a:stretch/>
        </p:blipFill>
        <p:spPr>
          <a:xfrm>
            <a:off x="2340000" y="609480"/>
            <a:ext cx="4103640" cy="410364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55676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пера Снегурочка» сочинялась летом в глухой русской деревне. Как говорил композитор, ни одно произведение впоследствии не давалось ему с такой лёгкостью и быстротой. Через год на сцене Мариинского театра опера прошла с большим успех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m_428"/>
          <p:cNvPicPr/>
          <p:nvPr/>
        </p:nvPicPr>
        <p:blipFill>
          <a:blip r:embed="rId1"/>
          <a:stretch/>
        </p:blipFill>
        <p:spPr>
          <a:xfrm>
            <a:off x="2195640" y="3691080"/>
            <a:ext cx="4968720" cy="262404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13276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Идея оперы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– прославление могущественных,  животворных сил природы, несущих людям счастье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опере противопоставлены два мира –реальный и фантастический, олицетворяющий, по словам композитора «вечные, периодически выступающие силы природ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ANd9GcRP05nlCmnL-7wQZ1GJKWe9Xy2P2qYbWRiorpvALa2Y7p550gh-"/>
          <p:cNvPicPr/>
          <p:nvPr/>
        </p:nvPicPr>
        <p:blipFill>
          <a:blip r:embed="rId1"/>
          <a:stretch/>
        </p:blipFill>
        <p:spPr>
          <a:xfrm>
            <a:off x="3708360" y="4076640"/>
            <a:ext cx="1866960" cy="244800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4512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втор пьесы, А.Островский, принял оперу восторженно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Музыка к моей «Снегурочке» удивительная, я ничего не мог никогда себе представить более к ней подходящего и так живо выражающего всю поэзию русского языческого культа и этой сперва снежно-холодной, а потом неудержимо страстной героини сказк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04441826"/>
          <p:cNvPicPr/>
          <p:nvPr/>
        </p:nvPicPr>
        <p:blipFill>
          <a:blip r:embed="rId1"/>
          <a:stretch/>
        </p:blipFill>
        <p:spPr>
          <a:xfrm>
            <a:off x="3059280" y="4221000"/>
            <a:ext cx="3028680" cy="228600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ostrovskii"/>
          <p:cNvPicPr/>
          <p:nvPr/>
        </p:nvPicPr>
        <p:blipFill>
          <a:blip r:embed="rId1"/>
          <a:stretch/>
        </p:blipFill>
        <p:spPr>
          <a:xfrm>
            <a:off x="611280" y="836640"/>
            <a:ext cx="3941640" cy="518472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  <p:sp>
        <p:nvSpPr>
          <p:cNvPr id="52" name="Text Box 7"/>
          <p:cNvSpPr/>
          <p:nvPr/>
        </p:nvSpPr>
        <p:spPr>
          <a:xfrm>
            <a:off x="4687200" y="836640"/>
            <a:ext cx="39542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лександ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икола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стров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ьеса «Снегуро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894560" y="4875120"/>
            <a:ext cx="373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ьес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представлен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назначенное д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олнения со сц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ействие происходит в сказочной стране царя Беренде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12111306"/>
          <p:cNvPicPr/>
          <p:nvPr/>
        </p:nvPicPr>
        <p:blipFill>
          <a:blip r:embed="rId1"/>
          <a:stretch/>
        </p:blipFill>
        <p:spPr>
          <a:xfrm>
            <a:off x="1403280" y="1557360"/>
            <a:ext cx="6494400" cy="491004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негурочка, дочь Мороза и Весны, стремится из глухого леса к людям – нравятся ей их пес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52138202_Vasnetsov_Snegurochka"/>
          <p:cNvPicPr/>
          <p:nvPr/>
        </p:nvPicPr>
        <p:blipFill>
          <a:blip r:embed="rId1"/>
          <a:stretch/>
        </p:blipFill>
        <p:spPr>
          <a:xfrm>
            <a:off x="2700360" y="1844640"/>
            <a:ext cx="4024440" cy="462600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29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рия Снегурочки «С подружками по ягоду ходит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71280" y="5300640"/>
            <a:ext cx="7090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окальная партия героя, в котор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ередаёт свои мысли, чувства, переж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snegur654"/>
          <p:cNvPicPr/>
          <p:nvPr/>
        </p:nvPicPr>
        <p:blipFill>
          <a:blip r:embed="rId1"/>
          <a:stretch/>
        </p:blipFill>
        <p:spPr>
          <a:xfrm>
            <a:off x="1979640" y="476280"/>
            <a:ext cx="5400720" cy="3935520"/>
          </a:xfrm>
          <a:prstGeom prst="rect">
            <a:avLst/>
          </a:prstGeom>
          <a:ln w="76320">
            <a:solidFill>
              <a:srgbClr val="7ca800"/>
            </a:solidFill>
            <a:miter/>
          </a:ln>
        </p:spPr>
      </p:pic>
      <p:sp>
        <p:nvSpPr>
          <p:cNvPr id="61" name="Text Box 8"/>
          <p:cNvSpPr/>
          <p:nvPr/>
        </p:nvSpPr>
        <p:spPr>
          <a:xfrm>
            <a:off x="797400" y="6043680"/>
            <a:ext cx="72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Сопран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высокий женский певческий гол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 подружками.mp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9066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7:09:31Z</dcterms:created>
  <dc:creator>Катенок</dc:creator>
  <dc:description/>
  <dc:language>en-US</dc:language>
  <cp:lastModifiedBy>Евгения</cp:lastModifiedBy>
  <dcterms:modified xsi:type="dcterms:W3CDTF">2018-06-29T09:33:31Z</dcterms:modified>
  <cp:revision>13</cp:revision>
  <dc:subject/>
  <dc:title>Презентация PowerPoint</dc:title>
</cp:coreProperties>
</file>