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png" ContentType="image/png"/>
  <Override PartName="/ppt/media/image10.png" ContentType="image/png"/>
  <Override PartName="/ppt/media/image12.gif" ContentType="image/gif"/>
  <Override PartName="/ppt/media/image7.gif" ContentType="image/gif"/>
  <Override PartName="/ppt/media/image6.gif" ContentType="image/gif"/>
  <Override PartName="/ppt/media/image9.png" ContentType="image/png"/>
  <Override PartName="/ppt/media/image17.wmf" ContentType="image/x-wmf"/>
  <Override PartName="/ppt/media/image5.gif" ContentType="image/gif"/>
  <Override PartName="/ppt/media/image8.png" ContentType="image/png"/>
  <Override PartName="/ppt/media/image4.gif" ContentType="image/gif"/>
  <Override PartName="/ppt/media/image22.jpeg" ContentType="image/jpeg"/>
  <Override PartName="/ppt/media/image25.gif" ContentType="image/gif"/>
  <Override PartName="/ppt/media/image21.jpeg" ContentType="image/jpeg"/>
  <Override PartName="/ppt/media/image23.png" ContentType="image/png"/>
  <Override PartName="/ppt/media/image20.gif" ContentType="image/gif"/>
  <Override PartName="/ppt/media/image3.gif" ContentType="image/gif"/>
  <Override PartName="/ppt/media/image24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gif" ContentType="image/gi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186-63FD-4FDF-9727-92EEA251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D53-9982-44D6-81BB-6F7AABE9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6B5-5F7B-4F85-BEC0-8EC6FFD4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6D8-C666-440E-9D97-B5EAD9D9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4478-61B2-4C5C-8BDD-3B146D88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6DA3-AAAC-45C0-AEE5-00A38B78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F43C-5996-4B95-B06E-64F7D19C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DC12-464F-4B8A-8420-E7DF73EB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6F93-023D-44AF-9F24-3F0EAE0E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849-C46A-48D0-A7F4-0696948F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4D04-78FF-4C3B-8F44-523C435E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598-E346-4066-8C02-2CA2DDF0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889A-A6B9-43F5-ADF9-14F8E01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B5D1-DF0C-44BB-B51C-A385027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59A2-35FA-4FCC-981F-3AD07BFE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9840-5747-47B4-AB1D-D8F0062E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C5D-23B0-4329-8E07-8B805489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93A-CB6D-4032-8B14-C8379D38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A6B-896F-4D67-8B3A-F5C6A5B3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223-6EA3-473B-9A47-79EDAB03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371-E45A-4564-A04B-8B0FAA4D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399-259A-4488-8B53-67110C78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35E-A2C3-4B51-B454-7C5D7735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7B4-9D04-4DB2-8ADC-5E40A992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3F3D-20A8-4BC1-A8C1-8F99DEFDC1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DBAF-5799-4848-8EB3-8882E2F52C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295280" y="3352680"/>
            <a:ext cx="7239240" cy="3505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932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«Тела вращения»</a:t>
            </a:r>
            <a:endParaRPr b="1" lang="en-US" sz="2400" spc="1" strike="noStrike">
              <a:ln w="9360">
                <a:solidFill>
                  <a:srgbClr val="ff99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5334120" y="5572080"/>
            <a:ext cx="34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: преподаватель математики Крупина Н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2">
            <a:hlinkClick r:id="rId1" action="ppaction://hlinksldjump"/>
          </p:cNvPr>
          <p:cNvSpPr/>
          <p:nvPr/>
        </p:nvSpPr>
        <p:spPr>
          <a:xfrm>
            <a:off x="8458200" y="60958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0" descr="052ahc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15160" y="500040"/>
            <a:ext cx="1344600" cy="919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714680" y="3571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ПОУ СО «Энгельсский политехнику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928800" y="157176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рытый урок по  математике в гр. ПКД-110/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286080" y="2214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е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3600" spc="-1" strike="noStrike">
                <a:solidFill>
                  <a:srgbClr val="8c4e10"/>
                </a:solidFill>
                <a:latin typeface="Monotype Corsiva"/>
              </a:rPr>
              <a:t>Правильные ответы: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857240" y="1428840"/>
          <a:ext cx="6286680" cy="3983040"/>
        </p:xfrm>
        <a:graphic>
          <a:graphicData uri="http://schemas.openxmlformats.org/drawingml/2006/table">
            <a:tbl>
              <a:tblPr/>
              <a:tblGrid>
                <a:gridCol w="1206720"/>
                <a:gridCol w="4008240"/>
                <a:gridCol w="1071720"/>
              </a:tblGrid>
              <a:tr h="96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Вопрос: По какой формуле можно вычисл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Ответ - № фор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кон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цилин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полной поверхности кон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полной поверхности цилин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кр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усеченного кон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Длина окру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7858080" y="-142920"/>
            <a:ext cx="1285920" cy="221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рр\Desktop\58K80943.gif"/>
          <p:cNvPicPr/>
          <p:nvPr/>
        </p:nvPicPr>
        <p:blipFill>
          <a:blip r:embed="rId2"/>
          <a:stretch/>
        </p:blipFill>
        <p:spPr>
          <a:xfrm>
            <a:off x="857160" y="142920"/>
            <a:ext cx="1390680" cy="1285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7472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Логические задачи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1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7858080" y="-142920"/>
            <a:ext cx="1285920" cy="22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рр\Desktop\58K80943.gif"/>
          <p:cNvPicPr/>
          <p:nvPr/>
        </p:nvPicPr>
        <p:blipFill>
          <a:blip r:embed="rId2"/>
          <a:stretch/>
        </p:blipFill>
        <p:spPr>
          <a:xfrm>
            <a:off x="857160" y="142920"/>
            <a:ext cx="1390680" cy="1285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2857680" y="207180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143000" y="1265400"/>
            <a:ext cx="7358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шар, куб и цилиндр будут одновременно пущены вниз по наклонной плоскости, что первым очутится внизу, а что последни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ется сосуд цилиндрической формы. Как, не имея никаких измерительных приборов, отмерить воды ровно половину сосуда?</a:t>
            </a:r>
            <a:br>
              <a:rPr sz="1600"/>
            </a:b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3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практическа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вами шесть стаканов цилиндрической формы, три из них наполненных водой, а три пустых. Вам надо сделать так чтобы стаканы чередовались, то есть полный, пустой, полный и так далее. Но стакан в руки можно брать только один раз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весит рыба, если ее хвост весит 4 кг, ее голова весит столько же, сколько ее хвост и половина тела, а тело весит столько же, сколько ее голова и хвост вместе взяты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ужно пожарить 12 котлет. На сковороду помещаются только 8. Жарить надо с двух сторон, каждая сторона прожаривается за 4 минуты. Нужно успеть приготовить за 12 минут. Как это сделать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ческие задачи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7858080" y="-142920"/>
            <a:ext cx="1285920" cy="22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рр\Desktop\58K80943.gif"/>
          <p:cNvPicPr/>
          <p:nvPr/>
        </p:nvPicPr>
        <p:blipFill>
          <a:blip r:embed="rId2"/>
          <a:stretch/>
        </p:blipFill>
        <p:spPr>
          <a:xfrm>
            <a:off x="857160" y="142920"/>
            <a:ext cx="1390680" cy="12859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2857680" y="207180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428840" y="1787400"/>
            <a:ext cx="6929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колько квадратных метров жести необходимо на изготовление 20 ведер цилиндрической формы с диаметров дна 20 см и высотой 30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лько понадобиться краски чтобы покрасить бак конической формы с диаметром основания 0,5 м и высотой 1.5 м, если на один квадратный метр расходуется 200 г кра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вал полуцилиндрической формы имеет 5 м в длину и 4,8 м в диаметре. Определите полную поверхность подвала. Сравните полученный результат с ответом: 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6858000" y="2214720"/>
            <a:ext cx="1714680" cy="2500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dok.opredelim.com/pars_docs/refs/67/66194/img10.jpg"/>
          <p:cNvPicPr/>
          <p:nvPr/>
        </p:nvPicPr>
        <p:blipFill>
          <a:blip r:embed="rId2"/>
          <a:stretch/>
        </p:blipFill>
        <p:spPr>
          <a:xfrm>
            <a:off x="1071720" y="285840"/>
            <a:ext cx="7715160" cy="5786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3" name="Picture 7" descr="https://ds02.infourok.ru/uploads/ex/0071/0002fa28-f387515a/img16.jpg"/>
          <p:cNvPicPr/>
          <p:nvPr/>
        </p:nvPicPr>
        <p:blipFill>
          <a:blip r:embed="rId1"/>
          <a:stretch/>
        </p:blipFill>
        <p:spPr>
          <a:xfrm>
            <a:off x="1000080" y="500040"/>
            <a:ext cx="7786800" cy="5840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2139840" y="3346560"/>
            <a:ext cx="4821480" cy="115236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6" descr=""/>
          <p:cNvPicPr/>
          <p:nvPr/>
        </p:nvPicPr>
        <p:blipFill>
          <a:blip r:embed="rId2"/>
          <a:stretch/>
        </p:blipFill>
        <p:spPr>
          <a:xfrm>
            <a:off x="469800" y="1322280"/>
            <a:ext cx="8193240" cy="1135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рр\Desktop\vil2_cartable2.gif"/>
          <p:cNvPicPr/>
          <p:nvPr/>
        </p:nvPicPr>
        <p:blipFill>
          <a:blip r:embed="rId3"/>
          <a:stretch/>
        </p:blipFill>
        <p:spPr>
          <a:xfrm>
            <a:off x="5929200" y="4214880"/>
            <a:ext cx="3027600" cy="2214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42640" y="499680"/>
            <a:ext cx="762012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4e10"/>
                </a:solidFill>
                <a:latin typeface="Monotype Corsiva"/>
              </a:rPr>
              <a:t>«Вдохновение нужно в поэзии, как в геометрии.» - А.С.Пушк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7" descr="шар для конкурса"/>
          <p:cNvPicPr/>
          <p:nvPr/>
        </p:nvPicPr>
        <p:blipFill>
          <a:blip r:embed="rId1"/>
          <a:stretch/>
        </p:blipFill>
        <p:spPr>
          <a:xfrm>
            <a:off x="3929040" y="4071960"/>
            <a:ext cx="2289240" cy="226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цилиндр для уче6бника"/>
          <p:cNvPicPr/>
          <p:nvPr/>
        </p:nvPicPr>
        <p:blipFill>
          <a:blip r:embed="rId2"/>
          <a:stretch/>
        </p:blipFill>
        <p:spPr>
          <a:xfrm>
            <a:off x="6500880" y="1928880"/>
            <a:ext cx="1847880" cy="221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конус для учебника"/>
          <p:cNvPicPr/>
          <p:nvPr/>
        </p:nvPicPr>
        <p:blipFill>
          <a:blip r:embed="rId3"/>
          <a:stretch/>
        </p:blipFill>
        <p:spPr>
          <a:xfrm>
            <a:off x="1000080" y="1857240"/>
            <a:ext cx="2214720" cy="240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101.gif"/>
          <p:cNvPicPr/>
          <p:nvPr/>
        </p:nvPicPr>
        <p:blipFill>
          <a:blip r:embed="rId4"/>
          <a:stretch/>
        </p:blipFill>
        <p:spPr>
          <a:xfrm>
            <a:off x="3571920" y="200016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993600" y="2054160"/>
            <a:ext cx="558324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6" descr=""/>
          <p:cNvPicPr/>
          <p:nvPr/>
        </p:nvPicPr>
        <p:blipFill>
          <a:blip r:embed="rId1"/>
          <a:stretch/>
        </p:blipFill>
        <p:spPr>
          <a:xfrm>
            <a:off x="993600" y="2273400"/>
            <a:ext cx="38703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1000080" y="500040"/>
            <a:ext cx="7658280" cy="5743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7" name="Рисунок 2" descr="http://www.distedu.ru/mirror/_fiz/archive.1september.ru/mat/1997/kross3.gif"/>
          <p:cNvPicPr/>
          <p:nvPr/>
        </p:nvPicPr>
        <p:blipFill>
          <a:blip r:embed="rId1"/>
          <a:stretch/>
        </p:blipFill>
        <p:spPr>
          <a:xfrm>
            <a:off x="2214720" y="1714680"/>
            <a:ext cx="5357520" cy="459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рр\Desktop\09183cc7459ec08955c39e1169d707e4.gif"/>
          <p:cNvPicPr/>
          <p:nvPr/>
        </p:nvPicPr>
        <p:blipFill>
          <a:blip r:embed="rId2"/>
          <a:stretch/>
        </p:blipFill>
        <p:spPr>
          <a:xfrm>
            <a:off x="7572240" y="357120"/>
            <a:ext cx="1143000" cy="19321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786040" y="7142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ссвор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928800"/>
            <a:ext cx="76201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Monotype Corsiva"/>
              </a:rPr>
              <a:t>Тест по теме: «Тела вращения»</a:t>
            </a:r>
            <a:br>
              <a:rPr sz="2400"/>
            </a:br>
            <a:r>
              <a:rPr b="0" lang="ru-RU" sz="1600" spc="-1" strike="noStrike">
                <a:solidFill>
                  <a:srgbClr val="221304"/>
                </a:solidFill>
                <a:latin typeface="Monotype Corsiva"/>
              </a:rPr>
              <a:t>вариант1</a:t>
            </a:r>
            <a:br>
              <a:rPr sz="2400"/>
            </a:br>
            <a:br>
              <a:rPr sz="2400"/>
            </a:b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85920" y="1000080"/>
          <a:ext cx="6572160" cy="5310360"/>
        </p:xfrm>
        <a:graphic>
          <a:graphicData uri="http://schemas.openxmlformats.org/drawingml/2006/table">
            <a:tbl>
              <a:tblPr/>
              <a:tblGrid>
                <a:gridCol w="714240"/>
                <a:gridCol w="3667320"/>
                <a:gridCol w="2190600"/>
              </a:tblGrid>
              <a:tr h="53964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вое сечение усеченного кону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руг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авнобокая трапеция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прямоугольная трап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и  А и В принадлежат сфере. Принадлежат ли этой сфере любая точка отрезка 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и  А и В принадлежат шару. Принадлежат ли этому шару любая точка отрезка 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ткой боковой поверхности прямого кругового цилиндра может бы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рямо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омб;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параллел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чением конуса плоскостью, перпендикулярной  его оси, яв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тре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прямо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 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ость имеет со сферой только одну общую точку, если расстояние от центра сферы до плос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больше её радиуса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меньше её радиуса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равно её радиу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ткой боковой поверхности прямого кругового конуса является круго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сег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с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сл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чением шара плоскостью,  проходящей через его диаметр, яв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олу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большой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линдр, в осевом сечении которого квадрат назыв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вадрат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авносторон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правиль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3" descr="C:\Users\рр\Desktop\617142.gif"/>
          <p:cNvPicPr/>
          <p:nvPr/>
        </p:nvPicPr>
        <p:blipFill>
          <a:blip r:embed="rId1"/>
          <a:stretch/>
        </p:blipFill>
        <p:spPr>
          <a:xfrm>
            <a:off x="7786800" y="214200"/>
            <a:ext cx="107928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13840"/>
            <a:ext cx="7620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Monotype Corsiva"/>
              </a:rPr>
              <a:t>Тест по теме: «Тела вращения»</a:t>
            </a:r>
            <a:br>
              <a:rPr sz="3200"/>
            </a:br>
            <a:r>
              <a:rPr b="0" lang="ru-RU" sz="1600" spc="-1" strike="noStrike">
                <a:solidFill>
                  <a:srgbClr val="221304"/>
                </a:solidFill>
                <a:latin typeface="Monotype Corsiva"/>
              </a:rPr>
              <a:t>вариант2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71720" y="1214280"/>
          <a:ext cx="7429320" cy="5400720"/>
        </p:xfrm>
        <a:graphic>
          <a:graphicData uri="http://schemas.openxmlformats.org/drawingml/2006/table">
            <a:tbl>
              <a:tblPr/>
              <a:tblGrid>
                <a:gridCol w="500040"/>
                <a:gridCol w="4452840"/>
                <a:gridCol w="2476440"/>
              </a:tblGrid>
              <a:tr h="43992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вое сечение  кону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руг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авнобокая трапеция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равнобедренный треуголь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и А и В принадлежат сфере.  Точка О центр сферы. Принадлежат ли этой сфере любая точка отрезка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и  А и В принадлежат шару.  Точка О центр шара. Принадлежат ли этому шару любая точка отрезка А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ткой боковой поверхности прямого кругового цилиндра может бы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рямо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омб;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параллел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чением цилиндра плоскостью, перпендикулярной  его оси, яв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тре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прямо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ость, которая  имеет со сферой только одну общую точку, назыв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ерпендикуляр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касательной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секущ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ткой боковой поверхности прямого кругового конуса является круго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сег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с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сл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чением шара плоскостью яв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олу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большой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вое сечение усеченного кону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трап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рямоугольная трап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равнобедренная трап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" descr="C:\Users\рр\Desktop\617142.gif"/>
          <p:cNvPicPr/>
          <p:nvPr/>
        </p:nvPicPr>
        <p:blipFill>
          <a:blip r:embed="rId1"/>
          <a:stretch/>
        </p:blipFill>
        <p:spPr>
          <a:xfrm>
            <a:off x="7786800" y="214200"/>
            <a:ext cx="107928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714680" y="1500120"/>
          <a:ext cx="5643360" cy="3630600"/>
        </p:xfrm>
        <a:graphic>
          <a:graphicData uri="http://schemas.openxmlformats.org/drawingml/2006/table">
            <a:tbl>
              <a:tblPr/>
              <a:tblGrid>
                <a:gridCol w="1292040"/>
                <a:gridCol w="1641600"/>
                <a:gridCol w="1292040"/>
                <a:gridCol w="1417680"/>
              </a:tblGrid>
              <a:tr h="365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ариант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ариант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"/>
          <p:cNvSpPr/>
          <p:nvPr/>
        </p:nvSpPr>
        <p:spPr>
          <a:xfrm>
            <a:off x="2571840" y="33228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ьные отв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6858000" y="2214720"/>
            <a:ext cx="171468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 rot="21015600">
            <a:off x="1211040" y="2509560"/>
            <a:ext cx="5281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6892c"/>
                </a:solidFill>
                <a:latin typeface="Monotype Corsiva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6892c"/>
              </a:solidFill>
              <a:latin typeface="Monotype Corsiva"/>
              <a:ea typeface="Monotype Corsiva"/>
            </a:endParaRPr>
          </a:p>
        </p:txBody>
      </p:sp>
      <p:pic>
        <p:nvPicPr>
          <p:cNvPr id="120" name="Picture 8" descr="http://rs1312.pbsrc.com/albums/t538/pinkay80/pinkay80123/FORUMGAZEL_SM1300LEY69_zpsc5410085.gif~c200"/>
          <p:cNvPicPr/>
          <p:nvPr/>
        </p:nvPicPr>
        <p:blipFill>
          <a:blip r:embed="rId1"/>
          <a:stretch/>
        </p:blipFill>
        <p:spPr>
          <a:xfrm>
            <a:off x="6072120" y="461952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http://www.ozgunresimler.com/data/media/3454/57apjh4h.gif"/>
          <p:cNvPicPr/>
          <p:nvPr/>
        </p:nvPicPr>
        <p:blipFill>
          <a:blip r:embed="rId2"/>
          <a:stretch/>
        </p:blipFill>
        <p:spPr>
          <a:xfrm>
            <a:off x="857160" y="642960"/>
            <a:ext cx="1984320" cy="1928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286080" y="71424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286080" y="2000160"/>
            <a:ext cx="100008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4714920" y="2000160"/>
            <a:ext cx="1000080" cy="828720"/>
            <a:chOff x="4714920" y="2000160"/>
            <a:chExt cx="1000080" cy="828720"/>
          </a:xfrm>
        </p:grpSpPr>
        <p:sp>
          <p:nvSpPr>
            <p:cNvPr id="125" name="AutoShape 7"/>
            <p:cNvSpPr/>
            <p:nvPr/>
          </p:nvSpPr>
          <p:spPr>
            <a:xfrm>
              <a:off x="4717080" y="2000160"/>
              <a:ext cx="997920" cy="828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4714920" y="2138040"/>
              <a:ext cx="99756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Rectangle 9"/>
          <p:cNvSpPr/>
          <p:nvPr/>
        </p:nvSpPr>
        <p:spPr>
          <a:xfrm>
            <a:off x="6215040" y="2071800"/>
            <a:ext cx="7142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7358040" y="2000160"/>
            <a:ext cx="785880" cy="6429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2857680" y="1214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берите лишнюю фигу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2786040" y="2071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85768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3429000" y="3286080"/>
            <a:ext cx="4572000" cy="1085760"/>
            <a:chOff x="3429000" y="3286080"/>
            <a:chExt cx="4572000" cy="1085760"/>
          </a:xfrm>
        </p:grpSpPr>
        <p:sp>
          <p:nvSpPr>
            <p:cNvPr id="133" name="AutoShape 12"/>
            <p:cNvSpPr/>
            <p:nvPr/>
          </p:nvSpPr>
          <p:spPr>
            <a:xfrm>
              <a:off x="3429000" y="3596040"/>
              <a:ext cx="1108080" cy="465480"/>
            </a:xfrm>
            <a:prstGeom prst="parallelogram">
              <a:avLst>
                <a:gd name="adj" fmla="val 595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4952880" y="3441240"/>
              <a:ext cx="831240" cy="620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>
              <a:off x="7308360" y="3441240"/>
              <a:ext cx="692640" cy="620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5"/>
            <p:cNvGrpSpPr/>
            <p:nvPr/>
          </p:nvGrpSpPr>
          <p:grpSpPr>
            <a:xfrm>
              <a:off x="6061320" y="3286080"/>
              <a:ext cx="969840" cy="1085760"/>
              <a:chOff x="6061320" y="3286080"/>
              <a:chExt cx="969840" cy="1085760"/>
            </a:xfrm>
          </p:grpSpPr>
          <p:sp>
            <p:nvSpPr>
              <p:cNvPr id="137" name="AutoShape 16"/>
              <p:cNvSpPr/>
              <p:nvPr/>
            </p:nvSpPr>
            <p:spPr>
              <a:xfrm>
                <a:off x="6061320" y="3286080"/>
                <a:ext cx="969840" cy="930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10800000">
                <a:off x="6061320" y="4061520"/>
                <a:ext cx="969840" cy="310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2800" spc="-1" strike="noStrike">
                <a:solidFill>
                  <a:srgbClr val="8c4e10"/>
                </a:solidFill>
                <a:latin typeface="Monotype Corsiva"/>
              </a:rPr>
              <a:t>Проверка знаний формул и определений (тест)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28880" y="1143000"/>
          <a:ext cx="5929200" cy="2143080"/>
        </p:xfrm>
        <a:graphic>
          <a:graphicData uri="http://schemas.openxmlformats.org/drawingml/2006/table">
            <a:tbl>
              <a:tblPr/>
              <a:tblGrid>
                <a:gridCol w="1482480"/>
                <a:gridCol w="1206720"/>
                <a:gridCol w="1573200"/>
                <a:gridCol w="1666800"/>
              </a:tblGrid>
              <a:tr h="1071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πR</a:t>
                      </a:r>
                      <a:r>
                        <a:rPr b="0" i="1" lang="en-US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πR</a:t>
                      </a:r>
                      <a:r>
                        <a:rPr b="0" i="1" lang="en-US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π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π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1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0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0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π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0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πR(R+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πR(H+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π(R+r)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81080" cy="3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85680" cy="352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14" descr=""/>
          <p:cNvPicPr/>
          <p:nvPr/>
        </p:nvPicPr>
        <p:blipFill>
          <a:blip r:embed="rId3"/>
          <a:stretch/>
        </p:blipFill>
        <p:spPr>
          <a:xfrm>
            <a:off x="0" y="0"/>
            <a:ext cx="1810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35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500120" y="3214800"/>
          <a:ext cx="6572160" cy="3203640"/>
        </p:xfrm>
        <a:graphic>
          <a:graphicData uri="http://schemas.openxmlformats.org/drawingml/2006/table">
            <a:tbl>
              <a:tblPr/>
              <a:tblGrid>
                <a:gridCol w="1231920"/>
                <a:gridCol w="4268880"/>
                <a:gridCol w="1071360"/>
              </a:tblGrid>
              <a:tr h="100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: По какой формуле можно вычисл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- № форму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кон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сф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цилин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олной поверхности кон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олной поверхности цилин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кр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усеченного кон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окру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5:46:13Z</dcterms:created>
  <dc:creator>Грязнов</dc:creator>
  <dc:description/>
  <cp:keywords>сфера шар</cp:keywords>
  <dc:language>en-US</dc:language>
  <cp:lastModifiedBy>Железнодорожная 13</cp:lastModifiedBy>
  <dcterms:modified xsi:type="dcterms:W3CDTF">2018-04-05T14:45:56Z</dcterms:modified>
  <cp:revision>225</cp:revision>
  <dc:subject>сфера</dc:subject>
  <dc:title>урок леция</dc:title>
</cp:coreProperties>
</file>