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BB8-89E0-41D5-81DC-7C3550C9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D4C-BA24-4ED3-8FFD-8FEDBAB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E3B-0FB9-4753-A993-952BF3D0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302-1533-4671-957E-812F4014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F96-A828-499A-998D-E1DB68A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7EC-2B34-4D09-BF3A-63704745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F09-80C9-4E24-8B10-A8C8E61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2C2-4F3C-46BB-A0F3-69667DE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BDE-C230-4084-8C7D-E9BB533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793-F014-483D-B681-E21CB46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D55-209C-4E5B-AE03-C656B45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3D6-4650-41A8-ADE4-F188C7E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8D03-0330-4589-A6CD-E03AD01967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осударственная итоговая аттестация 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016/2017 учебный год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9-х классах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бъект 2"/>
          <p:cNvSpPr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9-х классах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6 декабря 201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ЦО № 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414360" y="4365720"/>
            <a:ext cx="262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ИНИМАЛЬНЫЕ БАЛЛ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8 баллов из 32  (набранные в сумме за выполнение заданий всех 3-х модулей, при условии, что из них не менее 3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Алгебра»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менее 2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Геометрия»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менее 2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Реальная математик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усский язык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 баллов из 3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6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ИНИМАЛЬНЫЕ 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ствозна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баллов из 3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баллов из 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баллов из 3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баллов из 4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баллов из 3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баллов из 4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ерату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баллов из 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баллов из 2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ый язык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баллов из 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4" descr="C:\Users\User\Desktop\25144568_m.jpg"/>
          <p:cNvPicPr/>
          <p:nvPr/>
        </p:nvPicPr>
        <p:blipFill>
          <a:blip r:embed="rId1"/>
          <a:stretch/>
        </p:blipFill>
        <p:spPr>
          <a:xfrm>
            <a:off x="5651640" y="2349360"/>
            <a:ext cx="3340080" cy="316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189000"/>
            <a:ext cx="136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глийский язык «Говорение»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дача ОГЭ по ин. языку предполагае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язатель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ие обучающихся в выполнении заданий раздела «ГОВОРЕНИЕ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дел «Говорение» включает в себ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чтение вслух небольшого текст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участие в условном диалоге-расспрос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6 вопросов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монологическое высказывание с опорой на пла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е время выполнения задани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лее 15 мин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7380360" y="2708280"/>
            <a:ext cx="1655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ПЕЛЛЯЦИИ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Arial Black"/>
              </a:rPr>
              <a:t>О нарушении установленного порядка проведения ОГЭ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аётся в день экзамена, не покидая ППЭ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Рассмотрение  не более чем в 2 рабочих дн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В случае  удовлетворения рез-тат участника аннулируется, предоставляется возможность сдать ОГЭ по данному предмету в другой день (согласно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писани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Arial Black"/>
              </a:rPr>
              <a:t>О несогласии с выставленными баллами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аётся в течение 2-х рабочих дней после официального объявления рез-тов ОГЭ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Рассматривается не более 4-х рабочих дней с момента подач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Отклонение и сохранение выставленных баллов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Удовлетворение и выставление других балло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как в сторону увеличения, так и в сторону уменьшени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5" descr="C:\Users\User\Desktop\6914_b75101628.jpg"/>
          <p:cNvPicPr/>
          <p:nvPr/>
        </p:nvPicPr>
        <p:blipFill>
          <a:blip r:embed="rId1"/>
          <a:stretch/>
        </p:blipFill>
        <p:spPr>
          <a:xfrm>
            <a:off x="108000" y="260280"/>
            <a:ext cx="230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ы ОГЭ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онный портал ЕГЭ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ege.edu.ru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ициальный сайт Рособрнадзора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obrnadzor.gov.ru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ициальный сай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обрнауки России: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инобрнауки.рф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ытый банк заданий ОГЭ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www.fipi.ru/content/otkytyy-bank-zadaniy-e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C:\Users\User\Desktop\5257e8af8cacea6d6c9b932a62db5a14_XL.jpg"/>
          <p:cNvPicPr/>
          <p:nvPr/>
        </p:nvPicPr>
        <p:blipFill>
          <a:blip r:embed="rId1"/>
          <a:stretch/>
        </p:blipFill>
        <p:spPr>
          <a:xfrm>
            <a:off x="6084720" y="508464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3" descr="C:\Users\User\Desktop\56bd0f182fbbc.jpg"/>
          <p:cNvPicPr/>
          <p:nvPr/>
        </p:nvPicPr>
        <p:blipFill>
          <a:blip r:embed="rId1"/>
          <a:stretch/>
        </p:blipFill>
        <p:spPr>
          <a:xfrm>
            <a:off x="971640" y="836640"/>
            <a:ext cx="7129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ормативные документы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 от 29 декабря 2012 года N 273-ФЗ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  Минобрнауки России от 25.12.2013 № 1394 «Об утверждении Порядка проведения государственной итоговой аттестации по образовательным программам основного общего образования» (зарегистрирован Минюстом России 03.02.2014, регистрационный № 31206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7478640" y="5157720"/>
            <a:ext cx="149544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7478640" y="5157720"/>
            <a:ext cx="1495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новно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сударственны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заме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сударственны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ыпускно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заме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Стрелка вправо 5"/>
          <p:cNvSpPr/>
          <p:nvPr/>
        </p:nvSpPr>
        <p:spPr>
          <a:xfrm rot="7681800">
            <a:off x="2701800" y="1921320"/>
            <a:ext cx="978120" cy="484200"/>
          </a:xfrm>
          <a:prstGeom prst="rightArrow">
            <a:avLst>
              <a:gd name="adj1" fmla="val 36194"/>
              <a:gd name="adj2" fmla="val 500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трелка вниз 6"/>
          <p:cNvSpPr/>
          <p:nvPr/>
        </p:nvSpPr>
        <p:spPr>
          <a:xfrm rot="19192200">
            <a:off x="5838480" y="16696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C:\Users\User\Desktop\th_p94_filya1.jpg"/>
          <p:cNvPicPr/>
          <p:nvPr/>
        </p:nvPicPr>
        <p:blipFill>
          <a:blip r:embed="rId1"/>
          <a:stretch/>
        </p:blipFill>
        <p:spPr>
          <a:xfrm>
            <a:off x="7012080" y="279360"/>
            <a:ext cx="184284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249120"/>
            <a:ext cx="2041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И ПРОВЕДЕНИЯ                   ГИА. ДОПУСК К ГИА.   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обрнауки России определяет сроки и единое расписание ОГЭ. (февраль 2017г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меющие академической задолженности и в полном объёме выполнившие учебный пл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имеющие годовые отметки по всем учебным предметам учебного плана за IX класс не ниже удовлетворительных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6" descr="C:\Users\2-15\Desktop\6_31.jpg"/>
          <p:cNvPicPr/>
          <p:nvPr/>
        </p:nvPicPr>
        <p:blipFill>
          <a:blip r:embed="rId1"/>
          <a:stretch/>
        </p:blipFill>
        <p:spPr>
          <a:xfrm>
            <a:off x="7284960" y="5373720"/>
            <a:ext cx="1751040" cy="13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179280" y="115920"/>
            <a:ext cx="1495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АЧА </a:t>
            </a: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Й НА ОГЭ, ГВЭ-9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МАРТА 2017г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ник пишет заявление на сдачу ГИА, передаёт родителям для ознакомления и сдаёт в МБОУ ЦО № 4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Указывает в заявлении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обязательные предметы и  предметы  по выбо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5" descr="C:\Users\2-15\Desktop\1301316995_wkolnik.jpg"/>
          <p:cNvPicPr/>
          <p:nvPr/>
        </p:nvPicPr>
        <p:blipFill>
          <a:blip r:embed="rId1"/>
          <a:stretch/>
        </p:blipFill>
        <p:spPr>
          <a:xfrm>
            <a:off x="6948360" y="5084640"/>
            <a:ext cx="212436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193680" y="76320"/>
            <a:ext cx="11905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Ы ГИА-9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язательны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ыбору (2 предмета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ствозн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 и ИК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ые языки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нглийский, немецкий, французский,  испанский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250920" y="3213000"/>
            <a:ext cx="432108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266760" y="189000"/>
            <a:ext cx="136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ИЯ ПОЛУЧЕНИЯ АТТЕСТАТА в 2017г.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дача 4-х предметов на удовлетворительные результаты. (отметки «3» и выше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сдача возможна если получено не более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вух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меток «2» на ГИА по 4-м предметам. При удовлетворительной пересдаче ГИА выдаётся аттеста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179280" y="2602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User\Desktop\pr_comm_att.jpg"/>
          <p:cNvPicPr/>
          <p:nvPr/>
        </p:nvPicPr>
        <p:blipFill>
          <a:blip r:embed="rId2"/>
          <a:stretch/>
        </p:blipFill>
        <p:spPr>
          <a:xfrm>
            <a:off x="5435640" y="4653000"/>
            <a:ext cx="31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Э. Продолжительность экзаменов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ч. 55мин.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сский язык, литература, математ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ч.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ществознание, история, биология, физ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30 мин.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20 мин.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география, иностранный яз. (письменны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5" descr="C:\Users\User\Desktop\sm_full.jpg"/>
          <p:cNvPicPr/>
          <p:nvPr/>
        </p:nvPicPr>
        <p:blipFill>
          <a:blip r:embed="rId1"/>
          <a:stretch/>
        </p:blipFill>
        <p:spPr>
          <a:xfrm>
            <a:off x="6875640" y="3789360"/>
            <a:ext cx="2089080" cy="277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11592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User\Desktop\957f68251a4c401eb034febbf0fc418f_XL.jpg"/>
          <p:cNvPicPr/>
          <p:nvPr/>
        </p:nvPicPr>
        <p:blipFill>
          <a:blip r:embed="rId3"/>
          <a:stretch/>
        </p:blipFill>
        <p:spPr>
          <a:xfrm>
            <a:off x="318960" y="115920"/>
            <a:ext cx="136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-9. ЗАПРЕЩЕН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нос из аудитории и ППЭ экзаменационных материалов на бумажном или электронном носителях, их фотографирова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зание содействия другим участникам ЕГЭ, в том числе передача им указанных средств и материал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никам разговаривать   между соб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Aft>
                <a:spcPts val="264"/>
              </a:spcAft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вольно выходить участникам из аудитории и перемещаться по ППЭ без сопровождения организатора вне аудитор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C:\Users\User\Desktop\gia.jpg"/>
          <p:cNvPicPr/>
          <p:nvPr/>
        </p:nvPicPr>
        <p:blipFill>
          <a:blip r:embed="rId1"/>
          <a:stretch/>
        </p:blipFill>
        <p:spPr>
          <a:xfrm>
            <a:off x="324000" y="141120"/>
            <a:ext cx="33843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6-12-11T16:20:51Z</dcterms:modified>
  <cp:revision>212</cp:revision>
  <dc:subject/>
  <dc:title>Развитие педагогического мастерства учителя </dc:title>
</cp:coreProperties>
</file>