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E64E-B5FC-438D-9632-7202C4CC8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59F5-CFA5-439E-9E7F-5DF6A100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EA98-E018-47ED-AEFD-D0479112E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0BBA-1945-4220-9BF2-8D7ECCD69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0D80-D123-471D-8A00-97F585C9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7AED-43D5-4838-9E40-FA42D43F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D76E-8D6D-45D4-96AC-AECDD3B0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099F-C6A0-4BB2-B561-9D1FBFC6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041C-812F-4F43-BA10-57406CCC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6CE6-8AD9-4E40-A6F5-C75FB98E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4282-FD3C-446A-A52E-EE4EE47B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4EBF-02F4-4E8F-844E-5FDE3A49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872C-17A8-4DBA-A3AA-430348A4C1E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915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Государственная итоговая аттестация </a:t>
            </a:r>
            <a:br>
              <a:rPr sz="3600"/>
            </a:br>
            <a:r>
              <a:rPr b="1" lang="ru-RU" sz="3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2016/2017 учебный год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ДИТЕЛЬСКОЕ СОБРАНИЕ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9-х классах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Объект 2"/>
          <p:cNvSpPr/>
          <p:nvPr/>
        </p:nvSpPr>
        <p:spPr>
          <a:xfrm>
            <a:off x="46836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РОДИТЕЛЬСКОЕ СОБРАНИЕ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33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в 9-х классах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6 декабря 2017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БОУЦО № 4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5" descr="C:\Users\User\Desktop\957f68251a4c401eb034febbf0fc418f_XL.jpg"/>
          <p:cNvPicPr/>
          <p:nvPr/>
        </p:nvPicPr>
        <p:blipFill>
          <a:blip r:embed="rId1"/>
          <a:stretch/>
        </p:blipFill>
        <p:spPr>
          <a:xfrm>
            <a:off x="414360" y="4365720"/>
            <a:ext cx="262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МИНИМАЛЬНЫЕ БАЛЛЫ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Математика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8 баллов из 32  (набранные в сумме за выполнение заданий всех 3-х модулей, при условии, что из них не менее 3 баллов по модулю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«Алгебра»,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 менее 2 баллов по модулю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«Геометрия»,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 менее 2 баллов по модулю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«Реальная математика»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Русский язык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5 баллов из 39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6804000" y="4508640"/>
            <a:ext cx="165276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МИНИМАЛЬНЫЕ 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ществознание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5 баллов из 39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изик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 баллов из 4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им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 баллов из 34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иологи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3 баллов из 46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еограф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2 баллов из 32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тор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3 баллов из 44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итератур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 баллов из 23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орматик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 баллов из 22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остранный язык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9 баллов из 7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Picture 4" descr="C:\Users\User\Desktop\25144568_m.jpg"/>
          <p:cNvPicPr/>
          <p:nvPr/>
        </p:nvPicPr>
        <p:blipFill>
          <a:blip r:embed="rId1"/>
          <a:stretch/>
        </p:blipFill>
        <p:spPr>
          <a:xfrm>
            <a:off x="5651640" y="2349360"/>
            <a:ext cx="3340080" cy="3167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C:\Users\User\Desktop\957f68251a4c401eb034febbf0fc418f_XL.jpg"/>
          <p:cNvPicPr/>
          <p:nvPr/>
        </p:nvPicPr>
        <p:blipFill>
          <a:blip r:embed="rId2"/>
          <a:stretch/>
        </p:blipFill>
        <p:spPr>
          <a:xfrm>
            <a:off x="324000" y="189000"/>
            <a:ext cx="13683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глийский язык «Говорение»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дача ОГЭ по ин. языку предполагает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обязательно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частие обучающихся в выполнении заданий раздела «ГОВОРЕНИЕ»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здел «Говорение» включает в себя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 чтение вслух небольшого текста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участие в условном диалоге-расспрос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6 вопросов)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монологическое высказывание с опорой на план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щее время выполнения заданий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более 15 мину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5" descr="C:\Users\User\Desktop\957f68251a4c401eb034febbf0fc418f_XL.jpg"/>
          <p:cNvPicPr/>
          <p:nvPr/>
        </p:nvPicPr>
        <p:blipFill>
          <a:blip r:embed="rId1"/>
          <a:stretch/>
        </p:blipFill>
        <p:spPr>
          <a:xfrm>
            <a:off x="7380360" y="2708280"/>
            <a:ext cx="16556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АПЕЛЛЯЦИИ</a:t>
            </a:r>
            <a:endParaRPr b="0" lang="en-US" sz="3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484280"/>
            <a:ext cx="40384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 Black"/>
              </a:rPr>
              <a:t>«</a:t>
            </a:r>
            <a:r>
              <a:rPr b="1" i="1" lang="ru-RU" sz="2000" spc="-1" strike="noStrike">
                <a:solidFill>
                  <a:srgbClr val="c00000"/>
                </a:solidFill>
                <a:latin typeface="Arial Black"/>
              </a:rPr>
              <a:t>О нарушении установленного порядка проведения ОГЭ»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даётся в день экзамена, не покидая ППЭ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Рассмотрение  не более чем в 2 рабочих дня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 В случае  удовлетворения рез-тат участника аннулируется, предоставляется возможность сдать ОГЭ по данному предмету в другой день (согласно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списанию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42920" y="1125000"/>
            <a:ext cx="40388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74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 Black"/>
              </a:rPr>
              <a:t>«</a:t>
            </a:r>
            <a:r>
              <a:rPr b="1" i="1" lang="ru-RU" sz="2000" spc="-1" strike="noStrike">
                <a:solidFill>
                  <a:srgbClr val="c00000"/>
                </a:solidFill>
                <a:latin typeface="Arial Black"/>
              </a:rPr>
              <a:t>О несогласии с выставленными баллами»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74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Подаётся в течение 2-х рабочих дней после официального объявления рез-тов ОГЭ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74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Рассматривается не более 4-х рабочих дней с момента подачи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74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зультаты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74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Отклонение и сохранение выставленных баллов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74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Удовлетворение и выставление других баллов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74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как в сторону увеличения, так и в сторону уменьшения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748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Picture 5" descr="C:\Users\User\Desktop\6914_b75101628.jpg"/>
          <p:cNvPicPr/>
          <p:nvPr/>
        </p:nvPicPr>
        <p:blipFill>
          <a:blip r:embed="rId1"/>
          <a:stretch/>
        </p:blipFill>
        <p:spPr>
          <a:xfrm>
            <a:off x="108000" y="260280"/>
            <a:ext cx="230328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ернет-ресурсы ОГЭ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ормационный портал ЕГЭ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http://ege.edu.ru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/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фициальный сайт Рособрнадзора: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http://obrnadzor.gov.ru/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фициальный сайт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инобрнауки России: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http://</a:t>
            </a: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минобрнауки.рф/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крытый банк заданий ОГЭ: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http://www.fipi.ru/content/otkytyy-bank-zadaniy-eg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4" descr="C:\Users\User\Desktop\5257e8af8cacea6d6c9b932a62db5a14_XL.jpg"/>
          <p:cNvPicPr/>
          <p:nvPr/>
        </p:nvPicPr>
        <p:blipFill>
          <a:blip r:embed="rId1"/>
          <a:stretch/>
        </p:blipFill>
        <p:spPr>
          <a:xfrm>
            <a:off x="6084720" y="5084640"/>
            <a:ext cx="26640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9" name="Picture 3" descr="C:\Users\User\Desktop\56bd0f182fbbc.jpg"/>
          <p:cNvPicPr/>
          <p:nvPr/>
        </p:nvPicPr>
        <p:blipFill>
          <a:blip r:embed="rId1"/>
          <a:stretch/>
        </p:blipFill>
        <p:spPr>
          <a:xfrm>
            <a:off x="971640" y="836640"/>
            <a:ext cx="712944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Нормативные документы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едеральный закон «Об образовании в Российской Федерации» от 29 декабря 2012 года N 273-ФЗ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9640" indent="-457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каз  Минобрнауки России от 25.12.2013 № 1394 «Об утверждении Порядка проведения государственной итоговой аттестации по образовательным программам основного общего образования» (зарегистрирован Минюстом России 03.02.2014, регистрационный № 31206)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9640" indent="-457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Picture 5" descr="C:\Users\User\Desktop\957f68251a4c401eb034febbf0fc418f_XL.jpg"/>
          <p:cNvPicPr/>
          <p:nvPr/>
        </p:nvPicPr>
        <p:blipFill>
          <a:blip r:embed="rId1"/>
          <a:stretch/>
        </p:blipFill>
        <p:spPr>
          <a:xfrm>
            <a:off x="7478640" y="5157720"/>
            <a:ext cx="1495440" cy="1511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C:\Users\User\Desktop\957f68251a4c401eb034febbf0fc418f_XL.jpg"/>
          <p:cNvPicPr/>
          <p:nvPr/>
        </p:nvPicPr>
        <p:blipFill>
          <a:blip r:embed="rId2"/>
          <a:stretch/>
        </p:blipFill>
        <p:spPr>
          <a:xfrm>
            <a:off x="7478640" y="5157720"/>
            <a:ext cx="14954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ИА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989000"/>
            <a:ext cx="40384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о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сновной </a:t>
            </a:r>
            <a:r>
              <a:rPr b="1" lang="ru-RU" sz="5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г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осударственный </a:t>
            </a:r>
            <a:r>
              <a:rPr b="1" lang="ru-RU" sz="5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э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кзамен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2920" y="1916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Г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осударственный </a:t>
            </a:r>
            <a:r>
              <a:rPr b="1" lang="ru-RU" sz="5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в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ыпускной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5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э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кзамен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Стрелка вправо 5"/>
          <p:cNvSpPr/>
          <p:nvPr/>
        </p:nvSpPr>
        <p:spPr>
          <a:xfrm rot="7681800">
            <a:off x="2701800" y="1921320"/>
            <a:ext cx="978120" cy="484200"/>
          </a:xfrm>
          <a:prstGeom prst="rightArrow">
            <a:avLst>
              <a:gd name="adj1" fmla="val 36194"/>
              <a:gd name="adj2" fmla="val 50006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Стрелка вниз 6"/>
          <p:cNvSpPr/>
          <p:nvPr/>
        </p:nvSpPr>
        <p:spPr>
          <a:xfrm rot="19192200">
            <a:off x="5838480" y="166968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7" descr="C:\Users\User\Desktop\th_p94_filya1.jpg"/>
          <p:cNvPicPr/>
          <p:nvPr/>
        </p:nvPicPr>
        <p:blipFill>
          <a:blip r:embed="rId1"/>
          <a:stretch/>
        </p:blipFill>
        <p:spPr>
          <a:xfrm>
            <a:off x="7012080" y="279360"/>
            <a:ext cx="1842840" cy="2700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C:\Users\User\Desktop\957f68251a4c401eb034febbf0fc418f_XL.jpg"/>
          <p:cNvPicPr/>
          <p:nvPr/>
        </p:nvPicPr>
        <p:blipFill>
          <a:blip r:embed="rId2"/>
          <a:stretch/>
        </p:blipFill>
        <p:spPr>
          <a:xfrm>
            <a:off x="324000" y="249120"/>
            <a:ext cx="20412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РОКИ ПРОВЕДЕНИЯ                   ГИА. ДОПУСК К ГИА.   </a:t>
            </a:r>
            <a:endParaRPr b="0" lang="en-US" sz="3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инобрнауки России определяет сроки и единое расписание ОГЭ. (февраль 2017г.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 ГИА допускаются обучающиеся,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имеющие академической задолженности и в полном объёме выполнившие учебный план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имеющие годовые отметки по всем учебным предметам учебного плана за IX класс не ниже удовлетворительных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6" descr="C:\Users\2-15\Desktop\6_31.jpg"/>
          <p:cNvPicPr/>
          <p:nvPr/>
        </p:nvPicPr>
        <p:blipFill>
          <a:blip r:embed="rId1"/>
          <a:stretch/>
        </p:blipFill>
        <p:spPr>
          <a:xfrm>
            <a:off x="7284960" y="5373720"/>
            <a:ext cx="1751040" cy="1366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C:\Users\User\Desktop\957f68251a4c401eb034febbf0fc418f_XL.jpg"/>
          <p:cNvPicPr/>
          <p:nvPr/>
        </p:nvPicPr>
        <p:blipFill>
          <a:blip r:embed="rId2"/>
          <a:stretch/>
        </p:blipFill>
        <p:spPr>
          <a:xfrm>
            <a:off x="179280" y="115920"/>
            <a:ext cx="14954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ru-RU" sz="3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АЧА </a:t>
            </a:r>
            <a:br>
              <a:rPr sz="3900"/>
            </a:br>
            <a:r>
              <a:rPr b="1" lang="ru-RU" sz="3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ЯВЛЕНИЙ НА ОГЭ, ГВЭ-9</a:t>
            </a:r>
            <a:endParaRPr b="0" lang="en-US" sz="3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</a:t>
            </a:r>
            <a:r>
              <a:rPr b="1" lang="ru-RU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1 МАРТА 2017г.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ченик пишет заявление на сдачу ГИА, передаёт родителям для ознакомления и сдаёт в МБОУ ЦО № 43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Указывает в заявлении: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обязательные предметы и  предметы  по выбору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Picture 5" descr="C:\Users\2-15\Desktop\1301316995_wkolnik.jpg"/>
          <p:cNvPicPr/>
          <p:nvPr/>
        </p:nvPicPr>
        <p:blipFill>
          <a:blip r:embed="rId1"/>
          <a:stretch/>
        </p:blipFill>
        <p:spPr>
          <a:xfrm>
            <a:off x="6948360" y="5084640"/>
            <a:ext cx="2124360" cy="1656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:\Users\User\Desktop\957f68251a4c401eb034febbf0fc418f_XL.jpg"/>
          <p:cNvPicPr/>
          <p:nvPr/>
        </p:nvPicPr>
        <p:blipFill>
          <a:blip r:embed="rId2"/>
          <a:stretch/>
        </p:blipFill>
        <p:spPr>
          <a:xfrm>
            <a:off x="193680" y="76320"/>
            <a:ext cx="119052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МЕТЫ ГИА-9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413000"/>
            <a:ext cx="40384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язательны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усский язык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тематик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832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выбору (2 предмета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ществознание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изик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имия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иология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тория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итератур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орматика и ИКТ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еография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остранные языки </a:t>
            </a: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английский, немецкий, французский,  испанский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Picture 5" descr="C:\Users\User\Desktop\1385582790_0007-005.png"/>
          <p:cNvPicPr/>
          <p:nvPr/>
        </p:nvPicPr>
        <p:blipFill>
          <a:blip r:embed="rId1"/>
          <a:stretch/>
        </p:blipFill>
        <p:spPr>
          <a:xfrm>
            <a:off x="250920" y="3213000"/>
            <a:ext cx="4321080" cy="3311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C:\Users\User\Desktop\957f68251a4c401eb034febbf0fc418f_XL.jpg"/>
          <p:cNvPicPr/>
          <p:nvPr/>
        </p:nvPicPr>
        <p:blipFill>
          <a:blip r:embed="rId2"/>
          <a:stretch/>
        </p:blipFill>
        <p:spPr>
          <a:xfrm>
            <a:off x="266760" y="189000"/>
            <a:ext cx="13683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СЛОВИЯ ПОЛУЧЕНИЯ АТТЕСТАТА в 2017г.</a:t>
            </a:r>
            <a:endParaRPr b="0" lang="en-US" sz="3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-4572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дача 4-х предметов на удовлетворительные результаты. (отметки «3» и выше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9640" indent="-4572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9640" indent="-4572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ресдача возможна если получено не более 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двух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меток «2» на ГИА по 4-м предметам. При удовлетворительной пересдаче ГИА выдаётся аттестат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39640" indent="-457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Picture 5" descr="C:\Users\User\Desktop\957f68251a4c401eb034febbf0fc418f_XL.jpg"/>
          <p:cNvPicPr/>
          <p:nvPr/>
        </p:nvPicPr>
        <p:blipFill>
          <a:blip r:embed="rId1"/>
          <a:stretch/>
        </p:blipFill>
        <p:spPr>
          <a:xfrm>
            <a:off x="179280" y="260280"/>
            <a:ext cx="1368360" cy="1224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C:\Users\User\Desktop\pr_comm_att.jpg"/>
          <p:cNvPicPr/>
          <p:nvPr/>
        </p:nvPicPr>
        <p:blipFill>
          <a:blip r:embed="rId2"/>
          <a:stretch/>
        </p:blipFill>
        <p:spPr>
          <a:xfrm>
            <a:off x="5435640" y="4653000"/>
            <a:ext cx="3190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ГЭ. Продолжительность экзаменов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 ч. 55мин.-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усский язык, литература, математи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 ч.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обществознание, история, биология, физи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 ч. 30 мин.-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ормати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 ч. 20 мин.-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ими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 ч.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география, иностранный яз. (письменный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82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Picture 5" descr="C:\Users\User\Desktop\sm_full.jpg"/>
          <p:cNvPicPr/>
          <p:nvPr/>
        </p:nvPicPr>
        <p:blipFill>
          <a:blip r:embed="rId1"/>
          <a:stretch/>
        </p:blipFill>
        <p:spPr>
          <a:xfrm>
            <a:off x="6875640" y="3789360"/>
            <a:ext cx="2089080" cy="2770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Users\User\Desktop\957f68251a4c401eb034febbf0fc418f_XL.jpg"/>
          <p:cNvPicPr/>
          <p:nvPr/>
        </p:nvPicPr>
        <p:blipFill>
          <a:blip r:embed="rId2"/>
          <a:stretch/>
        </p:blipFill>
        <p:spPr>
          <a:xfrm>
            <a:off x="324000" y="115920"/>
            <a:ext cx="1368360" cy="1224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C:\Users\User\Desktop\957f68251a4c401eb034febbf0fc418f_XL.jpg"/>
          <p:cNvPicPr/>
          <p:nvPr/>
        </p:nvPicPr>
        <p:blipFill>
          <a:blip r:embed="rId3"/>
          <a:stretch/>
        </p:blipFill>
        <p:spPr>
          <a:xfrm>
            <a:off x="318960" y="115920"/>
            <a:ext cx="1368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ИА-9. ЗАПРЕЩЕНО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личие средств связи, электронно-вычислительной техники, фото, аудио и видеоаппаратуры, справочных материалов, письменных заметок и иных средств хранения и передачи информаци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4720" indent="-25128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ынос из аудитории и ППЭ экзаменационных материалов на бумажном или электронном носителях, их фотографировани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4720" indent="-25128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казание содействия другим участникам ЕГЭ, в том числе передача им указанных средств и материалов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4720" indent="-25128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частникам разговаривать   между собой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4720" indent="-251280" algn="just">
              <a:lnSpc>
                <a:spcPct val="100000"/>
              </a:lnSpc>
              <a:spcAft>
                <a:spcPts val="264"/>
              </a:spcAft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извольно выходить участникам из аудитории и перемещаться по ППЭ без сопровождения организатора вне аудитори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" name="Picture 4" descr="C:\Users\User\Desktop\gia.jpg"/>
          <p:cNvPicPr/>
          <p:nvPr/>
        </p:nvPicPr>
        <p:blipFill>
          <a:blip r:embed="rId1"/>
          <a:stretch/>
        </p:blipFill>
        <p:spPr>
          <a:xfrm>
            <a:off x="324000" y="141120"/>
            <a:ext cx="338436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0:11:57Z</dcterms:created>
  <dc:creator>Сехан</dc:creator>
  <dc:description/>
  <dc:language>en-US</dc:language>
  <cp:lastModifiedBy>User</cp:lastModifiedBy>
  <dcterms:modified xsi:type="dcterms:W3CDTF">2016-12-11T16:20:51Z</dcterms:modified>
  <cp:revision>212</cp:revision>
  <dc:subject/>
  <dc:title>Развитие педагогического мастерства учителя </dc:title>
</cp:coreProperties>
</file>