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67B-3299-4E5D-A032-9E018BD8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800-6A39-4EA7-8B4D-A16A3A03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AE8-9EFE-4811-9B9E-4A04867D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266-C30C-4413-B740-775DF3E1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666-8A95-4E47-8405-DA8ADA44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052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052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076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064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DF64-9D01-4236-B7EC-588DE366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076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6064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32C-AA3D-4408-AED9-0FE481FA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F87-F71D-49E4-AA70-6A2DBACC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FBA-87C6-4848-8E78-777822BF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057-ECA7-4A24-9003-26D6AD67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D8E-07D1-41F8-89AB-7F9B955E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DA6-9ABE-43FE-80AF-D8242F7A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CA003-4E16-42B1-898A-9445AC590FF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741240" y="555480"/>
            <a:ext cx="8609040" cy="65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баз дан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5832360" y="5508720"/>
            <a:ext cx="37450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ютина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и И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 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онятие о распределённой базе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360360" y="1930320"/>
            <a:ext cx="9575640" cy="48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узел сам по себе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ой базы данных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юбой пользователь может выполнить операции над данными на своём локальном узле точно так же, как если бы этот узел вовсе не входил в распределённую систему. Распределённую систему баз данных можно рассматривать как партнёрство между отдельными локальными СУБД на отдельных локальных узл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даментальный принцип создания распределённых баз данн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«правило 0»): Для пользователя распределённая система должна выглядеть так же, как нераспределённая систе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ортрет профессии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0960" y="2300400"/>
            <a:ext cx="8609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ой компании, фирме или предприятию необходимо организовать свою базу данных, в которой была бы собрана и надлежащим образом структурирована вся информация о клиентах, счетах, товаре и т. п. Создать такую систему, обеспечить её бесперебойную работу, совершенствовать по мере необходимости могут специалисты по системам управления базами данных (СУБД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287280" y="179280"/>
            <a:ext cx="1808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Базы всякие нужны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41240" y="2089080"/>
            <a:ext cx="860904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БД бывают простые , иначе говоря — пользовательские, предназначенные для хранения и обработки небольшого объёма информации, и сложные, например, СУБД, используемые в крупных и средних корпорациях и бан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пользовательским относятся популярная СУБД MS Access, простая в освоении и в работе. Зачастую это именно то, что нужно организации, оперирующей небольшими объёмам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Базы всякие нужны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9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СУБД уровня корпорации относятся такие продукты как MS SQL Server, наиболее популярная для ОС Windows, а также СУБД Oracle, которая считается сегодня в мире одной из самых надёжных и производительных. Oracle используется в крупных корпорациях, банках, гос.организациях, то есть там, где предъявляются серьёзные требования к объёму, надёжности, производительности и защите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От простого к сложному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41240" y="2145960"/>
            <a:ext cx="860904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ециалистов, которые работают с базами данных, можно разделить на несколько груп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ервую входя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ы баз данн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торая группа —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администраторы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правляющие серверами баз данных, поддерживающие их в рабочем состоя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7032600" y="5273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647640" y="5148360"/>
            <a:ext cx="604836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тья группа 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граммисты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нимающиеся разработкой приложений для баз данных, например, на Delph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Администраторы баз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03280" y="2126880"/>
            <a:ext cx="835344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министраторы отвечают за то, чтобы сервер работал без перебоев, чтобы информация, которая хранится в базах данных на сервере, была достоверной, сведения содержались в целости и сохранности. В их ведении находится работоспособность одного или взаимодействие нескольких серверов, на которых размещена б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министраторы управляют доступом к информации, выполняют резервное копирование данных, проводят восстановление данных, занимаются настройкой сетевых служб и оптимизацией производительности базы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7961400" y="5940360"/>
            <a:ext cx="2168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Администраторы баз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71480" y="2028960"/>
            <a:ext cx="860904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операции с базой данных можно произвести с помощью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анд языка SQ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о большинство операций доступно и через пользовательский интерфейс. Грамотный администратор должен уметь использовать для работы оба вариа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727280" y="5075280"/>
            <a:ext cx="6804000" cy="24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рограммисты баз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90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чики баз данных создают и саму базу данных, и все средства для работы с ней. Программисты разрабатывают приложения на языке программирования. Программистам  требуются знания тех СУБД, с которыми они работают: Orracle, Access или SQL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8136000" y="5502240"/>
            <a:ext cx="193824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Анализ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1240" y="1863360"/>
            <a:ext cx="86090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а из наиболее часто встречающихся задач — анализ данных , которые хранятся в базе. Для её решения использу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логия OLA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ё суть в следующем: в специально созданное хранилище отправляются данные, интересные для анализа. Хранилище можно настроить на автоматическое обновление информации из обычной базы дан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и запросы осуществляются автоматически с использованием специального языка запросов - MD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250920"/>
            <a:ext cx="860760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онятие об информационных системах и распределённых базах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7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544320"/>
            <a:ext cx="86090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Технология хранения, отбора и сортировки информации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41240" y="2089080"/>
            <a:ext cx="860904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структурированного хранения и обработки связанных между собой данных использу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зы данных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за данных является информационной моделью организации данных предметн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мотрим классификацию баз данных по используемой модели дан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ля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ерарх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тев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еляционные базы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19280" y="2050560"/>
            <a:ext cx="9051840" cy="372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ляционная модель базы данных была предложена в 1969 г. математиком, научным сотрудником фирмы IBM Э.Ф.Код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о «реляционная» происходит от английского 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 - отношение. Это строгое математическое понятие, относящееся к теории множест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ользователя базы данных отношения удобно представлять в виде таблиц, содержащих да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3192480" y="6027840"/>
            <a:ext cx="34574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544320"/>
            <a:ext cx="86090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Иерархическая модель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41240" y="2006280"/>
            <a:ext cx="86090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ерархическая модель данных графически может быть представлена как перевёрнутое дерево, состоящее из объектов различных уровней. Верхний уровень (корень) занимает один объект, второй — объекты второго уровня и т. 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жду объектами существуют связи, каждый объект может быть связан с несколькими объектами более низкого уровня. Такие объекты находятся в отношении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к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объект,более близкий к корню) к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томку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объект более низкого уровня), при этом объект предок может не иметь потомков или иметь их несколько, тогда как объект-потомок обязательно имеет только одного предка. Объекты, имеющие общего предка, называютс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лизнец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544320"/>
            <a:ext cx="86090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Иерархическая модель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02920" y="2050920"/>
            <a:ext cx="645948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зой данных, основанной на иерархической модели, являе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естр Window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 котором хранится вся информация, необходимая для нормального функционирования компьютерной системы (данные о конфигурации компьютера и установленных драйверах, настройки графического интерфейса и др.). Содержание реестра автоматически обновляется при установке нового оборудования, инсталляции программ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656400" y="1908000"/>
            <a:ext cx="3424320" cy="194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6656400" y="3995640"/>
            <a:ext cx="3441600" cy="22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Сетевая модель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76360" y="2106720"/>
            <a:ext cx="914400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тевая модель данных является обобщением иерархической за счёт допущения объектов, имеющих более одного предка, т. е. Каждый элемент вышестоящего уровня может быть связан одновременно с любыми элементами следующего уровня. Вообще, на связи между объектами в сетевых моделях не накладывается никаких огранич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Сетевая модель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719280" y="2195640"/>
            <a:ext cx="864216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ом сетевой модели данных является, например, генеалогическое древо семьи, сеть Интер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024360" y="4284720"/>
            <a:ext cx="388764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Вопросы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41240" y="2145960"/>
            <a:ext cx="860904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ём состоит главное отличие иерархической модели данных от сетевой модели дан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каком из рисунков сетевая, а на каком иерархическая модель данны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727280" y="5003640"/>
            <a:ext cx="59054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96600" y="53928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онятие о распределённой базе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463680" y="2266920"/>
            <a:ext cx="703584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Б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стоит из набора узлов, связанных коммуникационной сетью, в которо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узел — это полноценная СУБД сама по себ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лы взаимодействуют между собой таким образом, что пользователь любого из них может получить доступ к любым данным в сети так, как будто они находятся на его собственном уз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345440" y="2124000"/>
            <a:ext cx="273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7:30:44Z</dcterms:created>
  <dc:creator>Tyutina</dc:creator>
  <dc:description/>
  <dc:language>en-US</dc:language>
  <cp:lastModifiedBy>User</cp:lastModifiedBy>
  <dcterms:modified xsi:type="dcterms:W3CDTF">2018-06-30T11:10:39Z</dcterms:modified>
  <cp:revision>6</cp:revision>
  <dc:subject/>
  <dc:title>Презентация PowerPoint</dc:title>
</cp:coreProperties>
</file>