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FFA-20B0-4A17-B778-809FF8E7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CE8-FD16-4C3D-8C25-1FDDDFE1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083-6BD6-403B-82F7-A67F587A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F18-1AF8-486A-8FA0-D676645D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D28-92AA-4DC1-9F2B-CF15E79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B92-CB89-4DA2-9A80-A02E4D3E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70592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A8E-DCB8-44AD-A518-E4F02E4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76B-4083-4518-A730-D337A08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13D-AF7E-491C-8310-AED60E9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1A7-6213-42A5-9DA1-844BE22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59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7CF-082F-4CA0-BF7B-86C6130A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5920"/>
            <a:ext cx="86058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052-092D-4387-ACFE-4EF78C0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144B-1BEE-4EB3-B03E-888213E3D1F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41240" y="555480"/>
            <a:ext cx="860904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баз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5832360" y="5508720"/>
            <a:ext cx="3745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ютин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и 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 распределённой базе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360360" y="1930320"/>
            <a:ext cx="957564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зел сам по себе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ой базы данных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юбой пользователь может выполнить операции над данными на своём локальном узле точно так же, как если бы этот узел вовсе не входил в распределённую систему. Распределённую систему баз данных можно рассматривать как партнёрство между отдельными локальными СУБД на отдельных локальных уз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даментальный принцип создания распределённых баз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«правило 0»): Для пользователя распределённая система должна выглядеть так же, как нераспределённая сист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ртрет професс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0960" y="230040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ой компании, фирме или предприятию необходимо организовать свою базу данных, в которой была бы собрана и надлежащим образом структурирована вся информация о клиентах, счетах, товаре и т. п. Создать такую систему, обеспечить её бесперебойную работу, совершенствовать по мере необходимости могут специалисты по системам управления базами данных (СУБ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1808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азы всякие нужн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41240" y="20890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БД бывают простые , иначе говоря — пользовательские, предназначенные для хранения и обработки небольшого объёма информации, и сложные, например, СУБД, используемые в крупных и средних корпорациях и бан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ользовательским относятся популярная СУБД MS Access, простая в освоении и в работе. Зачастую это именно то, что нужно организации, оперирующей небольшими объёмам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азы всякие нужны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УБД уровня корпорации относятся такие продукты как MS SQL Server, наиболее популярная для ОС Windows, а также СУБД Oracle, которая считается сегодня в мире одной из самых надёжных и производительных. Oracle используется в крупных корпорациях, банках, гос.организациях, то есть там, где предъявляются серьёзные требования к объёму, надёжности, производительности и защите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От простого к сложному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1240" y="2145960"/>
            <a:ext cx="860904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истов, которые работают с базами данных, можно разделить на несколько груп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ервую входя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ы баз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торая группа 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администраторы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правляющие серверами баз данных, поддерживающие их в рабочем состоя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7032600" y="5273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647640" y="5148360"/>
            <a:ext cx="6048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тья группа —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исты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нимающиеся разработкой приложений для баз данных, например, на Delph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дминистратор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03280" y="2126880"/>
            <a:ext cx="835344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оры отвечают за то, чтобы сервер работал без перебоев, чтобы информация, которая хранится в базах данных на сервере, была достоверной, сведения содержались в целости и сохранности. В их ведении находится работоспособность одного или взаимодействие нескольких серверов, на которых размещена б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оры управляют доступом к информации, выполняют резервное копирование данных, проводят восстановление данных, занимаются настройкой сетевых служб и оптимизацией производительности базы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961400" y="5940360"/>
            <a:ext cx="2168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дминистратор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71480" y="2028960"/>
            <a:ext cx="860904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операции с базой данных можно произвести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анд языка 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о большинство операций доступно и через пользовательский интерфейс. Грамотный администратор должен уметь использовать для работы оба вариа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727280" y="5075280"/>
            <a:ext cx="680400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рограммисты ба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386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чики баз данных создают и саму базу данных, и все средства для работы с ней. Программисты разрабатывают приложения на языке программирования. Программистам  требуются знания тех СУБД, с которыми они работают: Orracle, Access или SQL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8136000" y="550224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нализ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41240" y="1863360"/>
            <a:ext cx="86090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а из наиболее часто встречающихся задач — анализ данных , которые хранятся в базе. Для её решения использу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я OLA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суть в следующем: в специально созданное хранилище отправляются данные, интересные для анализа. Хранилище можно настроить на автоматическое обновление информации из обычной базы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и запросы осуществляются автоматически с использованием специального языка запросов - MD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250920"/>
            <a:ext cx="86076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б информационных системах и распределённых базах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Технология хранения, отбора и сортировки информац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41240" y="2089080"/>
            <a:ext cx="860904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структурированного хранения и обработки связанных между собой данных использу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зы данны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является информационной моделью организации данных предметн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им классификацию баз данных по используемой модели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ерарх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216000"/>
                <a:tab algn="l" pos="320760"/>
                <a:tab algn="l" pos="770040"/>
                <a:tab algn="l" pos="1219320"/>
                <a:tab algn="l" pos="1668600"/>
                <a:tab algn="l" pos="2117880"/>
                <a:tab algn="l" pos="2567160"/>
                <a:tab algn="l" pos="3016080"/>
                <a:tab algn="l" pos="3465360"/>
                <a:tab algn="l" pos="3914640"/>
                <a:tab algn="l" pos="4363920"/>
                <a:tab algn="l" pos="4813200"/>
                <a:tab algn="l" pos="5262480"/>
                <a:tab algn="l" pos="5711760"/>
                <a:tab algn="l" pos="6161040"/>
                <a:tab algn="l" pos="6610320"/>
                <a:tab algn="l" pos="7059600"/>
                <a:tab algn="l" pos="7508880"/>
                <a:tab algn="l" pos="7958160"/>
                <a:tab algn="l" pos="8407440"/>
                <a:tab algn="l" pos="8856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еляционные базы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9280" y="2050560"/>
            <a:ext cx="905184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ляционная модель базы данных была предложена в 1969 г. математиком, научным сотрудником фирмы IBM Э.Ф.Код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«реляционная» происходит от английского 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 - отношение. Это строгое математическое понятие, относящееся к теории множ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ользователя базы данных отношения удобно представлять в виде таблиц, содержащих да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192480" y="6027840"/>
            <a:ext cx="34574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ерархическ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41240" y="2006280"/>
            <a:ext cx="86090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ерархическая модель данных графически может быть представлена как перевёрнутое дерево, состоящее из объектов различных уровней. Верхний уровень (корень) занимает один объект, второй — объекты второго уровня и 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жду объектами существуют связи, каждый объект может быть связан с несколькими объектами более низкого уровня. Такие объекты находятся в отношени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объект,более близкий к корню) к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томк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объект более низкого уровня), при этом объект предок может не иметь потомков или иметь их несколько, тогда как объект-потомок обязательно имеет только одного предка. Объекты, имеющие общего предка, называю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лизнец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44320"/>
            <a:ext cx="86090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Иерархическ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02920" y="2050920"/>
            <a:ext cx="645948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ой данных, основанной на иерархической модели,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естр Window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 котором хранится вся информация, необходимая для нормального функционирования компьютерной системы (данные о конфигурации компьютера и установленных драйверах, настройки графического интерфейса и др.). Содержание реестра автоматически обновляется при установке нового оборудования, инсталляции програм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656400" y="1908000"/>
            <a:ext cx="34243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656400" y="3995640"/>
            <a:ext cx="3441600" cy="22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етев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76360" y="210672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ая модель данных является обобщением иерархической за счёт допущения объектов, имеющих более одного предка, т. е. Каждый элемент вышестоящего уровня может быть связан одновременно с любыми элементами следующего уровня. Вообще, на связи между объектами в сетевых моделях не накладывается никаких огранич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Сетевая модель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719280" y="2195640"/>
            <a:ext cx="86421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ом сетевой модели данных является, например, генеалогическое древо семьи, сеть Интер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024360" y="4284720"/>
            <a:ext cx="38876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опросы!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41240" y="2145960"/>
            <a:ext cx="860904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ём состоит главное отличие иерархической модели данных от сетевой модели дан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аком из рисунков сетевая, а на каком иерархическая модель данны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727280" y="5003640"/>
            <a:ext cx="5905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6600" y="53928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Понятие о распределённой базе данных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463680" y="2266920"/>
            <a:ext cx="703584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Б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оит из набора узлов, связанных коммуникационной сетью, в которо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узел — это полноценная СУБД сама по с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лы взаимодействуют между собой таким образом, что пользователь любого из них может получить доступ к любым данным в сети так, как будто они находятся на его собственном уз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45440" y="2124000"/>
            <a:ext cx="27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7:30:44Z</dcterms:created>
  <dc:creator>Tyutina</dc:creator>
  <dc:description/>
  <dc:language>en-US</dc:language>
  <cp:lastModifiedBy>User</cp:lastModifiedBy>
  <dcterms:modified xsi:type="dcterms:W3CDTF">2018-06-30T11:10:39Z</dcterms:modified>
  <cp:revision>6</cp:revision>
  <dc:subject/>
  <dc:title>Презентация PowerPoint</dc:title>
</cp:coreProperties>
</file>