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4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509-7B28-4F88-979D-334D8343B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AF22-979C-4115-96B1-22F8D7D9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A52-E25E-402B-B5F4-DB3847AC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4ADA-E500-4C08-AFD2-CA8975D9C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5F6D-C51D-4CE8-9B76-964D2F6D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5D74-0F48-4253-B1B0-5F967E31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6753-1773-4488-AC67-084C4567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163-0A76-41F8-8818-A89C8B9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A717-806D-4A73-AD79-4AD9D744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F326-2A52-4C42-9735-0D83692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2473-C257-4FC0-A0C3-8564D1F8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CF2-4352-4724-8FD5-DEACEE97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FF8A-6B1E-4090-9A63-E02284436B6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29 августа 2016 го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57360"/>
            <a:ext cx="640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ookman Old Style"/>
              </a:rPr>
              <a:t>Педагогический со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Palatino Linotype"/>
              </a:rPr>
              <a:t>«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  <a:ea typeface="Times New Roman"/>
              </a:rPr>
              <a:t>Внедрение концепций математического и филологического образования в дошкольное, среднее, дополнительное образование МБОУЦО № 43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115920"/>
            <a:ext cx="86421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5" descr="C:\Users\User\Desktop\portfeli-shkolnyie-prinadlezhnosti-300x300.png"/>
          <p:cNvPicPr/>
          <p:nvPr/>
        </p:nvPicPr>
        <p:blipFill>
          <a:blip r:embed="rId1"/>
          <a:stretch/>
        </p:blipFill>
        <p:spPr>
          <a:xfrm>
            <a:off x="6300720" y="4462560"/>
            <a:ext cx="259236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одаёт заявление о прохождении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аждый учитель делает это самостоятельно.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коном не установлены централизованные сроки подачи заявлений и периоды проведения аттестации, поэтому педагогический работник может подать документы на аттестацию в любое врем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ям, уже имеющим категорию, рекомендуется подавать </a:t>
            </a: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заявление не позже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чем за три месяца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 истечен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а предыдущей добровольной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ттестации. Это нужно для того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тобы этот срок не истек во время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смотрения заявления 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хождения аттест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5019840" y="3789360"/>
            <a:ext cx="39448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кет документов, необходимых для прохождения аттест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916280"/>
            <a:ext cx="85075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явление по установленной форм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серокопия аттестационного листа предыдущей аттестации (если она была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кумент, подтверждающий прохождение курсовой подготовк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ртфолио своих профессиональных достижений (есть рекомендации по составлению), которое можно предоставить в аттестационную комиссию как в момент подачи заявления, так и в течение месяца после этог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0" descr="book36"/>
          <p:cNvPicPr/>
          <p:nvPr/>
        </p:nvPicPr>
        <p:blipFill>
          <a:blip r:embed="rId1"/>
          <a:stretch/>
        </p:blipFill>
        <p:spPr>
          <a:xfrm>
            <a:off x="7885080" y="1484280"/>
            <a:ext cx="1166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848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, предъявляемые к первой квалификационной категор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ладение современными образовательными технологиями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 методиками и эффективное применение их на практик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личный вклад в повышение качества образовани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снове совершенствования методов обучения и воспит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табильные результаты освоения обучающимися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, воспитанниками образовательных программ и показатели динамики их достижений выше средних в субъекте РФ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5" descr="C:\Users\User\Desktop\2596_38.png"/>
          <p:cNvPicPr/>
          <p:nvPr/>
        </p:nvPicPr>
        <p:blipFill>
          <a:blip r:embed="rId1"/>
          <a:stretch/>
        </p:blipFill>
        <p:spPr>
          <a:xfrm>
            <a:off x="5148360" y="4653000"/>
            <a:ext cx="381636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, предъявляемые к высшей квалификационной категор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становлена первая квалификационная категор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владение современными образовательны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ехнологиями и методиками и эффектив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менение их на практике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табильные результаты освоения обучающимися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, воспитанниками образовательных программ и показатели динамики их достижений выше средних в субъекте РФ, в том числе с учетом результатов участия обучающихся и воспитанников во всероссийских, международных олимпиадах, конкурсах, соревнованиях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личный вклад в повышение качества образования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снове совершенствования методов обучения и воспитания, инновационной деятельности, в освоение новых образовательных технологий и активное распространение собственного опыта в области повышения качества образования и воспитания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5" descr="C:\Users\User\Desktop\school03043.jpg"/>
          <p:cNvPicPr/>
          <p:nvPr/>
        </p:nvPicPr>
        <p:blipFill>
          <a:blip r:embed="rId1"/>
          <a:stretch/>
        </p:blipFill>
        <p:spPr>
          <a:xfrm>
            <a:off x="6659640" y="1413000"/>
            <a:ext cx="237636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хождение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Квалификационное испытание проходит в форме экспертизы портфолио профессиональных достижений учителя</a:t>
            </a: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седание аттестационной комиссии может проходить как без участия учителя, проходящего испытания, так и в его присутствии. О желании присутствовать на заседании нужно заранее написать в заявлен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Если учитель заявил о желании присутствовать на заседании, но в указанный срок не явился на него без уважительной причины, аттестационная комиссия вправе провести аттестацию в его отсутств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Объект 2"/>
          <p:cNvSpPr/>
          <p:nvPr/>
        </p:nvSpPr>
        <p:spPr>
          <a:xfrm>
            <a:off x="46836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c000"/>
                </a:solidFill>
                <a:uFillTx/>
                <a:latin typeface="Trebuchet MS"/>
              </a:rPr>
              <a:t>Квалификационное испытание проходит в форме экспертизы портфолио профессиональных достижений учителя</a:t>
            </a:r>
            <a:r>
              <a:rPr b="0" lang="ru-RU" sz="2400" spc="-1" strike="noStrike" u="sng">
                <a:solidFill>
                  <a:srgbClr val="ffc000"/>
                </a:solidFill>
                <a:uFillTx/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Заседание аттестационной комиссии может проходить как без участия учителя, проходящего испытания, так и в его присутствии. О желании присутствовать на заседании нужно заранее написать в заявл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Если учитель заявил о желании присутствовать на заседании, но в указанный срок не явился на него без уважительной причины, аттестационная комиссия вправе провести аттестацию в его отсут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5" descr="book21"/>
          <p:cNvPicPr/>
          <p:nvPr/>
        </p:nvPicPr>
        <p:blipFill>
          <a:blip r:embed="rId1"/>
          <a:stretch/>
        </p:blipFill>
        <p:spPr>
          <a:xfrm>
            <a:off x="6588000" y="5229360"/>
            <a:ext cx="19447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комисси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1557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прошел аттестацию, выносится решение «соответствует требованиям, предъявляемым к первой (высшей) квалификационной категор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не прошел аттестацию, выносится решение «не соответствует требованиям, предъявляемым к первой (высшей) квалификационной категории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C:\Documents and Settings\Катя\Рабочий стол\картинка7.jpg"/>
          <p:cNvPicPr/>
          <p:nvPr/>
        </p:nvPicPr>
        <p:blipFill>
          <a:blip r:embed="rId1"/>
          <a:stretch/>
        </p:blipFill>
        <p:spPr>
          <a:xfrm>
            <a:off x="6443640" y="4581360"/>
            <a:ext cx="2376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жалование решения аттестационной комисс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о на обжалование итогов аттестации оговаривается в «Порядке аттестации педагогических работников». Подать заявление об обжаловании можно либо в комиссию по трудовым спорам при региональном органе образования, либо в суд. Заявление в суд о разрешении индивидуального трудового спора подается в течение трех месяцев со дня, когда работник узнал или должен был узнать о нарушении своего прав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1" descr="book17"/>
          <p:cNvPicPr/>
          <p:nvPr/>
        </p:nvPicPr>
        <p:blipFill>
          <a:blip r:embed="rId1"/>
          <a:stretch/>
        </p:blipFill>
        <p:spPr>
          <a:xfrm>
            <a:off x="6083280" y="5084640"/>
            <a:ext cx="224460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 работников МБОУ ЦО № 4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40402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Фактичес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844640"/>
          <a:ext cx="4040280" cy="42912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647640"/>
                <a:gridCol w="1008000"/>
                <a:gridCol w="116064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оотве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ттестов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 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8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016-2017 уч 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557360"/>
          <a:ext cx="4032000" cy="4937040"/>
        </p:xfrm>
        <a:graphic>
          <a:graphicData uri="http://schemas.openxmlformats.org/drawingml/2006/table">
            <a:tbl>
              <a:tblPr/>
              <a:tblGrid>
                <a:gridCol w="612720"/>
                <a:gridCol w="647640"/>
                <a:gridCol w="611280"/>
                <a:gridCol w="1189080"/>
                <a:gridCol w="971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оотве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ттестов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7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130960" cy="23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429264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Аттестация педагога как средство повышения уровня квалификации и соответствие профессиональному стандарт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C:\Users\User\Desktop\3eb4f14cf9b5c2433f7df7af1ead4619.png"/>
          <p:cNvPicPr/>
          <p:nvPr/>
        </p:nvPicPr>
        <p:blipFill>
          <a:blip r:embed="rId1"/>
          <a:srcRect l="0" t="80" r="0" b="80"/>
          <a:stretch/>
        </p:blipFill>
        <p:spPr>
          <a:xfrm>
            <a:off x="3635280" y="404640"/>
            <a:ext cx="5087880" cy="3635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63072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вида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1426680"/>
            <a:ext cx="8229600" cy="4527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50" name="Овал 9"/>
          <p:cNvSpPr/>
          <p:nvPr/>
        </p:nvSpPr>
        <p:spPr>
          <a:xfrm>
            <a:off x="893880" y="3691080"/>
            <a:ext cx="3528720" cy="1969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обяз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Овал 10"/>
          <p:cNvSpPr/>
          <p:nvPr/>
        </p:nvSpPr>
        <p:spPr>
          <a:xfrm>
            <a:off x="4859280" y="3691080"/>
            <a:ext cx="3600360" cy="1898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добров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Стрелка вниз 2"/>
          <p:cNvSpPr/>
          <p:nvPr/>
        </p:nvSpPr>
        <p:spPr>
          <a:xfrm rot="18297000">
            <a:off x="5485320" y="2968920"/>
            <a:ext cx="484200" cy="898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трелка вниз 3"/>
          <p:cNvSpPr/>
          <p:nvPr/>
        </p:nvSpPr>
        <p:spPr>
          <a:xfrm rot="2872200">
            <a:off x="3613680" y="2998080"/>
            <a:ext cx="485640" cy="8809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Овал 5"/>
          <p:cNvSpPr/>
          <p:nvPr/>
        </p:nvSpPr>
        <p:spPr>
          <a:xfrm>
            <a:off x="2806560" y="1666800"/>
            <a:ext cx="4105440" cy="1474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Обязательная аттестация на соответствие занимаемой должн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28640"/>
            <a:ext cx="85075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ё проходят педагогические работники, не имеющие категорий и не выразившие желания пройти аттестацию н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лификационную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тегори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Users\User\Desktop\416630.jpg"/>
          <p:cNvPicPr/>
          <p:nvPr/>
        </p:nvPicPr>
        <p:blipFill>
          <a:blip r:embed="rId1"/>
          <a:stretch/>
        </p:blipFill>
        <p:spPr>
          <a:xfrm>
            <a:off x="4427640" y="3573360"/>
            <a:ext cx="4465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егория лиц, которая не должна проходить аттестацию  на соответствие занимаемой долж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1699920"/>
            <a:ext cx="8569080" cy="4753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c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ям, проработавшие менее 2 лет на данной    должности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еременным женщинам и женщинам, находящимся в декретном отпуске и в отпуске по уходу за ребенком до достижения им возраста 3 лет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Их аттестация проводитс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не ранее,  чем через два год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после выхода из указанных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отпуск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Катя\Рабочий стол\картинка8.jpg"/>
          <p:cNvPicPr/>
          <p:nvPr/>
        </p:nvPicPr>
        <p:blipFill>
          <a:blip r:embed="rId1"/>
          <a:stretch/>
        </p:blipFill>
        <p:spPr>
          <a:xfrm>
            <a:off x="6659640" y="4221000"/>
            <a:ext cx="223344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хождения аттестации на соответствие занимаемой долж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ботодатель оформляет представление на педаго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позднее чем за месяц до начала проведения аттестации работодатель под роспись знакомит педагога с представление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прохождения аттестации не должен превышать 2 месяца. Не позднее чем за месяц до проведения аттестации работодатель доводит до сведения педагогического работника информацию о дате, месте и времени проведения его аттест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Users\User\Desktop\_20140207_1960093141.png"/>
          <p:cNvPicPr/>
          <p:nvPr/>
        </p:nvPicPr>
        <p:blipFill>
          <a:blip r:embed="rId1"/>
          <a:stretch/>
        </p:blipFill>
        <p:spPr>
          <a:xfrm>
            <a:off x="7956720" y="563400"/>
            <a:ext cx="1187280" cy="17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1" descr="book37"/>
          <p:cNvPicPr/>
          <p:nvPr/>
        </p:nvPicPr>
        <p:blipFill>
          <a:blip r:embed="rId2"/>
          <a:stretch/>
        </p:blipFill>
        <p:spPr>
          <a:xfrm>
            <a:off x="222120" y="5877000"/>
            <a:ext cx="1332000" cy="790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прохождения аттестации на соответствие занимаемой должн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99920"/>
            <a:ext cx="8640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ходе аттестации с целью подтверждения соответствия занимаемой должности учителя проходят письменные или устные испытания по вопросам, связанным с их профессиональной деятельностью или компьютерное тестирование, позволяющее определить уровень владения современными методиками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подавания и воспита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C:\Users\User\Desktop\school03008.jpg"/>
          <p:cNvPicPr/>
          <p:nvPr/>
        </p:nvPicPr>
        <p:blipFill>
          <a:blip r:embed="rId1"/>
          <a:stretch/>
        </p:blipFill>
        <p:spPr>
          <a:xfrm>
            <a:off x="6804000" y="4005360"/>
            <a:ext cx="23162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комисси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413000"/>
            <a:ext cx="8675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 успешном прохождении аттестации комиссия выносит вердикт: «соответствует занимаемой должност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не прошёл испытания, комиссия принимает решение, что учитель «не соответствует занимаемой должност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Users\User\Desktop\img44.jpg"/>
          <p:cNvPicPr/>
          <p:nvPr/>
        </p:nvPicPr>
        <p:blipFill>
          <a:blip r:embed="rId1"/>
          <a:stretch/>
        </p:blipFill>
        <p:spPr>
          <a:xfrm>
            <a:off x="5965920" y="3789360"/>
            <a:ext cx="3132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596360" cy="183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11280" y="1989000"/>
            <a:ext cx="8208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•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бровольная аттестация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водится на основан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явления педагогическог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ботника для установления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ответствия его квалификац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ребованиям, предъявляемым к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ой или высшей квалификационным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тегориям</a:t>
            </a:r>
            <a:r>
              <a:rPr b="1" lang="ru-RU" sz="19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C:\Users\User\Desktop\33658773.png"/>
          <p:cNvPicPr/>
          <p:nvPr/>
        </p:nvPicPr>
        <p:blipFill>
          <a:blip r:embed="rId2"/>
          <a:stretch/>
        </p:blipFill>
        <p:spPr>
          <a:xfrm>
            <a:off x="6588000" y="1628640"/>
            <a:ext cx="2556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6-08-15T07:46:15Z</dcterms:modified>
  <cp:revision>151</cp:revision>
  <dc:subject/>
  <dc:title>Развитие педагогического мастерства учителя </dc:title>
</cp:coreProperties>
</file>