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4.gif" ContentType="image/gif"/>
  <Override PartName="/ppt/media/image17.gif" ContentType="image/gif"/>
  <Override PartName="/ppt/media/image3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168-2D0E-46DB-A6C5-B1EE3BF1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1F64-AA42-4885-ACC6-E9C4DDF1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151D-3B04-4A1F-B4F9-6AE9D884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A0DB-EBAC-4AFF-9299-8C972E85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A778-BEF4-49EF-A70B-91265734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CFC-AC17-4CED-A79D-F49DF28A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ED37-9BB2-42C2-88A0-ED351BE0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E6FF-77EC-4462-96D8-6424ADA0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E14-B588-449D-8B4F-02A6CDCB9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8146-0900-4DDF-A575-245E110F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ABD8-FA12-4074-ACA0-13C7F8DA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3C60-A0AD-4137-97D0-37D05CBF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14ED-316B-40D4-9EF4-DE91727F43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4170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Bookman Old Style"/>
              </a:rPr>
              <a:t>29 августа 2016 года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57360"/>
            <a:ext cx="640080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Bookman Old Style"/>
              </a:rPr>
              <a:t>Педагогический совет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c000"/>
                </a:solidFill>
                <a:latin typeface="Palatino Linotype"/>
              </a:rPr>
              <a:t>«</a:t>
            </a:r>
            <a:r>
              <a:rPr b="1" lang="ru-RU" sz="2800" spc="-1" strike="noStrike">
                <a:solidFill>
                  <a:srgbClr val="ffc000"/>
                </a:solidFill>
                <a:latin typeface="Bookman Old Style"/>
                <a:ea typeface="Times New Roman"/>
              </a:rPr>
              <a:t>Внедрение концепций математического и филологического образования в дошкольное, среднее, дополнительное образование МБОУЦО № 43»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250920" y="115920"/>
            <a:ext cx="8642160" cy="40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44" name="Picture 5" descr="C:\Users\User\Desktop\portfeli-shkolnyie-prinadlezhnosti-300x300.png"/>
          <p:cNvPicPr/>
          <p:nvPr/>
        </p:nvPicPr>
        <p:blipFill>
          <a:blip r:embed="rId1"/>
          <a:stretch/>
        </p:blipFill>
        <p:spPr>
          <a:xfrm>
            <a:off x="6300720" y="4462560"/>
            <a:ext cx="2592360" cy="2395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то подаёт заявление о прохождении аттест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Каждый учитель делает это самостоятельно.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коном не установлены централизованные сроки подачи заявлений и периоды проведения аттестации, поэтому педагогический работник может подать документы на аттестацию в любое время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ителям, уже имеющим категорию, рекомендуется подавать </a:t>
            </a:r>
            <a:r>
              <a:rPr b="1" i="1" lang="ru-RU" sz="2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заявление не позже,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   </a:t>
            </a:r>
            <a:r>
              <a:rPr b="1" i="1" lang="ru-RU" sz="2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чем за три месяца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 истечения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ока предыдущей добровольной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ттестации. Это нужно для того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чтобы этот срок не истек во время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ссмотрения заявления и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хождения аттестации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6" name="Picture 5" descr="C:\Users\User\Desktop\1385582790_0007-005.png"/>
          <p:cNvPicPr/>
          <p:nvPr/>
        </p:nvPicPr>
        <p:blipFill>
          <a:blip r:embed="rId1"/>
          <a:stretch/>
        </p:blipFill>
        <p:spPr>
          <a:xfrm>
            <a:off x="5019840" y="3789360"/>
            <a:ext cx="3944880" cy="2951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кет документов, необходимых для прохождения аттестац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95280" y="1916280"/>
            <a:ext cx="850752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явление по установленной форм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серокопия аттестационного листа предыдущей аттестации (если она была)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кумент, подтверждающий прохождение курсовой подготовки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ртфолио своих профессиональных достижений (есть рекомендации по составлению), которое можно предоставить в аттестационную комиссию как в момент подачи заявления, так и в течение месяца после этого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40" descr="book36"/>
          <p:cNvPicPr/>
          <p:nvPr/>
        </p:nvPicPr>
        <p:blipFill>
          <a:blip r:embed="rId1"/>
          <a:stretch/>
        </p:blipFill>
        <p:spPr>
          <a:xfrm>
            <a:off x="7885080" y="1484280"/>
            <a:ext cx="11667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8480" y="83628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бования, предъявляемые к первой квалификационной категор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179280" y="206064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владение современными образовательными технологиями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и методиками и эффективное применение их на практике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личный вклад в повышение качества образования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основе совершенствования методов обучения и воспитания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стабильные результаты освоения обучающимися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, воспитанниками образовательных программ и показатели динамики их достижений выше средних в субъекте РФ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2" name="Picture 5" descr="C:\Users\User\Desktop\2596_38.png"/>
          <p:cNvPicPr/>
          <p:nvPr/>
        </p:nvPicPr>
        <p:blipFill>
          <a:blip r:embed="rId1"/>
          <a:stretch/>
        </p:blipFill>
        <p:spPr>
          <a:xfrm>
            <a:off x="5148360" y="4653000"/>
            <a:ext cx="3816360" cy="2205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бования, предъявляемые к высшей квалификационной категори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7336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c000"/>
                </a:solidFill>
                <a:latin typeface="Calibri"/>
              </a:rPr>
              <a:t>*</a:t>
            </a: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установлена первая квалификационная категория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владение современными образовательными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ехнологиями и методиками и эффективное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именение их на практике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</a:t>
            </a: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стабильные результаты освоения обучающимися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, воспитанниками образовательных программ и показатели динамики их достижений выше средних в субъекте РФ, в том числе с учетом результатов участия обучающихся и воспитанников во всероссийских, международных олимпиадах, конкурсах, соревнованиях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*</a:t>
            </a:r>
            <a:r>
              <a:rPr b="1" i="1" lang="ru-RU" sz="20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личный вклад в повышение качества образования </a:t>
            </a:r>
            <a:r>
              <a:rPr b="1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а основе совершенствования методов обучения и воспитания, инновационной деятельности, в освоение новых образовательных технологий и активное распространение собственного опыта в области повышения качества образования и воспитания. 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5" descr="C:\Users\User\Desktop\school03043.jpg"/>
          <p:cNvPicPr/>
          <p:nvPr/>
        </p:nvPicPr>
        <p:blipFill>
          <a:blip r:embed="rId1"/>
          <a:stretch/>
        </p:blipFill>
        <p:spPr>
          <a:xfrm>
            <a:off x="6659640" y="1413000"/>
            <a:ext cx="2376360" cy="190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хождение аттест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68360" y="1341000"/>
            <a:ext cx="8424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c000"/>
                </a:solidFill>
                <a:latin typeface="Trebuchet MS"/>
              </a:rPr>
              <a:t>Квалификационное испытание проходит в форме экспертизы портфолио профессиональных достижений учителя</a:t>
            </a:r>
            <a:r>
              <a:rPr b="0" lang="ru-RU" sz="2400" spc="-1" strike="noStrike">
                <a:solidFill>
                  <a:srgbClr val="ffc000"/>
                </a:solidFill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Заседание аттестационной комиссии может проходить как без участия учителя, проходящего испытания, так и в его присутствии. О желании присутствовать на заседании нужно заранее написать в заявлении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Если учитель заявил о желании присутствовать на заседании, но в указанный срок не явился на него без уважительной причины, аттестационная комиссия вправе провести аттестацию в его отсутствие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15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Объект 2"/>
          <p:cNvSpPr/>
          <p:nvPr/>
        </p:nvSpPr>
        <p:spPr>
          <a:xfrm>
            <a:off x="468360" y="1341360"/>
            <a:ext cx="842472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ffc000"/>
                </a:solidFill>
                <a:uFillTx/>
                <a:latin typeface="Trebuchet MS"/>
              </a:rPr>
              <a:t>Квалификационное испытание проходит в форме экспертизы портфолио профессиональных достижений учителя</a:t>
            </a:r>
            <a:r>
              <a:rPr b="0" lang="ru-RU" sz="2400" spc="-1" strike="noStrike" u="sng">
                <a:solidFill>
                  <a:srgbClr val="ffc000"/>
                </a:solidFill>
                <a:uFillTx/>
                <a:latin typeface="Trebuchet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52f74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rebuchet MS"/>
              </a:rPr>
              <a:t>Заседание аттестационной комиссии может проходить как без участия учителя, проходящего испытания, так и в его присутствии. О желании присутствовать на заседании нужно заранее написать в заявле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rebuchet MS"/>
              </a:rPr>
              <a:t>Если учитель заявил о желании присутствовать на заседании, но в указанный срок не явился на него без уважительной причины, аттестационная комиссия вправе провести аттестацию в его отсутств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15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25" descr="book21"/>
          <p:cNvPicPr/>
          <p:nvPr/>
        </p:nvPicPr>
        <p:blipFill>
          <a:blip r:embed="rId1"/>
          <a:stretch/>
        </p:blipFill>
        <p:spPr>
          <a:xfrm>
            <a:off x="6588000" y="5229360"/>
            <a:ext cx="1944720" cy="12952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шение комисси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9280" y="1557000"/>
            <a:ext cx="8507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Если учитель прошел аттестацию, выносится решение «соответствует требованиям, предъявляемым к первой (высшей) квалификационной категории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Если учитель не прошел аттестацию, выносится решение «не соответствует требованиям, предъявляемым к первой (высшей) квалификационной категории</a:t>
            </a:r>
            <a:r>
              <a:rPr b="1" i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»</a:t>
            </a: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2" name="Picture 3" descr="C:\Documents and Settings\Катя\Рабочий стол\картинка7.jpg"/>
          <p:cNvPicPr/>
          <p:nvPr/>
        </p:nvPicPr>
        <p:blipFill>
          <a:blip r:embed="rId1"/>
          <a:stretch/>
        </p:blipFill>
        <p:spPr>
          <a:xfrm>
            <a:off x="6443640" y="4581360"/>
            <a:ext cx="2376360" cy="2016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жалование решения аттестационной комиссии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1699920"/>
            <a:ext cx="8362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аво на обжалование итогов аттестации оговаривается в «Порядке аттестации педагогических работников». Подать заявление об обжаловании можно либо в комиссию по трудовым спорам при региональном органе образования, либо в суд. Заявление в суд о разрешении индивидуального трудового спора подается в течение трех месяцев со дня, когда работник узнал или должен был узнать о нарушении своего права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5" name="Picture 21" descr="book17"/>
          <p:cNvPicPr/>
          <p:nvPr/>
        </p:nvPicPr>
        <p:blipFill>
          <a:blip r:embed="rId1"/>
          <a:stretch/>
        </p:blipFill>
        <p:spPr>
          <a:xfrm>
            <a:off x="6083280" y="5084640"/>
            <a:ext cx="2244600" cy="1657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ттестация работников МБОУ ЦО № 4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52280"/>
            <a:ext cx="4040280" cy="36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7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Calibri"/>
              </a:rPr>
              <a:t>Фактически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68360" y="1844640"/>
          <a:ext cx="4040280" cy="4291200"/>
        </p:xfrm>
        <a:graphic>
          <a:graphicData uri="http://schemas.openxmlformats.org/drawingml/2006/table">
            <a:tbl>
              <a:tblPr/>
              <a:tblGrid>
                <a:gridCol w="576360"/>
                <a:gridCol w="647640"/>
                <a:gridCol w="647640"/>
                <a:gridCol w="1008000"/>
                <a:gridCol w="1160640"/>
              </a:tblGrid>
              <a:tr h="1224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Высш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Пер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Соответству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аттестов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2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+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35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 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989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4720" y="1052280"/>
            <a:ext cx="40417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3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Calibri"/>
              </a:rPr>
              <a:t>2016-2017 уч г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88000" y="1557360"/>
          <a:ext cx="4032000" cy="4937040"/>
        </p:xfrm>
        <a:graphic>
          <a:graphicData uri="http://schemas.openxmlformats.org/drawingml/2006/table">
            <a:tbl>
              <a:tblPr/>
              <a:tblGrid>
                <a:gridCol w="612720"/>
                <a:gridCol w="647640"/>
                <a:gridCol w="611280"/>
                <a:gridCol w="1189080"/>
                <a:gridCol w="97128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Высш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Перва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Соответствую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c000"/>
                          </a:solidFill>
                          <a:latin typeface="Calibri"/>
                        </a:rPr>
                        <a:t>аттестован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189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675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158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У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1267920"/>
            <a:ext cx="8130960" cy="233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пасибо </a:t>
            </a:r>
            <a:br>
              <a:rPr sz="8800"/>
            </a:br>
            <a:r>
              <a:rPr b="1" lang="ru-RU" sz="8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</a:t>
            </a:r>
            <a:endParaRPr b="0" lang="en-US" sz="8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нимание!</a:t>
            </a:r>
            <a:endParaRPr b="0" lang="en-US" sz="8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16000" y="429264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Calibri"/>
              </a:rPr>
              <a:t>Аттестация педагога как средство повышения уровня квалификации и соответствие профессиональному стандарту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Picture 2" descr="C:\Users\User\Desktop\3eb4f14cf9b5c2433f7df7af1ead4619.png"/>
          <p:cNvPicPr/>
          <p:nvPr/>
        </p:nvPicPr>
        <p:blipFill>
          <a:blip r:embed="rId1"/>
          <a:srcRect l="0" t="80" r="0" b="80"/>
          <a:stretch/>
        </p:blipFill>
        <p:spPr>
          <a:xfrm>
            <a:off x="3635280" y="404640"/>
            <a:ext cx="5087880" cy="36356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71640" y="1916280"/>
            <a:ext cx="63072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ва вида аттестации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34880" y="1426680"/>
            <a:ext cx="8229600" cy="4527720"/>
          </a:xfrm>
          <a:prstGeom prst="rect">
            <a:avLst/>
          </a:prstGeom>
          <a:ln w="9360">
            <a:solidFill>
              <a:srgbClr val="cc0000"/>
            </a:solidFill>
            <a:miter/>
          </a:ln>
        </p:spPr>
      </p:pic>
      <p:sp>
        <p:nvSpPr>
          <p:cNvPr id="50" name="Овал 9"/>
          <p:cNvSpPr/>
          <p:nvPr/>
        </p:nvSpPr>
        <p:spPr>
          <a:xfrm>
            <a:off x="893880" y="3691080"/>
            <a:ext cx="3528720" cy="19699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обязате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Овал 10"/>
          <p:cNvSpPr/>
          <p:nvPr/>
        </p:nvSpPr>
        <p:spPr>
          <a:xfrm>
            <a:off x="4859280" y="3691080"/>
            <a:ext cx="3600360" cy="189864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Calibri"/>
              </a:rPr>
              <a:t>доброволь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Стрелка вниз 2"/>
          <p:cNvSpPr/>
          <p:nvPr/>
        </p:nvSpPr>
        <p:spPr>
          <a:xfrm rot="18297000">
            <a:off x="5485320" y="2968920"/>
            <a:ext cx="484200" cy="898560"/>
          </a:xfrm>
          <a:prstGeom prst="downArrow">
            <a:avLst>
              <a:gd name="adj1" fmla="val 50000"/>
              <a:gd name="adj2" fmla="val 5000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Стрелка вниз 3"/>
          <p:cNvSpPr/>
          <p:nvPr/>
        </p:nvSpPr>
        <p:spPr>
          <a:xfrm rot="2872200">
            <a:off x="3613680" y="2998080"/>
            <a:ext cx="485640" cy="88092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Овал 5"/>
          <p:cNvSpPr/>
          <p:nvPr/>
        </p:nvSpPr>
        <p:spPr>
          <a:xfrm>
            <a:off x="2806560" y="1666800"/>
            <a:ext cx="4105440" cy="1474920"/>
          </a:xfrm>
          <a:prstGeom prst="ellipse">
            <a:avLst/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тест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Bookman Old Style"/>
              </a:rPr>
              <a:t>Обязательная аттестация на соответствие занимаемой должн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28640"/>
            <a:ext cx="85075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ё проходят педагогические работники, не имеющие категорий и не выразившие желания пройти аттестацию на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валификационную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тегорию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C:\Users\User\Desktop\416630.jpg"/>
          <p:cNvPicPr/>
          <p:nvPr/>
        </p:nvPicPr>
        <p:blipFill>
          <a:blip r:embed="rId1"/>
          <a:stretch/>
        </p:blipFill>
        <p:spPr>
          <a:xfrm>
            <a:off x="4427640" y="3573360"/>
            <a:ext cx="4465440" cy="30243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тегория лиц, которая не должна проходить аттестацию  на соответствие занимаемой долж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3640" y="1699920"/>
            <a:ext cx="8569080" cy="47530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txBody>
          <a:bodyPr anchor="t">
            <a:normAutofit fontScale="8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c000"/>
                </a:solidFill>
                <a:latin typeface="Trebuchet MS"/>
              </a:rPr>
              <a:t> 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ителям, проработавшие менее 2 лет на данной    должности;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еременным женщинам и женщинам, находящимся в декретном отпуске и в отпуске по уходу за ребенком до достижения им возраста 3 лет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00"/>
                </a:solidFill>
                <a:latin typeface="Trebuchet MS"/>
              </a:rPr>
              <a:t> </a:t>
            </a: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Их аттестация проводится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  </a:t>
            </a: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не ранее,  чем через два года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  </a:t>
            </a: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после выхода из указанных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  </a:t>
            </a:r>
            <a:r>
              <a:rPr b="0" i="1" lang="ru-RU" sz="2000" spc="-1" strike="noStrike" u="sng">
                <a:solidFill>
                  <a:srgbClr val="ffff00"/>
                </a:solidFill>
                <a:uFillTx/>
                <a:latin typeface="Trebuchet MS"/>
              </a:rPr>
              <a:t>отпусков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Bookman Old Style"/>
                <a:ea typeface="Times New Roman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C:\Documents and Settings\Катя\Рабочий стол\картинка8.jpg"/>
          <p:cNvPicPr/>
          <p:nvPr/>
        </p:nvPicPr>
        <p:blipFill>
          <a:blip r:embed="rId1"/>
          <a:stretch/>
        </p:blipFill>
        <p:spPr>
          <a:xfrm>
            <a:off x="6659640" y="4221000"/>
            <a:ext cx="2233440" cy="20876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рядок прохождения аттестации на соответствие занимаемой должности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ботодатель оформляет представление на педагог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е позднее чем за месяц до начала проведения аттестации работодатель под роспись знакомит педагога с представление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рок прохождения аттестации не должен превышать 2 месяца. Не позднее чем за месяц до проведения аттестации работодатель доводит до сведения педагогического работника информацию о дате, месте и времени проведения его аттестации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3" descr="C:\Users\User\Desktop\_20140207_1960093141.png"/>
          <p:cNvPicPr/>
          <p:nvPr/>
        </p:nvPicPr>
        <p:blipFill>
          <a:blip r:embed="rId1"/>
          <a:stretch/>
        </p:blipFill>
        <p:spPr>
          <a:xfrm>
            <a:off x="7956720" y="563400"/>
            <a:ext cx="1187280" cy="1713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1" descr="book37"/>
          <p:cNvPicPr/>
          <p:nvPr/>
        </p:nvPicPr>
        <p:blipFill>
          <a:blip r:embed="rId2"/>
          <a:stretch/>
        </p:blipFill>
        <p:spPr>
          <a:xfrm>
            <a:off x="222120" y="5877000"/>
            <a:ext cx="1332000" cy="79056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713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рмы прохождения аттестации на соответствие занимаемой должн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24000" y="1699920"/>
            <a:ext cx="86407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 ходе аттестации с целью подтверждения соответствия занимаемой должности учителя проходят письменные или устные испытания по вопросам, связанным с их профессиональной деятельностью или компьютерное тестирование, позволяющее определить уровень владения современными методиками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еподавания и воспитания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4" descr="C:\Users\User\Desktop\school03008.jpg"/>
          <p:cNvPicPr/>
          <p:nvPr/>
        </p:nvPicPr>
        <p:blipFill>
          <a:blip r:embed="rId1"/>
          <a:stretch/>
        </p:blipFill>
        <p:spPr>
          <a:xfrm>
            <a:off x="6804000" y="4005360"/>
            <a:ext cx="231624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68680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шение комиссии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000" y="1413000"/>
            <a:ext cx="86756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и успешном прохождении аттестации комиссия выносит вердикт: «соответствует занимаемой должности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Если учитель не прошёл испытания, комиссия принимает решение, что учитель «не соответствует занимаемой должности»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0" name="Picture 2" descr="C:\Users\User\Desktop\img44.jpg"/>
          <p:cNvPicPr/>
          <p:nvPr/>
        </p:nvPicPr>
        <p:blipFill>
          <a:blip r:embed="rId1"/>
          <a:stretch/>
        </p:blipFill>
        <p:spPr>
          <a:xfrm>
            <a:off x="5965920" y="3789360"/>
            <a:ext cx="3132000" cy="2952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Заголовок 1" descr=""/>
          <p:cNvPicPr/>
          <p:nvPr/>
        </p:nvPicPr>
        <p:blipFill>
          <a:blip r:embed="rId1"/>
          <a:stretch/>
        </p:blipFill>
        <p:spPr>
          <a:xfrm>
            <a:off x="755640" y="115920"/>
            <a:ext cx="7596360" cy="183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611280" y="1989000"/>
            <a:ext cx="820872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•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Добровольная аттестация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водится на основании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явления педагогического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ботника для установления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ответствия его квалификации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ребованиям, предъявляемым к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рвой или высшей квалификационным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</a:t>
            </a:r>
            <a:r>
              <a:rPr b="1" lang="ru-RU" sz="26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атегориям</a:t>
            </a:r>
            <a:r>
              <a:rPr b="1" lang="ru-RU" sz="19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  <a:p>
            <a:pPr marL="272880" indent="-272880"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3" name="Picture 5" descr="C:\Users\User\Desktop\33658773.png"/>
          <p:cNvPicPr/>
          <p:nvPr/>
        </p:nvPicPr>
        <p:blipFill>
          <a:blip r:embed="rId2"/>
          <a:stretch/>
        </p:blipFill>
        <p:spPr>
          <a:xfrm>
            <a:off x="6588000" y="1628640"/>
            <a:ext cx="2556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7T10:11:57Z</dcterms:created>
  <dc:creator>Сехан</dc:creator>
  <dc:description/>
  <dc:language>en-US</dc:language>
  <cp:lastModifiedBy>user</cp:lastModifiedBy>
  <dcterms:modified xsi:type="dcterms:W3CDTF">2016-08-15T07:46:15Z</dcterms:modified>
  <cp:revision>151</cp:revision>
  <dc:subject/>
  <dc:title>Развитие педагогического мастерства учителя </dc:title>
</cp:coreProperties>
</file>