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FB8-1996-4D89-95D6-03BA4032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820E-B61A-4B1C-A541-CCD6055D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F94E-51C6-4409-AA84-184CC40E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A8A8-687F-4BBD-886A-588BA58C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0614-8638-4939-95E8-4AA2EA79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CB2-31C5-420A-8B58-AC783C55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B8F-A21E-47A9-8DC6-499E0158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E279-7452-44D8-9094-F82B2A360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6494-F486-4003-B4C3-8CD68557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B5E8-C8FA-43AF-8275-FA7C763D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D5E7-148E-4FCD-A83E-5BB59BC9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2A0D-F470-467C-9377-49EB6E71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829C-2113-4F8C-8F4A-F321107E49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1066680"/>
            <a:ext cx="84582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663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квадратных</a:t>
            </a:r>
            <a:endParaRPr b="1" lang="en-US" sz="2400" spc="1" strike="noStrike">
              <a:ln w="19080">
                <a:solidFill>
                  <a:srgbClr val="66663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663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равенств</a:t>
            </a:r>
            <a:endParaRPr b="1" lang="en-US" sz="2400" spc="1" strike="noStrike">
              <a:ln w="19080">
                <a:solidFill>
                  <a:srgbClr val="66663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31520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3640" y="399960"/>
            <a:ext cx="106790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ссмотрим решение квадратны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равенств на конкретном пример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им неравенств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5x-5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вум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нием квадратичной функ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ом интервал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685800" y="3886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00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6172200"/>
            <a:ext cx="3505320" cy="380880"/>
          </a:xfrm>
          <a:custGeom>
            <a:avLst/>
            <a:gdLst>
              <a:gd name="textAreaLeft" fmla="*/ 24480 w 3505320"/>
              <a:gd name="textAreaRight" fmla="*/ 3480840 w 3505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98622" h="21600">
                <a:moveTo>
                  <a:pt x="0" y="0"/>
                </a:moveTo>
                <a:lnTo>
                  <a:pt x="198622" y="0"/>
                </a:lnTo>
                <a:lnTo>
                  <a:pt x="198622" y="21600"/>
                </a:lnTo>
                <a:lnTo>
                  <a:pt x="0" y="21600"/>
                </a:lnTo>
                <a:close/>
              </a:path>
              <a:path fill="lightenLess" w="198622" h="21600">
                <a:moveTo>
                  <a:pt x="0" y="0"/>
                </a:moveTo>
                <a:lnTo>
                  <a:pt x="198622" y="0"/>
                </a:lnTo>
                <a:lnTo>
                  <a:pt x="197222" y="1400"/>
                </a:lnTo>
                <a:lnTo>
                  <a:pt x="1400" y="1400"/>
                </a:lnTo>
                <a:close/>
              </a:path>
              <a:path fill="darken" w="198622" h="21600">
                <a:moveTo>
                  <a:pt x="198622" y="0"/>
                </a:moveTo>
                <a:lnTo>
                  <a:pt x="198622" y="21600"/>
                </a:lnTo>
                <a:lnTo>
                  <a:pt x="197222" y="20200"/>
                </a:lnTo>
                <a:lnTo>
                  <a:pt x="197222" y="1400"/>
                </a:lnTo>
                <a:close/>
              </a:path>
              <a:path fill="darkenLess" w="198622" h="21600">
                <a:moveTo>
                  <a:pt x="198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222" y="20200"/>
                </a:lnTo>
                <a:close/>
              </a:path>
              <a:path fill="lighten" w="198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Назад на титульный ли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915400" cy="67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Рассмотрим квадратичную функци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 x - 5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ем такие знач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для которы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Графиком рассматриваемой функции является парабо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ви которой направлены вверх, так ка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Найдем нули функции (то есть абсциссы точек пересечения параболы с осью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для этого решим квадратное урав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 x – 50 =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 x – 50 = 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= 1,   b = -5,   c = -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= b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4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= (-5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4*1*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50) = 25 + 200 = 22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  225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начит уравнение имеет два действительных кор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(-(-5) – 15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: 2 = -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(-(-5) + 15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 2 =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ли функции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= 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39152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рассмотрения квадратичной 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« 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2040" y="380880"/>
            <a:ext cx="7302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Изобразим схематично парабол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x –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ординатной плоскост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xy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Из рисунка видим, ч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5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есть берем в рассмот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 часть параболы, кото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жит ниже ос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чание: ответ записыва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числового промежу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-5; 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32003" t="25247" r="28002" b="14955"/>
          <a:stretch/>
        </p:blipFill>
        <p:spPr>
          <a:xfrm>
            <a:off x="5257800" y="1371600"/>
            <a:ext cx="304812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« 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914400"/>
            <a:ext cx="845028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функци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5x – 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айдем та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которы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(f) =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есть множество всех действительных чисе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Разложим квадратный трехчлен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5х - 5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множ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то есть представим его в виде произведен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(х –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(х –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орни квадратного трехчлен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Для нахождения корней квадратного трехчлена реш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5х – 50 =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го мы  уже решали, поэтому воспользуемся готовым результато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-5,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0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получаем следующее разло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вадратного трехчлена на множ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5х - 5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-5))(х – 10) = (х + 5)(х –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9152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28600"/>
            <a:ext cx="42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интерва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« 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7200" y="193680"/>
            <a:ext cx="8407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Теперь разобьем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(f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 определения 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x – 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ё нулями, то есть числа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алы, в каждом из которых функция непреры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бращается в ноль и поэтому сохраняет постоянный «знак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Расставляем «знаки»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алах: выбираем люб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 из соответствующ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ала и определяем «знак» функции (наприме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надлежит интервал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-5; 10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0) = 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5*0 – 50 = -5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ест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0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начит значение функции в любой точке эт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ала отрицательно, ставим «знак» мину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Выбираем промежутки, в которы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это выполн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сех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5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  (-5; 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« 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rcRect l="-2781" t="20994" r="-212" b="7601"/>
          <a:stretch/>
        </p:blipFill>
        <p:spPr>
          <a:xfrm>
            <a:off x="4267080" y="1905120"/>
            <a:ext cx="45720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39152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0"/>
            <a:ext cx="8701200" cy="78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е решение неравенства методом интервалов мож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писать т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ь неравенство -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  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 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 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Рассмотри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и найдем значения х, при которы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0,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f) = 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= 0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*4*(-7) = 729 + 112 = 841 =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(27 – 29) : 8 = -0,25;          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(27 + 29) : 8 =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= 4*(х + 0,25)*(х – 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0 при –0,25    х   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: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0,25; 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85800" y="3962520"/>
            <a:ext cx="533412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76520" y="182880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0720" y="510552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819520" y="510552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76720" y="510552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1828800" y="251460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1905120" y="1447920"/>
            <a:ext cx="399960" cy="48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648320" y="685800"/>
            <a:ext cx="399960" cy="4856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39152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1360" y="228600"/>
            <a:ext cx="83329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пробуйте решить неравенства одним 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нных метод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3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 –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y + 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9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 – 6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а – 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4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) (1; 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(-9;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 все числа, кроме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 решений 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6201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7:39:28Z</dcterms:created>
  <dc:creator>Смолин Артем</dc:creator>
  <dc:description/>
  <dc:language>en-US</dc:language>
  <cp:lastModifiedBy>Teacher</cp:lastModifiedBy>
  <dcterms:modified xsi:type="dcterms:W3CDTF">2004-03-25T13:33:04Z</dcterms:modified>
  <cp:revision>8</cp:revision>
  <dc:subject/>
  <dc:title>Презентация PowerPoint</dc:title>
</cp:coreProperties>
</file>