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7B84-3513-4D80-AD68-8575B11C6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AA73-B12E-4290-B352-652FD9FE9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D086-A46B-46D9-9FA2-B7777EA2D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E5BC-A01C-424A-8B5A-8CB338E1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7A38-3176-43B4-A9CF-BBB92A9BF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4B0A-EDE3-41CD-A52F-9CDDCB22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9378-649F-4A06-BCF3-B8F14027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B53F-A044-437B-8F9B-10D1A9CE2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B16-C1C9-4E37-8B3E-0F7FB546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FCC4-2152-4D76-BAD3-48A31F5E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4BF-6A80-425D-A5E2-5DEE4F75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11B9-FE2F-4511-8922-F239A1D4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9D139-C56F-47DA-B991-9CC6B8DE62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8.wmf"/><Relationship Id="rId5" Type="http://schemas.openxmlformats.org/officeDocument/2006/relationships/image" Target="../media/image8.wmf"/><Relationship Id="rId6" Type="http://schemas.openxmlformats.org/officeDocument/2006/relationships/image" Target="../media/image8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image" Target="../media/image9.wmf"/><Relationship Id="rId10" Type="http://schemas.openxmlformats.org/officeDocument/2006/relationships/image" Target="../media/image1.jpe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28600" y="1066680"/>
            <a:ext cx="84582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6633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Решение квадратных</a:t>
            </a:r>
            <a:endParaRPr b="1" lang="en-US" sz="2400" spc="1" strike="noStrike">
              <a:ln w="19080">
                <a:solidFill>
                  <a:srgbClr val="666633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666633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неравенств</a:t>
            </a:r>
            <a:endParaRPr b="1" lang="en-US" sz="2400" spc="1" strike="noStrike">
              <a:ln w="19080">
                <a:solidFill>
                  <a:srgbClr val="666633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31520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93640" y="399960"/>
            <a:ext cx="106790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ассмотрим решение квадратных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еравенств на конкретном пример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шим неравенство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-5x-50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двум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ам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нием квадратичной функ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ом интервал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685800" y="38862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4800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 Antiqu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57800" y="6172200"/>
            <a:ext cx="3505320" cy="380880"/>
          </a:xfrm>
          <a:custGeom>
            <a:avLst/>
            <a:gdLst>
              <a:gd name="textAreaLeft" fmla="*/ 24480 w 3505320"/>
              <a:gd name="textAreaRight" fmla="*/ 3480840 w 35053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98622" h="21600">
                <a:moveTo>
                  <a:pt x="0" y="0"/>
                </a:moveTo>
                <a:lnTo>
                  <a:pt x="198622" y="0"/>
                </a:lnTo>
                <a:lnTo>
                  <a:pt x="198622" y="21600"/>
                </a:lnTo>
                <a:lnTo>
                  <a:pt x="0" y="21600"/>
                </a:lnTo>
                <a:close/>
              </a:path>
              <a:path fill="lightenLess" w="198622" h="21600">
                <a:moveTo>
                  <a:pt x="0" y="0"/>
                </a:moveTo>
                <a:lnTo>
                  <a:pt x="198622" y="0"/>
                </a:lnTo>
                <a:lnTo>
                  <a:pt x="197222" y="1400"/>
                </a:lnTo>
                <a:lnTo>
                  <a:pt x="1400" y="1400"/>
                </a:lnTo>
                <a:close/>
              </a:path>
              <a:path fill="darken" w="198622" h="21600">
                <a:moveTo>
                  <a:pt x="198622" y="0"/>
                </a:moveTo>
                <a:lnTo>
                  <a:pt x="198622" y="21600"/>
                </a:lnTo>
                <a:lnTo>
                  <a:pt x="197222" y="20200"/>
                </a:lnTo>
                <a:lnTo>
                  <a:pt x="197222" y="1400"/>
                </a:lnTo>
                <a:close/>
              </a:path>
              <a:path fill="darkenLess" w="198622" h="21600">
                <a:moveTo>
                  <a:pt x="1986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7222" y="20200"/>
                </a:lnTo>
                <a:close/>
              </a:path>
              <a:path fill="lighten" w="1986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Назад на титульный ли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685800"/>
            <a:ext cx="8915400" cy="67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Рассмотрим квадратичную функци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 x - 5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йдем такие значения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для которы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Графиком рассматриваемой функции является парабол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ви которой направлены вверх, так как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Найдем нули функции (то есть абсциссы точек пересечения параболы с осью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для этого решим квадратное уравн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 x – 50 =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 x – 50 = 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 = 1,   b = -5,   c = -5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= b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4ac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 = (-5)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4*1*(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-50) = 25 + 200 = 225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15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  225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начит уравнение имеет два действительных корн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(-(-5) – 15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: 2 = -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= (-(-5) + 15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: 2 =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ули функции: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= 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739152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304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рассмотрения квадратичной функци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1500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« 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2040" y="380880"/>
            <a:ext cx="7302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Изобразим схематично параболу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x –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ординатной плоскост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xy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Из рисунка видим, чт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5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есть берем в рассмотр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у часть параболы, котор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жит ниже ос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мечание: ответ записывае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виде числового промежут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-5; 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rcRect l="32003" t="25247" r="28002" b="14955"/>
          <a:stretch/>
        </p:blipFill>
        <p:spPr>
          <a:xfrm>
            <a:off x="5257800" y="1371600"/>
            <a:ext cx="3048120" cy="35053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731520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« 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04920" y="914400"/>
            <a:ext cx="8450280" cy="60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смотрим функцию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5x – 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найдем та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чения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ля которы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(f) = 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есть множество всех действительных чисел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Разложим квадратный трехчлен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5х - 5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на множ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то есть представим его в виде произведения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а(х –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(х –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де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– корни квадратного трехчлена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Для нахождения корней квадратного трехчлена реши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равнение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5х – 50 =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го мы  уже решали, поэтому воспользуемся готовым результатом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ак как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-5,  х</a:t>
            </a:r>
            <a:r>
              <a:rPr b="1" i="1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= 10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получаем следующее разло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вадратного трехчлена на множите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– 5х - 5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х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-5))(х – 10) = (х + 5)(х –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739152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09680" y="228600"/>
            <a:ext cx="421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Метод интерва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1500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« 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367200" y="193680"/>
            <a:ext cx="840744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Теперь разобьем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(f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ласть определения функци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 = x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– 5x – 5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ё нулями, то есть числами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1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алы, в каждом из которых функция непрерывна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обращается в ноль и поэтому сохраняет постоянный «знак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Расставляем «знаки» 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алах: выбираем любо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исло из соответствующе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ала и определяем «знак» функции (например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инадлежит интервалу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(-5; 10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0) = 0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– 5*0 – 50 = -5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о есть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0)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значит значение функции в любой точке этог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тервала отрицательно, ставим «знак» минус…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) Выбираем промежутки, в которы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: это выполняетс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всех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–5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х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 1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:  (-5; 1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86728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« наз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rcRect l="-2781" t="20994" r="-212" b="7601"/>
          <a:stretch/>
        </p:blipFill>
        <p:spPr>
          <a:xfrm>
            <a:off x="4267080" y="1905120"/>
            <a:ext cx="4572000" cy="1295280"/>
          </a:xfrm>
          <a:prstGeom prst="rect">
            <a:avLst/>
          </a:prstGeom>
          <a:ln w="0">
            <a:noFill/>
          </a:ln>
        </p:spPr>
      </p:pic>
      <p:sp>
        <p:nvSpPr>
          <p:cNvPr id="61" name="">
            <a:hlinkClick r:id="" action="ppaction://hlinkshowjump?jump=nextslide"/>
          </p:cNvPr>
          <p:cNvSpPr/>
          <p:nvPr/>
        </p:nvSpPr>
        <p:spPr>
          <a:xfrm>
            <a:off x="739152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0"/>
            <a:ext cx="8701200" cy="78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Краткое решение неравенства методом интервалов мож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записать так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шить неравенство -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  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+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  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 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Рассмотри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 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и найдем значения х, при которы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0,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(f) = 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= 0,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 = 2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4*4*(-7) = 729 + 112 = 841 = 29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(27 – 29) : 8 = -0,25;           х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= (27 + 29) : 8 =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4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27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 = 4*(х + 0,25)*(х – 7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0 при –0,25    х    7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: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0,25; 7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685800" y="3962520"/>
            <a:ext cx="5334120" cy="1295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676520" y="182880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990720" y="510552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819520" y="510552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3276720" y="510552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1828800" y="2514600"/>
            <a:ext cx="430200" cy="48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1905120" y="1447920"/>
            <a:ext cx="399960" cy="48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9"/>
          <a:stretch/>
        </p:blipFill>
        <p:spPr>
          <a:xfrm>
            <a:off x="4648320" y="685800"/>
            <a:ext cx="399960" cy="485640"/>
          </a:xfrm>
          <a:prstGeom prst="rect">
            <a:avLst/>
          </a:prstGeom>
          <a:ln w="0">
            <a:noFill/>
          </a:ln>
        </p:spPr>
      </p:pic>
      <p:sp>
        <p:nvSpPr>
          <p:cNvPr id="71" name="">
            <a:hlinkClick r:id="" action="ppaction://hlinkshowjump?jump=nextslide"/>
          </p:cNvPr>
          <p:cNvSpPr/>
          <p:nvPr/>
        </p:nvSpPr>
        <p:spPr>
          <a:xfrm>
            <a:off x="7391520" y="6172200"/>
            <a:ext cx="1371600" cy="380880"/>
          </a:xfrm>
          <a:custGeom>
            <a:avLst/>
            <a:gdLst>
              <a:gd name="textAreaLeft" fmla="*/ 24480 w 1371600"/>
              <a:gd name="textAreaRight" fmla="*/ 1347120 w 13716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7731" h="21600">
                <a:moveTo>
                  <a:pt x="0" y="0"/>
                </a:moveTo>
                <a:lnTo>
                  <a:pt x="77731" y="0"/>
                </a:lnTo>
                <a:lnTo>
                  <a:pt x="77731" y="21600"/>
                </a:lnTo>
                <a:lnTo>
                  <a:pt x="0" y="21600"/>
                </a:lnTo>
                <a:close/>
              </a:path>
              <a:path fill="lightenLess" w="77731" h="21600">
                <a:moveTo>
                  <a:pt x="0" y="0"/>
                </a:moveTo>
                <a:lnTo>
                  <a:pt x="77731" y="0"/>
                </a:lnTo>
                <a:lnTo>
                  <a:pt x="76332" y="1400"/>
                </a:lnTo>
                <a:lnTo>
                  <a:pt x="1400" y="1400"/>
                </a:lnTo>
                <a:close/>
              </a:path>
              <a:path fill="darken" w="77731" h="21600">
                <a:moveTo>
                  <a:pt x="77731" y="0"/>
                </a:moveTo>
                <a:lnTo>
                  <a:pt x="77731" y="21600"/>
                </a:lnTo>
                <a:lnTo>
                  <a:pt x="76332" y="20200"/>
                </a:lnTo>
                <a:lnTo>
                  <a:pt x="76332" y="1400"/>
                </a:lnTo>
                <a:close/>
              </a:path>
              <a:path fill="darkenLess" w="77731" h="21600">
                <a:moveTo>
                  <a:pt x="777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6332" y="20200"/>
                </a:lnTo>
                <a:close/>
              </a:path>
              <a:path fill="lighten" w="777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далее 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1360" y="228600"/>
            <a:ext cx="8332920" cy="68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опробуйте решить неравенства одним и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нных метод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3х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х –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8y + 9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9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 – 6р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а – 9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4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тветы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1) (1; 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 (-9;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 все числа, кроме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 решений не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7620120" y="6248520"/>
            <a:ext cx="1218960" cy="380880"/>
          </a:xfrm>
          <a:custGeom>
            <a:avLst/>
            <a:gdLst>
              <a:gd name="textAreaLeft" fmla="*/ 24480 w 1218960"/>
              <a:gd name="textAreaRight" fmla="*/ 1194480 w 12189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9083" h="21600">
                <a:moveTo>
                  <a:pt x="0" y="0"/>
                </a:moveTo>
                <a:lnTo>
                  <a:pt x="69083" y="0"/>
                </a:lnTo>
                <a:lnTo>
                  <a:pt x="69083" y="21600"/>
                </a:lnTo>
                <a:lnTo>
                  <a:pt x="0" y="21600"/>
                </a:lnTo>
                <a:close/>
              </a:path>
              <a:path fill="lightenLess" w="69083" h="21600">
                <a:moveTo>
                  <a:pt x="0" y="0"/>
                </a:moveTo>
                <a:lnTo>
                  <a:pt x="69083" y="0"/>
                </a:lnTo>
                <a:lnTo>
                  <a:pt x="67683" y="1400"/>
                </a:lnTo>
                <a:lnTo>
                  <a:pt x="1400" y="1400"/>
                </a:lnTo>
                <a:close/>
              </a:path>
              <a:path fill="darken" w="69083" h="21600">
                <a:moveTo>
                  <a:pt x="69083" y="0"/>
                </a:moveTo>
                <a:lnTo>
                  <a:pt x="69083" y="21600"/>
                </a:lnTo>
                <a:lnTo>
                  <a:pt x="67683" y="20200"/>
                </a:lnTo>
                <a:lnTo>
                  <a:pt x="67683" y="1400"/>
                </a:lnTo>
                <a:close/>
              </a:path>
              <a:path fill="darkenLess" w="69083" h="21600">
                <a:moveTo>
                  <a:pt x="690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7683" y="20200"/>
                </a:lnTo>
                <a:close/>
              </a:path>
              <a:path fill="lighten" w="690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Book Antiqua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4T17:39:28Z</dcterms:created>
  <dc:creator>Смолин Артем</dc:creator>
  <dc:description/>
  <dc:language>en-US</dc:language>
  <cp:lastModifiedBy>Teacher</cp:lastModifiedBy>
  <dcterms:modified xsi:type="dcterms:W3CDTF">2004-03-25T13:33:04Z</dcterms:modified>
  <cp:revision>8</cp:revision>
  <dc:subject/>
  <dc:title>Презентация PowerPoint</dc:title>
</cp:coreProperties>
</file>