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FEF-BFEE-4E99-A3B8-6667020A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14F3-AE78-4545-A1CA-E3C75227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CAB9-F075-4E64-94FF-1E10B986E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BB9-0253-45BA-B4AE-3D8B48A08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7E4A-D0BF-4CFB-A5E3-638B8AF2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DE0-BD19-47F5-B9BD-D8F1E450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DBB-C8B6-48ED-AAA4-A76E413A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887-D0E0-4A1C-BB02-0361F122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0280-6C74-499F-82B3-3AD75135D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98D-9E26-4C8F-9862-67106FA2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97A5-3545-47AD-9CBC-E63E03AF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E44E-0B8D-4DC1-B9C8-211A2582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FCFA-1449-450C-BC7E-4024EB8CA8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990720"/>
            <a:ext cx="73152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ешение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стем уравнений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торой степени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1880" y="30492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Графический способ решения системы 2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6019920"/>
            <a:ext cx="315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(- 2; 4), (8; - 1)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5769" t="7214" r="6901" b="8445"/>
          <a:stretch/>
        </p:blipFill>
        <p:spPr>
          <a:xfrm>
            <a:off x="533520" y="838080"/>
            <a:ext cx="8076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98200" y="6019920"/>
            <a:ext cx="308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(3; 1), (- 1; - 3)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040" y="228600"/>
            <a:ext cx="544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Графический способ решения системы 3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endshow"/>
          </p:cNvPr>
          <p:cNvSpPr/>
          <p:nvPr/>
        </p:nvSpPr>
        <p:spPr>
          <a:xfrm>
            <a:off x="8229600" y="6019920"/>
            <a:ext cx="662040" cy="662040"/>
          </a:xfrm>
          <a:custGeom>
            <a:avLst/>
            <a:gdLst>
              <a:gd name="textAreaLeft" fmla="*/ 122400 w 662040"/>
              <a:gd name="textAreaRight" fmla="*/ 539640 w 662040"/>
              <a:gd name="textAreaTop" fmla="*/ 122400 h 662040"/>
              <a:gd name="textAreaBottom" fmla="*/ 53964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600" y="4000"/>
                </a:lnTo>
                <a:lnTo>
                  <a:pt x="4000" y="40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600" y="17600"/>
                </a:lnTo>
                <a:lnTo>
                  <a:pt x="17600" y="40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000" y="17600"/>
                </a:lnTo>
                <a:lnTo>
                  <a:pt x="17600" y="17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000" y="4000"/>
                </a:lnTo>
                <a:lnTo>
                  <a:pt x="4000" y="17600"/>
                </a:lnTo>
                <a:close/>
              </a:path>
              <a:path fill="darken" w="21600" h="21600">
                <a:moveTo>
                  <a:pt x="10800" y="5763"/>
                </a:moveTo>
                <a:lnTo>
                  <a:pt x="12664" y="7652"/>
                </a:lnTo>
                <a:lnTo>
                  <a:pt x="12664" y="6393"/>
                </a:lnTo>
                <a:lnTo>
                  <a:pt x="13948" y="6393"/>
                </a:lnTo>
                <a:lnTo>
                  <a:pt x="13948" y="8936"/>
                </a:lnTo>
                <a:lnTo>
                  <a:pt x="15837" y="10800"/>
                </a:lnTo>
                <a:lnTo>
                  <a:pt x="14641" y="10800"/>
                </a:lnTo>
                <a:lnTo>
                  <a:pt x="14641" y="16001"/>
                </a:lnTo>
                <a:lnTo>
                  <a:pt x="6959" y="16001"/>
                </a:lnTo>
                <a:lnTo>
                  <a:pt x="6959" y="10800"/>
                </a:lnTo>
                <a:lnTo>
                  <a:pt x="5763" y="10800"/>
                </a:lnTo>
                <a:close/>
              </a:path>
              <a:path fill="darkenLess" w="21600" h="21600">
                <a:moveTo>
                  <a:pt x="12664" y="7652"/>
                </a:moveTo>
                <a:lnTo>
                  <a:pt x="12664" y="6393"/>
                </a:lnTo>
                <a:lnTo>
                  <a:pt x="13948" y="6393"/>
                </a:lnTo>
                <a:lnTo>
                  <a:pt x="13948" y="8936"/>
                </a:lnTo>
                <a:close/>
              </a:path>
              <a:path fill="darkenLess" w="21600" h="21600">
                <a:moveTo>
                  <a:pt x="10133" y="13331"/>
                </a:moveTo>
                <a:lnTo>
                  <a:pt x="11467" y="13331"/>
                </a:lnTo>
                <a:lnTo>
                  <a:pt x="11467" y="16001"/>
                </a:lnTo>
                <a:lnTo>
                  <a:pt x="14641" y="16001"/>
                </a:lnTo>
                <a:lnTo>
                  <a:pt x="14641" y="10800"/>
                </a:lnTo>
                <a:lnTo>
                  <a:pt x="6959" y="10800"/>
                </a:lnTo>
                <a:lnTo>
                  <a:pt x="6959" y="16001"/>
                </a:lnTo>
                <a:lnTo>
                  <a:pt x="10133" y="16001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5769" t="10990" r="6901" b="8445"/>
          <a:stretch/>
        </p:blipFill>
        <p:spPr>
          <a:xfrm>
            <a:off x="533520" y="990720"/>
            <a:ext cx="8076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0"/>
            <a:ext cx="90648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Решить систему уравнений – значит найти множество её решен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 решением системы двух уравнений с двумя переменным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является пара значений переменных, обращающая каждо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равнение системы  в верное числовое равенств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истемы уравнений с двумя переменными можно решать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) графическ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б) способом подстановк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) способом слож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ыбор способа решения зависит от уравнений, входящих 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истем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Графический спосо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применим к решению любой системы, но с помощью графиков уравнений можно приближенно находить  решения системы. Лишь некоторые найденные решения системы могут оказаться точными. В этом можно убедиться, подставив их координаты 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равнения систем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Способ подстановк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«хорош» при решении систем, когда одно из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равнений является уравнением первой степ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Способом сложени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лучше пользоваться в случае, когда оба уравнения системы есть уравнения второй степ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04920"/>
            <a:ext cx="8139240" cy="66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С помощью графиков решим систему уравнений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                                   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x – 3)</a:t>
            </a:r>
            <a:r>
              <a:rPr b="1" i="1" lang="en-US" sz="2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+ (y – 4)</a:t>
            </a:r>
            <a:r>
              <a:rPr b="1" i="1" lang="en-US" sz="2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= 4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                 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y – x</a:t>
            </a:r>
            <a:r>
              <a:rPr b="1" i="1" lang="ru-RU" sz="2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= 0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еометрическом языке решить систему уравнений – значи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йти все общие точки графиков уравнений, входящих в систем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этому выясним, что является графиком каждого из уравнени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анной системы. Итак, графиком уравнения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x – 3)</a:t>
            </a:r>
            <a:r>
              <a:rPr b="1" i="1" lang="en-US" sz="2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+ (y – 4)</a:t>
            </a:r>
            <a:r>
              <a:rPr b="1" i="1" lang="en-US" sz="2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=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вляется окружность радиуса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центром в точке с координатам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3; 4)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Графиком уравнения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y – x</a:t>
            </a:r>
            <a:r>
              <a:rPr b="1" i="1" lang="ru-RU" sz="2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= 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является парабола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i="1" lang="ru-RU" sz="2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тви которой направлены вверх, а вершина расположена в точк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координатами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0;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образим графики уравн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одной системе координат 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йдём координаты точе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есечения, это и есть реше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истем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1,7,  y</a:t>
            </a:r>
            <a:r>
              <a:rPr b="1" i="1" lang="en-US" sz="2200" spc="-1" strike="noStrike" baseline="-25000">
                <a:solidFill>
                  <a:srgbClr val="3333cc"/>
                </a:solidFill>
                <a:latin typeface="Times New Roman"/>
              </a:rPr>
              <a:t>1    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2,5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3333cc"/>
                </a:solidFill>
                <a:latin typeface="Times New Roman"/>
              </a:rPr>
              <a:t>2    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2,4,  y</a:t>
            </a:r>
            <a:r>
              <a:rPr b="1" i="1" lang="en-US" sz="2200" spc="-1" strike="noStrike" baseline="-25000">
                <a:solidFill>
                  <a:srgbClr val="3333cc"/>
                </a:solidFill>
                <a:latin typeface="Times New Roman"/>
              </a:rPr>
              <a:t>2     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5,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6734" t="15881" r="17666" b="20602"/>
          <a:stretch/>
        </p:blipFill>
        <p:spPr>
          <a:xfrm>
            <a:off x="4267080" y="3809880"/>
            <a:ext cx="3962520" cy="2819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7920" y="5562720"/>
            <a:ext cx="67140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14600" y="5562720"/>
            <a:ext cx="676440" cy="766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47920" y="5867280"/>
            <a:ext cx="608040" cy="766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590920" y="5943600"/>
            <a:ext cx="608040" cy="690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514600" y="609480"/>
            <a:ext cx="47628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644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67320" y="0"/>
            <a:ext cx="966456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шим систему уравнений способом подстанов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0,5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y = 2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 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x =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ыразим из второго уравнения системы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через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получи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равнение: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x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первое уравнение системы вместо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ставим выраж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лучим уравнение: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0,5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=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шим е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0,5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= 2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0,5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=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0,5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4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ножив обе части уравнения на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лучим уравн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сильное предыдущим: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8= 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теорему, обратную Виета, находим корни квадрат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ия – ими являются числа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сли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x = -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то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y = x + 2 = -2 + 2 = 0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x =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то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y = x + 2 = 4 + 2 = 6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                                        </a:t>
            </a: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(-2; 0), (4; 6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6280" cy="8384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49760" y="0"/>
            <a:ext cx="9748440" cy="69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шим систему уравнений способом слож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- 2xy – 3 = 0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2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+ 3xy – 27 = 0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вое уравнение системы умножим на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а второе – на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Получи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истему, равносильную данной: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y –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= 0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y –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54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= 0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ложив уравнения системы, получим уравнение с одной переменной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ru-RU" sz="24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– 63 =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ru-RU" sz="24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= 6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ru-RU" sz="24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= 63 : 7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±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дставим найденные значения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ервое уравнение систем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 = 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(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)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– 2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*(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)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 – 3 =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сюда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у = 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 = 3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– 2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*3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 – 3 =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сюда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у = 1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(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; 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1), (3; 1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7628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14600" y="304920"/>
            <a:ext cx="476280" cy="99036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1360" y="0"/>
            <a:ext cx="595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Решите графически системы уравн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у + 3 = 0,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у =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   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ru-RU" sz="24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+ 2.                                   ху - 8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685800"/>
            <a:ext cx="47628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47628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31311" t="7214" r="30797" b="15998"/>
          <a:stretch/>
        </p:blipFill>
        <p:spPr>
          <a:xfrm>
            <a:off x="609480" y="1676520"/>
            <a:ext cx="3505320" cy="464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63244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твет (по щелчк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410080" y="685800"/>
            <a:ext cx="581040" cy="534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rcRect l="28014" t="10074" r="27500" b="11882"/>
          <a:stretch/>
        </p:blipFill>
        <p:spPr>
          <a:xfrm>
            <a:off x="4648320" y="1523880"/>
            <a:ext cx="4114800" cy="4724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943600" y="6324480"/>
            <a:ext cx="227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твет (по щелчк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3640" y="501804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334120"/>
            <a:ext cx="12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- 1; 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75680" y="5410080"/>
            <a:ext cx="86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4; 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476280" cy="99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476280" cy="99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8520" y="304920"/>
            <a:ext cx="54964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Решите самостоятельно системы уравнени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     х – у = 7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1" i="1" lang="ru-RU" sz="2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+ у</a:t>
            </a:r>
            <a:r>
              <a:rPr b="1" i="1" lang="ru-RU" sz="2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= 9 – 2ху 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у = - 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(х – 4)*(у – 2) = - 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 – у = 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/x – 1/y = - 2/3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476280" cy="990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9640" y="5703840"/>
            <a:ext cx="755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случае затруднений в ходе решения, загляните в подсказк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077320" y="5638680"/>
            <a:ext cx="662040" cy="738360"/>
          </a:xfrm>
          <a:custGeom>
            <a:avLst/>
            <a:gdLst>
              <a:gd name="textAreaLeft" fmla="*/ 127080 w 662040"/>
              <a:gd name="textAreaRight" fmla="*/ 534960 w 662040"/>
              <a:gd name="textAreaTop" fmla="*/ 127080 h 738360"/>
              <a:gd name="textAreaBottom" fmla="*/ 61128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17456" y="4144"/>
                </a:lnTo>
                <a:lnTo>
                  <a:pt x="4144" y="4144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17456" y="19945"/>
                </a:lnTo>
                <a:lnTo>
                  <a:pt x="17456" y="4144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4144" y="19945"/>
                </a:lnTo>
                <a:lnTo>
                  <a:pt x="17456" y="19945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4144" y="4144"/>
                </a:lnTo>
                <a:lnTo>
                  <a:pt x="4144" y="19945"/>
                </a:lnTo>
                <a:close/>
              </a:path>
              <a:path fill="darken" w="21600" h="24089">
                <a:moveTo>
                  <a:pt x="10800" y="14879"/>
                </a:moveTo>
                <a:arcTo wR="1042" hR="1042" stAng="16200000" swAng="-5400000"/>
                <a:arcTo wR="1042" hR="1042" stAng="10800000" swAng="-5400000"/>
                <a:arcTo wR="1042" hR="1042" stAng="5400000" swAng="-5400000"/>
                <a:arcTo wR="1042" hR="1042" stAng="0" swAng="-5400000"/>
                <a:close/>
              </a:path>
              <a:path fill="darken" w="21600" h="24089">
                <a:moveTo>
                  <a:pt x="11583" y="14510"/>
                </a:moveTo>
                <a:lnTo>
                  <a:pt x="11583" y="13123"/>
                </a:lnTo>
                <a:cubicBezTo>
                  <a:pt x="11583" y="12537"/>
                  <a:pt x="11817" y="12044"/>
                  <a:pt x="12242" y="12044"/>
                </a:cubicBezTo>
                <a:cubicBezTo>
                  <a:pt x="13043" y="12044"/>
                  <a:pt x="13678" y="11077"/>
                  <a:pt x="13678" y="9955"/>
                </a:cubicBezTo>
                <a:cubicBezTo>
                  <a:pt x="13678" y="8316"/>
                  <a:pt x="12365" y="7083"/>
                  <a:pt x="10800" y="7083"/>
                </a:cubicBezTo>
                <a:cubicBezTo>
                  <a:pt x="9235" y="7083"/>
                  <a:pt x="8051" y="8316"/>
                  <a:pt x="8051" y="9955"/>
                </a:cubicBezTo>
                <a:lnTo>
                  <a:pt x="9364" y="9955"/>
                </a:lnTo>
                <a:cubicBezTo>
                  <a:pt x="9364" y="9148"/>
                  <a:pt x="10017" y="8519"/>
                  <a:pt x="10800" y="8519"/>
                </a:cubicBezTo>
                <a:cubicBezTo>
                  <a:pt x="11583" y="8519"/>
                  <a:pt x="12242" y="9148"/>
                  <a:pt x="12242" y="9955"/>
                </a:cubicBezTo>
                <a:cubicBezTo>
                  <a:pt x="12242" y="10479"/>
                  <a:pt x="11909" y="10997"/>
                  <a:pt x="11583" y="10997"/>
                </a:cubicBezTo>
                <a:cubicBezTo>
                  <a:pt x="10800" y="10997"/>
                  <a:pt x="10017" y="12044"/>
                  <a:pt x="10017" y="13123"/>
                </a:cubicBezTo>
                <a:lnTo>
                  <a:pt x="10017" y="14510"/>
                </a:lnTo>
                <a:close/>
              </a:path>
            </a:pathLst>
          </a:custGeom>
          <a:gradFill rotWithShape="0">
            <a:gsLst>
              <a:gs pos="0">
                <a:srgbClr val="75754b"/>
              </a:gs>
              <a:gs pos="50000">
                <a:srgbClr val="ffffa3"/>
              </a:gs>
              <a:gs pos="100000">
                <a:srgbClr val="7575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6360"/>
            <a:ext cx="9144000" cy="68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 о д с к а з к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истема 1)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Если во втором уравнении системы слагаемое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- 2ху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енести в левую часть, то там получим квадрат суммы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х + у)</a:t>
            </a:r>
            <a:r>
              <a:rPr b="1" i="1" lang="ru-RU" sz="2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вом уравнении системы выразим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ерез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подставим получившеес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ражение во второе преобразованное уравнение; решив его, найде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начения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Найдя значение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найдем соответствующие значения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2; - 5), (5; - 2)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истема 2)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во втором уравнении системы раскроем скобки, слагаемое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</a:rPr>
              <a:t>ху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меним значением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-8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 приведем подобные слагаемые, а затем разделим обе части уравнения на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»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то сможем выразить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через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Подставив полученное выражение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 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через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первое уравнение системы, получим квадратное уравнение относительно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 решив его, найдем значения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йдя значение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найдем соответствующие значения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    Ответ: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- 2; 4), (8; - 1)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истема 3)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из первого уравнения системы выразим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через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ставим во второе уравнение, то получим дробно-рациональное уравнение относительно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шив его, найдем значения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Найдя значение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найдем соответствующие значения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3; 1), (- 1; - 3)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алее ознакомьтесь с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графическим способо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ешения сист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0"/>
            <a:ext cx="544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Графический способ решения системы 1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7400" y="6084720"/>
            <a:ext cx="308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(2; - 5), (5; - 2)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7415" t="8475" r="9369" b="0"/>
          <a:stretch/>
        </p:blipFill>
        <p:spPr>
          <a:xfrm>
            <a:off x="685800" y="53352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8:12:47Z</dcterms:created>
  <dc:creator>Смолин Артем</dc:creator>
  <dc:description/>
  <dc:language>en-US</dc:language>
  <cp:lastModifiedBy>Teacher</cp:lastModifiedBy>
  <dcterms:modified xsi:type="dcterms:W3CDTF">2004-03-25T13:35:56Z</dcterms:modified>
  <cp:revision>13</cp:revision>
  <dc:subject/>
  <dc:title>Презентация PowerPoint</dc:title>
</cp:coreProperties>
</file>