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89D-790B-416E-BB05-6CF24F3E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0AD8-2291-42BB-AE1E-1A71308F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38FA-83A0-429A-B2EA-B0D78624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44C9-93B6-4916-8064-3E7E0149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B9E-6666-418E-A58B-F3439251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73BD-CA5A-47B4-9925-3C793CFF7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1A2B-C84F-421D-9BC6-7053F003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63B5-0AAB-4311-A1D2-7BB37A17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2CEB-616E-479C-B435-E6C1D5E3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D0EE-9410-49A3-907D-EC64A84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F2B-1D5A-44DD-B4DF-D5829D2B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C041-4353-49FB-8F67-2A2CF3AD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EF6C-167B-4845-87BA-9C9490799C3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14400" y="990720"/>
            <a:ext cx="73152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ешение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стем уравнений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торой степени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1880" y="30492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2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6019920"/>
            <a:ext cx="315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- 2; 4), (8; - 1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769" t="7214" r="6901" b="8445"/>
          <a:stretch/>
        </p:blipFill>
        <p:spPr>
          <a:xfrm>
            <a:off x="533520" y="838080"/>
            <a:ext cx="80769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498200" y="6019920"/>
            <a:ext cx="308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3; 1), (- 1; - 3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5040" y="228600"/>
            <a:ext cx="5445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3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endshow"/>
          </p:cNvPr>
          <p:cNvSpPr/>
          <p:nvPr/>
        </p:nvSpPr>
        <p:spPr>
          <a:xfrm>
            <a:off x="8229600" y="6019920"/>
            <a:ext cx="662040" cy="662040"/>
          </a:xfrm>
          <a:custGeom>
            <a:avLst/>
            <a:gdLst>
              <a:gd name="textAreaLeft" fmla="*/ 122400 w 662040"/>
              <a:gd name="textAreaRight" fmla="*/ 539640 w 662040"/>
              <a:gd name="textAreaTop" fmla="*/ 122400 h 662040"/>
              <a:gd name="textAreaBottom" fmla="*/ 539640 h 662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600" y="4000"/>
                </a:lnTo>
                <a:lnTo>
                  <a:pt x="4000" y="40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600" y="17600"/>
                </a:lnTo>
                <a:lnTo>
                  <a:pt x="17600" y="40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000" y="17600"/>
                </a:lnTo>
                <a:lnTo>
                  <a:pt x="17600" y="176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000" y="4000"/>
                </a:lnTo>
                <a:lnTo>
                  <a:pt x="4000" y="17600"/>
                </a:lnTo>
                <a:close/>
              </a:path>
              <a:path fill="darken" w="21600" h="21600">
                <a:moveTo>
                  <a:pt x="10800" y="5763"/>
                </a:moveTo>
                <a:lnTo>
                  <a:pt x="12664" y="7652"/>
                </a:lnTo>
                <a:lnTo>
                  <a:pt x="12664" y="6393"/>
                </a:lnTo>
                <a:lnTo>
                  <a:pt x="13948" y="6393"/>
                </a:lnTo>
                <a:lnTo>
                  <a:pt x="13948" y="8936"/>
                </a:lnTo>
                <a:lnTo>
                  <a:pt x="15837" y="10800"/>
                </a:lnTo>
                <a:lnTo>
                  <a:pt x="14641" y="10800"/>
                </a:lnTo>
                <a:lnTo>
                  <a:pt x="14641" y="16001"/>
                </a:lnTo>
                <a:lnTo>
                  <a:pt x="6959" y="16001"/>
                </a:lnTo>
                <a:lnTo>
                  <a:pt x="6959" y="10800"/>
                </a:lnTo>
                <a:lnTo>
                  <a:pt x="5763" y="10800"/>
                </a:lnTo>
                <a:close/>
              </a:path>
              <a:path fill="darkenLess" w="21600" h="21600">
                <a:moveTo>
                  <a:pt x="12664" y="7652"/>
                </a:moveTo>
                <a:lnTo>
                  <a:pt x="12664" y="6393"/>
                </a:lnTo>
                <a:lnTo>
                  <a:pt x="13948" y="6393"/>
                </a:lnTo>
                <a:lnTo>
                  <a:pt x="13948" y="8936"/>
                </a:lnTo>
                <a:close/>
              </a:path>
              <a:path fill="darkenLess" w="21600" h="21600">
                <a:moveTo>
                  <a:pt x="10133" y="13331"/>
                </a:moveTo>
                <a:lnTo>
                  <a:pt x="11467" y="13331"/>
                </a:lnTo>
                <a:lnTo>
                  <a:pt x="11467" y="16001"/>
                </a:lnTo>
                <a:lnTo>
                  <a:pt x="14641" y="16001"/>
                </a:lnTo>
                <a:lnTo>
                  <a:pt x="14641" y="10800"/>
                </a:lnTo>
                <a:lnTo>
                  <a:pt x="6959" y="10800"/>
                </a:lnTo>
                <a:lnTo>
                  <a:pt x="6959" y="16001"/>
                </a:lnTo>
                <a:lnTo>
                  <a:pt x="10133" y="16001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5769" t="10990" r="6901" b="8445"/>
          <a:stretch/>
        </p:blipFill>
        <p:spPr>
          <a:xfrm>
            <a:off x="533520" y="990720"/>
            <a:ext cx="807696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0"/>
            <a:ext cx="90648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Решить систему уравнений – значит найти множество её решений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 решением системы двух уравнений с двумя переменны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является пара значений переменных, обращающая каждое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е системы  в верное числовое равенство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истемы уравнений с двумя переменными можно решать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а) графичес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б) способом подстановки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) способом сложе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ыбор способа решения зависит от уравнений, входящих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сист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Графический способ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применим к решению любой системы, но с помощью графиков уравнений можно приближенно находить  решения системы. Лишь некоторые найденные решения системы могут оказаться точными. В этом можно убедиться, подставив их координаты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я систем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пособ подстановк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«хорош» при решении систем, когда одно из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уравнений является уравнением первой степ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Способом сложения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лучше пользоваться в случае, когда оба уравнения системы есть уравнения второй степен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304920"/>
            <a:ext cx="8139240" cy="66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1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С помощью графиков решим систему уравнени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                        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– 3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+ (y – 4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= 4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            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–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 геометрическом языке решить систему уравнений – значит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ти все общие точки графиков уравнений, входящих в систему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этому выясним, что является графиком каждого из уравнений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нной системы. Итак, графиком уравн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– 3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+ (y – 4)</a:t>
            </a:r>
            <a:r>
              <a:rPr b="1" i="1" lang="en-US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окружность радиус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центром в точке с координатам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3; 4)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Графиком уравнения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–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является парабола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етви которой направлены вверх, а вершина расположена в точк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 координатами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0;0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зобразим графики уравнен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 одной системе координат 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ём координаты точе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сечения, это и есть решени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ы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1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1,7,  y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1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2,5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2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2,4,  y</a:t>
            </a:r>
            <a:r>
              <a:rPr b="1" i="1" lang="en-US" sz="2200" spc="-1" strike="noStrike" baseline="-25000">
                <a:solidFill>
                  <a:srgbClr val="3333cc"/>
                </a:solidFill>
                <a:latin typeface="Times New Roman"/>
              </a:rPr>
              <a:t>2      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5,9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26734" t="15881" r="17666" b="20602"/>
          <a:stretch/>
        </p:blipFill>
        <p:spPr>
          <a:xfrm>
            <a:off x="4267080" y="380988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447920" y="5562720"/>
            <a:ext cx="671400" cy="7617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514600" y="5562720"/>
            <a:ext cx="676440" cy="766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1447920" y="5867280"/>
            <a:ext cx="608040" cy="76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2590920" y="5943600"/>
            <a:ext cx="608040" cy="690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2514600" y="609480"/>
            <a:ext cx="476280" cy="91440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36440" y="27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67320" y="0"/>
            <a:ext cx="966456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им систему уравнений способом подстановк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y =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x =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ыразим из второго уравнения системы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получи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уравнение: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первое уравнение системы вместо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ставим выраж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лучим уравнение: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решим ег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2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0,5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множив обе части уравнения на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получим уравн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вносильное предыдущим: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8=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я теорему, обратную Виета, находим корни квадратн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я – ими являются числ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Если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= -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= x + 2 = -2 + 2 = 0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x = 4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y = x + 2 = 4 + 2 = 6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                               </a:t>
            </a:r>
            <a:r>
              <a:rPr b="1" i="1" lang="ru-RU" sz="24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(-2; 0), (4; 6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80880"/>
            <a:ext cx="476280" cy="83844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49760" y="0"/>
            <a:ext cx="9748440" cy="69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р3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шим систему уравнений способом слож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- 2xy – 3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+ 3xy – 27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ое уравнение системы умножим н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а второе – на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олучи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истему, равносильную данной: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y –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                                    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+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y –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54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= 0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Сложив уравнения системы, получим уравнение с одной переменной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– 63 =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 6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= 63 : 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±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одставим найденные значения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первое уравнение системы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=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)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–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*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)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– 3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= 3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– 2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*3*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y – 3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отсюда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1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Ответ: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(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3; -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), (3; 1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76280" cy="9144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14600" y="304920"/>
            <a:ext cx="476280" cy="990360"/>
          </a:xfrm>
          <a:prstGeom prst="rect">
            <a:avLst/>
          </a:prstGeom>
          <a:ln w="0">
            <a:noFill/>
          </a:ln>
        </p:spPr>
      </p:pic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41360" y="0"/>
            <a:ext cx="595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е графически системы уравне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у + 3 = 0,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    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у = 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4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+ 2.                                   ху - 8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685800"/>
            <a:ext cx="476280" cy="990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5800" y="685800"/>
            <a:ext cx="476280" cy="9144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rcRect l="31311" t="7214" r="30797" b="15998"/>
          <a:stretch/>
        </p:blipFill>
        <p:spPr>
          <a:xfrm>
            <a:off x="609480" y="1676520"/>
            <a:ext cx="3505320" cy="4647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14400" y="63244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вет (по щелч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410080" y="685800"/>
            <a:ext cx="581040" cy="534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rcRect l="28014" t="10074" r="27500" b="11882"/>
          <a:stretch/>
        </p:blipFill>
        <p:spPr>
          <a:xfrm>
            <a:off x="4648320" y="1523880"/>
            <a:ext cx="4114800" cy="4724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943600" y="6324480"/>
            <a:ext cx="227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Ответ (по щелчку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3640" y="5018040"/>
            <a:ext cx="1843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5334120"/>
            <a:ext cx="129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- 1; 3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75680" y="5410080"/>
            <a:ext cx="86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 4; 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476280" cy="990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476280" cy="9903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8520" y="304920"/>
            <a:ext cx="549648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Решите самостоятельно системы уравнений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х – у = 7,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+ у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= 9 – 2ху 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у = - 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(х – 4)*(у – 2) = - 1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х – у = 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3333cc"/>
                </a:solidFill>
                <a:latin typeface="Times New Roman"/>
              </a:rPr>
              <a:t>/x – 1/y = - 2/3</a:t>
            </a:r>
            <a:r>
              <a:rPr b="1" i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85800" y="4114800"/>
            <a:ext cx="476280" cy="990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49640" y="5703840"/>
            <a:ext cx="755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В случае затруднений в ходе решения, загляните в подсказк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" action="ppaction://hlinkshowjump?jump=nextslide"/>
          </p:cNvPr>
          <p:cNvSpPr/>
          <p:nvPr/>
        </p:nvSpPr>
        <p:spPr>
          <a:xfrm>
            <a:off x="8077320" y="5638680"/>
            <a:ext cx="662040" cy="738360"/>
          </a:xfrm>
          <a:custGeom>
            <a:avLst/>
            <a:gdLst>
              <a:gd name="textAreaLeft" fmla="*/ 127080 w 662040"/>
              <a:gd name="textAreaRight" fmla="*/ 534960 w 662040"/>
              <a:gd name="textAreaTop" fmla="*/ 127080 h 738360"/>
              <a:gd name="textAreaBottom" fmla="*/ 611280 h 738360"/>
            </a:gdLst>
            <a:ahLst/>
            <a:rect l="textAreaLeft" t="textAreaTop" r="textAreaRight" b="textAreaBottom"/>
            <a:pathLst>
              <a:path w="21600" h="24089">
                <a:moveTo>
                  <a:pt x="0" y="0"/>
                </a:moveTo>
                <a:lnTo>
                  <a:pt x="21600" y="0"/>
                </a:lnTo>
                <a:lnTo>
                  <a:pt x="21600" y="24089"/>
                </a:lnTo>
                <a:lnTo>
                  <a:pt x="0" y="24089"/>
                </a:lnTo>
                <a:close/>
              </a:path>
              <a:path fill="lightenLess" w="21600" h="24089">
                <a:moveTo>
                  <a:pt x="0" y="0"/>
                </a:moveTo>
                <a:lnTo>
                  <a:pt x="21600" y="0"/>
                </a:lnTo>
                <a:lnTo>
                  <a:pt x="17456" y="4144"/>
                </a:lnTo>
                <a:lnTo>
                  <a:pt x="4144" y="4144"/>
                </a:lnTo>
                <a:close/>
              </a:path>
              <a:path fill="darken" w="21600" h="24089">
                <a:moveTo>
                  <a:pt x="21600" y="0"/>
                </a:moveTo>
                <a:lnTo>
                  <a:pt x="21600" y="24089"/>
                </a:lnTo>
                <a:lnTo>
                  <a:pt x="17456" y="19945"/>
                </a:lnTo>
                <a:lnTo>
                  <a:pt x="17456" y="4144"/>
                </a:lnTo>
                <a:close/>
              </a:path>
              <a:path fill="darkenLess" w="21600" h="24089">
                <a:moveTo>
                  <a:pt x="21600" y="24089"/>
                </a:moveTo>
                <a:lnTo>
                  <a:pt x="0" y="24089"/>
                </a:lnTo>
                <a:lnTo>
                  <a:pt x="4144" y="19945"/>
                </a:lnTo>
                <a:lnTo>
                  <a:pt x="17456" y="19945"/>
                </a:lnTo>
                <a:close/>
              </a:path>
              <a:path fill="lighten" w="21600" h="24089">
                <a:moveTo>
                  <a:pt x="0" y="24089"/>
                </a:moveTo>
                <a:lnTo>
                  <a:pt x="0" y="0"/>
                </a:lnTo>
                <a:lnTo>
                  <a:pt x="4144" y="4144"/>
                </a:lnTo>
                <a:lnTo>
                  <a:pt x="4144" y="19945"/>
                </a:lnTo>
                <a:close/>
              </a:path>
              <a:path fill="darken" w="21600" h="24089">
                <a:moveTo>
                  <a:pt x="10800" y="14879"/>
                </a:moveTo>
                <a:arcTo wR="1042" hR="1042" stAng="16200000" swAng="-5400000"/>
                <a:arcTo wR="1042" hR="1042" stAng="10800000" swAng="-5400000"/>
                <a:arcTo wR="1042" hR="1042" stAng="5400000" swAng="-5400000"/>
                <a:arcTo wR="1042" hR="1042" stAng="0" swAng="-5400000"/>
                <a:close/>
              </a:path>
              <a:path fill="darken" w="21600" h="24089">
                <a:moveTo>
                  <a:pt x="11583" y="14510"/>
                </a:moveTo>
                <a:lnTo>
                  <a:pt x="11583" y="13123"/>
                </a:lnTo>
                <a:cubicBezTo>
                  <a:pt x="11583" y="12537"/>
                  <a:pt x="11817" y="12044"/>
                  <a:pt x="12242" y="12044"/>
                </a:cubicBezTo>
                <a:cubicBezTo>
                  <a:pt x="13043" y="12044"/>
                  <a:pt x="13678" y="11077"/>
                  <a:pt x="13678" y="9955"/>
                </a:cubicBezTo>
                <a:cubicBezTo>
                  <a:pt x="13678" y="8316"/>
                  <a:pt x="12365" y="7083"/>
                  <a:pt x="10800" y="7083"/>
                </a:cubicBezTo>
                <a:cubicBezTo>
                  <a:pt x="9235" y="7083"/>
                  <a:pt x="8051" y="8316"/>
                  <a:pt x="8051" y="9955"/>
                </a:cubicBezTo>
                <a:lnTo>
                  <a:pt x="9364" y="9955"/>
                </a:lnTo>
                <a:cubicBezTo>
                  <a:pt x="9364" y="9148"/>
                  <a:pt x="10017" y="8519"/>
                  <a:pt x="10800" y="8519"/>
                </a:cubicBezTo>
                <a:cubicBezTo>
                  <a:pt x="11583" y="8519"/>
                  <a:pt x="12242" y="9148"/>
                  <a:pt x="12242" y="9955"/>
                </a:cubicBezTo>
                <a:cubicBezTo>
                  <a:pt x="12242" y="10479"/>
                  <a:pt x="11909" y="10997"/>
                  <a:pt x="11583" y="10997"/>
                </a:cubicBezTo>
                <a:cubicBezTo>
                  <a:pt x="10800" y="10997"/>
                  <a:pt x="10017" y="12044"/>
                  <a:pt x="10017" y="13123"/>
                </a:cubicBezTo>
                <a:lnTo>
                  <a:pt x="10017" y="14510"/>
                </a:lnTo>
                <a:close/>
              </a:path>
            </a:pathLst>
          </a:custGeom>
          <a:gradFill rotWithShape="0">
            <a:gsLst>
              <a:gs pos="0">
                <a:srgbClr val="75754b"/>
              </a:gs>
              <a:gs pos="50000">
                <a:srgbClr val="ffffa3"/>
              </a:gs>
              <a:gs pos="100000">
                <a:srgbClr val="75754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36360"/>
            <a:ext cx="9144000" cy="68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 о д с к а з к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1)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Если во втором уравнении системы слагаемо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- 2ху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енести в левую часть, то там получим квадрат суммы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х + у)</a:t>
            </a:r>
            <a:r>
              <a:rPr b="1" i="1" lang="ru-RU" sz="2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В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ервом уравнении системы выразим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подставим получившееся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выражение во второе преобразованное уравнение; решив его, найдем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2; - 5), (5; - 2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2)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во втором уравнении системы раскроем скобки, слагаемое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0000ff"/>
                </a:solidFill>
                <a:latin typeface="Times New Roman"/>
              </a:rPr>
              <a:t>ху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заменим значением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-8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и  приведем подобные слагаемые, а затем разделим обе части уравнения на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»,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то сможем выразить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Подставив полученное выражение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 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в первое уравнение системы, получим квадратное уравнение относительно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; решив его, найдем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    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- 2; 4), (8; - 1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Система 3).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Если из первого уравнения системы выразим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через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дставим во второе уравнение, то получим дробно-рациональное уравнение относительно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;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ешив его, найдем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Найдя значение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, найдем соответствующие значения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3333cc"/>
                </a:solidFill>
                <a:latin typeface="Times New Roman"/>
              </a:rPr>
              <a:t>(3; 1), (- 1; - 3)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алее ознакомьтесь с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графическим способом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решения систем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efefe"/>
            </a:gs>
            <a:gs pos="100000">
              <a:srgbClr val="fef3b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0"/>
            <a:ext cx="544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000000"/>
                </a:solidFill>
                <a:uFillTx/>
                <a:latin typeface="Times New Roman"/>
              </a:rPr>
              <a:t>Графический способ решения системы 1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77400" y="6084720"/>
            <a:ext cx="308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200" spc="-1" strike="noStrike">
                <a:solidFill>
                  <a:srgbClr val="3333cc"/>
                </a:solidFill>
                <a:latin typeface="Times New Roman"/>
              </a:rPr>
              <a:t>(2; - 5), (5; - 2)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7415" t="8475" r="9369" b="0"/>
          <a:stretch/>
        </p:blipFill>
        <p:spPr>
          <a:xfrm>
            <a:off x="685800" y="533520"/>
            <a:ext cx="7696080" cy="554040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8381880" y="6095880"/>
            <a:ext cx="533520" cy="533520"/>
          </a:xfrm>
          <a:custGeom>
            <a:avLst/>
            <a:gdLst>
              <a:gd name="textAreaLeft" fmla="*/ 104760 w 533520"/>
              <a:gd name="textAreaRight" fmla="*/ 428760 w 533520"/>
              <a:gd name="textAreaTop" fmla="*/ 104760 h 533520"/>
              <a:gd name="textAreaBottom" fmla="*/ 4287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7357" y="4243"/>
                </a:lnTo>
                <a:lnTo>
                  <a:pt x="4243" y="4243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7357" y="17357"/>
                </a:lnTo>
                <a:lnTo>
                  <a:pt x="17357" y="4243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4243" y="17357"/>
                </a:lnTo>
                <a:lnTo>
                  <a:pt x="17357" y="17357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4243" y="4243"/>
                </a:lnTo>
                <a:lnTo>
                  <a:pt x="4243" y="17357"/>
                </a:lnTo>
                <a:close/>
              </a:path>
              <a:path fill="darken" w="21600" h="21600">
                <a:moveTo>
                  <a:pt x="5913" y="5913"/>
                </a:moveTo>
                <a:lnTo>
                  <a:pt x="15687" y="10800"/>
                </a:lnTo>
                <a:lnTo>
                  <a:pt x="5913" y="15687"/>
                </a:lnTo>
                <a:close/>
              </a:path>
            </a:pathLst>
          </a:custGeom>
          <a:gradFill rotWithShape="0">
            <a:gsLst>
              <a:gs pos="0">
                <a:srgbClr val="757546"/>
              </a:gs>
              <a:gs pos="5000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4T18:12:47Z</dcterms:created>
  <dc:creator>Смолин Артем</dc:creator>
  <dc:description/>
  <dc:language>en-US</dc:language>
  <cp:lastModifiedBy>Teacher</cp:lastModifiedBy>
  <dcterms:modified xsi:type="dcterms:W3CDTF">2004-03-25T13:35:56Z</dcterms:modified>
  <cp:revision>13</cp:revision>
  <dc:subject/>
  <dc:title>Презентация PowerPoint</dc:title>
</cp:coreProperties>
</file>