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8CC-E754-42B5-8C8D-FB18BE7C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048-3815-4E03-A14A-44B713B0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3D4-F3BD-4E22-9E98-50F1C75E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D80-E41F-4E92-B79D-6A82C0B0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9F3-F2FE-4E4F-A50B-E77298C2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D7A-E40F-46B8-BE98-07395360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F7F-D79B-443A-B484-BF351A14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6F3-B372-48A1-8483-D33EA673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EBD-329E-4CC0-A8EA-AE48BF79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958-3010-4463-B186-7C0C6DF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EF1-0017-458E-BC30-535D4A8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D13-62BD-42D0-9AFC-888949D0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 C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neva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neva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neva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neva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neva C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 C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 C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neva CY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 CY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neva CY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 CY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neva CY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0049-EA94-4560-B4D7-CF7E5EAE2D4A}" type="slidenum">
              <a:rPr b="0" lang="en-US" sz="1400" spc="-1" strike="noStrike">
                <a:solidFill>
                  <a:srgbClr val="000000"/>
                </a:solidFill>
                <a:latin typeface="Geneva C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Простейшие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преобразования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графиков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функций</a:t>
            </a:r>
            <a:endParaRPr b="0" lang="en-US" sz="88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7415" t="4698" r="7723" b="4668"/>
          <a:stretch/>
        </p:blipFill>
        <p:spPr>
          <a:xfrm>
            <a:off x="609480" y="68580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9887" t="0" r="10198" b="0"/>
          <a:stretch/>
        </p:blipFill>
        <p:spPr>
          <a:xfrm>
            <a:off x="762120" y="380880"/>
            <a:ext cx="7391160" cy="605340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8305920" y="6095880"/>
            <a:ext cx="509400" cy="533520"/>
          </a:xfrm>
          <a:custGeom>
            <a:avLst/>
            <a:gdLst>
              <a:gd name="textAreaLeft" fmla="*/ 83880 w 509400"/>
              <a:gd name="textAreaRight" fmla="*/ 425520 w 509400"/>
              <a:gd name="textAreaTop" fmla="*/ 83880 h 533520"/>
              <a:gd name="textAreaBottom" fmla="*/ 44964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18034" y="3566"/>
                </a:lnTo>
                <a:lnTo>
                  <a:pt x="3566" y="3566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18034" y="19056"/>
                </a:lnTo>
                <a:lnTo>
                  <a:pt x="18034" y="3566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3566" y="19056"/>
                </a:lnTo>
                <a:lnTo>
                  <a:pt x="18034" y="19056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3566" y="3566"/>
                </a:lnTo>
                <a:lnTo>
                  <a:pt x="3566" y="19056"/>
                </a:lnTo>
                <a:close/>
              </a:path>
              <a:path fill="darken" w="21600" h="22622">
                <a:moveTo>
                  <a:pt x="5408" y="5919"/>
                </a:moveTo>
                <a:lnTo>
                  <a:pt x="16192" y="11311"/>
                </a:lnTo>
                <a:lnTo>
                  <a:pt x="5408" y="16703"/>
                </a:lnTo>
                <a:close/>
              </a:path>
            </a:pathLst>
          </a:custGeom>
          <a:gradFill rotWithShape="0">
            <a:gsLst>
              <a:gs pos="0">
                <a:srgbClr val="405b75"/>
              </a:gs>
              <a:gs pos="50000">
                <a:srgbClr val="8dc6ff"/>
              </a:gs>
              <a:gs pos="100000">
                <a:srgbClr val="405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Зная вид графика некоторой функции, можно при помощи геометрических преобразований построить график боле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сложной функци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Рассмотрим график функции 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24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 выясним,как можн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построить, используя сдвиг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вдоль координатных осе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графики функций вида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Geneva CY"/>
              </a:rPr>
              <a:t>y=(x-m)</a:t>
            </a:r>
            <a:r>
              <a:rPr b="1" lang="ru-RU" sz="24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en-US" sz="24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и</a:t>
            </a:r>
            <a:r>
              <a:rPr b="1" i="1" lang="en-US" sz="24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Geneva CY"/>
              </a:rPr>
              <a:t>y=x</a:t>
            </a:r>
            <a:r>
              <a:rPr b="1" i="1" lang="ru-RU" sz="2400" spc="-1" strike="noStrike" baseline="30000">
                <a:solidFill>
                  <a:srgbClr val="009900"/>
                </a:solidFill>
                <a:latin typeface="Geneva CY"/>
              </a:rPr>
              <a:t>2</a:t>
            </a:r>
            <a:r>
              <a:rPr b="1" i="1" lang="en-US" sz="2400" spc="-1" strike="noStrike">
                <a:solidFill>
                  <a:srgbClr val="009900"/>
                </a:solidFill>
                <a:latin typeface="Geneva CY"/>
              </a:rPr>
              <a:t>+n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9660" t="5037" r="26675" b="27327"/>
          <a:stretch/>
        </p:blipFill>
        <p:spPr>
          <a:xfrm>
            <a:off x="4876920" y="1600200"/>
            <a:ext cx="40384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080" y="1897200"/>
            <a:ext cx="7597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0"/>
            <a:ext cx="88045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neva CY"/>
              </a:rPr>
              <a:t>Пример 1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Построим график 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опираясь на график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(щелчок мышкой)</a:t>
            </a:r>
            <a:r>
              <a:rPr b="0" lang="en-US" sz="1400" spc="-1" strike="noStrike">
                <a:solidFill>
                  <a:srgbClr val="000000"/>
                </a:solidFill>
                <a:latin typeface="Geneva CY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График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есть некоторое множество точек координатной плоскости, координаты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которых обращают уравнение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в верное числовое равенство. Обозначим это множество точек, то есть график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, буквой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 а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неизвестный нам пока график 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обозначим буквой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Сравним координаты тех точек графиков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, у которых одинаковые ординаты. Для этого составим таблицу: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8" name=""/>
          <p:cNvSpPr/>
          <p:nvPr/>
        </p:nvSpPr>
        <p:spPr>
          <a:xfrm>
            <a:off x="604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9" name=""/>
          <p:cNvSpPr/>
          <p:nvPr/>
        </p:nvSpPr>
        <p:spPr>
          <a:xfrm>
            <a:off x="2127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905120"/>
          <a:ext cx="8077320" cy="1095120"/>
        </p:xfrm>
        <a:graphic>
          <a:graphicData uri="http://schemas.openxmlformats.org/drawingml/2006/table">
            <a:tbl>
              <a:tblPr/>
              <a:tblGrid>
                <a:gridCol w="1295640"/>
                <a:gridCol w="761760"/>
                <a:gridCol w="685800"/>
                <a:gridCol w="838440"/>
                <a:gridCol w="838080"/>
                <a:gridCol w="762120"/>
                <a:gridCol w="761760"/>
                <a:gridCol w="76212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х</a:t>
                      </a:r>
                      <a:r>
                        <a:rPr b="1" i="1" lang="ru-RU" sz="1800" spc="-1" strike="noStrike" baseline="30000">
                          <a:solidFill>
                            <a:srgbClr val="ff3300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(х – 2)</a:t>
                      </a:r>
                      <a:r>
                        <a:rPr b="1" i="1" lang="ru-RU" sz="1800" spc="-1" strike="noStrike" baseline="30000">
                          <a:solidFill>
                            <a:srgbClr val="0066cc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52280" y="2971800"/>
            <a:ext cx="84758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Рассматривая таблицу (которую можно неограниченно продолжать и вправо и влево),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замечаем, что одинаковые ординаты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меют точки вида 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(х</a:t>
            </a:r>
            <a:r>
              <a:rPr b="1" i="1" lang="ru-RU" sz="1600" spc="-1" strike="noStrike" baseline="-25000">
                <a:solidFill>
                  <a:srgbClr val="ff33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; у</a:t>
            </a:r>
            <a:r>
              <a:rPr b="1" i="1" lang="ru-RU" sz="1600" spc="-1" strike="noStrike" baseline="-25000">
                <a:solidFill>
                  <a:srgbClr val="ff33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графика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(х</a:t>
            </a:r>
            <a:r>
              <a:rPr b="1" i="1" lang="ru-RU" sz="1600" spc="-1" strike="noStrike" baseline="-25000">
                <a:solidFill>
                  <a:srgbClr val="0066cc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+ 2; у</a:t>
            </a:r>
            <a:r>
              <a:rPr b="1" i="1" lang="ru-RU" sz="1600" spc="-1" strike="noStrike" baseline="-25000">
                <a:solidFill>
                  <a:srgbClr val="0066cc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графика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 где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х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,  у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Geneva CY"/>
              </a:rPr>
              <a:t>0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некоторые вполне определенные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числа.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2" name=""/>
          <p:cNvSpPr/>
          <p:nvPr/>
        </p:nvSpPr>
        <p:spPr>
          <a:xfrm>
            <a:off x="-92160" y="43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3" name=""/>
          <p:cNvSpPr/>
          <p:nvPr/>
        </p:nvSpPr>
        <p:spPr>
          <a:xfrm>
            <a:off x="80640" y="4343400"/>
            <a:ext cx="370260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На основании этого наблюдения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ем сделать вывод, что график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но получить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з графика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путем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сдвига всех его точек вправо на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единицы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(щелчок мышкой).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33782" t="21059" r="16788" b="26072"/>
          <a:stretch/>
        </p:blipFill>
        <p:spPr>
          <a:xfrm>
            <a:off x="3581280" y="335268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3754" t="27749" r="19239" b="3709"/>
          <a:stretch/>
        </p:blipFill>
        <p:spPr>
          <a:xfrm>
            <a:off x="3733920" y="3352680"/>
            <a:ext cx="4419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Таким образом, график 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ет быть получен из графика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сдвигом вправо на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единицы. Рассуждая аналогично, можно доказать, что график функции </a:t>
            </a:r>
            <a:r>
              <a:rPr b="1" i="1" lang="en-US" sz="1600" spc="-1" strike="noStrike">
                <a:solidFill>
                  <a:srgbClr val="009900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9900"/>
                </a:solidFill>
                <a:latin typeface="Geneva CY"/>
              </a:rPr>
              <a:t> + 3)</a:t>
            </a:r>
            <a:r>
              <a:rPr b="1" i="1" lang="ru-RU" sz="1600" spc="-1" strike="noStrike" baseline="30000">
                <a:solidFill>
                  <a:srgbClr val="009900"/>
                </a:solidFill>
                <a:latin typeface="Geneva CY"/>
              </a:rPr>
              <a:t>2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также может быть получен из графика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 но сдвигом не вправо, а влево на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единицы.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9062" t="11329" r="6076" b="12221"/>
          <a:stretch/>
        </p:blipFill>
        <p:spPr>
          <a:xfrm>
            <a:off x="533520" y="1219320"/>
            <a:ext cx="7848360" cy="4627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5911920"/>
            <a:ext cx="853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Хорошо видно, что осями симметрии графиков функций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 </a:t>
            </a:r>
            <a:r>
              <a:rPr b="1" i="1" lang="en-US" sz="1600" spc="-1" strike="noStrike">
                <a:solidFill>
                  <a:srgbClr val="009900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9900"/>
                </a:solidFill>
                <a:latin typeface="Geneva CY"/>
              </a:rPr>
              <a:t> - 3)</a:t>
            </a:r>
            <a:r>
              <a:rPr b="1" i="1" lang="ru-RU" sz="1600" spc="-1" strike="noStrike" baseline="30000">
                <a:solidFill>
                  <a:srgbClr val="009900"/>
                </a:solidFill>
                <a:latin typeface="Geneva CY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являются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соответственно прямые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х = 2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и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х = - 3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0" name=""/>
          <p:cNvSpPr/>
          <p:nvPr/>
        </p:nvSpPr>
        <p:spPr>
          <a:xfrm>
            <a:off x="3884400" y="6361200"/>
            <a:ext cx="332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neva CY"/>
              </a:rPr>
              <a:t>Чтобы увидеть графики, щелкни мышкой</a:t>
            </a:r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3" name=""/>
          <p:cNvSpPr/>
          <p:nvPr/>
        </p:nvSpPr>
        <p:spPr>
          <a:xfrm>
            <a:off x="232920" y="533520"/>
            <a:ext cx="860076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Если вместо графика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2)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или </a:t>
            </a:r>
            <a:r>
              <a:rPr b="1" i="1" lang="en-US" sz="2000" spc="-1" strike="noStrike">
                <a:solidFill>
                  <a:srgbClr val="009900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 + 3)</a:t>
            </a:r>
            <a:r>
              <a:rPr b="1" i="1" lang="ru-RU" sz="2000" spc="-1" strike="noStrike" baseline="30000">
                <a:solidFill>
                  <a:srgbClr val="009900"/>
                </a:solidFill>
                <a:latin typeface="Geneva CY"/>
              </a:rPr>
              <a:t>2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 рассмотреть график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где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Geneva CY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произвольное число, то в проведенном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ранее рассуждении ничего принципиально не изменится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Таким образом, из графика функци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2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можно получить график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с помощью сдвига </a:t>
            </a:r>
            <a:r>
              <a:rPr b="0" lang="ru-RU" sz="2000" spc="-1" strike="noStrike">
                <a:solidFill>
                  <a:srgbClr val="0066cc"/>
                </a:solidFill>
                <a:latin typeface="Geneva CY"/>
              </a:rPr>
              <a:t>вправо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 на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единиц в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направлении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х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&gt;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или </a:t>
            </a:r>
            <a:r>
              <a:rPr b="0" lang="ru-RU" sz="2000" spc="-1" strike="noStrike">
                <a:solidFill>
                  <a:srgbClr val="009900"/>
                </a:solidFill>
                <a:latin typeface="Geneva CY"/>
              </a:rPr>
              <a:t>влево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en-US" sz="2000" spc="-1" strike="noStrike">
                <a:solidFill>
                  <a:srgbClr val="009900"/>
                </a:solidFill>
                <a:latin typeface="Geneva CY"/>
              </a:rPr>
              <a:t>m&lt;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. График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 является параболой с вершиной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; 0)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Этот вывод допускает ещ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neva CY"/>
              </a:rPr>
              <a:t>большее обобщение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график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можно получить из графика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путем сдвига графика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cc"/>
                </a:solidFill>
                <a:latin typeface="Geneva CY"/>
              </a:rPr>
              <a:t>вправо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на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единиц в направлении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х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&gt;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или </a:t>
            </a:r>
            <a:r>
              <a:rPr b="0" i="1" lang="ru-RU" sz="2000" spc="-1" strike="noStrike">
                <a:solidFill>
                  <a:srgbClr val="009900"/>
                </a:solidFill>
                <a:latin typeface="Geneva CY"/>
              </a:rPr>
              <a:t>влево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en-US" sz="2000" spc="-1" strike="noStrike">
                <a:solidFill>
                  <a:srgbClr val="009900"/>
                </a:solidFill>
                <a:latin typeface="Geneva CY"/>
              </a:rPr>
              <a:t>m&lt;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5" name=""/>
          <p:cNvSpPr/>
          <p:nvPr/>
        </p:nvSpPr>
        <p:spPr>
          <a:xfrm>
            <a:off x="289080" y="0"/>
            <a:ext cx="88549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neva CY"/>
              </a:rPr>
              <a:t>При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neva CY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neva CY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Построим график 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=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x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+ 1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опираясь на график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(щелчок мышкой)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Сравним координаты точек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этих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графиков, у которых одинаковые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абсцисс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ы. Для этого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составим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таблицу: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1219320"/>
          <a:ext cx="8077320" cy="1095120"/>
        </p:xfrm>
        <a:graphic>
          <a:graphicData uri="http://schemas.openxmlformats.org/drawingml/2006/table">
            <a:tbl>
              <a:tblPr/>
              <a:tblGrid>
                <a:gridCol w="1295640"/>
                <a:gridCol w="761760"/>
                <a:gridCol w="685800"/>
                <a:gridCol w="838440"/>
                <a:gridCol w="838080"/>
                <a:gridCol w="762120"/>
                <a:gridCol w="761760"/>
                <a:gridCol w="76212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х</a:t>
                      </a:r>
                      <a:r>
                        <a:rPr b="1" i="1" lang="ru-RU" sz="1800" spc="-1" strike="noStrike" baseline="30000">
                          <a:solidFill>
                            <a:srgbClr val="ff3300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x</a:t>
                      </a:r>
                      <a:r>
                        <a:rPr b="1" i="1" lang="ru-RU" sz="1600" spc="-1" strike="noStrike" baseline="30000">
                          <a:solidFill>
                            <a:srgbClr val="0066cc"/>
                          </a:solidFill>
                          <a:latin typeface="Geneva CY"/>
                        </a:rPr>
                        <a:t>2 </a:t>
                      </a:r>
                      <a:r>
                        <a:rPr b="1" i="1" lang="ru-RU" sz="16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336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8" name=""/>
          <p:cNvSpPr/>
          <p:nvPr/>
        </p:nvSpPr>
        <p:spPr>
          <a:xfrm>
            <a:off x="1393920" y="411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500200"/>
            <a:ext cx="846612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Рассматривая таблицу, замечаем, что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одинаковые абсциссы имеют точки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вида 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(х</a:t>
            </a:r>
            <a:r>
              <a:rPr b="1" i="1" lang="ru-RU" sz="1600" spc="-1" strike="noStrike" baseline="-25000">
                <a:solidFill>
                  <a:srgbClr val="ff33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; у</a:t>
            </a:r>
            <a:r>
              <a:rPr b="1" i="1" lang="ru-RU" sz="1600" spc="-1" strike="noStrike" baseline="-25000">
                <a:solidFill>
                  <a:srgbClr val="ff33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для графика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(х</a:t>
            </a:r>
            <a:r>
              <a:rPr b="1" i="1" lang="ru-RU" sz="1600" spc="-1" strike="noStrike" baseline="-25000">
                <a:solidFill>
                  <a:srgbClr val="0066cc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; у</a:t>
            </a:r>
            <a:r>
              <a:rPr b="1" i="1" lang="ru-RU" sz="1600" spc="-1" strike="noStrike" baseline="-25000">
                <a:solidFill>
                  <a:srgbClr val="0066cc"/>
                </a:solidFill>
                <a:latin typeface="Geneva CY"/>
              </a:rPr>
              <a:t>0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+ 1)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для графика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=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x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+ 1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На основании этого наблюдения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ем сделать вывод, что график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+ 1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но получить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з графика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путем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сдвига всех его точек вверх (вдоль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оси Оу) на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единицу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(щелчок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мышкой).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34604" t="4698" r="31618" b="27327"/>
          <a:stretch/>
        </p:blipFill>
        <p:spPr>
          <a:xfrm>
            <a:off x="4572000" y="2438280"/>
            <a:ext cx="31240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34604" t="7427" r="31618" b="0"/>
          <a:stretch/>
        </p:blipFill>
        <p:spPr>
          <a:xfrm>
            <a:off x="4572000" y="2438280"/>
            <a:ext cx="3124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3" name=""/>
          <p:cNvSpPr/>
          <p:nvPr/>
        </p:nvSpPr>
        <p:spPr>
          <a:xfrm>
            <a:off x="212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52280"/>
            <a:ext cx="7772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Итак, зная график функции </a:t>
            </a:r>
            <a:r>
              <a:rPr b="1" i="1" lang="en-US" sz="20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20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можно построить график 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y=x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+ п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с помощью сдвига первого графика вверх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на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единиц, если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п&gt;0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или вниз на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| п |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 единиц, если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п&lt;0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Графиком функции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y=x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+ п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является парабола с вершиной в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точке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(0; п)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5" name=""/>
          <p:cNvSpPr/>
          <p:nvPr/>
        </p:nvSpPr>
        <p:spPr>
          <a:xfrm>
            <a:off x="908640" y="6411960"/>
            <a:ext cx="327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Страница отображается по щелчку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1148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Geneva CY"/>
              </a:rPr>
              <a:t>Вывод: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график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+ п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может быть получен из графика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с помощью последовательно выполненных двух параллельных переносов: сдвига вдоль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х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на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единиц и сдвига графика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вдоль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у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на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п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единиц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057400"/>
            <a:ext cx="7407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neva CY"/>
              </a:rPr>
              <a:t>Обобщение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график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+ п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можно получить из графика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путем сдвига графика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cc"/>
                </a:solidFill>
                <a:latin typeface="Geneva CY"/>
              </a:rPr>
              <a:t>вверх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на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п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единиц в направлении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у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п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&gt;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или </a:t>
            </a:r>
            <a:r>
              <a:rPr b="0" i="1" lang="ru-RU" sz="2000" spc="-1" strike="noStrike">
                <a:solidFill>
                  <a:srgbClr val="009900"/>
                </a:solidFill>
                <a:latin typeface="Geneva CY"/>
              </a:rPr>
              <a:t>вниз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п</a:t>
            </a:r>
            <a:r>
              <a:rPr b="1" i="1" lang="en-US" sz="2000" spc="-1" strike="noStrike">
                <a:solidFill>
                  <a:srgbClr val="009900"/>
                </a:solidFill>
                <a:latin typeface="Geneva CY"/>
              </a:rPr>
              <a:t>&lt;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458200" y="617220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9" name=""/>
          <p:cNvSpPr/>
          <p:nvPr/>
        </p:nvSpPr>
        <p:spPr>
          <a:xfrm>
            <a:off x="28800" y="115920"/>
            <a:ext cx="87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Из выше сказанного следует, что графиком функции </a:t>
            </a:r>
            <a:r>
              <a:rPr b="1" i="1" lang="en-US" sz="1800" spc="-1" strike="noStrike">
                <a:solidFill>
                  <a:srgbClr val="ff33cc"/>
                </a:solidFill>
                <a:latin typeface="Geneva CY"/>
              </a:rPr>
              <a:t>y=(x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 -</a:t>
            </a:r>
            <a:r>
              <a:rPr b="1" i="1" lang="en-US" sz="1800" spc="-1" strike="noStrike">
                <a:solidFill>
                  <a:srgbClr val="ff33cc"/>
                </a:solidFill>
                <a:latin typeface="Geneva CY"/>
              </a:rPr>
              <a:t> m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)</a:t>
            </a:r>
            <a:r>
              <a:rPr b="1" i="1" lang="ru-RU" sz="1800" spc="-1" strike="noStrike" baseline="30000">
                <a:solidFill>
                  <a:srgbClr val="ff33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 + п</a:t>
            </a: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 является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парабола с вершиной в точке 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(</a:t>
            </a:r>
            <a:r>
              <a:rPr b="1" i="1" lang="en-US" sz="1800" spc="-1" strike="noStrike">
                <a:solidFill>
                  <a:srgbClr val="ff33cc"/>
                </a:solidFill>
                <a:latin typeface="Geneva CY"/>
              </a:rPr>
              <a:t>m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; п)</a:t>
            </a: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. Ее можно получить из параболы </a:t>
            </a:r>
            <a:r>
              <a:rPr b="1" i="1" lang="en-US" sz="18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8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800" spc="-1" strike="noStrike" baseline="30000">
                <a:solidFill>
                  <a:srgbClr val="ff33cc"/>
                </a:solidFill>
                <a:latin typeface="Geneva CY"/>
              </a:rPr>
              <a:t> </a:t>
            </a: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помощью двух последовательных сдвигов.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0" name=""/>
          <p:cNvSpPr/>
          <p:nvPr/>
        </p:nvSpPr>
        <p:spPr>
          <a:xfrm>
            <a:off x="60840" y="990720"/>
            <a:ext cx="903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neva CY"/>
              </a:rPr>
              <a:t>Пример 3.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Докажем, что графиком функции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у = 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6х + 8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является парабола, и построим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график.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neva CY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    Представим трехчлен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6х + 8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в виде </a:t>
            </a:r>
            <a:r>
              <a:rPr b="1" i="1" lang="en-US" sz="1800" spc="-1" strike="noStrike">
                <a:solidFill>
                  <a:srgbClr val="000000"/>
                </a:solidFill>
                <a:latin typeface="Geneva CY"/>
              </a:rPr>
              <a:t>(x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18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 + п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. Имеем 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6х + 8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= 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2х*3 + 3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– 1 = </a:t>
            </a:r>
            <a:r>
              <a:rPr b="1" i="1" lang="en-US" sz="1800" spc="-1" strike="noStrike">
                <a:solidFill>
                  <a:srgbClr val="0066cc"/>
                </a:solidFill>
                <a:latin typeface="Geneva CY"/>
              </a:rPr>
              <a:t>(x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3)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– 1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Отсюда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у = </a:t>
            </a:r>
            <a:r>
              <a:rPr b="1" i="1" lang="en-US" sz="1800" spc="-1" strike="noStrike">
                <a:solidFill>
                  <a:srgbClr val="0066cc"/>
                </a:solidFill>
                <a:latin typeface="Geneva CY"/>
              </a:rPr>
              <a:t>(x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3)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– 1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. Значит, графиком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у = 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6х + 8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является парабола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с вершиной в 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точке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(- 3; - 1)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. Учитывая,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что ось симметрии параболы – прямая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х = - 3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, при составлении таблицы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значения аргумента функции следует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брать симметрично относительно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прямой  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х = - 3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423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4952880"/>
          <a:ext cx="4038480" cy="792000"/>
        </p:xfrm>
        <a:graphic>
          <a:graphicData uri="http://schemas.openxmlformats.org/drawingml/2006/table">
            <a:tbl>
              <a:tblPr/>
              <a:tblGrid>
                <a:gridCol w="685800"/>
                <a:gridCol w="457200"/>
                <a:gridCol w="533520"/>
                <a:gridCol w="457200"/>
                <a:gridCol w="533160"/>
                <a:gridCol w="457200"/>
                <a:gridCol w="457200"/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-8280" y="5791320"/>
            <a:ext cx="564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Отметив в координатной плоскости точки,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координаты которых занесены в таблицу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(щелчок мышкой),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проводим параболу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(по щелчку).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8948" t="5037" r="31618" b="21035"/>
          <a:stretch/>
        </p:blipFill>
        <p:spPr>
          <a:xfrm>
            <a:off x="4572000" y="2209680"/>
            <a:ext cx="4572000" cy="447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18952" t="5037" r="33265" b="20696"/>
          <a:stretch/>
        </p:blipFill>
        <p:spPr>
          <a:xfrm>
            <a:off x="4572000" y="2209680"/>
            <a:ext cx="4419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52280"/>
            <a:ext cx="845820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neva CY"/>
              </a:rPr>
              <a:t>Постройте самостоятельно графики функций: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+ 2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– 3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– 1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+ 2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+ 1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– 2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– 2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+ 1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+ 3)*(х – 3)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+ 4х – 4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– 6х + 11.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При построении графика функции вида  </a:t>
            </a:r>
            <a:r>
              <a:rPr b="1" i="1" lang="en-US" sz="1800" spc="-1" strike="noStrike">
                <a:solidFill>
                  <a:srgbClr val="ff3300"/>
                </a:solidFill>
                <a:latin typeface="Geneva CY"/>
              </a:rPr>
              <a:t>y=(x</a:t>
            </a:r>
            <a:r>
              <a:rPr b="1" i="1" lang="ru-RU" sz="1800" spc="-1" strike="noStrike">
                <a:solidFill>
                  <a:srgbClr val="ff3300"/>
                </a:solidFill>
                <a:latin typeface="Geneva CY"/>
              </a:rPr>
              <a:t> -</a:t>
            </a:r>
            <a:r>
              <a:rPr b="1" i="1" lang="en-US" sz="1800" spc="-1" strike="noStrike">
                <a:solidFill>
                  <a:srgbClr val="ff3300"/>
                </a:solidFill>
                <a:latin typeface="Geneva CY"/>
              </a:rPr>
              <a:t> m</a:t>
            </a:r>
            <a:r>
              <a:rPr b="1" i="1" lang="ru-RU" sz="1800" spc="-1" strike="noStrike">
                <a:solidFill>
                  <a:srgbClr val="ff3300"/>
                </a:solidFill>
                <a:latin typeface="Geneva CY"/>
              </a:rPr>
              <a:t>)</a:t>
            </a:r>
            <a:r>
              <a:rPr b="1" i="1" lang="ru-RU" sz="18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ff3300"/>
                </a:solidFill>
                <a:latin typeface="Geneva CY"/>
              </a:rPr>
              <a:t> + п</a:t>
            </a: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добно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пользоваться заранее заготовленным шаблоном параболы  </a:t>
            </a:r>
            <a:r>
              <a:rPr b="1" i="1" lang="ru-RU" sz="1800" spc="-1" strike="noStrike">
                <a:solidFill>
                  <a:srgbClr val="ff3300"/>
                </a:solidFill>
                <a:latin typeface="Geneva CY"/>
              </a:rPr>
              <a:t>у = х</a:t>
            </a:r>
            <a:r>
              <a:rPr b="1" i="1" lang="ru-RU" sz="18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.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1371600"/>
            <a:ext cx="129528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шаблон параболы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Geneva CY"/>
              </a:rPr>
              <a:t>у = х</a:t>
            </a:r>
            <a:r>
              <a:rPr b="1" i="1" lang="ru-RU" sz="20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1555" t="12022" r="32390" b="0"/>
          <a:stretch/>
        </p:blipFill>
        <p:spPr>
          <a:xfrm>
            <a:off x="5181480" y="1066680"/>
            <a:ext cx="3276720" cy="3881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83880" y="6019920"/>
            <a:ext cx="53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Далее можно сверить свои результаты с тем,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что должно быть в действительности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9:31:27Z</dcterms:created>
  <dc:creator>Apple</dc:creator>
  <dc:description/>
  <dc:language>en-US</dc:language>
  <cp:lastModifiedBy>karpuhinamm</cp:lastModifiedBy>
  <dcterms:modified xsi:type="dcterms:W3CDTF">2004-03-26T16:15:18Z</dcterms:modified>
  <cp:revision>10</cp:revision>
  <dc:subject/>
  <dc:title>Простейшие преобразования графиков функций</dc:title>
</cp:coreProperties>
</file>