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A8DF-3F80-4193-9526-C1A98B6A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861B-F777-434C-AFBF-DAAE412A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6D30C4-1CE9-492A-B3CC-A2615BDA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D11A3C-E597-4580-9C13-5E30F361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10B201-49C8-4559-8D51-AFAE7DBC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CE0E07-6568-404C-9EA9-D3C6499A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E9C3A9-6250-4DCF-8F44-FF475443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DEBFD7-D059-425B-998E-0FF8867F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F71743-9639-4532-9124-730B3FA6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54A6BE-C1FA-4536-9691-212255A4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548F38-03E2-47B2-95FD-00B29717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A6ABC-9C1C-43BB-8665-8FB45DB2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0256-930B-40D0-B2AA-9A751277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E4D82-F138-4B62-A37B-93A6C9D2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BAE11-C5D2-4FCB-9753-B09E6F04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9AB70-96DB-4D35-A018-2AF96CA5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E11C7-97EA-40EA-B0BE-939C2AAC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5DA04-6CFE-44A0-A46C-F505C585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28588-2667-446A-8615-37467D68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E1277-BE84-4673-9233-223785A3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614A3-F2BC-4D66-A787-64F6DBE7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1D15C-9A8E-43DA-BE19-0002B2E3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D2CD0-754F-4BA6-9FEB-91334E11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B0B-6688-4D91-BF5F-A74B6E3E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A52A9-8708-4574-B3FB-84567ECA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87F3B8-65E6-451E-BE59-7DC248B4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00E0C2-0EDC-428C-B295-F7534B0F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1BF628-A633-466F-91A1-2BB49F60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0948D0B-5FB1-43B8-8CC8-C3A79A4D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A14E02-98F1-4D7F-A9A9-0867FA8A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098F01-5F1D-4288-AB97-6CC97C76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C63B2C-2ABC-4A7C-878F-8281995A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DCAA6B-B31A-442E-BCCD-E0B6FA84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896F6D-8283-44DC-8056-8C5C065B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B296-9A59-4DEE-81C9-6806D743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07CEB2-1239-46F9-ABA5-0A9A673A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F83DFB0-587B-47DD-97C0-5BD2848B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FB3160-C91F-4D66-AE1E-8DDFDED6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EB6C-BB82-4066-A4FA-7E65CC6A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7509-6532-4F55-8F3C-1F8DE1A0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8EEE-5DF8-452E-985A-2AE32A68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7F08-C7C9-48D9-B2B1-0E829A91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C1F4-556C-4388-9175-E2A38E4F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0D37-EBF0-4FD7-8328-079AA56F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1580-18A0-4085-BD13-14BDBC06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513B-D674-4976-BBDC-21EFE04D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2157-D1F5-4652-86C6-B7CEB42D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C1DB-3796-4C73-AC0F-A5EE4EB6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11FF-5634-4E63-BBD8-C1F11D5F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72FD-9196-4E3F-9567-81DB2161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0FE45-9867-4227-8EC7-CE7C2956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F83F5-50E1-44C1-B828-59F0436A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7869B-1256-4E61-9617-808DA12F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4E8AE-C6B0-47F0-941B-BE428B3D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7F2D3-CF29-43DE-AA3D-6E8A37F8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C866-FD28-4252-A014-294FEAD3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529CC-FB69-4A42-83FA-19E6AF3D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8FA5E-E9E9-4E85-909E-FF50E322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74A88-41EE-4204-9F6D-4833B87B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CF94A-CD16-42CD-9871-65DEC7B7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9AC56-E9A2-41B3-8A38-699EE91C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75308-D99E-4675-9838-F7A995F7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0C5EF-E584-4470-B732-ED7665BF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3D046-B7BF-47CC-A291-B3E9BDF8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B3F28-7F7E-4DA5-8347-172ED1AD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82F53-1DEF-4C4E-B444-64546E5E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390F-316C-42CB-8731-A72482D3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9CCF3-17BA-40CE-9990-C81069DB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59696-12E5-43BB-8B83-24BE0F12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DAF74-98B6-45DC-B9AE-5EEA08C7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69D76-0433-4CAF-A87D-E4A9C90D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7C598-AEB8-4C37-BE82-2C424D33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95244-E284-4AEE-AD7A-6984791A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09539-DF09-47ED-A566-585D7AC4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BE1DF-B3A8-495B-A4B9-23830251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E13C7-D714-4F03-9092-1D91823C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08B1D-470B-427D-9699-900C184F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1C7D-E6CC-4B11-88C0-DE3061BF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65832-ABCD-4FB5-A5D5-56096DCA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5F9E9-45C9-4CC0-8327-2BF8EFFF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BE5D0-4BB7-4C77-8132-1D31C1D6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DF73F-C119-4F39-AA7C-760EC00F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58B29-A6F0-411A-AA35-85D1B6C3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1C1FE-6F8E-4248-BDFC-D219EF41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9E75A-3FCF-4108-A848-9ECFD879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124DE-2727-4450-98CB-6215BC69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4BAB7-7319-4DC0-AE36-733F00A4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B22BB-E774-4F4D-BD57-4A89F62A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6606-1C12-460F-8026-F9126119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6BCED-B991-4AE8-881D-2A6DAD8D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F0459-F065-4576-9611-0D109590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4B9B8-54C2-4533-9ED4-A1768BFC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BA42C-1ACD-4F6F-A37C-9E63EB99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076E0-5176-490D-BCA5-1DFDB74A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FE0FB-778C-47A4-AA61-340D2B2B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12AA0-B074-41F3-8431-98F0CA9E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9018D-32FC-4CA1-94B8-6F0C21DD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2230B-D0AF-423E-8CAE-80655AF8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7A089-A86D-4BE4-B7AF-E8F2BC26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56B6-EA4A-47B4-AD5A-EDDB7B14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B3E9E-AF99-4E91-B24B-49214726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C68BA-D24B-434F-A461-11617185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9CB3D-DE2A-4E42-AFAB-E7FA7960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A4715-1EBC-4481-AE73-3B0AF046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077EE-EEEA-4AC7-AB53-AE47371C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31E60-5B35-46B6-9F03-D05B4047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49203-26C8-43C7-9DE7-C7134015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01F04-5B7E-4DC8-B91F-AFA1973B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DD973-AEE9-4E7D-9F5E-EBB788DA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9BCD2-7EEB-4340-8F87-EAE49E63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08E6-117B-489F-8C04-5A2C5E70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24FD9-283A-47D2-8314-1E79A00A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26AA5-C911-475F-8E67-579E0E44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5DFB1-2B21-4201-A9EB-36E876B7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57A7F-1152-43EF-BB44-B945A609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2C873-7C85-4741-B096-BF1139F9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16992A-9672-49FC-932C-9FEF6F3F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826462-E129-4C8B-A8C9-DDD57113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572455-EC8C-4AAA-BDC1-A6F35E60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077F44-045B-46BF-B22F-5CB1D707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7E9F01-DAEC-4BBE-8FE4-A3B210A8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9FF2-7BF7-45FD-8251-62FCCD15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CAADFE-77E0-4D79-898F-7B90A407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1D3FAF-13A6-4B30-9DEB-AE7FA329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9097CE-FAE0-4D3C-9BD5-83C23B8D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09D6F9-7FDC-44A1-8C47-134E24E6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A2C76E-FF3B-45C1-9CB7-AC685E2D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55DD05-BF50-47C3-9C61-3AE52FB4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D5504B-B9F1-4B57-BC55-F7302AF3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C408C4-557E-426F-8FAC-97474E82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CDAC0B-432F-46AC-97F2-0985676C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F3B42A-3E1C-4CAC-B030-4364ABC1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A947-DBBB-4D75-B745-E9882919724F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0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6C8D-0DE5-4819-8A40-45AFFA7B8F53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9F52-EEE6-4FBC-A76F-2EBB7D6520A2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AF9B-B236-4515-831E-EC2167D13091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ftr" idx="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dt" idx="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3580-7B7A-4C12-8440-119D6E5EFE56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b13f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A2F5-709B-4A78-A1C4-B8F931DD1CDC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b13f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176C-FC94-45DE-8348-A2319B1A2BDB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1856-0667-4690-998C-5EEA08135EB2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1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0B56-A993-42B5-89D5-7A07728E292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sldNum" idx="22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18CE-687D-40E3-B3D1-379508A0F039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dt" idx="2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ftr" idx="24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CE5E-A851-4697-94C8-393588D476C9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dt" idx="26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28400" y="271440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Georgia"/>
              </a:rPr>
              <a:t>АВТОР:ИСРАФИЛОВА О.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Georgia"/>
              </a:rPr>
              <a:t>ВОСПИТАТЕЛЬ МАДОУ №5 «МЕЧТА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a2e4e"/>
                </a:solidFill>
                <a:latin typeface="Arial Black"/>
              </a:rPr>
              <a:t>Азбука  пожарной безопасности</a:t>
            </a:r>
            <a:br>
              <a:rPr sz="5400"/>
            </a:br>
            <a:r>
              <a:rPr b="0" lang="ru-RU" sz="1400" spc="-1" strike="noStrike">
                <a:solidFill>
                  <a:srgbClr val="8a2e4e"/>
                </a:solidFill>
                <a:latin typeface="Arial Black"/>
              </a:rPr>
              <a:t>(Часть 1)</a:t>
            </a:r>
            <a:endParaRPr b="0" lang="en-US" sz="1400" spc="-1" strike="noStrike">
              <a:solidFill>
                <a:srgbClr val="c35e2e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1857240" y="285840"/>
            <a:ext cx="5453280" cy="471960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510192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Text Box 8"/>
          <p:cNvSpPr/>
          <p:nvPr/>
        </p:nvSpPr>
        <p:spPr>
          <a:xfrm>
            <a:off x="1857240" y="5157720"/>
            <a:ext cx="54007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Все дети должны обязательно зн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Электроприборы нельзя выклю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Тогда, когда руки мокры от 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Такая халатность- шаг до бед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Лиза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340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Arial"/>
              </a:rPr>
              <a:t>ПРАВИЛА ПРОТИВОПОЖАРНОЙ БЕЗОПАСНОСТИ</a:t>
            </a:r>
            <a:endParaRPr b="0" lang="en-US" sz="5400" spc="-1" strike="noStrike">
              <a:solidFill>
                <a:srgbClr val="c35e2e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9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7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310360" cy="46800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510192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8"/>
          <p:cNvSpPr/>
          <p:nvPr/>
        </p:nvSpPr>
        <p:spPr>
          <a:xfrm>
            <a:off x="1165320" y="5000760"/>
            <a:ext cx="303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Для забавы и игры</a:t>
            </a:r>
            <a:br>
              <a:rPr sz="1800"/>
            </a:b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Спичек в руки не бери!</a:t>
            </a:r>
            <a:br>
              <a:rPr sz="1800"/>
            </a:b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Не шути дружок с  огнём,</a:t>
            </a:r>
            <a:br>
              <a:rPr sz="1800"/>
            </a:b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Чтобы не жалеть потом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4857840" y="507204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Сам костёр не разжигай</a:t>
            </a:r>
            <a:br>
              <a:rPr sz="1800"/>
            </a:b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И другим не позволяй!</a:t>
            </a:r>
            <a:br>
              <a:rPr sz="1800"/>
            </a:b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Даже крошка- огонёк</a:t>
            </a:r>
            <a:br>
              <a:rPr sz="1800"/>
            </a:b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От пожара недалёк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Сема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80" fill="hold"/>
                                        <p:tgtEl>
                                          <p:spTgt spid="5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7" descr=""/>
          <p:cNvPicPr/>
          <p:nvPr/>
        </p:nvPicPr>
        <p:blipFill>
          <a:blip r:embed="rId1"/>
          <a:stretch/>
        </p:blipFill>
        <p:spPr>
          <a:xfrm>
            <a:off x="2000160" y="500040"/>
            <a:ext cx="5038920" cy="450684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510192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Text Box 8"/>
          <p:cNvSpPr/>
          <p:nvPr/>
        </p:nvSpPr>
        <p:spPr>
          <a:xfrm>
            <a:off x="2714760" y="5183280"/>
            <a:ext cx="3816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Если ты включил утю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Убегать не надо вдр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Закрывая в доме двер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Всё ли выключил, прове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Даша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650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7" descr=""/>
          <p:cNvPicPr/>
          <p:nvPr/>
        </p:nvPicPr>
        <p:blipFill>
          <a:blip r:embed="rId1"/>
          <a:stretch/>
        </p:blipFill>
        <p:spPr>
          <a:xfrm>
            <a:off x="1857240" y="357120"/>
            <a:ext cx="5038920" cy="451800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5101920" y="2781000"/>
            <a:ext cx="404172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2268360" y="5084640"/>
            <a:ext cx="4248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Чтобы пальчик или гвозд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Вдруг в розетку не соват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Электричество опас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Это каждый должен зн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Лиза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510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7" descr=""/>
          <p:cNvPicPr/>
          <p:nvPr/>
        </p:nvPicPr>
        <p:blipFill>
          <a:blip r:embed="rId1"/>
          <a:stretch/>
        </p:blipFill>
        <p:spPr>
          <a:xfrm>
            <a:off x="1928880" y="500040"/>
            <a:ext cx="5038560" cy="43718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510192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1547640" y="5157720"/>
            <a:ext cx="5329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Не играй с электроплитко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Спрыгнет с плитки пламя прытко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Уголёк из печки «скок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И поджёг полович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Ваня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8141" fill="hold"/>
                                        <p:tgtEl>
                                          <p:spTgt spid="5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7" descr=""/>
          <p:cNvPicPr/>
          <p:nvPr/>
        </p:nvPicPr>
        <p:blipFill>
          <a:blip r:embed="rId1"/>
          <a:stretch/>
        </p:blipFill>
        <p:spPr>
          <a:xfrm>
            <a:off x="1714680" y="285840"/>
            <a:ext cx="5038560" cy="458604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5101920" y="162864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Text Box 8"/>
          <p:cNvSpPr/>
          <p:nvPr/>
        </p:nvSpPr>
        <p:spPr>
          <a:xfrm>
            <a:off x="826920" y="5084640"/>
            <a:ext cx="3816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Украшать свечами ёл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Строго запрещ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Потому что от све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Ёлка загорает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5003640" y="5084640"/>
            <a:ext cx="3889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А поэтому- не см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Зажигать на ней свеч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Можешь запросто, заме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Вместе с ёлкою сгор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руслан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9910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7" descr=""/>
          <p:cNvPicPr/>
          <p:nvPr/>
        </p:nvPicPr>
        <p:blipFill>
          <a:blip r:embed="rId1"/>
          <a:stretch/>
        </p:blipFill>
        <p:spPr>
          <a:xfrm>
            <a:off x="1857240" y="285840"/>
            <a:ext cx="5443560" cy="486396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464000" y="1557360"/>
            <a:ext cx="46800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141120" y="5214960"/>
            <a:ext cx="478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Будет включённым прибор оставаться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Очень опасно к нему прикасать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Или получишь тока уд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4716360" y="5157720"/>
            <a:ext cx="2560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4859280" y="5214960"/>
            <a:ext cx="428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Или от искры начнётся пож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Так что времени зря не теря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И из розетки прибор выключ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Алена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8970" fill="hold"/>
                                        <p:tgtEl>
                                          <p:spTgt spid="5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7" descr=""/>
          <p:cNvPicPr/>
          <p:nvPr/>
        </p:nvPicPr>
        <p:blipFill>
          <a:blip r:embed="rId1"/>
          <a:stretch/>
        </p:blipFill>
        <p:spPr>
          <a:xfrm>
            <a:off x="1714680" y="214200"/>
            <a:ext cx="5751360" cy="504036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1785600" y="4381560"/>
            <a:ext cx="5256360" cy="20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4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460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460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a2e4e"/>
                </a:solidFill>
                <a:latin typeface="Arial Black"/>
              </a:rPr>
              <a:t>Быть нельзя огня вблизи,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460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a2e4e"/>
                </a:solidFill>
                <a:latin typeface="Arial Black"/>
              </a:rPr>
              <a:t>Там, где краски, газ, бензин;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460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a2e4e"/>
                </a:solidFill>
                <a:latin typeface="Arial Black"/>
              </a:rPr>
              <a:t>Ведь о них нам не напрасно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460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a2e4e"/>
                </a:solidFill>
                <a:latin typeface="Arial Black"/>
              </a:rPr>
              <a:t>Говорят «Огнеопасно!»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89" name="Аня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6350" fill="hold"/>
                                        <p:tgtEl>
                                          <p:spTgt spid="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5:25:56Z</dcterms:created>
  <dc:creator>Nix</dc:creator>
  <dc:description/>
  <dc:language>en-US</dc:language>
  <cp:lastModifiedBy>Разик</cp:lastModifiedBy>
  <dcterms:modified xsi:type="dcterms:W3CDTF">2018-06-30T16:28:31Z</dcterms:modified>
  <cp:revision>22</cp:revision>
  <dc:subject/>
  <dc:title>Правила пожарной безопасности</dc:title>
</cp:coreProperties>
</file>