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F62-5777-48A1-A7EA-10E18E9B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B49-3521-4D54-88B8-6F4EFCBB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388D2-21DF-404A-9722-1D93480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23995-64C8-4319-BCAC-828D9C7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2EDDF-4AA8-4D94-9912-F1E5014C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A0696-4A33-4340-A817-38A546C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29770-FAE1-43EE-9B63-900343C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F6049-B387-471E-839D-658A37B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BDC6F-F2B7-4949-91D1-A22F766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465C3-55A8-4AE5-9B9A-28DC12A3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560CD-2B46-4391-8034-1A1A465B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AA3D-8A09-447C-99E2-C37397DB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3D6-73A6-4442-ADF5-D91382B5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C25E8-4C79-4E79-8E42-EA456CF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E191E-F48A-4CB8-9B28-B056D6B8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F4908-6AE3-4387-BD8E-6775C87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7504E-4DC0-43B9-9723-22559529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05845-7189-440A-8075-746957F8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A155-272D-4E16-B638-E4240F9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35D6B-EE5E-44A1-A01B-373DCF8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3B5AA-0C2B-460D-9A9C-A7F83FA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A9FB-05AC-4DAB-B734-477FE8B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B755D-CF44-4C7F-B2B9-8767B64E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CD8-CEF9-4E57-A61D-61110158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8B894-BBA9-4687-99C8-DBE67E38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7A229F-6F0B-4981-91BD-467E391E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511AE5-E4F6-4591-8FCC-5F62CD99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EA5CD-647F-484E-8744-51A64E7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74D741-0758-4066-81DD-EED2E5E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2EFE35-858B-41D6-A094-F1D52A6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47916F-497D-47D3-B4D3-7D75486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C91822-0284-4DAD-BD53-454E6EB2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3A6EDA-E41A-4384-B357-8B8BFE3B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66A973-07FC-400D-A12B-5EFD11F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9E0C-47DA-48AF-B821-430C01A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63D408-ECEA-4E22-8922-2FF837E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B8989-DDB4-4C73-A5D9-A4C0A55C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93F229-E749-474A-9C88-7C718F73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7236-866E-489C-8365-63A0136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5CF-56B3-4566-BA7B-602E68D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2D8E-84CE-41AA-A4BA-CCB6B7A8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90A-1AAB-402E-AF8F-2AC48F72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AD5-8B35-4D1E-8767-42B79BBC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C4F3-8695-4009-8E80-A57F0EC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FC6-3A93-4112-AAFB-376E0A39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B153-468C-430D-9CAF-EE918A5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3D2-A360-42BA-AB81-B61A883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81B7-7A98-4636-8852-A38E05C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DDFC-1FC9-49AD-8FD9-0A4CC35D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954E-0F05-4E2E-B0CB-430108AF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D7D5-2A3D-4572-8814-7B8C5F2D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B1853-D4A4-4951-82B2-0AB01A5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62F8-AC80-42F4-887F-F3517E6A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2593-F266-4E80-8F17-9C2CD30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A84E-47F5-45BE-A38A-BCFD715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80C-C081-4591-BC0E-D2543F97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221A-9840-44B3-818F-3B0F36C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D978-65D9-4F01-9572-751B4973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3B60-6639-41E3-A393-C09181E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15FD2-8A5C-41F3-910E-BA95F4B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8D83-A57E-47A8-829D-D4BC2B59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F060-C753-4194-833C-3C47803C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B3AD-1E2F-43B8-A2D8-B6FEB18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1F9B5-57D4-4567-A7D8-8F16A16A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79B75-2577-40F6-9184-DBB0652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03FA-EDBE-42CB-8033-8939954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A00-C9DC-477D-9FFC-67BF6F46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4A4EF-D1AB-4479-84F1-219F66AE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424A-A06A-4253-AFEB-51C2FFA1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49F6-07DB-417A-8497-061DCAF6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13C0-4686-45C5-80AA-75D2BB6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41CC-F264-476B-BE42-AE6FAF8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C931B-23CF-48E8-AFB8-5E62AD7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6900-158C-47A8-88C6-E1E5EB7D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C03F-68FB-4C81-8643-6EEC4052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5DBCD-391F-478D-9A7E-E62AD24E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0955-30D6-4C6E-A971-3ED44DB5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4F7-A343-4451-A5E7-B7706E4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0A2D-0C64-47F5-9A88-6A174B1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6BB7E-B84C-467A-8D6C-9B37B45D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F670-2043-4780-8E5B-5F5E564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0072-A71F-4332-91D5-926FA32D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BFAB-C038-45B2-AE97-E3B3F7CD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6C4F-EED6-45B0-BF6D-D1D9498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CD9E-3DEE-4661-A096-39937CCA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85B7-5FB7-4849-898F-1EB72D13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F012-0A2F-4061-8640-3DF47E0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37FB-2F9A-47B5-9A63-66209AF4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271-A201-4FE8-B359-0A30A59A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78EC-7E29-4599-8F05-4231B787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3497-9CDD-49FA-BF95-FFA47C67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3E07-2A33-4C81-9E64-9B577174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82EC-6F09-48D6-80F5-D9205208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4A10C-2001-4E93-A963-891ED27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A687-4F3F-445A-B036-56EF63E4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D8FA-9C5A-44AF-B60B-34AD98F0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75E2-CB5B-4651-BCDA-F5DF8926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8757-4C19-4E2B-99C7-780C60B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3604-A140-49AB-BDD7-F173B49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C34-2AEB-4EA5-AA84-B591DAB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E9AD-0A27-4A6F-A6AC-F7DDF8FC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F375F-4BD9-46FB-ACAE-1194D28A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D990-82B1-4BDC-972D-9C2295AF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209B2-809F-4E40-8648-D83AECAA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E7F78-61C2-46CB-B009-ED5C743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27B91-339D-4856-A24C-A4A17EB6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7AC6-02F5-46F5-912C-A0B75C0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E82D-06D6-45A8-9101-D3A4AEDA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BF03-986B-4D7E-80E5-F85EF8FF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7795-3AA4-40B0-B38C-823C938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98A-1198-4AAC-A356-E71483F5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ED72F-0CF4-4736-A571-100A6D1B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9952A-DB36-4F56-AC13-501F32A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C371-58CD-4CA4-98FF-D9DFCBB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200E6-F9A9-409B-A96D-4D9DC9D1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B52A-8585-4C09-A926-D2892F09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A1531E-953E-499E-90E4-E3BC5854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6A7C70-1A79-4CD9-9E32-9357700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43316-7436-4A6A-8A4E-C1C397E3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B23B0E-FEF4-4293-B5AA-ACD8655C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1A2CBD-8A01-4BC9-A11E-3A223C71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EE4-693F-41BC-A4F2-77E8693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5D76A4-2135-4B71-AA67-33C6DF41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5858DA-F9A0-4770-B45E-A1FF4AA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CAB4E0-40C7-4D75-AF3E-1DEEA78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92B64E-D0A6-45CA-BB62-0E6E28FE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E1D07D-DF4E-4247-AC5A-B783CE92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F8026F-F7B2-4DAF-AF45-9ECB8DA6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D87C2F-8762-4CA2-A81F-C0000B20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FB4EE-8CDF-4C2C-9594-AA3C31C2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F7D04-46A6-4707-BD4C-D55388C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61C23-ADE1-40F6-97E5-7B550B4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E989-AB14-4891-AE2E-CF4A7EE88027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826F-58A1-4CE6-B7DB-E72DA105B561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CA09-9073-41E3-B4E1-A1817A4E7CBB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0DFE-671F-47E2-BFBD-32DD79BC7F6E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DD8-1E5C-4917-91F6-C60BDACEF6D4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AEE-2890-4E9B-8614-324BBFDF9E30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4541-8B9A-44A9-B7BA-A208CDF8D3CB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A5E-64DC-4DC0-B2C9-FA26CB2E3518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34A-8709-4F94-A8FC-738DFCE7535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4AA7-AA13-457B-A684-4A06228CE932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35e2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7F7-EA1D-44BF-95E1-5293496C935E}" type="slidenum">
              <a:rPr b="0" lang="ru-RU" sz="1600" spc="-1" strike="noStrike">
                <a:solidFill>
                  <a:srgbClr val="c35e2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2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Georgia"/>
              </a:rPr>
              <a:t>АВТОР:ИСРАФИЛОВА О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Georgia"/>
              </a:rPr>
              <a:t>ВОСПИТАТЕЛЬ МАДОУ №5 «МЕЧТ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a2e4e"/>
                </a:solidFill>
                <a:latin typeface="Arial Black"/>
              </a:rPr>
              <a:t>Азбука  пожарной безопасности</a:t>
            </a:r>
            <a:br>
              <a:rPr sz="5400"/>
            </a:br>
            <a:r>
              <a:rPr b="0" lang="ru-RU" sz="1400" spc="-1" strike="noStrike">
                <a:solidFill>
                  <a:srgbClr val="8a2e4e"/>
                </a:solidFill>
                <a:latin typeface="Arial Black"/>
              </a:rPr>
              <a:t>(Часть 1)</a:t>
            </a:r>
            <a:endParaRPr b="0" lang="en-US" sz="1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53280" cy="47196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1857240" y="5157720"/>
            <a:ext cx="540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е дети должны обязатель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оприборы нельзя выклю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огда, когда руки мокры от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ая халатность- шаг до бе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Лиз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40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ПРАВИЛА ПРОТИВОПОЖАРНОЙ БЕЗОПАСНОСТИ</a:t>
            </a:r>
            <a:endParaRPr b="0" lang="en-US" sz="5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9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7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310360" cy="4680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1165320" y="500076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ля забавы и игры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ичек в руки не бери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шути дружок с  огнём,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не жалеть пото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4857840" y="507204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ам костёр не разжигай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другим не позволяй!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Даже крошка- огонёк</a:t>
            </a:r>
            <a:br>
              <a:rPr sz="1800"/>
            </a:b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т пожара недалёк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Сема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" fill="hold"/>
                                        <p:tgtEl>
                                          <p:spTgt spid="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7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038920" cy="45068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2714760" y="518328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Если ты включил утю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бегать не надо в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крывая в доме двер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сё ли выключил, про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Даш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650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7" descr=""/>
          <p:cNvPicPr/>
          <p:nvPr/>
        </p:nvPicPr>
        <p:blipFill>
          <a:blip r:embed="rId1"/>
          <a:stretch/>
        </p:blipFill>
        <p:spPr>
          <a:xfrm>
            <a:off x="1857240" y="357120"/>
            <a:ext cx="5038920" cy="45180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5101920" y="2781000"/>
            <a:ext cx="40417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2268360" y="5084640"/>
            <a:ext cx="42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Чтобы пальчик или гвоз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друг в розетку не сов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лектричество опас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Это каждый должен зн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Лиз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10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038560" cy="43718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1019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1547640" y="5157720"/>
            <a:ext cx="5329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Не играй с электроплитк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прыгнет с плитки пламя прытк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голёк из печки «скок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поджёг полови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Ваня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141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1714680" y="285840"/>
            <a:ext cx="5038560" cy="45860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101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826920" y="5084640"/>
            <a:ext cx="381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Украшать свечами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Строго запрещ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Потому что от све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Ёлка загора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5003640" y="508464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А поэтому- не с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Зажигать на ней свеч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Можешь запросто, заме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Вместе с ёлкою сгор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руслан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910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5443560" cy="48639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464000" y="1557360"/>
            <a:ext cx="468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141120" y="5214960"/>
            <a:ext cx="478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Будет включённым прибор оставатьс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Очень опасно к нему прикасать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получишь тока уд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4716360" y="5157720"/>
            <a:ext cx="256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859280" y="5214960"/>
            <a:ext cx="42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ли от искры начнётся пож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Так что времени зря не те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Arial Black"/>
              </a:rPr>
              <a:t>И из розетки прибор выключ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Ален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970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1714680" y="214200"/>
            <a:ext cx="5751360" cy="5040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785600" y="4381560"/>
            <a:ext cx="525636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Быть нельзя огня вблизи,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Там, где краски, газ, бензин;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Ведь о них нам не напрасно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46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a2e4e"/>
                </a:solidFill>
                <a:latin typeface="Arial Black"/>
              </a:rPr>
              <a:t>Говорят «Огнеопасно!»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9" name="Аня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350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5:25:56Z</dcterms:created>
  <dc:creator>Nix</dc:creator>
  <dc:description/>
  <dc:language>en-US</dc:language>
  <cp:lastModifiedBy>Разик</cp:lastModifiedBy>
  <dcterms:modified xsi:type="dcterms:W3CDTF">2018-06-30T16:28:31Z</dcterms:modified>
  <cp:revision>22</cp:revision>
  <dc:subject/>
  <dc:title>Правила пожарной безопасности</dc:title>
</cp:coreProperties>
</file>