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77A-C921-4996-8A07-A961249D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7EB-8578-4E16-88CC-3A2CF5B8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B38-5312-42A5-A5F8-2A101F63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BB3-0992-4BE8-BF95-EDF06ACE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3B9-30F9-4C0F-953E-21D0684B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E40-C283-4747-BD8F-D5411E1B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CDF-CE67-4A16-ADAD-3FCE7BC8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B0C-189C-48FC-9811-0D28950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060-3927-4D1B-8A53-33594C3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71F-35E9-4750-A747-60127BB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B3D-81D3-4034-9318-02FD3BD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C6F-2DA3-4BFF-97A8-FC1F6FA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988-A53C-43BB-8B8F-203CD1A75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80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Мещерякова Е.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Воспитатель 2 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476360" y="2565360"/>
            <a:ext cx="575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зы воспита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7" descr="E:\DCIM\100CASIO\CIMG1854.JPG"/>
          <p:cNvPicPr/>
          <p:nvPr/>
        </p:nvPicPr>
        <p:blipFill>
          <a:blip r:embed="rId1"/>
          <a:stretch/>
        </p:blipFill>
        <p:spPr>
          <a:xfrm>
            <a:off x="611280" y="2060640"/>
            <a:ext cx="2766960" cy="214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Объект 5" descr="E:\DCIM\100CASIO\CIMG1835.JPG"/>
          <p:cNvPicPr/>
          <p:nvPr/>
        </p:nvPicPr>
        <p:blipFill>
          <a:blip r:embed="rId2"/>
          <a:stretch/>
        </p:blipFill>
        <p:spPr>
          <a:xfrm>
            <a:off x="3059280" y="4581360"/>
            <a:ext cx="2727000" cy="199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E:\DCIM\100CASIO\CIMG2316.JPG"/>
          <p:cNvPicPr/>
          <p:nvPr/>
        </p:nvPicPr>
        <p:blipFill>
          <a:blip r:embed="rId3"/>
          <a:stretch/>
        </p:blipFill>
        <p:spPr>
          <a:xfrm>
            <a:off x="5580000" y="2057400"/>
            <a:ext cx="3125880" cy="2151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640720" y="6080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DSC_0023.JPG"/>
          <p:cNvPicPr/>
          <p:nvPr/>
        </p:nvPicPr>
        <p:blipFill>
          <a:blip r:embed="rId1"/>
          <a:stretch/>
        </p:blipFill>
        <p:spPr>
          <a:xfrm>
            <a:off x="2843280" y="1413000"/>
            <a:ext cx="3384360" cy="2255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3" descr="I:\DSC_0216.JPG"/>
          <p:cNvPicPr/>
          <p:nvPr/>
        </p:nvPicPr>
        <p:blipFill>
          <a:blip r:embed="rId2"/>
          <a:stretch/>
        </p:blipFill>
        <p:spPr>
          <a:xfrm>
            <a:off x="4621320" y="4003560"/>
            <a:ext cx="3695760" cy="246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4" descr="I:\DSC04798.JPG"/>
          <p:cNvPicPr/>
          <p:nvPr/>
        </p:nvPicPr>
        <p:blipFill>
          <a:blip r:embed="rId3"/>
          <a:stretch/>
        </p:blipFill>
        <p:spPr>
          <a:xfrm>
            <a:off x="971640" y="4003560"/>
            <a:ext cx="3313080" cy="24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правила нрав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уйся успеху товар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вори всегда только прав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жи доверием взрослых и товари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хвастайся – хорошее дело само за себя говор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 слово – держи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оящий друг познаётся не только в радости, но и в бе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ого не обижай – ни словам, ни поступком; заботься о младших, помогай им, защищай тех, кто слабее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ви и поступай так, чтобы окружающим – взрослым и детям –было с тобой приятно и радос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родители наших юных воспитанников. В этой презентации затронута очень актуальная проблема. Много лет люди создавали правила поведения, этикета, цель которых была, кроме нравственных качеств доброты, чуткости, сердечности, прививать чувство меры и красоты в манерах поведения, в одежде, разговоре, приёме гостей – словом во всём, с чем входили в общество. Очень хочется сделать мам и пап активными участниками всего того, что происходит в детском саду. Наша задача повысить педагогическую культуру и привить интерес к вопросам воспитания детей. Только тесное сотрудничество, единство целей и взглядов могут привести к  положительным результатам. Вы доверили нам самое дорогое и ценное – ваших детей. А мы в свою очередь готовы поделиться с вами знаниями и педагогическим опытом. Надеемся, что вместе мы найдём ответы на многи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>
            <a:off x="1332000" y="2492280"/>
            <a:ext cx="648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воспит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воспитанным означает знать, как себя вести. Воспитанность – это моральное качество человека, для которого уважение к людям является повседневной нормой поведения и привычным способом обращения с окружающими. Она включает: внимательность, проявление доброжелательности ко всем, готовность оказать услугу каждому, кто в этом нуждается, приветливость, деликатность, тактичность, скромность. С воспитанным человеком всегда приятно общаться. Каждый родитель хочет, чтобы его ребёнок вырос именно таким. Но не каждый задумывается, как это сделать, и нужно ли что-то делать вооб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Выяснить, какие факторы способствуют правильному воспитанию наш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й человек это прежде всего культурный человек. Культура поведения дошкольника включает совокупность полезных для общества  форм поведения в быту, в общении, в различ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ы культуры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ание не сидеть без дела, доводить начатое дело до конца, стараться всё делать самостоятельно, везде и всегда бережно относиться к своим вещам и игрушкам, любить природу, заботиться о животных, быть настойчивым в достижении своих ц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приветливым и вежливым со всеми, не перебивать и не вмешиваться в разговор взрослых, вести себя сдержанно в транспорте и других общественных местах, помогать малышам или сверстникам надеть пальто, делиться с товарищами игрушками, книгами, играть дружно, уметь признавать, что был не прав и извиниться и 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усваивает родную речь, подражая близким, поэтому так важно, чтобы он слышал не только правильную, но и вежливую речь, соответствующую правилам речевого этикета. Необходимо избавить ребёнка от грубостей, исключить из семейного обихода бранные, тем более нецензурные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но-гигиенически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ение режима, утренняя зарядка, навыки поведения за столом и самообслуживания, уход за своими вещами и игрушками и многое друг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с чего же следует начинать воспитание культуры поведе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же с создания вежливой, терпимой, сочувственной и ласковой семейной атмосферы. Ведь личный пример родителей является одним из главных факторов в воспитании. Именно вы, родители, - авторитет для ребёнка. И именно с вас он берёт пример во всём. Все эти методы дают положительные результа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C:\Users\Cont\Desktop\IMG_2507.jpg"/>
          <p:cNvPicPr/>
          <p:nvPr/>
        </p:nvPicPr>
        <p:blipFill>
          <a:blip r:embed="rId1"/>
          <a:stretch/>
        </p:blipFill>
        <p:spPr>
          <a:xfrm>
            <a:off x="684360" y="1989000"/>
            <a:ext cx="3376440" cy="414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4" descr="C:\Users\Cont\Desktop\SAM_3066.JPG"/>
          <p:cNvPicPr/>
          <p:nvPr/>
        </p:nvPicPr>
        <p:blipFill>
          <a:blip r:embed="rId2"/>
          <a:stretch/>
        </p:blipFill>
        <p:spPr>
          <a:xfrm>
            <a:off x="5291280" y="1989000"/>
            <a:ext cx="3108240" cy="414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C:\Users\Cont\Desktop\IMG_2513.jpg"/>
          <p:cNvPicPr/>
          <p:nvPr/>
        </p:nvPicPr>
        <p:blipFill>
          <a:blip r:embed="rId1"/>
          <a:stretch/>
        </p:blipFill>
        <p:spPr>
          <a:xfrm>
            <a:off x="1365120" y="1571760"/>
            <a:ext cx="1806840" cy="22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Рисунок 7" descr="C:\Users\Cont\Desktop\IMG_2115.jpg"/>
          <p:cNvPicPr/>
          <p:nvPr/>
        </p:nvPicPr>
        <p:blipFill>
          <a:blip r:embed="rId2"/>
          <a:stretch/>
        </p:blipFill>
        <p:spPr>
          <a:xfrm>
            <a:off x="3598920" y="2795760"/>
            <a:ext cx="1944720" cy="206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Рисунок 8" descr="C:\Users\Cont\Desktop\image.jpg"/>
          <p:cNvPicPr/>
          <p:nvPr/>
        </p:nvPicPr>
        <p:blipFill>
          <a:blip r:embed="rId3"/>
          <a:stretch/>
        </p:blipFill>
        <p:spPr>
          <a:xfrm>
            <a:off x="5796000" y="4365720"/>
            <a:ext cx="2670120" cy="206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связь семьи и работы ДОУ имеет огромное значение. В детском саду мы так же используем методы и приёмы, направленные на формирование у дошкольника нравственных представлений , суждений, оценок, обеспечивающих создание у детей практического опыта общественного поведения. С первой младшей группы детям прививают культурно-гигиенические навы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E:\DCIM\100CASIO\CIMG3368.JPG"/>
          <p:cNvPicPr/>
          <p:nvPr/>
        </p:nvPicPr>
        <p:blipFill>
          <a:blip r:embed="rId1"/>
          <a:stretch/>
        </p:blipFill>
        <p:spPr>
          <a:xfrm>
            <a:off x="1042920" y="1916280"/>
            <a:ext cx="297504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Picture 4" descr="C:\Users\Cont\Desktop\DSCF5857.JPG"/>
          <p:cNvPicPr/>
          <p:nvPr/>
        </p:nvPicPr>
        <p:blipFill>
          <a:blip r:embed="rId2"/>
          <a:stretch/>
        </p:blipFill>
        <p:spPr>
          <a:xfrm>
            <a:off x="2987640" y="4437000"/>
            <a:ext cx="3313080" cy="208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Picture 5" descr="E:\DCIM\100CASIO\CIMG3129.JPG"/>
          <p:cNvPicPr/>
          <p:nvPr/>
        </p:nvPicPr>
        <p:blipFill>
          <a:blip r:embed="rId3"/>
          <a:stretch/>
        </p:blipFill>
        <p:spPr>
          <a:xfrm>
            <a:off x="5113440" y="1916280"/>
            <a:ext cx="297648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C:\Users\Cont\Desktop\CIMG3367.JPG"/>
          <p:cNvPicPr/>
          <p:nvPr/>
        </p:nvPicPr>
        <p:blipFill>
          <a:blip r:embed="rId1"/>
          <a:stretch/>
        </p:blipFill>
        <p:spPr>
          <a:xfrm>
            <a:off x="3805200" y="2092320"/>
            <a:ext cx="15066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Рисунок 6" descr="C:\Users\Cont\Desktop\P1020634.JPG"/>
          <p:cNvPicPr/>
          <p:nvPr/>
        </p:nvPicPr>
        <p:blipFill>
          <a:blip r:embed="rId2"/>
          <a:stretch/>
        </p:blipFill>
        <p:spPr>
          <a:xfrm>
            <a:off x="477720" y="2421000"/>
            <a:ext cx="2398680" cy="18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Рисунок 7" descr="C:\Users\Cont\Desktop\P1020637.JPG"/>
          <p:cNvPicPr/>
          <p:nvPr/>
        </p:nvPicPr>
        <p:blipFill>
          <a:blip r:embed="rId3"/>
          <a:stretch/>
        </p:blipFill>
        <p:spPr>
          <a:xfrm>
            <a:off x="6372360" y="2392200"/>
            <a:ext cx="2455560" cy="1914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1" name="Рисунок 8" descr="C:\Users\Cont\Desktop\P1020641.JPG"/>
          <p:cNvPicPr/>
          <p:nvPr/>
        </p:nvPicPr>
        <p:blipFill>
          <a:blip r:embed="rId4"/>
          <a:stretch/>
        </p:blipFill>
        <p:spPr>
          <a:xfrm>
            <a:off x="3300480" y="4595760"/>
            <a:ext cx="2543040" cy="1968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C:\Users\Cont\Desktop\P1020652.JPG"/>
          <p:cNvPicPr/>
          <p:nvPr/>
        </p:nvPicPr>
        <p:blipFill>
          <a:blip r:embed="rId1"/>
          <a:stretch/>
        </p:blipFill>
        <p:spPr>
          <a:xfrm>
            <a:off x="828720" y="1916280"/>
            <a:ext cx="2519280" cy="187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Рисунок 5" descr="C:\Users\Cont\Desktop\P1020654.JPG"/>
          <p:cNvPicPr/>
          <p:nvPr/>
        </p:nvPicPr>
        <p:blipFill>
          <a:blip r:embed="rId2"/>
          <a:stretch/>
        </p:blipFill>
        <p:spPr>
          <a:xfrm>
            <a:off x="1042920" y="4292640"/>
            <a:ext cx="298764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5" name="Объект 6" descr="C:\Users\Cont\Desktop\CIMG3421.JPG"/>
          <p:cNvPicPr/>
          <p:nvPr/>
        </p:nvPicPr>
        <p:blipFill>
          <a:blip r:embed="rId3"/>
          <a:stretch/>
        </p:blipFill>
        <p:spPr>
          <a:xfrm>
            <a:off x="5724360" y="1859040"/>
            <a:ext cx="2384640" cy="193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" name="Рисунок 7" descr="C:\Users\Cont\Desktop\P1020647.JPG"/>
          <p:cNvPicPr/>
          <p:nvPr/>
        </p:nvPicPr>
        <p:blipFill>
          <a:blip r:embed="rId4"/>
          <a:stretch/>
        </p:blipFill>
        <p:spPr>
          <a:xfrm>
            <a:off x="5003640" y="4292640"/>
            <a:ext cx="310536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C:\Users\Cont\Desktop\CIMG3388.JPG"/>
          <p:cNvPicPr/>
          <p:nvPr/>
        </p:nvPicPr>
        <p:blipFill>
          <a:blip r:embed="rId1"/>
          <a:stretch/>
        </p:blipFill>
        <p:spPr>
          <a:xfrm>
            <a:off x="3708360" y="2997360"/>
            <a:ext cx="1873440" cy="224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Рисунок 4" descr="C:\Users\Cont\Desktop\CIMG3415.JPG"/>
          <p:cNvPicPr/>
          <p:nvPr/>
        </p:nvPicPr>
        <p:blipFill>
          <a:blip r:embed="rId2"/>
          <a:stretch/>
        </p:blipFill>
        <p:spPr>
          <a:xfrm>
            <a:off x="5902200" y="4365720"/>
            <a:ext cx="2863800" cy="213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Рисунок 8" descr="E:\DCIM\100CASIO\CIMG2480.JPG"/>
          <p:cNvPicPr/>
          <p:nvPr/>
        </p:nvPicPr>
        <p:blipFill>
          <a:blip r:embed="rId3"/>
          <a:stretch/>
        </p:blipFill>
        <p:spPr>
          <a:xfrm>
            <a:off x="426960" y="1628640"/>
            <a:ext cx="2968560" cy="23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55:21Z</dcterms:created>
  <dc:creator>homestation</dc:creator>
  <dc:description/>
  <dc:language>en-US</dc:language>
  <cp:lastModifiedBy>Cont</cp:lastModifiedBy>
  <dcterms:modified xsi:type="dcterms:W3CDTF">2017-05-23T19:58:46Z</dcterms:modified>
  <cp:revision>57</cp:revision>
  <dc:subject/>
  <dc:title>Слайд 1</dc:title>
</cp:coreProperties>
</file>