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0.wmf" ContentType="image/x-wmf"/>
  <Override PartName="/ppt/media/image4.jpeg" ContentType="image/jpeg"/>
  <Override PartName="/ppt/media/image7.jpeg" ContentType="image/jpeg"/>
  <Override PartName="/ppt/media/image15.gif" ContentType="image/gif"/>
  <Override PartName="/ppt/media/image12.wmf" ContentType="image/x-wmf"/>
  <Override PartName="/ppt/media/image6.jpeg" ContentType="image/jpeg"/>
  <Override PartName="/ppt/media/image11.gif" ContentType="image/gif"/>
  <Override PartName="/ppt/media/image9.wmf" ContentType="image/x-wmf"/>
  <Override PartName="/ppt/media/image23.wmf" ContentType="image/x-wmf"/>
  <Override PartName="/ppt/media/image22.wmf" ContentType="image/x-wmf"/>
  <Override PartName="/ppt/media/image1.jpeg" ContentType="image/jpeg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18.wmf" ContentType="image/x-wmf"/>
  <Override PartName="/ppt/media/image20.wmf" ContentType="image/x-wmf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071AE-F5D7-42A5-BDDE-BBADB66D5CA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C145-C85D-45DB-BC1C-26404DC1F5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нцузский писатель XIX столетия Анатоль Франс однажды заметил: “Учиться можно только весело… Чтобы переваривать знания, надо поглощать их с аппетитом”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592D-710F-4EC5-9621-74DE48E0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00200" y="340020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5735-2C5E-4828-9E1C-B6217197F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020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452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9842-1CA0-48C6-9626-158017661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18960" y="175248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7360" y="175248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00200" y="34002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18960" y="34002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7360" y="34002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1B8C-D0DD-47D6-BB98-84302C753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9D671-98DA-447B-B5D6-D2D360D4B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600200" y="175248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0645-6E31-4C5E-9F1D-ED6AE5DA8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52CF-8BBC-49D9-9A30-332444B5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C2A9B-44FE-46CD-811C-DF829432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72AB-B633-46C9-BEDC-BDB68C51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E6519-218B-41FE-9492-4AB10DB5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60020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BACE-2A0C-467F-9087-EE06309A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00200" y="175248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A235-4AE2-4A4B-8392-D11F6DCDC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1452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D5BD4-F3B6-4C5B-957F-02BDF6AD5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600200" y="340020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60EB-88EF-4DAC-BCA7-57250A3B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600200" y="340020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66B6-C41F-4394-8E77-2FB0F784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0020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1452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64402-2871-40B1-8ED9-5453302C7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18960" y="175248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37360" y="175248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600200" y="34002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18960" y="34002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37360" y="34002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D318-945C-44E0-8E62-AEBDA4EE7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5EA7C-009C-493A-B17E-33ECD54CD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600200" y="175248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6B970-0E0E-4E8A-A32D-0C2E0D2A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28ABD-1497-414E-9319-5DF8532C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E4E34-2B4E-4463-BE3F-13816079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BAC8A-5751-48FC-B4AE-9DD11959E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62F8-A54E-4E40-82AD-C0805129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0219B-5722-4F4E-A1C5-DEBDD3E5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60020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4F799C-7DA8-4388-A5A0-590E96F8A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1452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7D075-4504-4B61-AE93-27B6578FC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0200" y="340020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17DED-6DA8-4D5E-B50F-5D5B3C1A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600200" y="340020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E446E-4058-4B1C-851D-83BD09859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60020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1452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B7042-1DAA-41F2-B8CD-6C0B7302C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918960" y="175248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37360" y="175248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600200" y="34002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918960" y="34002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37360" y="34002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AFC41-F50A-443E-9EE6-9AC51EC0E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FD8C8-FA6B-41A8-833E-894690916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600200" y="175248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62A9B-DAD7-4FE4-9DA3-7A609361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B50A1-5CE7-415D-962F-2EA139CE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04D0-9883-4A18-B58B-A9DF2E9F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E9803-68E8-47DA-828C-F88C6298F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1BB92-1096-4B2A-A3CF-E13860AAE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0781B-3B7C-48B0-B0D5-AF96EDB7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60020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0E612-3920-4077-BEBA-769CDBFC8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1452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6FE0A-06A5-4BC6-97C5-57B44646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600200" y="340020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A27FC-0CF5-49C0-9665-F54D55152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600200" y="340020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623F8-3F85-48C5-951A-02264290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60020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1452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F6A251-BF96-44C0-96AB-F0BDCFC2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918960" y="175248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37360" y="175248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600200" y="34002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918960" y="34002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37360" y="34002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7D0B3-8C92-4B4C-B79E-5F0E772D0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266EED-C573-4D78-8A85-4D3E5BE77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FF72-D0B5-4BB6-8F05-186EF6A9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600200" y="175248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A1168-126B-446B-AECA-6E7FC4CC4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1B7AB-5632-4D6D-9426-ED48C1E90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01B1C-4C01-4755-932A-862EFCDD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6E72F-59F0-4FF2-9873-024588F5C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FF3F9-D6E2-4915-8D6D-17013188C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60020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A5D46-EEFB-462E-8169-E427A8DFC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11452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F7A0D4-4EDB-46B1-80C0-CD5B9AB9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600200" y="340020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CB1F4-FA88-4692-8A8A-B43916CD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1600200" y="340020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A9ADF-B254-478B-9612-0614479B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0020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11452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C4D7D-244F-427A-8171-D75877C32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991F-3FBD-4E95-ABD6-34762175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918960" y="175248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37360" y="175248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1600200" y="34002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918960" y="34002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237360" y="34002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B6667-78FF-4C24-AF4A-6FB62FDA6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FA73A0-C116-4ACE-9B2C-5FFD13F2A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600200" y="175248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6ACBA-0C2A-454A-AEA4-712BFC4D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0E12B-6633-40C3-954F-DC3D3B3D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3DAB6-24DC-4F61-A818-42F22F38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0A6EE-5C63-4DC6-A2AB-FD56A389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FA51B-A126-4751-B763-6CE3625CA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60020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3D0F37-55FB-48B7-9476-6F97AED0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11452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D5580-CC92-487C-9CD8-55AB1C22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600200" y="340020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52D38D-FDC0-4F88-B976-B8CE04FFF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0020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FE34-F470-4891-BB00-11C19AF9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1600200" y="340020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A25ACE-CCD0-4B07-90CD-F93C0EBD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60020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11452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67FEB8-6071-4889-8A6B-B75EF6E5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918960" y="175248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37360" y="175248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1600200" y="34002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918960" y="34002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237360" y="34002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42D44-BE26-4741-80AA-BDA824BA5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48BDC-DA83-4B51-9B43-DC2750EFA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1600200" y="175248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93345-4E41-4641-8F4B-7118406E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E45BB3-F2AB-48D1-A853-56BFD881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CBE54-FE9D-4E16-B21D-5BC1A27FB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8F194-ABE0-43E4-90F8-38C6CBA7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CAFA6-62E9-4226-BA0C-C224CE58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60020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8F88F-E741-4EC5-9D12-869451F5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452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1840-466F-43F6-AA25-6CABA939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11452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01D83-A35B-4EAA-BCF0-6A67A9E98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600200" y="340020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3F7DC-9E82-44E3-8F16-AE4CF8B6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1600200" y="340020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10E35-B741-46A1-BE6D-51AF30FE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60020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11452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1D92A-3CDF-477A-9F60-C1BFB7A84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918960" y="175248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37360" y="175248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1600200" y="34002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918960" y="34002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237360" y="34002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DF86F-575F-478E-98C2-C3487EFBB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F3DAC-E3C2-40B9-B048-A979C9653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600200" y="175248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6ADA86-E86C-4DC5-9CF0-A8C390DD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8221B-8B33-4D8C-9BE9-7F751F14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F0D91-AF97-462E-95AD-229D11B0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901DE-5941-41A5-85CB-E9047674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00200" y="340020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093C-F0C5-48DF-8754-A8B6309D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224A0-CF4B-44DE-954C-B0EBEF92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60020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226A4-1FE8-4B8B-BEF0-0B3462FC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11452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5085E5-F5B3-4CA0-9D53-EB11CCC1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600200" y="340020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4685E-6F61-4D1D-B28E-7147F1FE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1600200" y="3400200"/>
            <a:ext cx="685800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13C6C4-D3DC-4E99-8092-C3E49734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114520" y="175248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60020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114520" y="3400200"/>
            <a:ext cx="334656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0314FF-EF73-4BAF-A4B8-E7899411D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600200" y="175248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918960" y="175248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37360" y="175248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1600200" y="34002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918960" y="34002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237360" y="3400200"/>
            <a:ext cx="2207880" cy="150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F232E-D7AF-43EB-946F-503641E92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5C7F-4F45-441F-8BAC-A0CE8B9E27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600200" y="175248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7C76-B2F7-4E1D-BF54-28A7A1D4B2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D907F-585F-4328-91A3-DA975C678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23932-6B0F-4B25-894A-9427244CD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1600200" y="175248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3053-B56D-4C7C-87A1-582061208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E3E2-76F2-4C61-8AB0-D90362955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BAAC-DCA8-4897-8021-84FF3FB7F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600200" y="1752480"/>
            <a:ext cx="685800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A44B-0F68-468E-B8E8-0CC3DF62B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23.wmf"/><Relationship Id="rId4" Type="http://schemas.openxmlformats.org/officeDocument/2006/relationships/image" Target="../media/image23.wmf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8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6" descr="j0233966"/>
          <p:cNvPicPr/>
          <p:nvPr/>
        </p:nvPicPr>
        <p:blipFill>
          <a:blip r:embed="rId1"/>
          <a:stretch/>
        </p:blipFill>
        <p:spPr>
          <a:xfrm>
            <a:off x="6877080" y="189000"/>
            <a:ext cx="2009880" cy="163656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1600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0000"/>
                </a:solidFill>
                <a:latin typeface="Arial"/>
              </a:rPr>
              <a:t>Обобщение темы «Четырёхугольники»</a:t>
            </a:r>
            <a:endParaRPr b="0" lang="en-US" sz="5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1618920" y="4723920"/>
            <a:ext cx="73040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Автор – Глущенко Т.В, учитель ЦО № 43 г. Тул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5"/>
          <p:cNvSpPr/>
          <p:nvPr/>
        </p:nvSpPr>
        <p:spPr>
          <a:xfrm>
            <a:off x="1116000" y="119700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9900"/>
                </a:solidFill>
                <a:latin typeface="Arial"/>
              </a:rPr>
              <a:t>Урок геометрии в 8 кла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6" descr="NA01530_"/>
          <p:cNvPicPr/>
          <p:nvPr/>
        </p:nvPicPr>
        <p:blipFill>
          <a:blip r:embed="rId1"/>
          <a:stretch/>
        </p:blipFill>
        <p:spPr>
          <a:xfrm>
            <a:off x="-82440" y="765000"/>
            <a:ext cx="1582560" cy="32403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" descr="SY00600_"/>
          <p:cNvPicPr/>
          <p:nvPr/>
        </p:nvPicPr>
        <p:blipFill>
          <a:blip r:embed="rId2"/>
          <a:stretch/>
        </p:blipFill>
        <p:spPr>
          <a:xfrm flipH="1">
            <a:off x="-181080" y="1916280"/>
            <a:ext cx="4532400" cy="511308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1332000" y="549360"/>
            <a:ext cx="752616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6907"/>
                </a:solidFill>
                <a:latin typeface="Arial"/>
              </a:rPr>
              <a:t>Далее им встретился густой тёмный лес, который разрешил пройти только тем, 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у кого диагонали равны</a:t>
            </a:r>
            <a:r>
              <a:rPr b="0" lang="ru-RU" sz="2800" spc="-1" strike="noStrike">
                <a:solidFill>
                  <a:srgbClr val="1c6907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7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c6907"/>
                </a:solidFill>
                <a:latin typeface="Arial"/>
              </a:rPr>
              <a:t>Несколько путешественников   </a:t>
            </a:r>
            <a:br>
              <a:rPr sz="2800"/>
            </a:br>
            <a:r>
              <a:rPr b="0" lang="ru-RU" sz="2800" spc="-1" strike="noStrike">
                <a:solidFill>
                  <a:srgbClr val="1c6907"/>
                </a:solidFill>
                <a:latin typeface="Arial"/>
              </a:rPr>
              <a:t>                         остались у леса,      </a:t>
            </a:r>
            <a:br>
              <a:rPr sz="2800"/>
            </a:br>
            <a:r>
              <a:rPr b="0" lang="ru-RU" sz="2800" spc="-1" strike="noStrike">
                <a:solidFill>
                  <a:srgbClr val="1c6907"/>
                </a:solidFill>
                <a:latin typeface="Arial"/>
              </a:rPr>
              <a:t>                                 остальные </a:t>
            </a:r>
            <a:br>
              <a:rPr sz="2800"/>
            </a:br>
            <a:r>
              <a:rPr b="0" lang="ru-RU" sz="2800" spc="-1" strike="noStrike">
                <a:solidFill>
                  <a:srgbClr val="1c6907"/>
                </a:solidFill>
                <a:latin typeface="Arial"/>
              </a:rPr>
              <a:t>                                    продолжили пу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6156360" y="4630680"/>
            <a:ext cx="2701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Tahoma"/>
              </a:rPr>
              <a:t>Кто были основными соперниками </a:t>
            </a:r>
            <a:br>
              <a:rPr sz="2800"/>
            </a:br>
            <a:r>
              <a:rPr b="0" i="1" lang="ru-RU" sz="2800" spc="-1" strike="noStrike">
                <a:solidFill>
                  <a:srgbClr val="0000cc"/>
                </a:solidFill>
                <a:latin typeface="Tahoma"/>
              </a:rPr>
              <a:t>и продолжили пут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5" descr="NA01534_"/>
          <p:cNvPicPr/>
          <p:nvPr/>
        </p:nvPicPr>
        <p:blipFill>
          <a:blip r:embed="rId3"/>
          <a:stretch/>
        </p:blipFill>
        <p:spPr>
          <a:xfrm>
            <a:off x="1403280" y="2320920"/>
            <a:ext cx="44960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0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468360" y="404280"/>
            <a:ext cx="468000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брались путники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 стен царства Четырехуголь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ст через ров объявил, что пропустит тех, 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у кого диагонали пересекаются </a:t>
            </a:r>
            <a:br>
              <a:rPr sz="2800"/>
            </a:b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под прямым угл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мосту прошел только один четырехугольник, который и был провозглашен корол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3" descr="j0093389"/>
          <p:cNvPicPr/>
          <p:nvPr/>
        </p:nvPicPr>
        <p:blipFill>
          <a:blip r:embed="rId1"/>
          <a:stretch/>
        </p:blipFill>
        <p:spPr>
          <a:xfrm>
            <a:off x="4788000" y="404640"/>
            <a:ext cx="4025880" cy="449604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249120" y="5877000"/>
            <a:ext cx="857088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Кто стал королем царства Четырёхугольников? 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2"/>
          <p:cNvSpPr/>
          <p:nvPr/>
        </p:nvSpPr>
        <p:spPr>
          <a:xfrm>
            <a:off x="179280" y="2060640"/>
            <a:ext cx="4753080" cy="4537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250920" y="2781000"/>
            <a:ext cx="44654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ак, я – Квадра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й старший брат частенько посмеивается над моей фигурой - видите, какой я: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вдоль, что поперек, крепкий, устойчивый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4"/>
          <p:cNvSpPr/>
          <p:nvPr/>
        </p:nvSpPr>
        <p:spPr>
          <a:xfrm>
            <a:off x="4932360" y="692280"/>
            <a:ext cx="4032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еще у меня целых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 определ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 Я – параллелограм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 Я – прямоугольник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3. Я – ром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этому я обладаю всеми их свойствам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3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3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6"/>
          <p:cNvSpPr/>
          <p:nvPr/>
        </p:nvSpPr>
        <p:spPr>
          <a:xfrm>
            <a:off x="468360" y="404640"/>
            <a:ext cx="1295280" cy="1224000"/>
          </a:xfrm>
          <a:prstGeom prst="rect">
            <a:avLst/>
          </a:prstGeom>
          <a:solidFill>
            <a:srgbClr val="ffcc00"/>
          </a:solidFill>
          <a:ln w="9360">
            <a:solidFill>
              <a:srgbClr val="99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76000" y="259920"/>
            <a:ext cx="748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- А Вы какое применение в жизни людей находите?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727236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 наука, ни техника, без меня не обходят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 хозяйственных делах я тоже используюс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основании мраморных колонн лежит квадра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ши товарищи, играя в шахматы, фигуры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квадратам передвигаю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как меня ребятишки любят! Тетрадки у них разрисованы голубыми квадрати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хирургическом отделении для пересадки кожи применяют специальную машинку, которая вырезает кожу в виде </a:t>
            </a: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квадратов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х располагают на обожжённом участке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шахматном поряд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ельском хозяйстве применяют квадратно- гнездовой способ посадки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4" descr="j0280664"/>
          <p:cNvPicPr/>
          <p:nvPr/>
        </p:nvPicPr>
        <p:blipFill>
          <a:blip r:embed="rId1"/>
          <a:stretch/>
        </p:blipFill>
        <p:spPr>
          <a:xfrm>
            <a:off x="7236000" y="1844640"/>
            <a:ext cx="1466640" cy="18716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5" descr="j0230721"/>
          <p:cNvPicPr/>
          <p:nvPr/>
        </p:nvPicPr>
        <p:blipFill>
          <a:blip r:embed="rId2"/>
          <a:stretch/>
        </p:blipFill>
        <p:spPr>
          <a:xfrm>
            <a:off x="7093080" y="4437000"/>
            <a:ext cx="16556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1" dur="8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2" dur="8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3" dur="8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52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8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80"/>
                                        <p:tgtEl>
                                          <p:spTgt spid="3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4040"/>
                            </p:stCondLst>
                            <p:childTnLst>
                              <p:par>
                                <p:cTn id="4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4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3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7920"/>
                            </p:stCondLst>
                            <p:childTnLst>
                              <p:par>
                                <p:cTn id="4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80"/>
                                        <p:tgtEl>
                                          <p:spTgt spid="3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0640"/>
                            </p:stCondLst>
                            <p:childTnLst>
                              <p:par>
                                <p:cTn id="4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1" dur="8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80"/>
                                        <p:tgtEl>
                                          <p:spTgt spid="3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6800"/>
                            </p:stCondLst>
                            <p:childTnLst>
                              <p:par>
                                <p:cTn id="4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7" dur="80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9" dur="80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AutoShape 2"/>
          <p:cNvSpPr/>
          <p:nvPr/>
        </p:nvSpPr>
        <p:spPr>
          <a:xfrm>
            <a:off x="5435640" y="981000"/>
            <a:ext cx="3311640" cy="5327640"/>
          </a:xfrm>
          <a:prstGeom prst="diamond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8640" y="303120"/>
            <a:ext cx="8229600" cy="6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Вы, очевидно младший из семьи?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6408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  Да, я – ромб. Один школьник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вопрос учителя: «Что такое ромб?» - ответил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Ромб – это квадрат, которому дал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ше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-   И это похоже на правд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ечно. У нашего отца круто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рав и рука тяжелая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рнул я как-то за косичку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у из диагоналей и стал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квадрата ромб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сейчас я –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параллелограмм, </a:t>
            </a:r>
            <a:br>
              <a:rPr sz="2400"/>
            </a:b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все стороны которого рав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ещё у меня новые свойст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3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3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8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7120"/>
                            </p:stCondLst>
                            <p:childTnLst>
                              <p:par>
                                <p:cTn id="4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8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7960"/>
                            </p:stCondLst>
                            <p:childTnLst>
                              <p:par>
                                <p:cTn id="4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2240"/>
                            </p:stCondLst>
                            <p:childTnLst>
                              <p:par>
                                <p:cTn id="4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8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15200"/>
                            </p:stCondLst>
                            <p:childTnLst>
                              <p:par>
                                <p:cTn id="4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8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5320"/>
                            </p:stCondLst>
                            <p:childTnLst>
                              <p:par>
                                <p:cTn id="4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8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AutoShape 10"/>
          <p:cNvSpPr/>
          <p:nvPr/>
        </p:nvSpPr>
        <p:spPr>
          <a:xfrm rot="18408000">
            <a:off x="404640" y="826920"/>
            <a:ext cx="1728720" cy="1315800"/>
          </a:xfrm>
          <a:prstGeom prst="parallelogram">
            <a:avLst>
              <a:gd name="adj" fmla="val 29074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468000" y="2491920"/>
            <a:ext cx="53989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юбят меня рисовать на тканях художники, используют в узорах ковровщиц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иточники укладывают плитк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иде ромба,– из них получаются красивые уз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ечный домкрат для легковых автомобилей также имеет форму </a:t>
            </a: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ромб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1908000" y="475920"/>
            <a:ext cx="7027920" cy="12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c1c1c"/>
                </a:solidFill>
                <a:latin typeface="Arial"/>
              </a:rPr>
              <a:t>- я не имею большого хозяйственного значения, </a:t>
            </a:r>
            <a:br>
              <a:rPr sz="3200"/>
            </a:br>
            <a:r>
              <a:rPr b="0" lang="ru-RU" sz="3200" spc="-1" strike="noStrike">
                <a:solidFill>
                  <a:srgbClr val="1c1c1c"/>
                </a:solidFill>
                <a:latin typeface="Arial"/>
              </a:rPr>
              <a:t>зато мною пользуются в искусстве.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02" name="Picture 4" descr="j0339500"/>
          <p:cNvPicPr/>
          <p:nvPr/>
        </p:nvPicPr>
        <p:blipFill>
          <a:blip r:embed="rId1"/>
          <a:stretch/>
        </p:blipFill>
        <p:spPr>
          <a:xfrm>
            <a:off x="6659640" y="3933720"/>
            <a:ext cx="1368360" cy="1368360"/>
          </a:xfrm>
          <a:prstGeom prst="rect">
            <a:avLst/>
          </a:prstGeom>
          <a:ln w="0">
            <a:noFill/>
          </a:ln>
        </p:spPr>
      </p:pic>
      <p:grpSp>
        <p:nvGrpSpPr>
          <p:cNvPr id="403" name="Group 5"/>
          <p:cNvGrpSpPr/>
          <p:nvPr/>
        </p:nvGrpSpPr>
        <p:grpSpPr>
          <a:xfrm>
            <a:off x="5940360" y="1989000"/>
            <a:ext cx="1511280" cy="1656000"/>
            <a:chOff x="5940360" y="1989000"/>
            <a:chExt cx="1511280" cy="1656000"/>
          </a:xfrm>
        </p:grpSpPr>
        <p:pic>
          <p:nvPicPr>
            <p:cNvPr id="404" name="Picture 6" descr="j0344425"/>
            <p:cNvPicPr/>
            <p:nvPr/>
          </p:nvPicPr>
          <p:blipFill>
            <a:blip r:embed="rId2"/>
            <a:stretch/>
          </p:blipFill>
          <p:spPr>
            <a:xfrm>
              <a:off x="6368040" y="2675160"/>
              <a:ext cx="1083600" cy="96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5" name="Picture 7" descr="j0344425"/>
            <p:cNvPicPr/>
            <p:nvPr/>
          </p:nvPicPr>
          <p:blipFill>
            <a:blip r:embed="rId3"/>
            <a:stretch/>
          </p:blipFill>
          <p:spPr>
            <a:xfrm>
              <a:off x="6410520" y="1989000"/>
              <a:ext cx="1000440" cy="86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" name="Picture 8" descr="j0344425"/>
            <p:cNvPicPr/>
            <p:nvPr/>
          </p:nvPicPr>
          <p:blipFill>
            <a:blip r:embed="rId4"/>
            <a:stretch/>
          </p:blipFill>
          <p:spPr>
            <a:xfrm>
              <a:off x="5940360" y="2410920"/>
              <a:ext cx="1000440" cy="868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7" name="Picture 9" descr="j0344425"/>
          <p:cNvPicPr/>
          <p:nvPr/>
        </p:nvPicPr>
        <p:blipFill>
          <a:blip r:embed="rId5"/>
          <a:stretch/>
        </p:blipFill>
        <p:spPr>
          <a:xfrm>
            <a:off x="7380360" y="2276640"/>
            <a:ext cx="1079280" cy="104760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11"/>
          <p:cNvSpPr/>
          <p:nvPr/>
        </p:nvSpPr>
        <p:spPr>
          <a:xfrm>
            <a:off x="539640" y="5516640"/>
            <a:ext cx="8280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ahoma"/>
              </a:rPr>
              <a:t>- Спасибо! Не обижайтесь на отца. 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Tahoma"/>
              </a:rPr>
              <a:t>Благодаря ему Вы так радуете глаз люд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mb dir="horz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0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3560"/>
                            </p:stCondLst>
                            <p:childTnLst>
                              <p:par>
                                <p:cTn id="4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6320"/>
                            </p:stCondLst>
                            <p:childTnLst>
                              <p:par>
                                <p:cTn id="50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6820"/>
                            </p:stCondLst>
                            <p:childTnLst>
                              <p:par>
                                <p:cTn id="5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7320"/>
                            </p:stCondLst>
                            <p:childTnLst>
                              <p:par>
                                <p:cTn id="5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9640"/>
                            </p:stCondLst>
                            <p:childTnLst>
                              <p:par>
                                <p:cTn id="5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7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AutoShape 2"/>
          <p:cNvSpPr/>
          <p:nvPr/>
        </p:nvSpPr>
        <p:spPr>
          <a:xfrm rot="10800000">
            <a:off x="468360" y="3284280"/>
            <a:ext cx="4392720" cy="3095640"/>
          </a:xfrm>
          <a:custGeom>
            <a:avLst/>
            <a:gdLst>
              <a:gd name="textAreaLeft" fmla="*/ 868320 w 4392720"/>
              <a:gd name="textAreaRight" fmla="*/ 3524400 w 4392720"/>
              <a:gd name="textAreaTop" fmla="*/ 612000 h 3095640"/>
              <a:gd name="textAreaBottom" fmla="*/ 248364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942" y="21600"/>
                </a:lnTo>
                <a:lnTo>
                  <a:pt x="1665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77708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Уважаемая дама, скажите и Вы несколько слов о себе. 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1376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я зовут трапеция. Я – четырехугольник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которого две стороны параллельны, а две другие – не параллель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виду мы бываем разные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 конечно, у нас есть свои свойства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4500720" y="5950080"/>
            <a:ext cx="432108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Arial"/>
              </a:rPr>
              <a:t>Благодарю Ва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6"/>
          <p:cNvSpPr/>
          <p:nvPr/>
        </p:nvSpPr>
        <p:spPr>
          <a:xfrm>
            <a:off x="4788000" y="3213000"/>
            <a:ext cx="3960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школьные учителя только и думают, как бы, кому-нибудь задачку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 мою среднюю линию подсунуть!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 головоломках всяких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пеция да трапе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0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3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3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3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3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8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7760"/>
                            </p:stCondLst>
                            <p:childTnLst>
                              <p:par>
                                <p:cTn id="5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80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7" dur="8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8" dur="8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80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353440" cy="1417680"/>
          </a:xfrm>
          <a:prstGeom prst="rect">
            <a:avLst/>
          </a:prstGeom>
          <a:gradFill rotWithShape="0">
            <a:gsLst>
              <a:gs pos="0">
                <a:srgbClr val="88d52b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Мы побывали в семействе четырёхугольников и узнали, что: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"/>
              </a:rPr>
              <a:t>Противолежащие стороны равн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у ромба, квадрата, параллелограмма, прямоугольник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"/>
              </a:rPr>
              <a:t>Противолежащие углы равн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у квадрата,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араллелограмма, прямоугольника, ромб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"/>
              </a:rPr>
              <a:t>Диагонали равн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 прямоугольника и квадрат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"/>
              </a:rPr>
              <a:t>Диагонали взаимно перпендикулярн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 ромба и квадра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"/>
              </a:rPr>
              <a:t>Диагонали являются биссектрисами угло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 ромба, квадра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65920" indent="-5659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c0000"/>
                </a:solidFill>
                <a:latin typeface="Arial"/>
              </a:rPr>
              <a:t>Диагонали равны и являются биссектрисам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 квадра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0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0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2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20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2000" fill="hold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2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2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20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000" fill="hold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20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2000" fill="hold"/>
                                        <p:tgtEl>
                                          <p:spTgt spid="4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WordArt 2"/>
          <p:cNvSpPr txBox="1"/>
          <p:nvPr/>
        </p:nvSpPr>
        <p:spPr>
          <a:xfrm>
            <a:off x="1763640" y="1413000"/>
            <a:ext cx="69120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 встречи на передаче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«Пока все дома»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417" name="Picture 3" descr="MAGGIONI"/>
          <p:cNvPicPr/>
          <p:nvPr/>
        </p:nvPicPr>
        <p:blipFill>
          <a:blip r:embed="rId1"/>
          <a:stretch/>
        </p:blipFill>
        <p:spPr>
          <a:xfrm>
            <a:off x="-252360" y="2133720"/>
            <a:ext cx="380988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0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3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3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4"/>
          <p:cNvSpPr/>
          <p:nvPr/>
        </p:nvSpPr>
        <p:spPr>
          <a:xfrm>
            <a:off x="2050920" y="4581360"/>
            <a:ext cx="7093080" cy="1216080"/>
          </a:xfrm>
          <a:prstGeom prst="rect">
            <a:avLst/>
          </a:prstGeom>
          <a:gradFill rotWithShape="0">
            <a:gsLst>
              <a:gs pos="0">
                <a:srgbClr val="88d52b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Comic Sans MS"/>
              </a:rPr>
              <a:t>Дорогу осилит идущий, геометрию – думающ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5" descr="AMDOUBT"/>
          <p:cNvPicPr/>
          <p:nvPr/>
        </p:nvPicPr>
        <p:blipFill>
          <a:blip r:embed="rId1"/>
          <a:stretch/>
        </p:blipFill>
        <p:spPr>
          <a:xfrm>
            <a:off x="1116000" y="3068640"/>
            <a:ext cx="1144440" cy="2773440"/>
          </a:xfrm>
          <a:prstGeom prst="rect">
            <a:avLst/>
          </a:prstGeom>
          <a:ln w="0">
            <a:noFill/>
          </a:ln>
        </p:spPr>
      </p:pic>
      <p:sp>
        <p:nvSpPr>
          <p:cNvPr id="341" name="WordArt 6"/>
          <p:cNvSpPr txBox="1"/>
          <p:nvPr/>
        </p:nvSpPr>
        <p:spPr>
          <a:xfrm>
            <a:off x="1476360" y="1484280"/>
            <a:ext cx="719928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«Пока все дома»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семействе четырёхугольников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1403280" y="1125360"/>
            <a:ext cx="741672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Дорогие друзья!</a:t>
            </a:r>
            <a:br>
              <a:rPr sz="3200"/>
            </a:b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Популярная телепередача </a:t>
            </a:r>
            <a:br>
              <a:rPr sz="3200"/>
            </a:b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«Пока все дома» </a:t>
            </a:r>
            <a:br>
              <a:rPr sz="3200"/>
            </a:br>
            <a:r>
              <a:rPr b="0" lang="ru-RU" sz="3200" spc="-1" strike="noStrike">
                <a:solidFill>
                  <a:srgbClr val="0000cc"/>
                </a:solidFill>
                <a:latin typeface="Comic Sans MS"/>
              </a:rPr>
              <a:t>сегодня гостит в известном  семействе Четырехугольни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3" descr="MAGGIONI"/>
          <p:cNvPicPr/>
          <p:nvPr/>
        </p:nvPicPr>
        <p:blipFill>
          <a:blip r:embed="rId1"/>
          <a:stretch/>
        </p:blipFill>
        <p:spPr>
          <a:xfrm>
            <a:off x="-324000" y="2133720"/>
            <a:ext cx="381024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3" presetSubtype="27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69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Arial"/>
              </a:rPr>
              <a:t>Кто лишний в семье?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684360" y="1557360"/>
            <a:ext cx="1368360" cy="2376360"/>
          </a:xfrm>
          <a:prstGeom prst="rect">
            <a:avLst/>
          </a:prstGeom>
          <a:gradFill rotWithShape="0">
            <a:gsLst>
              <a:gs pos="0">
                <a:srgbClr val="007600"/>
              </a:gs>
              <a:gs pos="100000">
                <a:srgbClr val="00ff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4">
            <a:hlinkClick r:id="rId1" action="ppaction://hlinksldjump"/>
          </p:cNvPr>
          <p:cNvSpPr/>
          <p:nvPr/>
        </p:nvSpPr>
        <p:spPr>
          <a:xfrm>
            <a:off x="6372360" y="836640"/>
            <a:ext cx="1946160" cy="3097080"/>
          </a:xfrm>
          <a:prstGeom prst="diamond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"/>
          <p:cNvSpPr/>
          <p:nvPr/>
        </p:nvSpPr>
        <p:spPr>
          <a:xfrm>
            <a:off x="3059280" y="4292640"/>
            <a:ext cx="2016000" cy="2016000"/>
          </a:xfrm>
          <a:prstGeom prst="rect">
            <a:avLst/>
          </a:prstGeom>
          <a:gradFill rotWithShape="0">
            <a:gsLst>
              <a:gs pos="0">
                <a:srgbClr val="2f5e76"/>
              </a:gs>
              <a:gs pos="50000">
                <a:srgbClr val="66ccff"/>
              </a:gs>
              <a:gs pos="100000">
                <a:srgbClr val="2f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6">
            <a:hlinkClick r:id="rId2" action="ppaction://hlinksldjump"/>
          </p:cNvPr>
          <p:cNvSpPr/>
          <p:nvPr/>
        </p:nvSpPr>
        <p:spPr>
          <a:xfrm rot="10800000">
            <a:off x="2771280" y="1556640"/>
            <a:ext cx="2737080" cy="2374920"/>
          </a:xfrm>
          <a:custGeom>
            <a:avLst/>
            <a:gdLst>
              <a:gd name="textAreaLeft" fmla="*/ 570240 w 2737080"/>
              <a:gd name="textAreaRight" fmla="*/ 2166840 w 2737080"/>
              <a:gd name="textAreaTop" fmla="*/ 494640 h 2374920"/>
              <a:gd name="textAreaBottom" fmla="*/ 1880280 h 237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7"/>
          <p:cNvSpPr/>
          <p:nvPr/>
        </p:nvSpPr>
        <p:spPr>
          <a:xfrm>
            <a:off x="324000" y="4221000"/>
            <a:ext cx="2520720" cy="2159280"/>
          </a:xfrm>
          <a:prstGeom prst="triangle">
            <a:avLst>
              <a:gd name="adj" fmla="val 50000"/>
            </a:avLst>
          </a:prstGeom>
          <a:solidFill>
            <a:srgbClr val="967d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8">
            <a:hlinkClick r:id="rId3" action="ppaction://hlinksldjump"/>
          </p:cNvPr>
          <p:cNvSpPr/>
          <p:nvPr/>
        </p:nvSpPr>
        <p:spPr>
          <a:xfrm>
            <a:off x="5435640" y="4437000"/>
            <a:ext cx="3168720" cy="1800360"/>
          </a:xfrm>
          <a:prstGeom prst="parallelogram">
            <a:avLst>
              <a:gd name="adj" fmla="val 44001"/>
            </a:avLst>
          </a:prstGeom>
          <a:gradFill rotWithShape="0">
            <a:gsLst>
              <a:gs pos="0">
                <a:srgbClr val="ff00ff"/>
              </a:gs>
              <a:gs pos="100000">
                <a:srgbClr val="7600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1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AutoShape 2"/>
          <p:cNvSpPr/>
          <p:nvPr/>
        </p:nvSpPr>
        <p:spPr>
          <a:xfrm>
            <a:off x="684360" y="3933720"/>
            <a:ext cx="7632720" cy="2519640"/>
          </a:xfrm>
          <a:prstGeom prst="flowChartInputOutpu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755280" y="1557360"/>
            <a:ext cx="799164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- Скажите, пожалуйста, как велика ваша семь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Как Вы уже вероятно поняли, отец семейства – Я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 меня есть 3 сына: прямоугольник, ромб, квадрат. Вместе с нами живет наша родственница Трапе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- Расскажите, пожалуйста, немного о се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Я –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четырехугольник, противоположные стороны которого попарно параллельн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Arial"/>
              </a:rPr>
              <a:t>- Сейчас узнаем, Вас зовут…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С первым вопросом наш корреспондент обращается к отцу семейства: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4" name="Text Box 5"/>
          <p:cNvSpPr/>
          <p:nvPr/>
        </p:nvSpPr>
        <p:spPr>
          <a:xfrm>
            <a:off x="755640" y="4292640"/>
            <a:ext cx="734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ahoma"/>
              </a:rPr>
              <a:t>- И вас никогда, никто, ни с кем не пута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Нет, конечно, ведь у меня свои признаки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вестные всем:   1…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…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" dur="8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80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208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4840"/>
                            </p:stCondLst>
                            <p:childTnLst>
                              <p:par>
                                <p:cTn id="1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910880" y="404280"/>
            <a:ext cx="7232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- Простите, а где Вы служите?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В основном, занимаюсь наукой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4608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физике применяют параллелограмм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изучении сил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 нахождении равнодействующей сил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жизни </a:t>
            </a: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параллелограм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рамы велосипедов, мотоциклов, где для жёсткости проведена диагонал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4" descr="j0305665"/>
          <p:cNvPicPr/>
          <p:nvPr/>
        </p:nvPicPr>
        <p:blipFill>
          <a:blip r:embed="rId1"/>
          <a:stretch/>
        </p:blipFill>
        <p:spPr>
          <a:xfrm>
            <a:off x="5508720" y="3933720"/>
            <a:ext cx="1800000" cy="1343160"/>
          </a:xfrm>
          <a:prstGeom prst="rect">
            <a:avLst/>
          </a:prstGeom>
          <a:ln w="0">
            <a:noFill/>
          </a:ln>
        </p:spPr>
      </p:pic>
      <p:sp>
        <p:nvSpPr>
          <p:cNvPr id="358" name="AutoShape 5"/>
          <p:cNvSpPr/>
          <p:nvPr/>
        </p:nvSpPr>
        <p:spPr>
          <a:xfrm>
            <a:off x="395280" y="476280"/>
            <a:ext cx="2305080" cy="914400"/>
          </a:xfrm>
          <a:prstGeom prst="parallelogram">
            <a:avLst>
              <a:gd name="adj" fmla="val 6302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6"/>
          <p:cNvSpPr/>
          <p:nvPr/>
        </p:nvSpPr>
        <p:spPr>
          <a:xfrm>
            <a:off x="5076720" y="2060640"/>
            <a:ext cx="1728720" cy="1224000"/>
          </a:xfrm>
          <a:prstGeom prst="parallelogram">
            <a:avLst>
              <a:gd name="adj" fmla="val 35309"/>
            </a:avLst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11"/>
          <p:cNvGrpSpPr/>
          <p:nvPr/>
        </p:nvGrpSpPr>
        <p:grpSpPr>
          <a:xfrm>
            <a:off x="5076720" y="2060640"/>
            <a:ext cx="1728720" cy="1224000"/>
            <a:chOff x="5076720" y="2060640"/>
            <a:chExt cx="1728720" cy="1224000"/>
          </a:xfrm>
        </p:grpSpPr>
        <p:sp>
          <p:nvSpPr>
            <p:cNvPr id="361" name="Line 7"/>
            <p:cNvSpPr/>
            <p:nvPr/>
          </p:nvSpPr>
          <p:spPr>
            <a:xfrm flipV="1">
              <a:off x="5076720" y="2060640"/>
              <a:ext cx="172872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8"/>
            <p:cNvSpPr/>
            <p:nvPr/>
          </p:nvSpPr>
          <p:spPr>
            <a:xfrm flipV="1">
              <a:off x="5076720" y="2060640"/>
              <a:ext cx="455760" cy="122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9"/>
            <p:cNvSpPr/>
            <p:nvPr/>
          </p:nvSpPr>
          <p:spPr>
            <a:xfrm>
              <a:off x="5076720" y="3284640"/>
              <a:ext cx="127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Text Box 10"/>
          <p:cNvSpPr/>
          <p:nvPr/>
        </p:nvSpPr>
        <p:spPr>
          <a:xfrm>
            <a:off x="468360" y="551664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cc"/>
                </a:solidFill>
                <a:latin typeface="Tahoma"/>
              </a:rPr>
              <a:t>Благодарю Вас. Разрешите задать несколько вопросов Вашему старшему сы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280"/>
                            </p:stCondLst>
                            <p:childTnLst>
                              <p:par>
                                <p:cTn id="1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8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6280"/>
                            </p:stCondLst>
                            <p:childTnLst>
                              <p:par>
                                <p:cTn id="1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" dur="3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1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1332000" y="4292640"/>
            <a:ext cx="6337080" cy="2133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6908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Вы похожи на своего отца, 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94920" y="3435120"/>
            <a:ext cx="8280360" cy="8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 – </a:t>
            </a:r>
            <a:r>
              <a:rPr b="0" lang="ru-RU" sz="2800" spc="-1" strike="noStrike">
                <a:solidFill>
                  <a:srgbClr val="cc0000"/>
                </a:solidFill>
                <a:latin typeface="Arial"/>
              </a:rPr>
              <a:t>параллелограмм, у которого углы прям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Так как же меня зовут?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826920" y="1413000"/>
            <a:ext cx="7490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Tahoma"/>
              </a:rPr>
              <a:t>но все-таки, между вами наблюдается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Tahoma"/>
              </a:rPr>
              <a:t>существенная разница. Не могли ли Вы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00cc"/>
                </a:solidFill>
                <a:latin typeface="Tahoma"/>
              </a:rPr>
              <a:t>рассказать нам, в чем она заключается?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 удовольств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6"/>
          <p:cNvSpPr/>
          <p:nvPr/>
        </p:nvSpPr>
        <p:spPr>
          <a:xfrm>
            <a:off x="1042920" y="4797360"/>
            <a:ext cx="7201080" cy="14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11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авильно, прямоугольник!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деюсь и свойства мои знаете?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5" dur="8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771280" y="475920"/>
            <a:ext cx="604836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- А какую пользу Вы приносите людям?</a:t>
            </a:r>
            <a:endParaRPr b="0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61930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оугольник несёт красоту, чёткость, строй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глянитесь вокруг: стены, пол, потолок, поверхность стола, футбольное поле, грани карандашей, даже записная книжка – все это прямоугольники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робуйте построить дом или сделать раму для картины, не зная свойств прямоуголь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6"/>
          <p:cNvSpPr/>
          <p:nvPr/>
        </p:nvSpPr>
        <p:spPr>
          <a:xfrm>
            <a:off x="684360" y="404640"/>
            <a:ext cx="2376360" cy="1079640"/>
          </a:xfrm>
          <a:prstGeom prst="rect">
            <a:avLst/>
          </a:prstGeom>
          <a:solidFill>
            <a:srgbClr val="cc66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468360" y="5805360"/>
            <a:ext cx="80643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ahoma"/>
              </a:rPr>
              <a:t>- Большое спасибо! Желаю Вам успехов! </a:t>
            </a:r>
            <a:br>
              <a:rPr sz="2800"/>
            </a:br>
            <a:r>
              <a:rPr b="0" lang="ru-RU" sz="2800" spc="-1" strike="noStrike">
                <a:solidFill>
                  <a:srgbClr val="0000cc"/>
                </a:solidFill>
                <a:latin typeface="Tahoma"/>
              </a:rPr>
              <a:t>  Обратимся к следующему сыну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9" descr="j0205582"/>
          <p:cNvPicPr/>
          <p:nvPr/>
        </p:nvPicPr>
        <p:blipFill>
          <a:blip r:embed="rId1"/>
          <a:stretch/>
        </p:blipFill>
        <p:spPr>
          <a:xfrm>
            <a:off x="6659640" y="1760400"/>
            <a:ext cx="1944720" cy="178452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0" descr="j0235319"/>
          <p:cNvPicPr/>
          <p:nvPr/>
        </p:nvPicPr>
        <p:blipFill>
          <a:blip r:embed="rId2"/>
          <a:stretch/>
        </p:blipFill>
        <p:spPr>
          <a:xfrm>
            <a:off x="6659640" y="3933720"/>
            <a:ext cx="2016000" cy="16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0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3380"/>
                            </p:stCondLst>
                            <p:childTnLst>
                              <p:par>
                                <p:cTn id="2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8380"/>
                            </p:stCondLst>
                            <p:childTnLst>
                              <p:par>
                                <p:cTn id="23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39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9380"/>
                            </p:stCondLst>
                            <p:childTnLst>
                              <p:par>
                                <p:cTn id="2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12420"/>
                            </p:stCondLst>
                            <p:childTnLst>
                              <p:par>
                                <p:cTn id="24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9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67564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Arial"/>
              </a:rPr>
              <a:t>Извините, пожалуйста, а как Ваше имя?</a:t>
            </a:r>
            <a:br>
              <a:rPr sz="2800"/>
            </a:br>
            <a:r>
              <a:rPr b="0" lang="ru-RU" sz="2800" spc="-1" strike="noStrike">
                <a:solidFill>
                  <a:srgbClr val="1c1c1c"/>
                </a:solidFill>
                <a:latin typeface="Arial"/>
              </a:rPr>
              <a:t>- Меня зовут так же, как и моего </a:t>
            </a:r>
            <a:br>
              <a:rPr sz="2800"/>
            </a:br>
            <a:r>
              <a:rPr b="0" lang="ru-RU" sz="2800" spc="-1" strike="noStrike">
                <a:solidFill>
                  <a:srgbClr val="1c1c1c"/>
                </a:solidFill>
                <a:latin typeface="Arial"/>
              </a:rPr>
              <a:t>пра-пра-пра-дедушку. Хотите узнать как? </a:t>
            </a:r>
            <a:br>
              <a:rPr sz="2800"/>
            </a:br>
            <a:r>
              <a:rPr b="0" lang="ru-RU" sz="2800" spc="-1" strike="noStrike">
                <a:solidFill>
                  <a:srgbClr val="1c1c1c"/>
                </a:solidFill>
                <a:latin typeface="Arial"/>
              </a:rPr>
              <a:t>Расскажу вам сказку.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68000" y="2133360"/>
            <a:ext cx="81342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или все четырехугольники выбрать себе короля. Долго спорили и не могли придти к одному мнен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вот один старый параллелограмм сказал: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Давайте отправимся в царство Четырехугольников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первым придет, тот и будет королем»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согласились и отправились в путешеств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ути друзьям повстречалась река, которая сказала: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«Переплывут меня только те, у кого диагонали пересекаются и точкой пересечения делятся пополам»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Часть четырехугольников осталась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берегу, остальные благополучно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плыли и отправились дальш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4" descr="карандаш"/>
          <p:cNvPicPr/>
          <p:nvPr/>
        </p:nvPicPr>
        <p:blipFill>
          <a:blip r:embed="rId1"/>
          <a:stretch/>
        </p:blipFill>
        <p:spPr>
          <a:xfrm>
            <a:off x="7093080" y="4437000"/>
            <a:ext cx="1800000" cy="206064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5"/>
          <p:cNvSpPr/>
          <p:nvPr/>
        </p:nvSpPr>
        <p:spPr>
          <a:xfrm>
            <a:off x="684360" y="5877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cc"/>
                </a:solidFill>
                <a:latin typeface="Tahoma"/>
              </a:rPr>
              <a:t>Кто первым  вышел из соревнова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4360"/>
                            </p:stCondLst>
                            <p:childTnLst>
                              <p:par>
                                <p:cTn id="2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2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9,-119,11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1" dur="8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2T11:36:13Z</dcterms:created>
  <dc:creator>СНП</dc:creator>
  <dc:description/>
  <dc:language>en-US</dc:language>
  <cp:lastModifiedBy>User</cp:lastModifiedBy>
  <dcterms:modified xsi:type="dcterms:W3CDTF">2018-06-30T03:47:55Z</dcterms:modified>
  <cp:revision>4</cp:revision>
  <dc:subject/>
  <dc:title>Семейство четырёхугольников</dc:title>
</cp:coreProperties>
</file>