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0.wmf" ContentType="image/x-wmf"/>
  <Override PartName="/ppt/media/image4.jpeg" ContentType="image/jpeg"/>
  <Override PartName="/ppt/media/image7.jpeg" ContentType="image/jpeg"/>
  <Override PartName="/ppt/media/image15.gif" ContentType="image/gif"/>
  <Override PartName="/ppt/media/image12.wmf" ContentType="image/x-wmf"/>
  <Override PartName="/ppt/media/image6.jpeg" ContentType="image/jpeg"/>
  <Override PartName="/ppt/media/image11.gif" ContentType="image/gif"/>
  <Override PartName="/ppt/media/image9.wmf" ContentType="image/x-wmf"/>
  <Override PartName="/ppt/media/image23.wmf" ContentType="image/x-wmf"/>
  <Override PartName="/ppt/media/image22.wmf" ContentType="image/x-wmf"/>
  <Override PartName="/ppt/media/image1.jpeg" ContentType="image/jpeg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671DE-8B46-4BAD-B590-3B286312FF4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84035-018D-40E0-A035-B7DF68B6F2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ранцузский писатель XIX столетия Анатоль Франс однажды заметил: “Учиться можно только весело… Чтобы переваривать знания, надо поглощать их с аппетитом”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924B-3EFB-4D4A-890B-D7811FD31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685800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00200" y="3400200"/>
            <a:ext cx="685800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E1F9-1B4C-44D4-9200-5256C28E3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14520" y="175248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00200" y="34002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14520" y="34002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D0E8-86B1-46B8-B0A2-D28A4FD44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18960" y="175248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7360" y="175248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00200" y="340020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18960" y="340020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7360" y="340020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7985-BB93-4851-B8D6-E900631F5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B96B4-E24B-4AB5-9C88-2CE6E0B2E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600200" y="1752480"/>
            <a:ext cx="68580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DCF5B-9A89-4561-9A57-0AC441875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68580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2125A-5995-4829-A066-DB7CFC38C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33465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14520" y="1752480"/>
            <a:ext cx="33465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F3037-4E09-48B4-8582-1811D946E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AC4EC-2C18-4377-9B43-DBFE752AF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D79B0-3324-4C53-8475-0686EB8AA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14520" y="1752480"/>
            <a:ext cx="33465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600200" y="34002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AF357-D0C2-4D83-84BC-3C81FF7A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00200" y="1752480"/>
            <a:ext cx="68580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D152-166B-4330-B105-F8EB6D407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33465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4520" y="175248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14520" y="34002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2E721-5A71-4526-B8F4-EA5F854B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4520" y="175248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00200" y="3400200"/>
            <a:ext cx="685800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85974-A524-4358-9A61-9EED3EA0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685800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600200" y="3400200"/>
            <a:ext cx="685800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DB877-A6F0-4E25-BFD2-DAB28ADF2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4520" y="175248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00200" y="34002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14520" y="34002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7C4C0-70C8-437E-9987-5B771BA7C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18960" y="175248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37360" y="175248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600200" y="340020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18960" y="340020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37360" y="340020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0F077-6A9D-4A52-A702-B5702E89B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51625-D747-464A-A0BD-386CAE1EC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600200" y="1752480"/>
            <a:ext cx="68580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9C2FB-D8C7-4258-B227-CA329C7F2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68580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58BDF-FA73-4AA8-A6F1-C61322634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33465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14520" y="1752480"/>
            <a:ext cx="33465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979C3-40CC-4D37-8D48-537CD9F0D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DDCB7-DAFC-4B5F-B797-3F8F70049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68580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5CA7-FC8C-46D6-ACC1-C5AF9DA9E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D53D3-C7AC-4CB6-8C1D-FB135FAA6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14520" y="1752480"/>
            <a:ext cx="33465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600200" y="34002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93C9A-558A-4C05-9BC2-3817D102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33465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14520" y="175248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14520" y="34002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A9154D-97A2-40BC-B4F8-8D79428F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14520" y="175248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600200" y="3400200"/>
            <a:ext cx="685800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C69E2-A31C-4C7D-A61F-DFADE089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685800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600200" y="3400200"/>
            <a:ext cx="685800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B22EC-288F-421F-9266-A9FEA3C3A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14520" y="175248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600200" y="34002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14520" y="34002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D8AE3-58D8-4826-BC3A-FF066CC54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918960" y="175248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37360" y="175248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600200" y="340020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918960" y="340020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37360" y="340020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C3EC2-34B3-469C-850A-546F5AD2C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C82F1-05BB-491C-BC6D-C915F3378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600200" y="1752480"/>
            <a:ext cx="68580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492E8-74D1-434C-A198-9942499BF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68580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7CD50-4551-4DED-BAE9-C4B308EA1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33465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14520" y="1752480"/>
            <a:ext cx="33465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3A48-F5CF-4859-9BF7-68CE25ED3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33465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14520" y="1752480"/>
            <a:ext cx="33465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A39D0-E696-44C4-93F1-15A7F89BA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A4F90-45B1-445A-9BC8-5CE1032F6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6963F-B015-4E06-9616-C27290B1D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14520" y="1752480"/>
            <a:ext cx="33465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600200" y="34002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C67B6-4051-4EEA-ABF2-B4E448A5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33465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14520" y="175248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14520" y="34002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5087D-DF28-42CF-8C97-29662FD1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14520" y="175248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600200" y="3400200"/>
            <a:ext cx="685800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96E10-D71E-4A86-AFC4-14C0D1BC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685800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600200" y="3400200"/>
            <a:ext cx="685800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F533C-B227-4B39-8224-238C60E3E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14520" y="175248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600200" y="34002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14520" y="34002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2296A4-E4D3-48EC-A11A-CDEF7B483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918960" y="175248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37360" y="175248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600200" y="340020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918960" y="340020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237360" y="340020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B8A5F-48D6-42D1-BC57-C6942940A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39128-A3DC-4F4F-A883-4905AEEC6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E045-EBBA-4EBD-95C8-D37180087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600200" y="1752480"/>
            <a:ext cx="68580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A029C-7068-4A62-969C-1BA52E365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68580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94948-C846-4E06-8243-46D05B66F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33465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14520" y="1752480"/>
            <a:ext cx="33465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676912-AAE9-4DCA-A4D8-5DDA54114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697FF-031C-4A39-A711-A152AFEA7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56F77-87BA-4A30-9DE1-D3440EA47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14520" y="1752480"/>
            <a:ext cx="33465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600200" y="34002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55342-A4F0-49C9-AF95-E2B44F68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33465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14520" y="175248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14520" y="34002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C0D9E-1992-48DC-B8C2-A2B729A5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14520" y="175248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600200" y="3400200"/>
            <a:ext cx="685800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E74D8-91CC-465D-ADDF-13D57DBF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685800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600200" y="3400200"/>
            <a:ext cx="685800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EB1DE-9172-4020-993D-BAAD0E56D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14520" y="175248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600200" y="34002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14520" y="34002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F6092-4B02-4559-B164-7F6464317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7C60-F332-4B5B-9326-41A1823D9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918960" y="175248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37360" y="175248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600200" y="340020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918960" y="340020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237360" y="340020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0FC71-EF61-495A-9C1F-327707FD3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DC399-91DB-4C09-9C79-A8D5E3351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600200" y="1752480"/>
            <a:ext cx="68580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26421-C3CA-475F-8566-35668F579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68580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30040-F5E9-4C14-9DCD-FBEA2EBF4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33465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14520" y="1752480"/>
            <a:ext cx="33465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E4211-77EE-4563-A001-68F787CA6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66A99-BAF5-47AC-9E78-425BC07D8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C91F66-9227-4367-988F-384F34DD5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14520" y="1752480"/>
            <a:ext cx="33465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600200" y="34002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FF79FD-7AB4-4FD1-888A-504EC47F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33465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14520" y="175248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114520" y="34002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10808-C210-4F72-AF44-BE9EDAC7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14520" y="175248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600200" y="3400200"/>
            <a:ext cx="685800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3122C-7720-47D4-A510-FC6846B7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4520" y="1752480"/>
            <a:ext cx="33465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00200" y="34002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0B51-88F3-42A5-A449-7417034E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685800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600200" y="3400200"/>
            <a:ext cx="685800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E81FB-8D24-4F57-A999-75DD8891D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14520" y="175248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600200" y="34002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114520" y="34002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6B1BC-AB4A-49DA-85FC-4F6DF007B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918960" y="175248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237360" y="175248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600200" y="340020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918960" y="340020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237360" y="340020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87750-BEF7-4C96-A1F0-6C96637AF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EA4843-8BE6-4002-B10E-9375FC1EC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600200" y="1752480"/>
            <a:ext cx="68580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AE4555-24EC-4605-95B9-D2237ADCB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68580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F768A6-C798-4443-9228-D4052FD53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33465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14520" y="1752480"/>
            <a:ext cx="33465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879AB7-A7B3-4F20-8AA7-E5B39AB71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5E237-D5B8-4138-9A7C-B5F5425E8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BD65EC-02FE-4A65-A629-D70C6F7D6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14520" y="1752480"/>
            <a:ext cx="33465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600200" y="34002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15CDB-4C52-40D0-BC4A-0D507554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33465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4520" y="175248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14520" y="34002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84E5-767C-4817-A9AC-58B3AE40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33465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14520" y="175248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114520" y="34002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D71BC-94E3-4672-95A3-971E3D4E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14520" y="175248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600200" y="3400200"/>
            <a:ext cx="685800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EEB56C-78F9-4C47-B296-BC1A0DF8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685800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600200" y="3400200"/>
            <a:ext cx="685800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54AA22-0107-4793-9A4A-FEDCECC83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14520" y="175248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600200" y="34002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114520" y="34002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4B03D-8912-49DF-95E2-20879E718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918960" y="175248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37360" y="175248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600200" y="340020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918960" y="340020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237360" y="340020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F2F7F7-010B-42B1-BAE1-88C0D2BE6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ADD326-C63C-4FF5-B758-C26618747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600200" y="1752480"/>
            <a:ext cx="68580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475E5-41A1-4A27-B194-0CC679F09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68580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37ED99-EEC6-49D1-A5AE-DC604EF1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33465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14520" y="1752480"/>
            <a:ext cx="33465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B2CEF7-DF82-4CAE-817B-823685EE9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F0761E-5B67-4E99-81F4-3AAD212AD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4520" y="175248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00200" y="3400200"/>
            <a:ext cx="685800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E6BE-92D4-4BF0-8293-C49B875E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9E3CD9-AE91-4E97-B9E8-62ACB3D91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14520" y="1752480"/>
            <a:ext cx="33465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600200" y="34002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5ABB50-7DF0-4D71-A848-366A9610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33465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14520" y="175248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114520" y="34002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85B8AA-1EA2-41CD-9386-C837D648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14520" y="175248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600200" y="3400200"/>
            <a:ext cx="685800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4F70EB-99E8-41F4-90F5-A06F3871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685800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1600200" y="3400200"/>
            <a:ext cx="685800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F4FE50-E213-421B-9663-AB513836C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14520" y="175248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600200" y="34002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114520" y="34002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3C9EF8-F16F-4B74-81F4-9C3E8995B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918960" y="175248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237360" y="175248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1600200" y="340020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918960" y="340020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237360" y="340020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E73508-B659-4D1F-8F45-3B5CAF8D4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CCD1F-B1D7-4145-B2A8-B759652B2C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600200" y="1752480"/>
            <a:ext cx="68580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14E74-B156-433C-9ED0-C1188CF95E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FE483-70A5-42D7-8AAF-0133AF7CB5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3232F-C389-4B17-A446-F1CF763F34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600200" y="1752480"/>
            <a:ext cx="68580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DB6C5-D60A-4E3E-8F8A-5045AEDC1A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9ACD8-ADCE-4D8B-B24D-9E27DE7CE7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059A0-D66C-4940-B773-F1CFE966E0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600200" y="1752480"/>
            <a:ext cx="68580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849D9-18D7-483C-A081-375FC4025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3.wmf"/><Relationship Id="rId4" Type="http://schemas.openxmlformats.org/officeDocument/2006/relationships/image" Target="../media/image23.wmf"/><Relationship Id="rId5" Type="http://schemas.openxmlformats.org/officeDocument/2006/relationships/image" Target="../media/image23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8.xml"/><Relationship Id="rId3" Type="http://schemas.openxmlformats.org/officeDocument/2006/relationships/slide" Target="slide14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6" descr="j0233966"/>
          <p:cNvPicPr/>
          <p:nvPr/>
        </p:nvPicPr>
        <p:blipFill>
          <a:blip r:embed="rId1"/>
          <a:stretch/>
        </p:blipFill>
        <p:spPr>
          <a:xfrm>
            <a:off x="6877080" y="189000"/>
            <a:ext cx="2009880" cy="163656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1600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Обобщение темы «Четырёхугольники»</a:t>
            </a:r>
            <a:endParaRPr b="0" lang="en-US" sz="5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1618920" y="4723920"/>
            <a:ext cx="73040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Автор – Глущенко Т.В, учитель ЦО № 43 г. Тул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1116000" y="1197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Урок геометрии в 8 класс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6" descr="NA01530_"/>
          <p:cNvPicPr/>
          <p:nvPr/>
        </p:nvPicPr>
        <p:blipFill>
          <a:blip r:embed="rId1"/>
          <a:stretch/>
        </p:blipFill>
        <p:spPr>
          <a:xfrm>
            <a:off x="-82440" y="765000"/>
            <a:ext cx="1582560" cy="32403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2" descr="SY00600_"/>
          <p:cNvPicPr/>
          <p:nvPr/>
        </p:nvPicPr>
        <p:blipFill>
          <a:blip r:embed="rId2"/>
          <a:stretch/>
        </p:blipFill>
        <p:spPr>
          <a:xfrm flipH="1">
            <a:off x="-181080" y="1916280"/>
            <a:ext cx="4532400" cy="511308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1332000" y="549360"/>
            <a:ext cx="752616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6907"/>
                </a:solidFill>
                <a:latin typeface="Arial"/>
              </a:rPr>
              <a:t>Далее им встретился густой тёмный лес, который разрешил пройти только тем, 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у кого диагонали равны</a:t>
            </a:r>
            <a:r>
              <a:rPr b="0" lang="ru-RU" sz="2800" spc="-1" strike="noStrike">
                <a:solidFill>
                  <a:srgbClr val="1c6907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6907"/>
                </a:solidFill>
                <a:latin typeface="Arial"/>
              </a:rPr>
              <a:t>Несколько путешественников   </a:t>
            </a:r>
            <a:br>
              <a:rPr sz="2800"/>
            </a:br>
            <a:r>
              <a:rPr b="0" lang="ru-RU" sz="2800" spc="-1" strike="noStrike">
                <a:solidFill>
                  <a:srgbClr val="1c6907"/>
                </a:solidFill>
                <a:latin typeface="Arial"/>
              </a:rPr>
              <a:t>                         остались у леса,      </a:t>
            </a:r>
            <a:br>
              <a:rPr sz="2800"/>
            </a:br>
            <a:r>
              <a:rPr b="0" lang="ru-RU" sz="2800" spc="-1" strike="noStrike">
                <a:solidFill>
                  <a:srgbClr val="1c6907"/>
                </a:solidFill>
                <a:latin typeface="Arial"/>
              </a:rPr>
              <a:t>                                 остальные </a:t>
            </a:r>
            <a:br>
              <a:rPr sz="2800"/>
            </a:br>
            <a:r>
              <a:rPr b="0" lang="ru-RU" sz="2800" spc="-1" strike="noStrike">
                <a:solidFill>
                  <a:srgbClr val="1c6907"/>
                </a:solidFill>
                <a:latin typeface="Arial"/>
              </a:rPr>
              <a:t>                                    продолжили пу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4"/>
          <p:cNvSpPr/>
          <p:nvPr/>
        </p:nvSpPr>
        <p:spPr>
          <a:xfrm>
            <a:off x="6156360" y="4630680"/>
            <a:ext cx="2701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cc"/>
                </a:solidFill>
                <a:latin typeface="Tahoma"/>
              </a:rPr>
              <a:t>Кто были основными соперниками </a:t>
            </a:r>
            <a:br>
              <a:rPr sz="2800"/>
            </a:br>
            <a:r>
              <a:rPr b="0" i="1" lang="ru-RU" sz="2800" spc="-1" strike="noStrike">
                <a:solidFill>
                  <a:srgbClr val="0000cc"/>
                </a:solidFill>
                <a:latin typeface="Tahoma"/>
              </a:rPr>
              <a:t>и продолжили пу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5" descr="NA01534_"/>
          <p:cNvPicPr/>
          <p:nvPr/>
        </p:nvPicPr>
        <p:blipFill>
          <a:blip r:embed="rId3"/>
          <a:stretch/>
        </p:blipFill>
        <p:spPr>
          <a:xfrm>
            <a:off x="1403280" y="2320920"/>
            <a:ext cx="44960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0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468000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брались путник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 стен царства Четырехугольни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ст через ров объявил, что пропустит тех, 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у кого диагонали пересекаются 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под прямым угл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мосту прошел только один четырехугольник, который и был провозглашен корол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3" descr="j0093389"/>
          <p:cNvPicPr/>
          <p:nvPr/>
        </p:nvPicPr>
        <p:blipFill>
          <a:blip r:embed="rId1"/>
          <a:stretch/>
        </p:blipFill>
        <p:spPr>
          <a:xfrm>
            <a:off x="4788000" y="404640"/>
            <a:ext cx="4025880" cy="449604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2"/>
          <p:cNvSpPr>
            <a:spLocks noGrp="1"/>
          </p:cNvSpPr>
          <p:nvPr>
            <p:ph type="title"/>
          </p:nvPr>
        </p:nvSpPr>
        <p:spPr>
          <a:xfrm>
            <a:off x="249120" y="5877000"/>
            <a:ext cx="857088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Кто стал королем царства Четырёхугольников? 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2"/>
          <p:cNvSpPr/>
          <p:nvPr/>
        </p:nvSpPr>
        <p:spPr>
          <a:xfrm>
            <a:off x="179280" y="2060640"/>
            <a:ext cx="4753080" cy="4537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250920" y="2781000"/>
            <a:ext cx="446544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так, я – Квадра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й старший брат частенько посмеивается над моей фигурой - видите, какой я: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вдоль, что поперек, крепкий, устойчивый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4"/>
          <p:cNvSpPr/>
          <p:nvPr/>
        </p:nvSpPr>
        <p:spPr>
          <a:xfrm>
            <a:off x="4932360" y="692280"/>
            <a:ext cx="4032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 еще у меня целых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 определ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. Я – параллелограм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. Я – прямоугольник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3. Я – ромб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этому я обладаю всеми их свойствам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0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1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3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3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3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6"/>
          <p:cNvSpPr/>
          <p:nvPr/>
        </p:nvSpPr>
        <p:spPr>
          <a:xfrm>
            <a:off x="468360" y="404640"/>
            <a:ext cx="1295280" cy="1224000"/>
          </a:xfrm>
          <a:prstGeom prst="rect">
            <a:avLst/>
          </a:prstGeom>
          <a:solidFill>
            <a:srgbClr val="ffcc00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48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- А Вы какое применение в жизни людей находите?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7272360" cy="43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 наука, ни техника, без меня не обходят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в хозяйственных делах я тоже используюс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сновании мраморных колонн лежит квадра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ши товарищи, играя в шахматы, фигуры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квадратам передвигаю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как меня ребятишки любят! Тетрадки у них разрисованы голубыми квадратик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хирургическом отделении для пересадки кожи применяют специальную машинку, которая вырезает кожу в виде </a:t>
            </a:r>
            <a:r>
              <a:rPr b="0" lang="ru-RU" sz="2400" spc="-1" strike="noStrike">
                <a:solidFill>
                  <a:srgbClr val="cc6600"/>
                </a:solidFill>
                <a:latin typeface="Arial"/>
              </a:rPr>
              <a:t>квадратов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х располагают на обожжённом участке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шахматном поряд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ельском хозяйстве применяют квадратно- гнездовой способ посадки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4" descr="j0280664"/>
          <p:cNvPicPr/>
          <p:nvPr/>
        </p:nvPicPr>
        <p:blipFill>
          <a:blip r:embed="rId1"/>
          <a:stretch/>
        </p:blipFill>
        <p:spPr>
          <a:xfrm>
            <a:off x="7236000" y="1844640"/>
            <a:ext cx="1466640" cy="18716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5" descr="j0230721"/>
          <p:cNvPicPr/>
          <p:nvPr/>
        </p:nvPicPr>
        <p:blipFill>
          <a:blip r:embed="rId2"/>
          <a:stretch/>
        </p:blipFill>
        <p:spPr>
          <a:xfrm>
            <a:off x="7093080" y="4437000"/>
            <a:ext cx="165564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0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8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252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8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8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4040"/>
                            </p:stCondLst>
                            <p:childTnLst>
                              <p:par>
                                <p:cTn id="4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8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4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80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7920"/>
                            </p:stCondLst>
                            <p:childTnLst>
                              <p:par>
                                <p:cTn id="4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80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10640"/>
                            </p:stCondLst>
                            <p:childTnLst>
                              <p:par>
                                <p:cTn id="4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1" dur="80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80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16800"/>
                            </p:stCondLst>
                            <p:childTnLst>
                              <p:par>
                                <p:cTn id="4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80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AutoShape 2"/>
          <p:cNvSpPr/>
          <p:nvPr/>
        </p:nvSpPr>
        <p:spPr>
          <a:xfrm>
            <a:off x="5435640" y="981000"/>
            <a:ext cx="3311640" cy="5327640"/>
          </a:xfrm>
          <a:prstGeom prst="diamond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8640" y="303120"/>
            <a:ext cx="82296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Вы, очевидно младший из семьи?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11280" y="1052640"/>
            <a:ext cx="6408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 Да, я – ромб. Один школьник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вопрос учителя: «Что такое ромб?» - ответил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Ромб – это квадрат, которому дал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ше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-   И это похоже на прав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ечно. У нашего отца крутой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рав и рука тяжелая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рнул я как-то за косичку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у из диагоналей и стал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квадрата ромб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сейчас я –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параллелограмм, </a:t>
            </a:r>
            <a:br>
              <a:rPr sz="2400"/>
            </a:b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все стороны которого равн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ещё у меня новые свойств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3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3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3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3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8" dur="8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9" dur="8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8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7120"/>
                            </p:stCondLst>
                            <p:childTnLst>
                              <p:par>
                                <p:cTn id="4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8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7960"/>
                            </p:stCondLst>
                            <p:childTnLst>
                              <p:par>
                                <p:cTn id="4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8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2240"/>
                            </p:stCondLst>
                            <p:childTnLst>
                              <p:par>
                                <p:cTn id="4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6" dur="8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8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15200"/>
                            </p:stCondLst>
                            <p:childTnLst>
                              <p:par>
                                <p:cTn id="4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4" dur="80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15320"/>
                            </p:stCondLst>
                            <p:childTnLst>
                              <p:par>
                                <p:cTn id="4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80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AutoShape 10"/>
          <p:cNvSpPr/>
          <p:nvPr/>
        </p:nvSpPr>
        <p:spPr>
          <a:xfrm rot="18408000">
            <a:off x="404640" y="826920"/>
            <a:ext cx="1728720" cy="1315800"/>
          </a:xfrm>
          <a:prstGeom prst="parallelogram">
            <a:avLst>
              <a:gd name="adj" fmla="val 2907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468000" y="2491920"/>
            <a:ext cx="53989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ят меня рисовать на тканях художники, используют в узорах ковровщиц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иточники укладывают плитк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виде ромба,– из них получаются красивые узо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ечный домкрат для легковых автомобилей также имеет форму </a:t>
            </a:r>
            <a:r>
              <a:rPr b="0" lang="ru-RU" sz="2400" spc="-1" strike="noStrike">
                <a:solidFill>
                  <a:srgbClr val="cc6600"/>
                </a:solidFill>
                <a:latin typeface="Arial"/>
              </a:rPr>
              <a:t>ромб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title"/>
          </p:nvPr>
        </p:nvSpPr>
        <p:spPr>
          <a:xfrm>
            <a:off x="1908000" y="475920"/>
            <a:ext cx="7027920" cy="12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c1c1c"/>
                </a:solidFill>
                <a:latin typeface="Arial"/>
              </a:rPr>
              <a:t>- я не имею большого хозяйственного значения, </a:t>
            </a:r>
            <a:br>
              <a:rPr sz="3200"/>
            </a:br>
            <a:r>
              <a:rPr b="0" lang="ru-RU" sz="3200" spc="-1" strike="noStrike">
                <a:solidFill>
                  <a:srgbClr val="1c1c1c"/>
                </a:solidFill>
                <a:latin typeface="Arial"/>
              </a:rPr>
              <a:t>зато мною пользуются в искусстве.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402" name="Picture 4" descr="j0339500"/>
          <p:cNvPicPr/>
          <p:nvPr/>
        </p:nvPicPr>
        <p:blipFill>
          <a:blip r:embed="rId1"/>
          <a:stretch/>
        </p:blipFill>
        <p:spPr>
          <a:xfrm>
            <a:off x="6659640" y="3933720"/>
            <a:ext cx="1368360" cy="1368360"/>
          </a:xfrm>
          <a:prstGeom prst="rect">
            <a:avLst/>
          </a:prstGeom>
          <a:ln w="0">
            <a:noFill/>
          </a:ln>
        </p:spPr>
      </p:pic>
      <p:grpSp>
        <p:nvGrpSpPr>
          <p:cNvPr id="403" name="Group 5"/>
          <p:cNvGrpSpPr/>
          <p:nvPr/>
        </p:nvGrpSpPr>
        <p:grpSpPr>
          <a:xfrm>
            <a:off x="5940360" y="1989000"/>
            <a:ext cx="1511280" cy="1656000"/>
            <a:chOff x="5940360" y="1989000"/>
            <a:chExt cx="1511280" cy="1656000"/>
          </a:xfrm>
        </p:grpSpPr>
        <p:pic>
          <p:nvPicPr>
            <p:cNvPr id="404" name="Picture 6" descr="j0344425"/>
            <p:cNvPicPr/>
            <p:nvPr/>
          </p:nvPicPr>
          <p:blipFill>
            <a:blip r:embed="rId2"/>
            <a:stretch/>
          </p:blipFill>
          <p:spPr>
            <a:xfrm>
              <a:off x="6368040" y="2675160"/>
              <a:ext cx="1083600" cy="96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Picture 7" descr="j0344425"/>
            <p:cNvPicPr/>
            <p:nvPr/>
          </p:nvPicPr>
          <p:blipFill>
            <a:blip r:embed="rId3"/>
            <a:stretch/>
          </p:blipFill>
          <p:spPr>
            <a:xfrm>
              <a:off x="6410520" y="1989000"/>
              <a:ext cx="1000440" cy="86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" name="Picture 8" descr="j0344425"/>
            <p:cNvPicPr/>
            <p:nvPr/>
          </p:nvPicPr>
          <p:blipFill>
            <a:blip r:embed="rId4"/>
            <a:stretch/>
          </p:blipFill>
          <p:spPr>
            <a:xfrm>
              <a:off x="5940360" y="2410920"/>
              <a:ext cx="1000440" cy="868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07" name="Picture 9" descr="j0344425"/>
          <p:cNvPicPr/>
          <p:nvPr/>
        </p:nvPicPr>
        <p:blipFill>
          <a:blip r:embed="rId5"/>
          <a:stretch/>
        </p:blipFill>
        <p:spPr>
          <a:xfrm>
            <a:off x="7380360" y="2276640"/>
            <a:ext cx="1079280" cy="104760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11"/>
          <p:cNvSpPr/>
          <p:nvPr/>
        </p:nvSpPr>
        <p:spPr>
          <a:xfrm>
            <a:off x="539640" y="5516640"/>
            <a:ext cx="82803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ahoma"/>
              </a:rPr>
              <a:t>- Спасибо! Не обижайтесь на отца. </a:t>
            </a:r>
            <a:br>
              <a:rPr sz="2800"/>
            </a:br>
            <a:r>
              <a:rPr b="0" lang="ru-RU" sz="2800" spc="-1" strike="noStrike">
                <a:solidFill>
                  <a:srgbClr val="0000cc"/>
                </a:solidFill>
                <a:latin typeface="Tahoma"/>
              </a:rPr>
              <a:t>Благодаря ему Вы так радуете глаз люд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0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8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3560"/>
                            </p:stCondLst>
                            <p:childTnLst>
                              <p:par>
                                <p:cTn id="4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8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6320"/>
                            </p:stCondLst>
                            <p:childTnLst>
                              <p:par>
                                <p:cTn id="50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6820"/>
                            </p:stCondLst>
                            <p:childTnLst>
                              <p:par>
                                <p:cTn id="51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7320"/>
                            </p:stCondLst>
                            <p:childTnLst>
                              <p:par>
                                <p:cTn id="5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1" dur="8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8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9640"/>
                            </p:stCondLst>
                            <p:childTnLst>
                              <p:par>
                                <p:cTn id="52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7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AutoShape 2"/>
          <p:cNvSpPr/>
          <p:nvPr/>
        </p:nvSpPr>
        <p:spPr>
          <a:xfrm rot="10800000">
            <a:off x="468360" y="3284280"/>
            <a:ext cx="4392720" cy="3095640"/>
          </a:xfrm>
          <a:custGeom>
            <a:avLst/>
            <a:gdLst>
              <a:gd name="textAreaLeft" fmla="*/ 868320 w 4392720"/>
              <a:gd name="textAreaRight" fmla="*/ 3524400 w 4392720"/>
              <a:gd name="textAreaTop" fmla="*/ 612000 h 3095640"/>
              <a:gd name="textAreaBottom" fmla="*/ 2483640 h 30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942" y="21600"/>
                </a:lnTo>
                <a:lnTo>
                  <a:pt x="1665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77770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Уважаемая дама, скажите и Вы несколько слов о себе. 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1376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ня зовут трапеция. Я – четырехугольник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которого две стороны параллельны, а две другие – не параллель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виду мы бываем разные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, конечно, у нас есть свои свойства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5"/>
          <p:cNvSpPr/>
          <p:nvPr/>
        </p:nvSpPr>
        <p:spPr>
          <a:xfrm>
            <a:off x="4500720" y="5950080"/>
            <a:ext cx="43210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Благодарю Ва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6"/>
          <p:cNvSpPr/>
          <p:nvPr/>
        </p:nvSpPr>
        <p:spPr>
          <a:xfrm>
            <a:off x="4788000" y="3213000"/>
            <a:ext cx="3960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школьные учителя только и думают, как бы, кому-нибудь задачку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 мою среднюю линию подсунуть!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в головоломках всяких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апеция да трапе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0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3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3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3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3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4" dur="8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5" dur="8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6" dur="8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7760"/>
                            </p:stCondLst>
                            <p:childTnLst>
                              <p:par>
                                <p:cTn id="5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1" dur="8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8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7" dur="8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8" dur="8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8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5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6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353440" cy="1417680"/>
          </a:xfrm>
          <a:prstGeom prst="rect">
            <a:avLst/>
          </a:prstGeom>
          <a:gradFill rotWithShape="0">
            <a:gsLst>
              <a:gs pos="0">
                <a:srgbClr val="88d52b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Мы побывали в семействе четырёхугольников и узнали, что: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Arial"/>
              </a:rPr>
              <a:t>Противолежащие стороны равны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у ромба, квадрата, параллелограмма, прямоугольник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Arial"/>
              </a:rPr>
              <a:t>Противолежащие углы равны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у квадрата,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араллелограмма, прямоугольника, ромб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Arial"/>
              </a:rPr>
              <a:t>Диагонали равны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 прямоугольника и квадрат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Arial"/>
              </a:rPr>
              <a:t>Диагонали взаимно перпендикулярны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 ромба и квадрат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Arial"/>
              </a:rPr>
              <a:t>Диагонали являются биссектрисами углов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 ромба, квадрат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Arial"/>
              </a:rPr>
              <a:t>Диагонали равны и являются биссектрисам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 квадрат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0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0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2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20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2000" fill="hold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WordArt 2"/>
          <p:cNvSpPr txBox="1"/>
          <p:nvPr/>
        </p:nvSpPr>
        <p:spPr>
          <a:xfrm>
            <a:off x="1763640" y="1413000"/>
            <a:ext cx="691200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о встречи на передаче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«Пока все дома»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17" name="Picture 3" descr="MAGGIONI"/>
          <p:cNvPicPr/>
          <p:nvPr/>
        </p:nvPicPr>
        <p:blipFill>
          <a:blip r:embed="rId1"/>
          <a:stretch/>
        </p:blipFill>
        <p:spPr>
          <a:xfrm>
            <a:off x="-252360" y="2133720"/>
            <a:ext cx="380988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0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3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3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4"/>
          <p:cNvSpPr/>
          <p:nvPr/>
        </p:nvSpPr>
        <p:spPr>
          <a:xfrm>
            <a:off x="2050920" y="4581360"/>
            <a:ext cx="7093080" cy="1216080"/>
          </a:xfrm>
          <a:prstGeom prst="rect">
            <a:avLst/>
          </a:prstGeom>
          <a:gradFill rotWithShape="0">
            <a:gsLst>
              <a:gs pos="0">
                <a:srgbClr val="88d52b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Comic Sans MS"/>
              </a:rPr>
              <a:t>Дорогу осилит идущий, геометрию – думающ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5" descr="AMDOUBT"/>
          <p:cNvPicPr/>
          <p:nvPr/>
        </p:nvPicPr>
        <p:blipFill>
          <a:blip r:embed="rId1"/>
          <a:stretch/>
        </p:blipFill>
        <p:spPr>
          <a:xfrm>
            <a:off x="1116000" y="3068640"/>
            <a:ext cx="1144440" cy="2773440"/>
          </a:xfrm>
          <a:prstGeom prst="rect">
            <a:avLst/>
          </a:prstGeom>
          <a:ln w="0">
            <a:noFill/>
          </a:ln>
        </p:spPr>
      </p:pic>
      <p:sp>
        <p:nvSpPr>
          <p:cNvPr id="341" name="WordArt 6"/>
          <p:cNvSpPr txBox="1"/>
          <p:nvPr/>
        </p:nvSpPr>
        <p:spPr>
          <a:xfrm>
            <a:off x="1476360" y="1484280"/>
            <a:ext cx="71992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«Пока все дома»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 семействе четырёхугольников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1403280" y="1125360"/>
            <a:ext cx="741672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Дорогие друзья!</a:t>
            </a:r>
            <a:br>
              <a:rPr sz="3200"/>
            </a:b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Популярная телепередача </a:t>
            </a:r>
            <a:br>
              <a:rPr sz="3200"/>
            </a:b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«Пока все дома» </a:t>
            </a:r>
            <a:br>
              <a:rPr sz="3200"/>
            </a:b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сегодня гостит в известном  семействе Четырехуголь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3" descr="MAGGIONI"/>
          <p:cNvPicPr/>
          <p:nvPr/>
        </p:nvPicPr>
        <p:blipFill>
          <a:blip r:embed="rId1"/>
          <a:stretch/>
        </p:blipFill>
        <p:spPr>
          <a:xfrm>
            <a:off x="-324000" y="2133720"/>
            <a:ext cx="381024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6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Кто лишний в семье?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684360" y="1557360"/>
            <a:ext cx="1368360" cy="2376360"/>
          </a:xfrm>
          <a:prstGeom prst="rect">
            <a:avLst/>
          </a:prstGeom>
          <a:gradFill rotWithShape="0">
            <a:gsLst>
              <a:gs pos="0">
                <a:srgbClr val="007600"/>
              </a:gs>
              <a:gs pos="100000">
                <a:srgbClr val="00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4">
            <a:hlinkClick r:id="rId1" action="ppaction://hlinksldjump"/>
          </p:cNvPr>
          <p:cNvSpPr/>
          <p:nvPr/>
        </p:nvSpPr>
        <p:spPr>
          <a:xfrm>
            <a:off x="6372360" y="836640"/>
            <a:ext cx="1946160" cy="3097080"/>
          </a:xfrm>
          <a:prstGeom prst="diamond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5"/>
          <p:cNvSpPr/>
          <p:nvPr/>
        </p:nvSpPr>
        <p:spPr>
          <a:xfrm>
            <a:off x="3059280" y="4292640"/>
            <a:ext cx="2016000" cy="2016000"/>
          </a:xfrm>
          <a:prstGeom prst="rect">
            <a:avLst/>
          </a:prstGeom>
          <a:gradFill rotWithShape="0">
            <a:gsLst>
              <a:gs pos="0">
                <a:srgbClr val="2f5e76"/>
              </a:gs>
              <a:gs pos="50000">
                <a:srgbClr val="66ccff"/>
              </a:gs>
              <a:gs pos="100000">
                <a:srgbClr val="2f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6">
            <a:hlinkClick r:id="rId2" action="ppaction://hlinksldjump"/>
          </p:cNvPr>
          <p:cNvSpPr/>
          <p:nvPr/>
        </p:nvSpPr>
        <p:spPr>
          <a:xfrm rot="10800000">
            <a:off x="2771280" y="1556640"/>
            <a:ext cx="2737080" cy="2374920"/>
          </a:xfrm>
          <a:custGeom>
            <a:avLst/>
            <a:gdLst>
              <a:gd name="textAreaLeft" fmla="*/ 570240 w 2737080"/>
              <a:gd name="textAreaRight" fmla="*/ 2166840 w 2737080"/>
              <a:gd name="textAreaTop" fmla="*/ 494640 h 2374920"/>
              <a:gd name="textAreaBottom" fmla="*/ 1880280 h 237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7"/>
          <p:cNvSpPr/>
          <p:nvPr/>
        </p:nvSpPr>
        <p:spPr>
          <a:xfrm>
            <a:off x="324000" y="4221000"/>
            <a:ext cx="2520720" cy="2159280"/>
          </a:xfrm>
          <a:prstGeom prst="triangle">
            <a:avLst>
              <a:gd name="adj" fmla="val 50000"/>
            </a:avLst>
          </a:prstGeom>
          <a:solidFill>
            <a:srgbClr val="967d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8">
            <a:hlinkClick r:id="rId3" action="ppaction://hlinksldjump"/>
          </p:cNvPr>
          <p:cNvSpPr/>
          <p:nvPr/>
        </p:nvSpPr>
        <p:spPr>
          <a:xfrm>
            <a:off x="5435640" y="4437000"/>
            <a:ext cx="3168720" cy="1800360"/>
          </a:xfrm>
          <a:prstGeom prst="parallelogram">
            <a:avLst>
              <a:gd name="adj" fmla="val 44001"/>
            </a:avLst>
          </a:prstGeom>
          <a:gradFill rotWithShape="0">
            <a:gsLst>
              <a:gs pos="0">
                <a:srgbClr val="ff00ff"/>
              </a:gs>
              <a:gs pos="100000">
                <a:srgbClr val="7600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" dur="10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AutoShape 2"/>
          <p:cNvSpPr/>
          <p:nvPr/>
        </p:nvSpPr>
        <p:spPr>
          <a:xfrm>
            <a:off x="684360" y="3933720"/>
            <a:ext cx="7632720" cy="2519640"/>
          </a:xfrm>
          <a:prstGeom prst="flowChartInputOutpu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755280" y="1557360"/>
            <a:ext cx="799164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- Скажите, пожалуйста, как велика ваша семь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Как Вы уже вероятно поняли, отец семейства – Я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меня есть 3 сына: прямоугольник, ромб, квадрат. Вместе с нами живет наша родственница Трапе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- Расскажите, пожалуйста, немного о себ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Я –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четырехугольник, противоположные стороны которого попарно параллельн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- Сейчас узнаем, Вас зовут…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С первым вопросом наш корреспондент обращается к отцу семейства: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755640" y="4292640"/>
            <a:ext cx="734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ahoma"/>
              </a:rPr>
              <a:t>- И вас никогда, никто, ни с кем не пута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 Нет, конечно, ведь у меня свои признаки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звестные всем:   1…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…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600"/>
                            </p:stCondLst>
                            <p:childTnLst>
                              <p:par>
                                <p:cTn id="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2080"/>
                            </p:stCondLst>
                            <p:childTnLst>
                              <p:par>
                                <p:cTn id="1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4840"/>
                            </p:stCondLst>
                            <p:childTnLst>
                              <p:par>
                                <p:cTn id="1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910880" y="404280"/>
            <a:ext cx="723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- Простите, а где Вы служите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В основном, занимаюсь наукой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4000" y="1699920"/>
            <a:ext cx="4608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физике применяют параллелограмм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изучении сил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нахождении равнодействующей сил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жизни </a:t>
            </a:r>
            <a:r>
              <a:rPr b="0" lang="ru-RU" sz="2400" spc="-1" strike="noStrike">
                <a:solidFill>
                  <a:srgbClr val="cc6600"/>
                </a:solidFill>
                <a:latin typeface="Arial"/>
              </a:rPr>
              <a:t>параллелограм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рамы велосипедов, мотоциклов, где для жёсткости проведена диагонал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4" descr="j0305665"/>
          <p:cNvPicPr/>
          <p:nvPr/>
        </p:nvPicPr>
        <p:blipFill>
          <a:blip r:embed="rId1"/>
          <a:stretch/>
        </p:blipFill>
        <p:spPr>
          <a:xfrm>
            <a:off x="5508720" y="3933720"/>
            <a:ext cx="1800000" cy="1343160"/>
          </a:xfrm>
          <a:prstGeom prst="rect">
            <a:avLst/>
          </a:prstGeom>
          <a:ln w="0">
            <a:noFill/>
          </a:ln>
        </p:spPr>
      </p:pic>
      <p:sp>
        <p:nvSpPr>
          <p:cNvPr id="358" name="AutoShape 5"/>
          <p:cNvSpPr/>
          <p:nvPr/>
        </p:nvSpPr>
        <p:spPr>
          <a:xfrm>
            <a:off x="395280" y="476280"/>
            <a:ext cx="2305080" cy="914400"/>
          </a:xfrm>
          <a:prstGeom prst="parallelogram">
            <a:avLst>
              <a:gd name="adj" fmla="val 6302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6"/>
          <p:cNvSpPr/>
          <p:nvPr/>
        </p:nvSpPr>
        <p:spPr>
          <a:xfrm>
            <a:off x="5076720" y="2060640"/>
            <a:ext cx="1728720" cy="1224000"/>
          </a:xfrm>
          <a:prstGeom prst="parallelogram">
            <a:avLst>
              <a:gd name="adj" fmla="val 35309"/>
            </a:avLst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11"/>
          <p:cNvGrpSpPr/>
          <p:nvPr/>
        </p:nvGrpSpPr>
        <p:grpSpPr>
          <a:xfrm>
            <a:off x="5076720" y="2060640"/>
            <a:ext cx="1728720" cy="1224000"/>
            <a:chOff x="5076720" y="2060640"/>
            <a:chExt cx="1728720" cy="1224000"/>
          </a:xfrm>
        </p:grpSpPr>
        <p:sp>
          <p:nvSpPr>
            <p:cNvPr id="361" name="Line 7"/>
            <p:cNvSpPr/>
            <p:nvPr/>
          </p:nvSpPr>
          <p:spPr>
            <a:xfrm flipV="1">
              <a:off x="5076720" y="2060640"/>
              <a:ext cx="172872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8"/>
            <p:cNvSpPr/>
            <p:nvPr/>
          </p:nvSpPr>
          <p:spPr>
            <a:xfrm flipV="1">
              <a:off x="5076720" y="2060640"/>
              <a:ext cx="45576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9"/>
            <p:cNvSpPr/>
            <p:nvPr/>
          </p:nvSpPr>
          <p:spPr>
            <a:xfrm>
              <a:off x="5076720" y="3284640"/>
              <a:ext cx="127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Text Box 10"/>
          <p:cNvSpPr/>
          <p:nvPr/>
        </p:nvSpPr>
        <p:spPr>
          <a:xfrm>
            <a:off x="468360" y="551664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ahoma"/>
              </a:rPr>
              <a:t>Благодарю Вас. Разрешите задать несколько вопросов Вашему старшему сы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280"/>
                            </p:stCondLst>
                            <p:childTnLst>
                              <p:par>
                                <p:cTn id="14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8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6280"/>
                            </p:stCondLst>
                            <p:childTnLst>
                              <p:par>
                                <p:cTn id="15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2" dur="3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3440"/>
                            </p:stCondLst>
                            <p:childTnLst>
                              <p:par>
                                <p:cTn id="16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1332000" y="4292640"/>
            <a:ext cx="6337080" cy="2133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56908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Вы похожи на своего отца, 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94920" y="3435120"/>
            <a:ext cx="8280360" cy="8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–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параллелограмм, у которого углы прямы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Так как же меня зовут?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826920" y="1413000"/>
            <a:ext cx="7490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cc"/>
                </a:solidFill>
                <a:latin typeface="Tahoma"/>
              </a:rPr>
              <a:t>но все-таки, между вами наблюдается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cc"/>
                </a:solidFill>
                <a:latin typeface="Tahoma"/>
              </a:rPr>
              <a:t>существенная разница. Не могли ли Вы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cc"/>
                </a:solidFill>
                <a:latin typeface="Tahoma"/>
              </a:rPr>
              <a:t>рассказать нам, в чем она заключается?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 удовольств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6"/>
          <p:cNvSpPr/>
          <p:nvPr/>
        </p:nvSpPr>
        <p:spPr>
          <a:xfrm>
            <a:off x="1042920" y="4797360"/>
            <a:ext cx="7201080" cy="14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авильно, прямоугольник!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деюсь и свойства мои знаете?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3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771280" y="475920"/>
            <a:ext cx="604836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- А какую пользу Вы приносите людям?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619308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оугольник несёт красоту, чёткость, стройн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глянитесь вокруг: стены, пол, потолок, поверхность стола, футбольное поле, грани карандашей, даже записная книжка – все это прямоугольники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пробуйте построить дом или сделать раму для картины, не зная свойств прямоуголь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6"/>
          <p:cNvSpPr/>
          <p:nvPr/>
        </p:nvSpPr>
        <p:spPr>
          <a:xfrm>
            <a:off x="684360" y="404640"/>
            <a:ext cx="2376360" cy="107964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7"/>
          <p:cNvSpPr/>
          <p:nvPr/>
        </p:nvSpPr>
        <p:spPr>
          <a:xfrm>
            <a:off x="468360" y="5805360"/>
            <a:ext cx="80643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ahoma"/>
              </a:rPr>
              <a:t>- Большое спасибо! Желаю Вам успехов! </a:t>
            </a:r>
            <a:br>
              <a:rPr sz="2800"/>
            </a:br>
            <a:r>
              <a:rPr b="0" lang="ru-RU" sz="2800" spc="-1" strike="noStrike">
                <a:solidFill>
                  <a:srgbClr val="0000cc"/>
                </a:solidFill>
                <a:latin typeface="Tahoma"/>
              </a:rPr>
              <a:t>  Обратимся к следующему сыну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9" descr="j0205582"/>
          <p:cNvPicPr/>
          <p:nvPr/>
        </p:nvPicPr>
        <p:blipFill>
          <a:blip r:embed="rId1"/>
          <a:stretch/>
        </p:blipFill>
        <p:spPr>
          <a:xfrm>
            <a:off x="6659640" y="1760400"/>
            <a:ext cx="1944720" cy="17845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0" descr="j0235319"/>
          <p:cNvPicPr/>
          <p:nvPr/>
        </p:nvPicPr>
        <p:blipFill>
          <a:blip r:embed="rId2"/>
          <a:stretch/>
        </p:blipFill>
        <p:spPr>
          <a:xfrm>
            <a:off x="6659640" y="3933720"/>
            <a:ext cx="2016000" cy="16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3380"/>
                            </p:stCondLst>
                            <p:childTnLst>
                              <p:par>
                                <p:cTn id="2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8380"/>
                            </p:stCondLst>
                            <p:childTnLst>
                              <p:par>
                                <p:cTn id="23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9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9380"/>
                            </p:stCondLst>
                            <p:childTnLst>
                              <p:par>
                                <p:cTn id="2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2420"/>
                            </p:stCondLst>
                            <p:childTnLst>
                              <p:par>
                                <p:cTn id="24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9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67564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Извините, пожалуйста, а как Ваше имя?</a:t>
            </a:r>
            <a:br>
              <a:rPr sz="2800"/>
            </a:br>
            <a:r>
              <a:rPr b="0" lang="ru-RU" sz="2800" spc="-1" strike="noStrike">
                <a:solidFill>
                  <a:srgbClr val="1c1c1c"/>
                </a:solidFill>
                <a:latin typeface="Arial"/>
              </a:rPr>
              <a:t>- Меня зовут так же, как и моего </a:t>
            </a:r>
            <a:br>
              <a:rPr sz="2800"/>
            </a:br>
            <a:r>
              <a:rPr b="0" lang="ru-RU" sz="2800" spc="-1" strike="noStrike">
                <a:solidFill>
                  <a:srgbClr val="1c1c1c"/>
                </a:solidFill>
                <a:latin typeface="Arial"/>
              </a:rPr>
              <a:t>пра-пра-пра-дедушку. Хотите узнать как? </a:t>
            </a:r>
            <a:br>
              <a:rPr sz="2800"/>
            </a:br>
            <a:r>
              <a:rPr b="0" lang="ru-RU" sz="2800" spc="-1" strike="noStrike">
                <a:solidFill>
                  <a:srgbClr val="1c1c1c"/>
                </a:solidFill>
                <a:latin typeface="Arial"/>
              </a:rPr>
              <a:t>Расскажу вам сказку.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68000" y="2133360"/>
            <a:ext cx="81342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или все четырехугольники выбрать себе короля. Долго спорили и не могли придти к одному мнен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вот один старый параллелограмм сказал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Давайте отправимся в царство Четырехугольников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то первым придет, тот и будет королем»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согласились и отправились в путешеств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пути друзьям повстречалась река, которая сказала: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«Переплывут меня только те, у кого диагонали пересекаются и точкой пересечения делятся пополам»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Часть четырехугольников осталась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берегу, остальные благополучно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плыли и отправились дальш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4" descr="карандаш"/>
          <p:cNvPicPr/>
          <p:nvPr/>
        </p:nvPicPr>
        <p:blipFill>
          <a:blip r:embed="rId1"/>
          <a:stretch/>
        </p:blipFill>
        <p:spPr>
          <a:xfrm>
            <a:off x="7093080" y="4437000"/>
            <a:ext cx="1800000" cy="2060640"/>
          </a:xfrm>
          <a:prstGeom prst="rect">
            <a:avLst/>
          </a:prstGeom>
          <a:ln w="0">
            <a:noFill/>
          </a:ln>
        </p:spPr>
      </p:pic>
      <p:sp>
        <p:nvSpPr>
          <p:cNvPr id="379" name="Text Box 5"/>
          <p:cNvSpPr/>
          <p:nvPr/>
        </p:nvSpPr>
        <p:spPr>
          <a:xfrm>
            <a:off x="684360" y="5877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cc"/>
                </a:solidFill>
                <a:latin typeface="Tahoma"/>
              </a:rPr>
              <a:t>Кто первым  вышел из соревнова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8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4360"/>
                            </p:stCondLst>
                            <p:childTnLst>
                              <p:par>
                                <p:cTn id="2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0600"/>
                            </p:stCondLst>
                            <p:childTnLst>
                              <p:par>
                                <p:cTn id="2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8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2T11:36:13Z</dcterms:created>
  <dc:creator>СНП</dc:creator>
  <dc:description/>
  <dc:language>en-US</dc:language>
  <cp:lastModifiedBy>User</cp:lastModifiedBy>
  <dcterms:modified xsi:type="dcterms:W3CDTF">2018-06-30T03:47:55Z</dcterms:modified>
  <cp:revision>4</cp:revision>
  <dc:subject/>
  <dc:title>Семейство четырёхугольников</dc:title>
</cp:coreProperties>
</file>