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E98-0CAB-4F88-9B82-BAE7B49B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490-C305-4EC8-B5E3-C2C24CD9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C22F13-5B2B-4D53-936B-6B211A8F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9EA8F-C563-496F-8B02-14CB57C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8C72B2-7067-43BE-8D07-77CFD65E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C47D3-334E-499F-B65F-39D6ACE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38F95-0A94-4F5E-9FBC-F5F6F152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68CE6-3A88-49F3-B6C5-D204AB1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72F064-0A71-4B46-85BA-0FAF7DD6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8A084-B945-4CB5-BC1B-B7B0D0BE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92784-A437-4430-8ED4-142BCB96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544-15BE-4D8C-B3DE-1561CA9A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30C-27CA-47ED-A232-5F021FA6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28CFB-0EF7-42F7-94B9-05C1385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DA5E1-0081-40BB-8769-C0CB8617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DEB4-88C4-46BB-9710-A1CCAEF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5ED05-4D91-498C-90EB-05E7B1E1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078D6-DCA0-401E-974C-43EDEFC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1B9EE-2776-4E17-ADE7-EA31888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351FD-E483-4BF6-8126-E24F0E2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324-B74A-4D32-AB85-88E64920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677DF-A68B-480D-A465-DBBDB9F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1E42D-8C30-44F3-910D-27362CF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24E58-DAC0-4F10-BE96-9FB4742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21674-DD69-4E51-AE88-C37F45F4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EA805-CB2A-4E3E-B91D-76C8C924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199D-7572-4EB2-B49D-6F99B5D8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6BEA-F934-4DB7-B8D6-93D3DE1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E807-C700-43FE-AE90-4BBCEC69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5BBC-2B18-4F35-ACEB-DF190D5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38FD-2CA7-4B93-A177-ECA8314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685-6058-45A8-B8C0-32ED4DAA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4963-C54B-4FD2-80E5-FACDDB7C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BFD4-41F8-4E84-8B23-0BE4F65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5B2F-40AE-405F-BC99-BE493E7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0218-20B7-4F3D-A3DD-AC3EFCE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5B48-EC2C-4F78-ABCB-15C9A86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3E6B-D96B-42FB-A33D-FC04FB4E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EFE2-FB60-4EC8-AC01-C5BF081D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545D6-D2EE-46FE-AC14-9E32D2F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04B45-FADA-4F61-BFA1-155FDD57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343D5-80CB-4A71-8B8B-D5E70FEC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F24-AB0C-4761-8EEE-C58DBB3A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95FEF-9549-4C09-98BB-898986E3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9E2FB-186B-4987-949D-A4CC258B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4B6CD-8152-46D7-A00A-7E555823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CE45C-A4AF-4DBD-BFE1-45F77546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0E0C6-EC4F-4213-A670-BAF8D4C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02C47-DCD4-4A0D-BE7F-F932705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9629A-30AA-4ED1-A288-A84B826E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2C3D3-4125-4521-9673-77206A7E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50E7E-8B77-4255-88B8-02E16A4A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ECF78-E6D3-4EB3-B5E7-894675A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616-0AE1-4EB1-81AF-089FA222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B7CC-2D07-495A-9C14-61CCAB4C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9F986-4746-45B6-A973-6FE158D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1C10-4994-46C9-891A-97E4216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863E0-DCB0-4D5A-B630-896F7D4A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3872-8215-4F6B-86A0-60B805B0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1442-B35B-4D4B-976C-74A2CF8C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50E28-F55F-4D5B-9255-337160F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56FE-8345-4158-A205-7129D9C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8358-B4C7-4C89-81CA-F12983E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C7E7E-EF6F-4C7A-B898-1B81C158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7D6-DC8E-4F1C-9B1C-4C753DEB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A4BD4-F10F-4D4F-9A8B-8747136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32B2D-7994-4595-A3F4-795524A8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D6E1-A4DE-4A6B-A3EC-8D550B6A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12488-1DBA-4E18-B08B-6FCD8EC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37A0-6A44-4792-9A71-049EB219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305D-909B-49C9-AF51-59F3A4DA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E037-3FFF-4BCA-A855-127A600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5D48-3515-428E-AFFA-3F3AAE3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6C282-62F7-4113-9D11-49C4BC7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51AE-7D2B-4DA3-9164-8E27FE3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EB8-7193-4112-A7C3-9667AE2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9BCCF-1E2F-48E2-A804-51762E2D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6C0F-AF06-4E9A-A32E-9F5E5017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75F5A-B315-4C1D-8FC0-4D07F153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84B6A-9522-45B0-B488-FB647C41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D90FA-A634-4603-BDBA-8D3E8F9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64816-7E01-442C-84E7-CDC4E34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F0E1-CE01-4E3F-944F-AD5EA468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C985-5349-48DA-A9A7-EFBFC0E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732C-1003-4D8F-AE3C-6DE11679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EF1C-39FC-4435-93C0-9BA9822A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379-94B8-4977-A9A1-B70F6978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44BF-1DC7-4DB1-AC04-97AA9C3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559F-D0A5-4A71-9524-317B9AB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4E30B-E40A-4094-8195-52CBADA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5FB4A-FEAC-4F52-8B2E-FCC53092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8174A-4CF6-43ED-8842-7C21CBFE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EB3A5-CB19-41FE-9024-A194C4CD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F55EEF-C99F-4D67-92C6-7968FA09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F8EAB5-6EAF-48BA-ACE7-C71FA16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0DD67-9A03-4674-8181-F8010462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A5C42-84B2-4FCA-B68F-3CD8FC2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8DC-A4EE-410B-941C-E238F91F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F7148A-4AD0-4ECB-AF93-6123E263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3CF25F-F25D-459B-A048-1948651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B7C96B-E398-40A8-A7FD-F60F3A2C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3A2332-55DE-46CB-83B6-9E450F4B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02B57-959E-48D7-8396-5EBF814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DB008-7460-4608-9F9C-4C31702C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32D3C-872E-43C6-B4DF-12393CCC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EB8E2-D93C-4CC8-94A2-AC63C7D4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F293A-CF93-452E-B878-521E60BE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C6D3E-709B-430B-A9E1-7EBE563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825-BBB6-4B38-883F-5CD49E7CE4D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A20-C633-4E28-A540-BB04C0B14C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9FBC-4553-4229-A9C9-E6250040964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7A1-B9EE-4FBB-BE84-6CD52E904AF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74A-2DF1-4FC3-8E82-96B2731DF85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312-8C7F-4FC3-BD10-A24C348442D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D754-AF0D-400E-AC0A-E66D05D956D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123-FFE0-455D-8584-5CE076124F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F56F-2DE3-4DBF-9317-7A43929BB1C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4064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mbria"/>
              </a:rPr>
              <a:t>архивирование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99680" y="128556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Функции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мещение файлов в архи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Извлечение файлов из архив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росмотр оглавления архива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многотомных архиво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самораспаковывающихся архивов;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Создание пароля для доступа к архиву и др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WinRar </a:t>
            </a:r>
            <a:r>
              <a:rPr b="0" lang="ru-RU" sz="3000" spc="-1" strike="noStrike">
                <a:solidFill>
                  <a:srgbClr val="ff0000"/>
                </a:solidFill>
                <a:latin typeface="Cambria"/>
              </a:rPr>
              <a:t>и </a:t>
            </a: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WinZip </a:t>
            </a:r>
            <a:r>
              <a:rPr b="0" lang="ru-RU" sz="3000" spc="-1" strike="noStrike">
                <a:solidFill>
                  <a:srgbClr val="ff0000"/>
                </a:solidFill>
                <a:latin typeface="Cambria"/>
              </a:rPr>
              <a:t>наиболее распространённые программы-архиваторы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57120" y="1428840"/>
            <a:ext cx="55720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Архиватор 7-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Zip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беспечивает более высокую степень сжатия , чем 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WinRar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, и является 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бесплатным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Его собственный формат – 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7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Z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Работает с архивами – 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RAR, ZIP</a:t>
            </a:r>
            <a:r>
              <a:rPr b="0" lang="ru-RU" sz="27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85840" y="4000680"/>
            <a:ext cx="5611680" cy="2428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>
            <a:off x="6072120" y="1857240"/>
            <a:ext cx="285768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Его собственный формат открывается большинством других современных архиваторов, однако если вы не уверены, сможет ли пользователь, для которого вы создаёте архив, его распаковать, лучше используйте формат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ZIP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(открывается даже при помощи Проводника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 резервирования обусловлен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ю иметь резервные копии в случае порчи или разрушения информации на дисках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Необходимостью транспортировки информа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Под резервированием информации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онимается получение резервных копий отдельных файлов, групп файлов, файловой структуры или всего диска на другом носителе информаци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 резервировании все копии файлов сохраняются в одном файле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использования зарезервированных файлов их необходимо предварительно извлечь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оцесс извлечения зарезервированных файлов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осстановление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328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599840"/>
            <a:ext cx="440064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Практически все ОС располагают утилитами, которые позволяют создавать резервные копии файлов (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Backup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В ОС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Windows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для локального диска есть функция создания резервной копии: 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Cambria"/>
              </a:rPr>
              <a:t>Команда «Свойства» контекстного меню, затем Вкладка «Сервис», «Выполнить архивацию»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4929120" y="1643040"/>
            <a:ext cx="35244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Резервирование информации со сжатием файл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роцесс записи файлов в архивный файл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архивированием(упаковкой),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извлечение файлов из архива -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зархивированием (распаковкой)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 сам архивный файл –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архив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 архивации объём файла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уменьшается, но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личество информации остаётся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ежни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епень сжатия файлов зависит от типа файла и метода упаковк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85840" y="1500120"/>
            <a:ext cx="4543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Степень сжатия файлов характеризуется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коэффициентом сжатия К</a:t>
            </a:r>
            <a:r>
              <a:rPr b="1" lang="ru-RU" sz="2700" spc="-1" strike="noStrike" baseline="-25000">
                <a:solidFill>
                  <a:srgbClr val="ffffff"/>
                </a:solidFill>
                <a:latin typeface="Cambria"/>
              </a:rPr>
              <a:t>с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,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определяемым как отношение объёма сжатого файла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1" lang="en-US" sz="2700" spc="-1" strike="noStrike" baseline="-25000">
                <a:solidFill>
                  <a:srgbClr val="ffffff"/>
                </a:solidFill>
                <a:latin typeface="Rockwell"/>
              </a:rPr>
              <a:t>c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к объёму исходного файла 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V</a:t>
            </a:r>
            <a:r>
              <a:rPr b="1" lang="en-US" sz="2700" spc="-1" strike="noStrike" baseline="-25000">
                <a:solidFill>
                  <a:srgbClr val="ffffff"/>
                </a:solidFill>
                <a:latin typeface="Rockwell"/>
              </a:rPr>
              <a:t>o</a:t>
            </a:r>
            <a:r>
              <a:rPr b="1" lang="en-US" sz="2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выраженное в процентах: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K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c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=V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c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/V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Rockwell"/>
              </a:rPr>
              <a:t>o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*100%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Чем </a:t>
            </a:r>
            <a:r>
              <a:rPr b="1" lang="ru-RU" sz="2700" spc="-1" strike="noStrike">
                <a:solidFill>
                  <a:srgbClr val="ffffff"/>
                </a:solidFill>
                <a:latin typeface="Cambria"/>
              </a:rPr>
              <a:t>меньше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эта величина, тем </a:t>
            </a:r>
            <a:r>
              <a:rPr b="1" i="1" lang="ru-RU" sz="2700" spc="-1" strike="noStrike">
                <a:solidFill>
                  <a:srgbClr val="ffffff"/>
                </a:solidFill>
                <a:latin typeface="Cambria"/>
              </a:rPr>
              <a:t>выше</a:t>
            </a: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 степень сжатия информации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44772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0040" y="17143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нцип уплотнения информации основан на том, что информация обладает избыточностью, которая зависит от вида информаци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Методы сжат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071720" y="471492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паковка без потерь информ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4857840" y="4643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паковка с потерей информаци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cxnSp>
        <p:nvCxnSpPr>
          <p:cNvPr id="414" name="Прямая со стрелкой 8"/>
          <p:cNvCxnSpPr/>
          <p:nvPr/>
        </p:nvCxnSpPr>
        <p:spPr>
          <a:xfrm flipH="1">
            <a:off x="2285280" y="4214880"/>
            <a:ext cx="1215000" cy="4291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  <p:cxnSp>
        <p:nvCxnSpPr>
          <p:cNvPr id="415" name="Прямая со стрелкой 10"/>
          <p:cNvCxnSpPr/>
          <p:nvPr/>
        </p:nvCxnSpPr>
        <p:spPr>
          <a:xfrm>
            <a:off x="5000760" y="4214880"/>
            <a:ext cx="1072080" cy="429120"/>
          </a:xfrm>
          <a:prstGeom prst="straightConnector1">
            <a:avLst/>
          </a:prstGeom>
          <a:ln w="9360">
            <a:solidFill>
              <a:srgbClr val="67936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еоретические методы алгоритмов упаковки без потерь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етод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Rockwell"/>
              </a:rPr>
              <a:t>RLE (Run Length Encoding)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снованный на выделении повторяющихся фрагментов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етод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Хафмана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, основанный на замене наиболее часто встречающихся фрагментов специальным кодо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4:05:49Z</dcterms:created>
  <dc:creator>Admin</dc:creator>
  <dc:description/>
  <dc:language>en-US</dc:language>
  <cp:lastModifiedBy>Admin</cp:lastModifiedBy>
  <dcterms:modified xsi:type="dcterms:W3CDTF">2011-01-19T15:29:55Z</dcterms:modified>
  <cp:revision>8</cp:revision>
  <dc:subject/>
  <dc:title>Резервирование информации</dc:title>
</cp:coreProperties>
</file>