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999B-7217-4E95-9926-D6992BDC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736A-7018-4123-B647-FE51B06A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694B04-D289-48C9-9DB2-E660E7A9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6B818C-DE4F-4B3C-A61D-74B594F7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D98ED5-58B1-4371-9D1C-46ADCD04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79A873-AF32-43C2-9E20-94708BD1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377F7B-F69C-4DB4-AAB8-2CB5C017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2D48E9-BBA7-4255-A92D-09B7D072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5F808A-32E6-44CF-8E97-D76661A0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AE9EF8-5756-4096-B13B-FB3AC27D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EA3834-D364-479A-8456-985812E09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C7E6-D8F8-474D-ADBA-2F7B175D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9D63-3273-480D-A55F-02598B88B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E9EAE-32E9-4570-974F-F690893DF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ED9F7-88D2-490A-BACE-52470216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87136-4C5A-4D50-A0E6-904F7818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50078-16AA-4599-B9C4-527DD8BE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1A87D-9805-49B6-931D-8AC7FCA2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AA46A-C728-4B6B-BC32-D186188D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7ADDF-5429-45AD-9B23-A8978C30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44BE-68A9-4757-A290-989E34FA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FF712-972E-4B43-9DA9-7222A16A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BE832-1B88-4DA4-8861-F89BE5F2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9E79D-5F19-4F39-9518-FE0CBC95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5185C-F697-4C40-A16D-7E79C169D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847E3-ED9A-47C5-815D-60ACA90D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2A725-7B6E-4199-9478-3C7A71F7F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AAC6B-56BB-4881-AE32-94410C2F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7BB6C-E23E-4DBD-9C26-CBFD97B9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F1965-AD29-4424-A25C-EFAD3F7F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44181-0F8E-48B8-9585-16089BEE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6AC0-8681-419C-97A7-C1842C64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5DE60-BE30-4E25-A2C6-EC68653C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71B03-9A1C-43C0-8C64-86667FB9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D6CA9-4845-425C-B6A5-AA540707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C5E42-B3C9-4219-8293-93B3BFB3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8C98C-9187-4769-ACE7-EDF41D66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853B9-55D9-4726-A3CC-C06609FF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CC77C-423C-4099-B833-5BD3933B1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267759-5E44-41D6-BF67-69EC43C5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EF0D41-D3CF-45B3-AAC3-72B28B6B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04D442-E998-4F38-BF3F-A4EABA7A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9659-9DAD-4BDF-A901-7BC70E74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918286-B2B3-4683-8FEB-310EC40B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283349-4B6F-4922-AAEA-9C5F8748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E267A3-C8CF-43FE-BA1F-572DB3DB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1FA991-ACB6-4580-A5E8-D162A476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5C5D86-CC67-4FDD-B460-11D983BA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EB4DAF-7B01-409E-991E-3606D92D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83EEE3-C5D8-4E59-9249-4EA91623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C006EB-ADBD-4BC7-92FD-8465092C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ADF9F3-C83C-424D-9BCB-C721FAA0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A2E43-DA0E-4D76-BF1E-4691491EE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042F-0E62-4ADA-B629-003D3688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EE0FD-8C54-41E1-A2E0-25D05260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A10C6-1482-44E3-A255-43CADBD1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BCB2D-8DF5-400F-96A5-F5FBCE0D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D56DA-6A62-4488-BFDE-705F15F1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81229-32F1-4FDD-8111-CC71EB1C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2B4C2-334E-410C-B00E-4B6EB077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88C34-3752-4E9D-99E7-A85DD470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CC06B-B2E8-4D94-8CF8-732DF873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1B423-0F22-455E-B36E-0B599C20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2A776-DF42-4CFC-960B-B94DA3B6F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77E6-FEBB-454C-BD26-3697FF4D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DACA3-3881-494C-ACA6-0835E392F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01AD5-F74B-40AE-8070-9C2254E31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9A457-3D7A-40E6-AAE8-B5E24D07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130F1-49A3-44CC-9C24-810295DC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2E030-F272-4C3C-BE3F-46E7A525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46919-4AF6-40E7-AAA0-51526149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11D2C-FB8B-4F0A-BEAF-141D5C11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7BB03-164F-4BC0-B145-032A12B6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6348D-B7A2-4A5F-BC20-F4C4C368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3CED4-2F6F-448B-9C69-1142A28D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95AC-6320-488C-8FC9-E8A2BE4D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21EFD-755B-45DD-8C8E-79988894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745A4-2AA4-4E6E-8E94-8F9CD47E5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81944-704A-42DA-A839-7AF5AB2E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569F4-ED72-4039-874E-8D7C23090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751E8-4D03-476F-B3D3-AB587C1D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77AC5-6EAD-41F7-917D-1F0AF256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F0C6B-7458-4631-A010-7B63E97C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ACDBE-82FB-4391-803E-0D767533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2B5C3-C464-46B5-A8C6-F7CE7F18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A950A-CCE8-499F-AEA2-750576A5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AE39-07C2-4F53-9C27-FF4345FC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E60DC-9240-457E-87D3-2E9049DF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875A8-B21B-4FF0-92B8-C8640438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0E7AD-1C9E-4569-838D-6C8C9E67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FF6B3-2F42-4E36-BB94-7E52E3CE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2C6B9-1FFE-42E7-85E9-57522C15D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A6735F-2479-4141-87E3-2514AAEF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48399D-E964-4A5F-9CAA-3915C5D0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1FBEB7-4AA6-4B9A-89CE-BEDF6092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30D786-958C-464C-904F-57B1AF2B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00C2DF-FF63-4B85-9958-0836FE7F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2F6C-3E68-40EE-867F-C9987258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44DF09-22D1-4964-A7D7-CCF906F4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ECD007-A59C-4276-BE3B-89BC3BB1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F1E893-5E52-4C18-8C92-4DD8C766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5A2CD4-F144-47BD-9D1C-0EC8F7AC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F749A4-96ED-49EE-9FD2-8E7C677D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A52EA6-3BDC-4C99-B7A7-5A8E77FB5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2C5C29-5730-47E0-B76F-881394462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901404-F40B-4369-B9E3-DBC9B79CA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BB7CC9-2FB7-42F2-AF2A-3996AF1D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0B68B1-A650-4CD8-83F3-13CF2D40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C6FF-E409-40EE-8BAC-19E4C3F5FE4B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ACDF-15FD-4838-98B0-E2B4E052C1B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996E-82A0-4657-8AA1-A3B3BF54E63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4D43-07CA-44EB-9F64-B286E500ECE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F696-27A2-432B-9F08-5F9D49056E9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D531-5AB2-4075-8FD3-F722078C655F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C6E0-1F74-49CE-B1AD-0FFB5E0E7D4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3BF9-6D7E-45A7-A343-1FF6D395866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CA4B-7A17-4FA2-B03C-C230E500B473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4064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"/>
              </a:rPr>
              <a:t>архивирование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99680" y="1285560"/>
            <a:ext cx="84726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0080" indent="-28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Функции: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buClr>
                <a:srgbClr val="72a37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Помещение файлов в архив;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buClr>
                <a:srgbClr val="72a37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Извлечение файлов из архива;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buClr>
                <a:srgbClr val="72a37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Просмотр оглавления архива;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buClr>
                <a:srgbClr val="72a37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Создание многотомных архивов;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buClr>
                <a:srgbClr val="72a37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Создание самораспаковывающихся архивов;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buClr>
                <a:srgbClr val="72a37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Создание пароля для доступа к архиву и др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Rockwell"/>
              </a:rPr>
              <a:t>WinRar </a:t>
            </a:r>
            <a:r>
              <a:rPr b="0" lang="ru-RU" sz="3000" spc="-1" strike="noStrike">
                <a:solidFill>
                  <a:srgbClr val="ff0000"/>
                </a:solidFill>
                <a:latin typeface="Cambria"/>
              </a:rPr>
              <a:t>и </a:t>
            </a:r>
            <a:r>
              <a:rPr b="0" lang="en-US" sz="3000" spc="-1" strike="noStrike">
                <a:solidFill>
                  <a:srgbClr val="ff0000"/>
                </a:solidFill>
                <a:latin typeface="Rockwell"/>
              </a:rPr>
              <a:t>WinZip </a:t>
            </a:r>
            <a:r>
              <a:rPr b="0" lang="ru-RU" sz="3000" spc="-1" strike="noStrike">
                <a:solidFill>
                  <a:srgbClr val="ff0000"/>
                </a:solidFill>
                <a:latin typeface="Cambria"/>
              </a:rPr>
              <a:t>наиболее распространённые программы-архиваторы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57120" y="1428840"/>
            <a:ext cx="557208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Архиватор 7-</a:t>
            </a: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Zip </a:t>
            </a: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обеспечивает более высокую степень сжатия , чем </a:t>
            </a: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WinRar</a:t>
            </a: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, и является </a:t>
            </a:r>
            <a:r>
              <a:rPr b="0" lang="ru-RU" sz="2700" spc="-1" strike="noStrike">
                <a:solidFill>
                  <a:srgbClr val="ff0000"/>
                </a:solidFill>
                <a:latin typeface="Cambria"/>
              </a:rPr>
              <a:t>бесплатным.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Его собственный формат – </a:t>
            </a:r>
            <a:r>
              <a:rPr b="0" lang="ru-RU" sz="2700" spc="-1" strike="noStrike">
                <a:solidFill>
                  <a:srgbClr val="ff0000"/>
                </a:solidFill>
                <a:latin typeface="Cambria"/>
              </a:rPr>
              <a:t>7</a:t>
            </a:r>
            <a:r>
              <a:rPr b="0" lang="en-US" sz="2700" spc="-1" strike="noStrike">
                <a:solidFill>
                  <a:srgbClr val="ff0000"/>
                </a:solidFill>
                <a:latin typeface="Rockwell"/>
              </a:rPr>
              <a:t>Z</a:t>
            </a: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Работает с архивами – </a:t>
            </a:r>
            <a:r>
              <a:rPr b="0" lang="en-US" sz="2700" spc="-1" strike="noStrike">
                <a:solidFill>
                  <a:srgbClr val="ff0000"/>
                </a:solidFill>
                <a:latin typeface="Rockwell"/>
              </a:rPr>
              <a:t>RAR, ZIP</a:t>
            </a:r>
            <a:r>
              <a:rPr b="0" lang="ru-RU" sz="2700" spc="-1" strike="noStrike">
                <a:solidFill>
                  <a:srgbClr val="ff0000"/>
                </a:solidFill>
                <a:latin typeface="Cambria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2"/>
          <a:stretch/>
        </p:blipFill>
        <p:spPr>
          <a:xfrm>
            <a:off x="285840" y="4000680"/>
            <a:ext cx="5611680" cy="2428560"/>
          </a:xfrm>
          <a:prstGeom prst="rect">
            <a:avLst/>
          </a:prstGeom>
          <a:ln w="0">
            <a:noFill/>
          </a:ln>
        </p:spPr>
      </p:pic>
      <p:sp>
        <p:nvSpPr>
          <p:cNvPr id="423" name="TextBox 4"/>
          <p:cNvSpPr/>
          <p:nvPr/>
        </p:nvSpPr>
        <p:spPr>
          <a:xfrm>
            <a:off x="6072120" y="1857240"/>
            <a:ext cx="2857680" cy="4483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Его собственный формат открывается большинством других современных архиваторов, однако если вы не уверены, сможет ли пользователь, для которого вы создаёте архив, его распаковать, лучше используйте формат 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ZIP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(открывается даже при помощи Проводника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buClr>
                <a:srgbClr val="72a376"/>
              </a:buClr>
              <a:buSzPct val="70000"/>
              <a:buFont typeface="Rockwell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298440" y="249120"/>
            <a:ext cx="8693280" cy="116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Необходимость резервирования обусловлена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Необходимостью иметь резервные копии в случае порчи или разрушения информации на дисках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Необходимостью транспортировки информации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298440" y="249120"/>
            <a:ext cx="8693280" cy="11653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Под резервированием информации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понимается получение резервных копий отдельных файлов, групп файлов, файловой структуры или всего диска на другом носителе информации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При резервировании все копии файлов сохраняются в одном файле.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298440" y="249120"/>
            <a:ext cx="8693280" cy="11653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Для использования зарезервированных файлов их необходимо предварительно извлечь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Процесс извлечения зарезервированных файлов называется </a:t>
            </a: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восстановлением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298440" y="249120"/>
            <a:ext cx="8693280" cy="11653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599840"/>
            <a:ext cx="44006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Практически все ОС располагают утилитами, которые позволяют создавать резервные копии файлов (</a:t>
            </a: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Backup)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Cambria"/>
              </a:rPr>
              <a:t>В ОС </a:t>
            </a:r>
            <a:r>
              <a:rPr b="1" lang="en-US" sz="2700" spc="-1" strike="noStrike">
                <a:solidFill>
                  <a:srgbClr val="ffffff"/>
                </a:solidFill>
                <a:latin typeface="Rockwell"/>
              </a:rPr>
              <a:t>Windows</a:t>
            </a:r>
            <a:r>
              <a:rPr b="1" lang="ru-RU" sz="2700" spc="-1" strike="noStrike">
                <a:solidFill>
                  <a:srgbClr val="ffffff"/>
                </a:solidFill>
                <a:latin typeface="Cambria"/>
              </a:rPr>
              <a:t> для локального диска есть функция создания резервной копии: 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Cambria"/>
              </a:rPr>
              <a:t>Команда «Свойства» контекстного меню, затем Вкладка «Сервис», «Выполнить архивацию»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2"/>
          <a:stretch/>
        </p:blipFill>
        <p:spPr>
          <a:xfrm>
            <a:off x="4929120" y="1643040"/>
            <a:ext cx="35244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7200" indent="-27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Резервирование информации со сжатием файлов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Процесс записи файлов в архивный файл называется </a:t>
            </a: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архивированием(упаковкой),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извлечение файлов из архива - </a:t>
            </a: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разархивированием (распаковкой),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а сам архивный файл –</a:t>
            </a: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 архивом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При архивации объём файла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уменьшается, но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оличество информации остаётся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прежним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Степень сжатия файлов зависит от типа файла и метода упаковки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285840" y="1500120"/>
            <a:ext cx="45432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62440" indent="-2624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Степень сжатия файлов характеризуется </a:t>
            </a:r>
            <a:r>
              <a:rPr b="1" lang="ru-RU" sz="2700" spc="-1" strike="noStrike">
                <a:solidFill>
                  <a:srgbClr val="ffffff"/>
                </a:solidFill>
                <a:latin typeface="Cambria"/>
              </a:rPr>
              <a:t>коэффициентом сжатия К</a:t>
            </a:r>
            <a:r>
              <a:rPr b="1" lang="ru-RU" sz="2700" spc="-1" strike="noStrike" baseline="-25000">
                <a:solidFill>
                  <a:srgbClr val="ffffff"/>
                </a:solidFill>
                <a:latin typeface="Cambria"/>
              </a:rPr>
              <a:t>с</a:t>
            </a:r>
            <a:r>
              <a:rPr b="1" lang="ru-RU" sz="2700" spc="-1" strike="noStrike">
                <a:solidFill>
                  <a:srgbClr val="ffffff"/>
                </a:solidFill>
                <a:latin typeface="Cambria"/>
              </a:rPr>
              <a:t> , </a:t>
            </a: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определяемым как отношение объёма сжатого файла </a:t>
            </a:r>
            <a:r>
              <a:rPr b="1" lang="en-US" sz="2700" spc="-1" strike="noStrike">
                <a:solidFill>
                  <a:srgbClr val="ffffff"/>
                </a:solidFill>
                <a:latin typeface="Rockwell"/>
              </a:rPr>
              <a:t>V</a:t>
            </a:r>
            <a:r>
              <a:rPr b="1" lang="en-US" sz="2700" spc="-1" strike="noStrike" baseline="-25000">
                <a:solidFill>
                  <a:srgbClr val="ffffff"/>
                </a:solidFill>
                <a:latin typeface="Rockwell"/>
              </a:rPr>
              <a:t>c</a:t>
            </a:r>
            <a:r>
              <a:rPr b="1" lang="ru-RU" sz="27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к объёму исходного файла </a:t>
            </a:r>
            <a:r>
              <a:rPr b="1" lang="en-US" sz="2700" spc="-1" strike="noStrike">
                <a:solidFill>
                  <a:srgbClr val="ffffff"/>
                </a:solidFill>
                <a:latin typeface="Rockwell"/>
              </a:rPr>
              <a:t>V</a:t>
            </a:r>
            <a:r>
              <a:rPr b="1" lang="en-US" sz="2700" spc="-1" strike="noStrike" baseline="-25000">
                <a:solidFill>
                  <a:srgbClr val="ffffff"/>
                </a:solidFill>
                <a:latin typeface="Rockwell"/>
              </a:rPr>
              <a:t>o</a:t>
            </a:r>
            <a:r>
              <a:rPr b="1" lang="en-US" sz="27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ru-RU" sz="27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выраженное в процентах: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62440" indent="-262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Rockwell"/>
              </a:rPr>
              <a:t>K</a:t>
            </a:r>
            <a:r>
              <a:rPr b="0" lang="en-US" sz="2700" spc="-1" strike="noStrike" baseline="-25000">
                <a:solidFill>
                  <a:srgbClr val="ff0000"/>
                </a:solidFill>
                <a:latin typeface="Rockwell"/>
              </a:rPr>
              <a:t>c</a:t>
            </a:r>
            <a:r>
              <a:rPr b="0" lang="en-US" sz="2700" spc="-1" strike="noStrike">
                <a:solidFill>
                  <a:srgbClr val="ff0000"/>
                </a:solidFill>
                <a:latin typeface="Rockwell"/>
              </a:rPr>
              <a:t>=V</a:t>
            </a:r>
            <a:r>
              <a:rPr b="0" lang="en-US" sz="2700" spc="-1" strike="noStrike" baseline="-25000">
                <a:solidFill>
                  <a:srgbClr val="ff0000"/>
                </a:solidFill>
                <a:latin typeface="Rockwell"/>
              </a:rPr>
              <a:t>c</a:t>
            </a:r>
            <a:r>
              <a:rPr b="0" lang="en-US" sz="2700" spc="-1" strike="noStrike">
                <a:solidFill>
                  <a:srgbClr val="ff0000"/>
                </a:solidFill>
                <a:latin typeface="Rockwell"/>
              </a:rPr>
              <a:t>/V</a:t>
            </a:r>
            <a:r>
              <a:rPr b="0" lang="en-US" sz="2700" spc="-1" strike="noStrike" baseline="-25000">
                <a:solidFill>
                  <a:srgbClr val="ff0000"/>
                </a:solidFill>
                <a:latin typeface="Rockwell"/>
              </a:rPr>
              <a:t>o</a:t>
            </a:r>
            <a:r>
              <a:rPr b="0" lang="en-US" sz="2700" spc="-1" strike="noStrike">
                <a:solidFill>
                  <a:srgbClr val="ff0000"/>
                </a:solidFill>
                <a:latin typeface="Rockwell"/>
              </a:rPr>
              <a:t>*100%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62440" indent="-262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Чем </a:t>
            </a:r>
            <a:r>
              <a:rPr b="1" lang="ru-RU" sz="2700" spc="-1" strike="noStrike">
                <a:solidFill>
                  <a:srgbClr val="ffffff"/>
                </a:solidFill>
                <a:latin typeface="Cambria"/>
              </a:rPr>
              <a:t>меньше</a:t>
            </a: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 эта величина, тем </a:t>
            </a:r>
            <a:r>
              <a:rPr b="1" i="1" lang="ru-RU" sz="2700" spc="-1" strike="noStrike">
                <a:solidFill>
                  <a:srgbClr val="ffffff"/>
                </a:solidFill>
                <a:latin typeface="Cambria"/>
              </a:rPr>
              <a:t>выше</a:t>
            </a: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 степень сжатия информации.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9" name="Picture 4" descr=""/>
          <p:cNvPicPr/>
          <p:nvPr/>
        </p:nvPicPr>
        <p:blipFill>
          <a:blip r:embed="rId2"/>
          <a:stretch/>
        </p:blipFill>
        <p:spPr>
          <a:xfrm>
            <a:off x="5143680" y="1571760"/>
            <a:ext cx="34477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500040" y="171432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ринцип уплотнения информации основан на том, что информация обладает избыточностью, которая зависит от вида информации.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Методы сжати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TextBox 4"/>
          <p:cNvSpPr/>
          <p:nvPr/>
        </p:nvSpPr>
        <p:spPr>
          <a:xfrm>
            <a:off x="1071720" y="4714920"/>
            <a:ext cx="23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Упаковка без потерь информаци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3" name="TextBox 6"/>
          <p:cNvSpPr/>
          <p:nvPr/>
        </p:nvSpPr>
        <p:spPr>
          <a:xfrm>
            <a:off x="4857840" y="4643280"/>
            <a:ext cx="23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Упаковка с потерей информаци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cxnSp>
        <p:nvCxnSpPr>
          <p:cNvPr id="414" name="Прямая со стрелкой 8"/>
          <p:cNvCxnSpPr/>
          <p:nvPr/>
        </p:nvCxnSpPr>
        <p:spPr>
          <a:xfrm flipH="1">
            <a:off x="2285280" y="4214880"/>
            <a:ext cx="1215000" cy="429120"/>
          </a:xfrm>
          <a:prstGeom prst="straightConnector1">
            <a:avLst/>
          </a:prstGeom>
          <a:ln w="9360">
            <a:solidFill>
              <a:srgbClr val="67936a"/>
            </a:solidFill>
            <a:miter/>
            <a:tailEnd len="med" type="arrow" w="med"/>
          </a:ln>
        </p:spPr>
      </p:cxnSp>
      <p:cxnSp>
        <p:nvCxnSpPr>
          <p:cNvPr id="415" name="Прямая со стрелкой 10"/>
          <p:cNvCxnSpPr/>
          <p:nvPr/>
        </p:nvCxnSpPr>
        <p:spPr>
          <a:xfrm>
            <a:off x="5000760" y="4214880"/>
            <a:ext cx="1072080" cy="429120"/>
          </a:xfrm>
          <a:prstGeom prst="straightConnector1">
            <a:avLst/>
          </a:prstGeom>
          <a:ln w="9360">
            <a:solidFill>
              <a:srgbClr val="67936a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Теоретические методы алгоритмов упаковки без потерь: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Метод</a:t>
            </a:r>
            <a:r>
              <a:rPr b="1" i="1" lang="ru-RU" sz="3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Rockwell"/>
              </a:rPr>
              <a:t>RLE (Run Length Encoding)</a:t>
            </a:r>
            <a:r>
              <a:rPr b="1" i="1" lang="ru-RU" sz="3200" spc="-1" strike="noStrike">
                <a:solidFill>
                  <a:srgbClr val="ff0000"/>
                </a:solidFill>
                <a:latin typeface="Cambria"/>
              </a:rPr>
              <a:t>,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основанный на выделении повторяющихся фрагментов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Метод </a:t>
            </a:r>
            <a:r>
              <a:rPr b="1" i="1" lang="ru-RU" sz="3200" spc="-1" strike="noStrike">
                <a:solidFill>
                  <a:srgbClr val="ff0000"/>
                </a:solidFill>
                <a:latin typeface="Cambria"/>
              </a:rPr>
              <a:t>Хафмана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, основанный на замене наиболее часто встречающихся фрагментов специальным кодом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4:05:49Z</dcterms:created>
  <dc:creator>Admin</dc:creator>
  <dc:description/>
  <dc:language>en-US</dc:language>
  <cp:lastModifiedBy>Admin</cp:lastModifiedBy>
  <dcterms:modified xsi:type="dcterms:W3CDTF">2011-01-19T15:29:55Z</dcterms:modified>
  <cp:revision>8</cp:revision>
  <dc:subject/>
  <dc:title>Резервирование информации</dc:title>
</cp:coreProperties>
</file>