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CFA-BDA6-4885-AF14-33EF993D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E96-A902-41FF-B2FD-F85403D8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DC1-75F7-484A-A9BC-5B801BEF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570-C1FE-40FA-B92E-A879F4CF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95B-55C6-4A4D-8663-5076865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367-3904-44E4-BF65-BF905CC7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830-5372-4091-B654-FC9E776F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1FF-7AC3-4FFC-B9F7-098C669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32D-A081-4ED6-A9E6-FFE5D30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58C-81EC-4B1A-9F8E-098763B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D28-8F4F-46D5-9182-C2115186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972-09A0-41A6-8386-FDEEB19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04F8-9F0A-40C3-B5E6-BBD8AD3823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3 НОЯБРЯ 2016 ГО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СОВРЕМЕННЫЙ УРОК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Bookman Old Style"/>
              </a:rPr>
              <a:t>В УСЛОВИЯХ ТРЕБОВАНИЙ ФГОС ВТОРОГО ПОКОЛЕН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          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Подготовила Глущенко Т.В</a:t>
            </a:r>
            <a:r>
              <a:rPr b="1" lang="ru-RU" sz="2400" spc="-1" strike="noStrike">
                <a:solidFill>
                  <a:srgbClr val="ffcc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5" descr="C:\Users\User\Desktop\portfeli-shkolnyie-prinadlezhnosti-300x300.png"/>
          <p:cNvPicPr/>
          <p:nvPr/>
        </p:nvPicPr>
        <p:blipFill>
          <a:blip r:embed="rId1"/>
          <a:stretch/>
        </p:blipFill>
        <p:spPr>
          <a:xfrm>
            <a:off x="351000" y="4076640"/>
            <a:ext cx="3213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.  Включение нового знания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систему знаний и повтор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1700280"/>
            <a:ext cx="85820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8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ачала предложить учащимся из набора заданий выбрать только те, которые содержат новый алгоритм или новое понятие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выполняются упражнения, в которых новое знание используется вместе с изученными ране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овторении ранее изученного материала используютс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вые элементы - сказочные персонажи, соревнова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создаёт положительный эмоциональный фон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ует развитию у детей интереса к урок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C:\Users\user\Desktop\school_4.jpg"/>
          <p:cNvPicPr/>
          <p:nvPr/>
        </p:nvPicPr>
        <p:blipFill>
          <a:blip r:embed="rId1"/>
          <a:stretch/>
        </p:blipFill>
        <p:spPr>
          <a:xfrm>
            <a:off x="5867280" y="4292640"/>
            <a:ext cx="260028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00800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I. Рефлексия деятельности (итог урока)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осознание учащимися своей УД (учебной деятельности), самооценка результатов деятельности своей и всего класс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3 минут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ую задачу ставил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лось решить поставленную задачу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м способом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получили результаты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нужно сделать ещё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де можно применить новые знания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    процессе    первичного    закрепления примеры    решаются    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мментированием: дети проговаривают новые правила в громкой речи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5" descr="C:\Users\user\Desktop\1433834508240.6392--image.png"/>
          <p:cNvPicPr/>
          <p:nvPr/>
        </p:nvPicPr>
        <p:blipFill>
          <a:blip r:embed="rId1"/>
          <a:stretch/>
        </p:blipFill>
        <p:spPr>
          <a:xfrm>
            <a:off x="5148360" y="2492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108000" y="289080"/>
            <a:ext cx="1008000" cy="987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ие требования предъявляются к современному уроку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должен спланировать свою деятельность и деятельность учащихся, четко сформулировать тему, цель, задачи урока, УУД, планируемые результа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должен быть хорошо организованным  в хорошо оборудованном кабинете должен иметь хорошее начало и хорошее окончани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 делают сами учащие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нимум репродукции и максимум творчества и сотворчеств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ясбережение и здоровьесбережение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нтре внимания урока - дет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т уровня и возможностей учащихся, в котором учтены  таки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пекты, как профиль  класса,  уровень восприятия и воспроизведения устной реч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емление и потенциальные возможности учащихся, настроение дете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емонстрировать методическое искусство учител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ирование обратной связ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164520" indent="-1645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к должен быть добры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User\Desktop\school03001.png"/>
          <p:cNvPicPr/>
          <p:nvPr/>
        </p:nvPicPr>
        <p:blipFill>
          <a:blip r:embed="rId2"/>
          <a:stretch/>
        </p:blipFill>
        <p:spPr>
          <a:xfrm>
            <a:off x="7308720" y="4724280"/>
            <a:ext cx="169236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ецепт»  хорошего  уро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Возьмит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южину самых лучших эмоций, отберите те, которые лишены разочарований, злопамятности и злости. Разделите их на 5 (или 6) уроков, которые Вам приходится проводить каждый ден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  Добавьте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каждый свой урок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мудр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храбр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работоспособнос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оптимизм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преданности своему делу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творчест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й доброты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заботы о здоровь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юмо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и такт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цию веры в каждого ученик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4459320" y="2565360"/>
            <a:ext cx="4321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Calibri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841320" y="1268280"/>
            <a:ext cx="7924680" cy="367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345744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rcRect l="33440" t="-4265" r="0" b="0"/>
          <a:stretch/>
        </p:blipFill>
        <p:spPr>
          <a:xfrm>
            <a:off x="1908000" y="407664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современного тип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68360" y="1197000"/>
            <a:ext cx="4607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Усилить мотивацию ребёнка к   познанию окружающего мир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2133720"/>
            <a:ext cx="43182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Продемонстрировать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школьны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и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это не получен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лечённых от жизн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ний, а наоборот-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обходима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ка к жизни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ё узнавани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616400" y="5432760"/>
            <a:ext cx="699444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Метод обучения- при котором ребенок не получает знания в готовом виде, а добывает их сам в процессе собственной учебно-познавательной деятельности называется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деятельностным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методом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24000" y="2565000"/>
            <a:ext cx="317988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Помочь в поиск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зн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дать навыки её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еальнойжизн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C:\Users\111\Pictures\шаблоны\ъз.jpeg"/>
          <p:cNvPicPr/>
          <p:nvPr/>
        </p:nvPicPr>
        <p:blipFill>
          <a:blip r:embed="rId1"/>
          <a:stretch/>
        </p:blipFill>
        <p:spPr>
          <a:xfrm>
            <a:off x="3635280" y="2863800"/>
            <a:ext cx="1757520" cy="2016000"/>
          </a:xfrm>
          <a:prstGeom prst="rect">
            <a:avLst/>
          </a:prstGeom>
          <a:ln w="0">
            <a:noFill/>
          </a:ln>
        </p:spPr>
      </p:pic>
      <p:sp>
        <p:nvSpPr>
          <p:cNvPr id="54" name="Стрелка вниз 11"/>
          <p:cNvSpPr/>
          <p:nvPr/>
        </p:nvSpPr>
        <p:spPr>
          <a:xfrm>
            <a:off x="4272120" y="1967040"/>
            <a:ext cx="484200" cy="8460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право 12"/>
          <p:cNvSpPr/>
          <p:nvPr/>
        </p:nvSpPr>
        <p:spPr>
          <a:xfrm>
            <a:off x="2627280" y="3387600"/>
            <a:ext cx="10080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Стрелка влево 15"/>
          <p:cNvSpPr/>
          <p:nvPr/>
        </p:nvSpPr>
        <p:spPr>
          <a:xfrm>
            <a:off x="5378400" y="3387600"/>
            <a:ext cx="97956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93204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36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44280"/>
          <a:ext cx="8496360" cy="699948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6177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32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66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524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668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273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60" name="Picture 4" descr="C:\Users\User\Desktop\school03008.jpg"/>
          <p:cNvPicPr/>
          <p:nvPr/>
        </p:nvPicPr>
        <p:blipFill>
          <a:blip r:embed="rId1"/>
          <a:stretch/>
        </p:blipFill>
        <p:spPr>
          <a:xfrm>
            <a:off x="9158400" y="2852640"/>
            <a:ext cx="271116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7123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Calibri"/>
              </a:rPr>
              <a:t>Урок современного ти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3360" y="981000"/>
            <a:ext cx="853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Организационный момен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включение учащихся в деятельность на личностно- значимом уровне. 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Хочу, потому что могу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2 мину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учащихся должна возникнуть положительная эмоциональная направленнос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ключение детей в деятель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еление содержательной области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ёмы работы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в начале урока высказывает добрые пожелания детям; предлагает пожелать друг другу удачи (хлопки в ладони друг друга с соседом по парте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предлагает детям подумать, что пригодится для успешной работы на уроке; дети высказываются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виз, эпиграф («С малой удачи начинается большой успех»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опроверка домашнего задания по образц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Calibri"/>
              </a:rPr>
              <a:t>Настроить детей на работу, проговаривая с ними план урока («потренируемся в решении примеров», «познакомимся с новым вычислительным приёмом», «напишем самостоятельную работу», «повторим решение составных задач» и т. п.)</a:t>
            </a: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C:\Users\User\Desktop\article3405.jpg"/>
          <p:cNvPicPr/>
          <p:nvPr/>
        </p:nvPicPr>
        <p:blipFill>
          <a:blip r:embed="rId1"/>
          <a:stretch/>
        </p:blipFill>
        <p:spPr>
          <a:xfrm>
            <a:off x="7093080" y="2492280"/>
            <a:ext cx="2314440" cy="147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92000" cy="771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77708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557000"/>
            <a:ext cx="86407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, необходимого для «открытия нового знания», и выявление затруднений в индивидуальной деятельности каждого учащегос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Возникновение проблемной ситуац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изация ЗУН и мыслительных операций (внимания, памяти, речи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ние проблемной ситуаци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явление и фиксирование в громкой речи: где и почему возникло затруднение; темы и цели урока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ачале актуализируются знания, необходимые для работы над новым материалом. Одновременно идёт работа над развитием внимания, памяти, речи, мыслительных опер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оздаётся проблемная ситуация, чётко проговаривается цель уро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Desktop\school03015.jpg"/>
          <p:cNvPicPr/>
          <p:nvPr/>
        </p:nvPicPr>
        <p:blipFill>
          <a:blip r:embed="rId2"/>
          <a:stretch/>
        </p:blipFill>
        <p:spPr>
          <a:xfrm>
            <a:off x="7886880" y="-100080"/>
            <a:ext cx="11952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. «Открытие нового знания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остроение проекта выхода из затрудне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ап изучения новых знаний и способов действ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решение УЗ (устных задач) и обсуждение проекта её реше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8 мин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ы: диалог, групповая или парная работа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ы: побуждающий к гипотезам диалог, подводящий к открытию знания диалог, подводящий без проблемы диалог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самостоятельной исследовательской деятельност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едение алгоритм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ое знание дети получают в результате самостоятельного исследования, проводимого под руководством учителя. Новые правила они пытаются выразить своими словам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вершении подводится итог обсуждения и даётся общепринятая формулировка новых алгоритмов действи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лучшего их запоминания, там, где это возможно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ьзуется приём перевода правил на язык образ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5" descr="C:\Users\user\Desktop\i8172-image-original.jpg"/>
          <p:cNvPicPr/>
          <p:nvPr/>
        </p:nvPicPr>
        <p:blipFill>
          <a:blip r:embed="rId1"/>
          <a:stretch/>
        </p:blipFill>
        <p:spPr>
          <a:xfrm>
            <a:off x="7446960" y="5075280"/>
            <a:ext cx="1703520" cy="183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.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ичное закрепление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125000"/>
            <a:ext cx="874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тап закрепления  знаний и способов действи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проговаривание нового знания, запись в виде опорного сигнал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ы: фронтальная работа, работа в парах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едства: комментирование, обозначение знаковыми символами, выполнение продуктивных задан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ение заданий с проговариванием в громкой реч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    процессе    первичного    закрепления примеры    решаются    с 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омментированием: дети проговаривают новые правила в громкой речи.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732720" y="4419720"/>
            <a:ext cx="22701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. Самостоятельная работа с самопроверко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эталону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анализ и самоконтро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080" y="1545840"/>
            <a:ext cx="85802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ап  применения  знаний и способов действ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каждый для себя должен сделать вывод о том, что он уже умее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5 минут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большой объем самостоятельной работы (не более 2-3 типовых заданий)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исьменн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оды: самоконтроль, самооцен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дении самостоятельной работы в классе каждый ребёнок проговаривает новые правила про себя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рке работы каждый должен себя проверить - всё ли он понял, запомнил ли новые правила. Здесь необходимо создать для каждого ребёнка ситуацию успех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C:\Users\user\Desktop\ee383358c499.png"/>
          <p:cNvPicPr/>
          <p:nvPr/>
        </p:nvPicPr>
        <p:blipFill>
          <a:blip r:embed="rId1"/>
          <a:stretch/>
        </p:blipFill>
        <p:spPr>
          <a:xfrm>
            <a:off x="6875640" y="2852640"/>
            <a:ext cx="244944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27080" y="749160"/>
            <a:ext cx="100800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8-06-30T02:07:35Z</dcterms:modified>
  <cp:revision>167</cp:revision>
  <dc:subject/>
  <dc:title>Развитие педагогического мастерства учителя </dc:title>
</cp:coreProperties>
</file>