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6F4-98A4-41E7-9CB8-D280DE5B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FBC-E4B7-453D-9894-1963684B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143-AA94-4092-A95A-5269EA14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CB7-E8AA-4083-B8A0-22B7728D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AC7-5FD3-4949-BA63-F71C7454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417-B94F-4392-B4F1-77679D26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BE1-0EDB-4FC2-B432-551711B3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4F2-6179-44A5-9748-3E0CF679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1C8-D053-46C9-AE69-F4100165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390-17B1-49E9-A795-253F6C37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573-FF73-4FEA-95C1-8F83199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09B-7A83-457D-B42C-7120B8EE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1C16-112B-4F60-BC34-8040D2713D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man Old Style"/>
              </a:rPr>
              <a:t>3 НОЯБРЯ 2016 ГОД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СОВРЕМЕННЫЙ УРО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В УСЛОВИЯХ ТРЕБОВАНИЙ ФГОС ВТОРОГО ПОКОЛЕ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                               </a:t>
            </a:r>
            <a:r>
              <a:rPr b="1" lang="ru-RU" sz="2400" spc="-1" strike="noStrike">
                <a:solidFill>
                  <a:srgbClr val="ffcc00"/>
                </a:solidFill>
                <a:latin typeface="Bookman Old Style"/>
              </a:rPr>
              <a:t>Подготовила Глущенко Т.В</a:t>
            </a:r>
            <a:r>
              <a:rPr b="1" lang="ru-RU" sz="2400" spc="-1" strike="noStrike">
                <a:solidFill>
                  <a:srgbClr val="ffcc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5" descr="C:\Users\User\Desktop\portfeli-shkolnyie-prinadlezhnosti-300x300.png"/>
          <p:cNvPicPr/>
          <p:nvPr/>
        </p:nvPicPr>
        <p:blipFill>
          <a:blip r:embed="rId1"/>
          <a:stretch/>
        </p:blipFill>
        <p:spPr>
          <a:xfrm>
            <a:off x="351000" y="4076640"/>
            <a:ext cx="3213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I.  Включение нового зн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систему знаний и повторени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4920" y="1700280"/>
            <a:ext cx="85820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8 минут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начала предложить учащимся из набора заданий выбрать только те, которые содержат новый алгоритм или новое понятие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тем выполняются упражнения, в которых новое знание используется вместе с изученными ране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овторении ранее изученного материала используютс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овые элементы - сказочные персонажи, соревнования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создаёт положительный эмоциональный фон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ствует развитию у детей интереса к урок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C:\Users\user\Desktop\school_4.jpg"/>
          <p:cNvPicPr/>
          <p:nvPr/>
        </p:nvPicPr>
        <p:blipFill>
          <a:blip r:embed="rId1"/>
          <a:stretch/>
        </p:blipFill>
        <p:spPr>
          <a:xfrm>
            <a:off x="5867280" y="4292640"/>
            <a:ext cx="2600280" cy="223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008000" cy="987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II. Рефлексия деятельности (итог урока)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осознание учащимися своей УД (учебной деятельности), самооценка результатов деятельности своей и всего класс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3 минут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просы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ую задачу ставили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лось решить поставленную задачу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м способом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е получили результаты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нужно сделать ещё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де можно применить новые знания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    процессе    первичного    закрепления примеры    решаются    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комментированием: дети проговаривают новые правила в громкой речи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5" descr="C:\Users\user\Desktop\1433834508240.6392--image.png"/>
          <p:cNvPicPr/>
          <p:nvPr/>
        </p:nvPicPr>
        <p:blipFill>
          <a:blip r:embed="rId1"/>
          <a:stretch/>
        </p:blipFill>
        <p:spPr>
          <a:xfrm>
            <a:off x="5148360" y="249228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108000" y="289080"/>
            <a:ext cx="1008000" cy="987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ие требования предъявляются к современному уроку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981000"/>
            <a:ext cx="8075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должен спланировать свою деятельность и деятельность учащихся, четко сформулировать тему, цель, задачи урока, УУД, планируемые результа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к должен быть хорошо организованным  в хорошо оборудованном кабинете должен иметь хорошее начало и хорошее окончание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ным и развивающим: учитель сам нацеливается на сотрудничество с учениками и умеет направлять учеников на сотрудничество с учителем и одноклассникам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организует проблемные и поисковые ситуации, активизирует деятельность учащихс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вод делают сами учащиес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имум репродукции и максимум творчества и сотворчества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емясбережение и здоровьесбережение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центре внимания урока - дет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т уровня и возможностей учащихся, в котором учтены  таки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пекты, как профиль  класса,  уровень восприятия и воспроизведения устной реч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емление и потенциальные возможности учащихся, настроение дете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демонстрировать методическое искусство учител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анирование обратной связ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к должен быть добры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User\Desktop\school03001.png"/>
          <p:cNvPicPr/>
          <p:nvPr/>
        </p:nvPicPr>
        <p:blipFill>
          <a:blip r:embed="rId2"/>
          <a:stretch/>
        </p:blipFill>
        <p:spPr>
          <a:xfrm>
            <a:off x="7308720" y="4724280"/>
            <a:ext cx="169236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ецепт»  хорошего  урок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267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Возьмите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южину самых лучших эмоций, отберите те, которые лишены разочарований, злопамятности и злости. Разделите их на 5 (или 6) уроков, которые Вам приходится проводить каждый ден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  Добавьте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каждый свой урок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мудрос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храброс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работоспособнос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оптимизм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преданности своему делу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творчеств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доброт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и заботы о здоровь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и юмор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и та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ю веры в каждого ученик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5" descr="C:\Users\User\Desktop\1385582790_0007-005.png"/>
          <p:cNvPicPr/>
          <p:nvPr/>
        </p:nvPicPr>
        <p:blipFill>
          <a:blip r:embed="rId1"/>
          <a:stretch/>
        </p:blipFill>
        <p:spPr>
          <a:xfrm>
            <a:off x="4459320" y="2565360"/>
            <a:ext cx="43210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841320" y="1268280"/>
            <a:ext cx="7924680" cy="367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45744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rcRect l="33440" t="-4265" r="0" b="0"/>
          <a:stretch/>
        </p:blipFill>
        <p:spPr>
          <a:xfrm>
            <a:off x="1908000" y="407664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современного тип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68360" y="1197000"/>
            <a:ext cx="4607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Усилить мотивацию ребёнка к   познанию окружающего мир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8920" y="2133720"/>
            <a:ext cx="43182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Продемонстрировать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школьны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нят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это не получе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лечённых от жизн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ний, а наоборот-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обходима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ка к жизни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ё узнавани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616400" y="5432760"/>
            <a:ext cx="699444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Метод обучения- при котором ребенок не получает знания в готовом виде, а добывает их сам в процессе собственной учебно-познавательной деятельности называется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деятельностным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методом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24000" y="2565000"/>
            <a:ext cx="317988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Помочь в поиск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зно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дать навыки её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нени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реальнойжизн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C:\Users\111\Pictures\шаблоны\ъз.jpeg"/>
          <p:cNvPicPr/>
          <p:nvPr/>
        </p:nvPicPr>
        <p:blipFill>
          <a:blip r:embed="rId1"/>
          <a:stretch/>
        </p:blipFill>
        <p:spPr>
          <a:xfrm>
            <a:off x="3635280" y="2863800"/>
            <a:ext cx="1757520" cy="2016000"/>
          </a:xfrm>
          <a:prstGeom prst="rect">
            <a:avLst/>
          </a:prstGeom>
          <a:ln w="0">
            <a:noFill/>
          </a:ln>
        </p:spPr>
      </p:pic>
      <p:sp>
        <p:nvSpPr>
          <p:cNvPr id="54" name="Стрелка вниз 11"/>
          <p:cNvSpPr/>
          <p:nvPr/>
        </p:nvSpPr>
        <p:spPr>
          <a:xfrm>
            <a:off x="4272120" y="1967040"/>
            <a:ext cx="484200" cy="846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трелка вправо 12"/>
          <p:cNvSpPr/>
          <p:nvPr/>
        </p:nvSpPr>
        <p:spPr>
          <a:xfrm>
            <a:off x="2627280" y="3387600"/>
            <a:ext cx="100800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Стрелка влево 15"/>
          <p:cNvSpPr/>
          <p:nvPr/>
        </p:nvSpPr>
        <p:spPr>
          <a:xfrm>
            <a:off x="5378400" y="3387600"/>
            <a:ext cx="97956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9320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36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9280" y="44280"/>
          <a:ext cx="8496360" cy="699948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177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Требования к уро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Традиционный у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Урок современного ти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32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бъявление темы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сообщает учащим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Сообщение целей и зада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формулирует и сообщает учащимся, чему должны научи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, определив границы знания и незн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сообщает учащимся, какую работу они должны выполнить, чтобы достичь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 учащимися способов достижения намеченной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666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 руководством учителя учащиеся выполняют ряд практических задач (чаще применяется фронтальный метод организации деятельност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учебные действия по намеченному плану (применяется групповой, индивидуальный метод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существление контро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контроль за выполнением учащимися практической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контроль (применяются формы самоконтроля, взаимоконтрол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524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существление корре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 ходе выполнения и по итогам выполненной работы учащимися осуществляет коррекц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формулируют затруднения и осуществляют коррекцию  самостоятель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66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ценивание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оценивание учащихся за работу на уро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дают оценку деятельности по её результатам (самооценивание, оценивание результатов деятельности товарищ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273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тог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ыясняет у учащихся, что они запомни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одится рефлек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4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Домашнее зад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бъявляет и комментирует (чаще – задание одно для все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могут выбирать задание из предложенных учителе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4" descr="C:\Users\User\Desktop\school03008.jpg"/>
          <p:cNvPicPr/>
          <p:nvPr/>
        </p:nvPicPr>
        <p:blipFill>
          <a:blip r:embed="rId1"/>
          <a:stretch/>
        </p:blipFill>
        <p:spPr>
          <a:xfrm>
            <a:off x="9158400" y="2852640"/>
            <a:ext cx="271116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71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Calibri"/>
              </a:rPr>
              <a:t>Урок современного тип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3360" y="981000"/>
            <a:ext cx="8532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Организационный момент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включение учащихся в деятельность на личностно- значимом уровне. 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Хочу, потому что могу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2 мину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учащихся должна возникнуть положительная эмоциональная направленность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ключение детей в деятельность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деление содержательной области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ёмы работы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в начале урока высказывает добрые пожелания детям; предлагает пожелать друг другу удачи (хлопки в ладони друг друга с соседом по парте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предлагает детям подумать, что пригодится для успешной работы на уроке; дети высказываютс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виз, эпиграф («С малой удачи начинается большой успех»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опроверка домашнего задания по образц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Настроить детей на работу, проговаривая с ними план урока («потренируемся в решении примеров», «познакомимся с новым вычислительным приёмом», «напишем самостоятельную работу», «повторим решение составных задач» и т. п.)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4" descr="C:\Users\User\Desktop\article3405.jpg"/>
          <p:cNvPicPr/>
          <p:nvPr/>
        </p:nvPicPr>
        <p:blipFill>
          <a:blip r:embed="rId1"/>
          <a:stretch/>
        </p:blipFill>
        <p:spPr>
          <a:xfrm>
            <a:off x="7093080" y="2492280"/>
            <a:ext cx="2314440" cy="147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792000" cy="771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77708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557000"/>
            <a:ext cx="86407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торение изученного материала, необходимого для «открытия нового знания», и выявление затруднений в индивидуальной деятельности каждого учащегося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4-5 минут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Возникновение проблемной ситуаци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изация ЗУН и мыслительных операций (внимания, памяти, речи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ние проблемной ситуаци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явление и фиксирование в громкой речи: где и почему возникло затруднение; темы и цели урока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ачале актуализируются знания, необходимые для работы над новым материалом. Одновременно идёт работа над развитием внимания, памяти, речи, мыслительных операц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тем создаётся проблемная ситуация, чётко проговаривается цель уро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User\Desktop\school03015.jpg"/>
          <p:cNvPicPr/>
          <p:nvPr/>
        </p:nvPicPr>
        <p:blipFill>
          <a:blip r:embed="rId2"/>
          <a:stretch/>
        </p:blipFill>
        <p:spPr>
          <a:xfrm>
            <a:off x="7886880" y="-100080"/>
            <a:ext cx="11952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V. «Открытие нового знания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строение проекта выхода из затруднения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ап изучения новых знаний и способов действи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решение УЗ (устных задач) и обсуждение проекта её решения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8 мин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ы: диалог, групповая или парная работа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оды: побуждающий к гипотезам диалог, подводящий к открытию знания диалог, подводящий без проблемы диалог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ация самостоятельной исследовательской деятельност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ведение алгоритм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ое знание дети получают в результате самостоятельного исследования, проводимого под руководством учителя. Новые правила они пытаются выразить своими слова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вершении подводится итог обсуждения и даётся общепринятая формулировка новых алгоритмов действи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лучшего их запоминания, там, где это возможно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уется приём перевода правил на язык образ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5" descr="C:\Users\user\Desktop\i8172-image-original.jpg"/>
          <p:cNvPicPr/>
          <p:nvPr/>
        </p:nvPicPr>
        <p:blipFill>
          <a:blip r:embed="rId1"/>
          <a:stretch/>
        </p:blipFill>
        <p:spPr>
          <a:xfrm>
            <a:off x="7446960" y="5075280"/>
            <a:ext cx="1703520" cy="183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.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ичное закрепление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12500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тап закрепления  знаний и способов действи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проговаривание нового знания, запись в виде опорного сигнал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5 минут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ы: фронтальная работа, работа в парах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едства: комментирование, обозначение знаковыми символами, выполнение продуктивных задан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полнение заданий с проговариванием в громкой реч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    процессе    первичного    закрепления примеры    решаются    с 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комментированием: дети проговаривают новые правила в громкой речи.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6732720" y="4419720"/>
            <a:ext cx="22701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9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. Самостоятельная работа с самопроверкой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эталону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анализ и самоконтрол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080" y="1545840"/>
            <a:ext cx="85802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ап  применения  знаний и способов действ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каждый для себя должен сделать вывод о том, что он уже умее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5 минут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большой объем самостоятельной работы (не более 2-3 типовых заданий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полняется письменно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оды: самоконтроль, самооцен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оведении самостоятельной работы в классе каждый ребёнок проговаривает новые правила про себя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оверке работы каждый должен себя проверить - всё ли он понял, запомнил ли новые правила. Здесь необходимо создать для каждого ребёнка ситуацию успех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4" descr="C:\Users\user\Desktop\ee383358c499.png"/>
          <p:cNvPicPr/>
          <p:nvPr/>
        </p:nvPicPr>
        <p:blipFill>
          <a:blip r:embed="rId1"/>
          <a:stretch/>
        </p:blipFill>
        <p:spPr>
          <a:xfrm>
            <a:off x="6875640" y="2852640"/>
            <a:ext cx="244944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127080" y="749160"/>
            <a:ext cx="1008000" cy="987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0:11:57Z</dcterms:created>
  <dc:creator>Сехан</dc:creator>
  <dc:description/>
  <dc:language>en-US</dc:language>
  <cp:lastModifiedBy>User</cp:lastModifiedBy>
  <dcterms:modified xsi:type="dcterms:W3CDTF">2018-06-30T02:07:35Z</dcterms:modified>
  <cp:revision>167</cp:revision>
  <dc:subject/>
  <dc:title>Развитие педагогического мастерства учителя </dc:title>
</cp:coreProperties>
</file>