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4D59-2F0D-49B0-8CE3-E8218022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C35-CC70-4FA9-B2DC-D6753CF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4764-1827-45EC-916E-B762BE30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D86-5646-4842-A6A5-54428BE6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9991-F0B6-4364-9C88-A6C396E9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8CC2-4FD7-44D7-A6D6-414BE9E1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7491-E793-4A28-ACCC-D379C0D4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DB1D-2397-484D-9E91-E740CE6F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3270-C9DF-48DA-81B2-AA2D5E52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8E192-B09B-4587-9FA4-07EB8A52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E46C-C6E3-4117-8539-1E7691F2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924-75E2-427D-A3D8-58D52C20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18FD-822D-4FA6-A78E-D33226E8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DFBD-6511-421E-9F75-47F62D24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263EB-B8AA-4E76-BAA8-030DB508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674F-500C-40ED-8BD5-AE8795D36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459D-150E-44EB-BE62-F630B82E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98E-B22B-4F27-AF43-3723BC2D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908-D1B9-4E71-976D-44D76FCB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1FB-3E76-4AA2-A186-4234A02B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4347-BCB5-4B54-9756-D80A4F31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D318-58E4-45BF-9755-0B54E66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A6EA-0A94-4346-9567-10D7218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ADC-84E9-4087-8C00-44CB757C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966A3-E1A1-45B8-89FD-7E0061CCF63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4ADF-5DF0-42D9-95F0-2F631B68EA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3573000"/>
            <a:ext cx="6121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Умножение и деление 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туральных чисе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МЕНДЕЛЕЕВ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митрий Ивано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834-1907), российский химик, разносторонний ученый, педагог. Открыл (1869) периодический закон химических элементов — один из основных законов естествоз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 каком музее находится данный экспонат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Лувр –      1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Эрмитаж-  9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Прадо-      9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05:3+120*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Кто художник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Джон Вуттон         1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Антуан Ватто        2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Антонио Канале   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0*120-800+14):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то изображено на рисунк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63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Яйцо  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Гриб  9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Мох   9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*15+100: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0033"/>
                </a:solidFill>
                <a:latin typeface="Times New Roman"/>
              </a:rPr>
              <a:t>Устный счет: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: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: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*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*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*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: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8: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00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икта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Увеличьте число пятнадцать в четыре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Найдите произведение двадцати и ш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Делимое равно ста сорока, а делитель – семидесяти. Найдите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Найдите корень уравнения х:20=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Произведение «игрек» и тридцати вос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Частное восьмидесяти двух и «э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)38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)8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ловарный дикта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ра…н…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сл…же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множ…т…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выч…та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ур…вне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ед…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ра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с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множ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у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еди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то изображен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Калашников 5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Левитан  5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Лобачевский 5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*12+256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АЛАШНИКОВ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Михаил Тимофее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р. 1919), русский конструктор стрелкового автоматического оружия, доктор технических наук (1971), генерал-майор (1994), дважды Герой Социалистического Труда (1958, 197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то изображен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Пирогов 63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Менделеев 6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Мечников 62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504-25)*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9589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5:11:16Z</dcterms:created>
  <dc:creator>xxx</dc:creator>
  <dc:description/>
  <dc:language>en-US</dc:language>
  <cp:lastModifiedBy>xxx</cp:lastModifiedBy>
  <dcterms:modified xsi:type="dcterms:W3CDTF">2007-11-23T19:05:00Z</dcterms:modified>
  <cp:revision>14</cp:revision>
  <dc:subject/>
  <dc:title>Умножение и деление  натуральных чисел</dc:title>
</cp:coreProperties>
</file>