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8695-0F22-4E92-A4CA-01EE7B8CF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F5A9-EDB3-41AB-9336-D4F2504AC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5BD9-1C6E-407E-B207-81563168F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077F-EA07-43AF-87F7-82827A66D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39775-AE50-4383-B42C-38A9FF9D4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77B5C-87DE-453F-973E-2682121BE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597ED-AF2B-447B-AD73-179E01E0E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34945-61EB-4112-B3D5-4CAF7A475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FA502-2E0F-4539-AADC-AD9AAFD4B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AB777-B00D-43E4-AFC8-052556C68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A6305-26D9-414B-B77F-B41C6515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2473-7FCF-4F0D-B5EE-C3006F228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212D9-C786-473E-B032-BC310768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AAE99-1A42-4F08-8020-1A4F50989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1B3B5-71C9-4444-8C13-CBC29CDD0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D1065-C867-435C-8121-4FA2D0FA9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150A9-F7C3-4534-BD28-8414009D3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19B7-3959-45E8-853B-42FFDEAAE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9BB5-76BD-4FF9-8194-3ED485978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660B-6160-43B8-BBD5-D57678EAE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123D-8C59-4350-819E-8F22CB147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692C-02E0-4186-B01A-1FAAAA56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A009-F4EB-473B-AA03-DAF6B580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DFFE-A9B4-41CA-BE69-6CFC5E03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DA359-F0A6-4311-8F18-646C3C75E47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3F10C-694D-4CFD-A0BF-C62B658D331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619280" y="3573000"/>
            <a:ext cx="612144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Умножение и деление </a:t>
            </a:r>
            <a:br>
              <a:rPr sz="4400"/>
            </a:b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натуральных чисел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МЕНДЕЛЕЕВ </a:t>
            </a:r>
            <a:br>
              <a:rPr sz="3800"/>
            </a:b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Дмитрий Иванович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1834-1907), российский химик, разносторонний ученый, педагог. Открыл (1869) периодический закон химических элементов — один из основных законов естествозна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В каком музее находится данный экспонат?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00000" y="1484280"/>
            <a:ext cx="777564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971640" y="1557360"/>
            <a:ext cx="777240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) Лувр –      10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) Эрмитаж-  9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) Прадо-      9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Реши пример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305:3+120*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Кто художник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332000" y="1484280"/>
            <a:ext cx="662472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)Джон Вуттон         13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)Антуан Ватто        23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)Антонио Канале   14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Реши пример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10*120-800+14):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Что изображено на рисунке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763272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)Яйцо  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)Гриб  9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) Мох   9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Реши пример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0*15+100:2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330033"/>
                </a:solidFill>
                <a:latin typeface="Times New Roman"/>
              </a:rPr>
              <a:t>Устный счет:</a:t>
            </a:r>
            <a:endParaRPr b="0" lang="en-US" sz="5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: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8: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0: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*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4: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5: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*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*1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71520" y="1599840"/>
            <a:ext cx="38149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*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7: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:8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2: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8: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400: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0: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*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Диктант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Увеличьте число пятнадцать в четыре раз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Найдите произведение двадцати и ше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Делимое равно ста сорока, а делитель – семидесяти. Найдите частн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)Найдите корень уравнения х:20=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иши выраж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)Произведение «игрек» и тридцати вось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)Частное восьмидесяти двух и «эм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роверь себ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)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)1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)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4)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5)38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6)8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Словарный диктант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4000" spc="-1" strike="noStrike">
                <a:solidFill>
                  <a:srgbClr val="5006be"/>
                </a:solidFill>
                <a:latin typeface="Arial"/>
              </a:rPr>
              <a:t>ра…н…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ru-RU" sz="4000" spc="-1" strike="noStrike">
                <a:solidFill>
                  <a:srgbClr val="5006be"/>
                </a:solidFill>
                <a:latin typeface="Arial"/>
              </a:rPr>
              <a:t>сл…жен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ru-RU" sz="4000" spc="-1" strike="noStrike">
                <a:solidFill>
                  <a:srgbClr val="5006be"/>
                </a:solidFill>
                <a:latin typeface="Arial"/>
              </a:rPr>
              <a:t>множ…т…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ru-RU" sz="4000" spc="-1" strike="noStrike">
                <a:solidFill>
                  <a:srgbClr val="5006be"/>
                </a:solidFill>
                <a:latin typeface="Arial"/>
              </a:rPr>
              <a:t>выч…тан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0" lang="ru-RU" sz="4000" spc="-1" strike="noStrike">
                <a:solidFill>
                  <a:srgbClr val="5006be"/>
                </a:solidFill>
                <a:latin typeface="Arial"/>
              </a:rPr>
              <a:t>ур…внен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6) </a:t>
            </a:r>
            <a:r>
              <a:rPr b="0" lang="ru-RU" sz="4000" spc="-1" strike="noStrike">
                <a:solidFill>
                  <a:srgbClr val="5006be"/>
                </a:solidFill>
                <a:latin typeface="Arial"/>
              </a:rPr>
              <a:t>ед…ни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Проверь себя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en-US" sz="4000" spc="-1" strike="noStrike">
                <a:solidFill>
                  <a:srgbClr val="5006be"/>
                </a:solidFill>
                <a:latin typeface="Arial"/>
              </a:rPr>
              <a:t>раз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en-US" sz="4000" spc="-1" strike="noStrike">
                <a:solidFill>
                  <a:srgbClr val="5006be"/>
                </a:solidFill>
                <a:latin typeface="Arial"/>
              </a:rPr>
              <a:t>слож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en-US" sz="4000" spc="-1" strike="noStrike">
                <a:solidFill>
                  <a:srgbClr val="5006be"/>
                </a:solidFill>
                <a:latin typeface="Arial"/>
              </a:rPr>
              <a:t>множит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) </a:t>
            </a:r>
            <a:r>
              <a:rPr b="0" lang="en-US" sz="4000" spc="-1" strike="noStrike">
                <a:solidFill>
                  <a:srgbClr val="5006be"/>
                </a:solidFill>
                <a:latin typeface="Arial"/>
              </a:rPr>
              <a:t>вычит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) </a:t>
            </a:r>
            <a:r>
              <a:rPr b="0" lang="en-US" sz="4000" spc="-1" strike="noStrike">
                <a:solidFill>
                  <a:srgbClr val="5006be"/>
                </a:solidFill>
                <a:latin typeface="Arial"/>
              </a:rPr>
              <a:t>уравн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) </a:t>
            </a:r>
            <a:r>
              <a:rPr b="0" lang="en-US" sz="4000" spc="-1" strike="noStrike">
                <a:solidFill>
                  <a:srgbClr val="5006be"/>
                </a:solidFill>
                <a:latin typeface="Arial"/>
              </a:rPr>
              <a:t>едини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Кто изображен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914040" y="1599840"/>
            <a:ext cx="3809880" cy="45306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4267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)Калашников 54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)Левитан  54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)Лобачевский 53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Реши пример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4*12+256: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900000" y="1557360"/>
            <a:ext cx="3816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КАЛАШНИКОВ </a:t>
            </a:r>
            <a:br>
              <a:rPr sz="3800"/>
            </a:br>
            <a:r>
              <a:rPr b="1" lang="en-US" sz="3800" spc="-1" strike="noStrike">
                <a:solidFill>
                  <a:srgbClr val="330033"/>
                </a:solidFill>
                <a:latin typeface="Times New Roman"/>
              </a:rPr>
              <a:t>Михаил Тимофеевич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8002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р. 1919), русский конструктор стрелкового автоматического оружия, доктор технических наук (1971), генерал-майор (1994), дважды Герой Социалистического Труда (1958, 1976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Кто изображен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4267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)Пирогов 632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)Менделеев 622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)Мечников 623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Реши пример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504-25)*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395892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7T15:11:16Z</dcterms:created>
  <dc:creator>xxx</dc:creator>
  <dc:description/>
  <dc:language>en-US</dc:language>
  <cp:lastModifiedBy>xxx</cp:lastModifiedBy>
  <dcterms:modified xsi:type="dcterms:W3CDTF">2007-11-23T19:05:00Z</dcterms:modified>
  <cp:revision>14</cp:revision>
  <dc:subject/>
  <dc:title>Умножение и деление  натуральных чисел</dc:title>
</cp:coreProperties>
</file>