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EBF0-7E0D-4E95-81B4-5DFB9402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41C9-7056-4477-A880-1AFFB4C5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5A2-32E0-410B-8B4E-D20E2BCBD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491F-D4C9-49D0-B9E4-9316731AE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14340-F067-403B-B7CC-EC55A7165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014A-9B9C-4C39-9407-28C63852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AE0B-02A1-44C4-87AB-EABD70BA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983C-8971-4A69-9BFE-4746837DA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A4527-54CE-48EC-BB7D-DCB9DEA4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567C-021F-4917-A546-FDD7BB05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2671-9B10-4983-81B5-73AB1B1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2CC7-6D82-4ED1-9BC0-C8E684AB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FFBF-4EC6-4878-AE6F-ABDAC50C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E10F-8B4E-4CBE-831D-C342CAB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5894-1DC6-4676-9E07-F93542B6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4DB37-B25F-4A64-9465-A540049A1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3C97-F7B0-4CDF-BA93-8CB471BCF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5CDA-A630-4CC1-B6EF-138A7718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A178-9976-46EB-9746-3AC51716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34AF-4594-47F7-A11F-0314AE76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CB74-E78E-46F9-8D6B-721B5427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F4E-ECD1-404F-B292-467299F0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AABB-F180-420E-921C-7587B7C9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4A37-C870-443D-AE52-91D007E1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644B-D4EF-4E75-8F3E-BB58653E9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588E-2A8A-4896-9583-7FAF05A19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541800" y="-819360"/>
            <a:ext cx="10153800" cy="78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Урок - закрепления </a:t>
            </a:r>
            <a:br>
              <a:rPr sz="5400"/>
            </a:b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по теме :</a:t>
            </a:r>
            <a:br>
              <a:rPr sz="5400"/>
            </a:b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 « Умножение и деление </a:t>
            </a:r>
            <a:br>
              <a:rPr sz="5400"/>
            </a:b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натуральных чисел»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 каком дереве идёт речь?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Узнаете об этом после выполнения действий в следующем выражени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14840:760 – 57*13 + 204476:6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809 – О; 89 – Е; 751- Б; 741 – С; 3007 – 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307 – Р; 37 – З; 3075 – А; 68 – Н; 168 – П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71 – 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син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961080" cy="609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500720" y="2997360"/>
            <a:ext cx="43192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ешение уравнений по уровням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954000"/>
            <a:ext cx="4537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1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:35 = 1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2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24:(у – 5) = 3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3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((422 – х):12)*4= 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6720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535280" cy="5761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59280" y="836280"/>
            <a:ext cx="3960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) Повторить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.11, п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№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55 (1,3 столбик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№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Творческое задание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айти интере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ведения о деревья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растениях и состав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задание, аналогич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лассно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360" y="620640"/>
            <a:ext cx="7777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9592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крепить и проконтролировать уровень знаний, умений и навыков умножения, деления натуральных чисел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овершенствовать навыки решения задач, используя действия над числа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оверить умения решать простейшие уравнения, используя зависимость между компонентами арифметических действ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0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Девиз урока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2447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В труде умножение помож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Чтоб дельной работа была, Стократ трудолюбие умножим- Умножатся наши дел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Деление нам служит на дел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Оно нам поможет всег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Кто поровну трудности дели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Разделит успехи труда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Поможет любое из действий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Они нам удачу нес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И в жизни поэтому вмес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Шагают наука и тру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45352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Тест: «Верно, неверно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1412640"/>
            <a:ext cx="3456000" cy="23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ерн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3941280"/>
            <a:ext cx="3384720" cy="2367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еверн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35280" y="980640"/>
            <a:ext cx="5508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еление обладает переместительным свойст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Чтобы найти неизвестный множитель, надо произведение разделить на известный множ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 Чтобы найти неизвестный делитель, надо делимое разделить на част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 Чтобы найти неизвестное делимое надо частное  умножить на дел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. Делить можно на любое числ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стный счёт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764640"/>
            <a:ext cx="2735280" cy="51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80: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8: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8*4*2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5*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84: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5: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0*3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*1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5*96*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2920" y="765000"/>
            <a:ext cx="40388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5*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87: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0:8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42: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98:1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400:4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90: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2*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50*786*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атематический диктант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7280" y="980640"/>
            <a:ext cx="6059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 Число, которое получается в результате деления чис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 Число, которое дел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) Число, на которое умножаю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) Число, на которое дел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) Действие, с помощью которого по произведению и одному из множителей, находят другой множит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) Число 14 в равенстве 100=43*2+1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23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) Частн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) Делим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) Множител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) Делител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) Де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) Слагаем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49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аем задачу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Лес – санитар атмосферы. Один гектар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еловых насаждений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может задерживать в год до 32т пыли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основых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- до 35т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я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до 43т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уб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до 54т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у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до 68т. Сколько тонн пыли задержит 10 га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ельни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за 3 года? 3 га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уб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за 6 месяцев?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7777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изкультминутк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Любопытная Варвара смотрит влево, смотрит вправ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 потом опять вперёд, тут немного отдохнё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Шея не напряжена и расслабле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 Варвара смотрит вверх, выше всех, всё дальше ввер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Возвращаемся обратно, расслабление прия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Шея не напряжена и расслабле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 теперь посмотрим вниз, мышцы шеи напряг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Возвращаемся обратно, расслабление прия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Шея не напряжена и расслаблен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192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15:27Z</dcterms:created>
  <dc:creator>Алина</dc:creator>
  <dc:description/>
  <dc:language>en-US</dc:language>
  <cp:lastModifiedBy>Алина</cp:lastModifiedBy>
  <dcterms:modified xsi:type="dcterms:W3CDTF">2008-11-18T15:12:44Z</dcterms:modified>
  <cp:revision>9</cp:revision>
  <dc:subject/>
  <dc:title>Слайд 1</dc:title>
</cp:coreProperties>
</file>