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media/image12.png" ContentType="image/png"/>
  <Override PartName="/ppt/media/image13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F882-F607-4448-B91A-310B31F0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F684-73ED-4910-8C01-D9BF1E4E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3711-76CD-4499-823A-76962D00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940-380E-4D3B-B4AA-F70B868C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5C5DD-426E-43F0-AF29-1FCECA494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E058-0812-4687-9E2F-2D0C135A1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F4C7-9B08-4CA2-A5DB-116D21E6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C402A-095C-4572-9D05-86C14659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47145-088D-48F6-A410-DA93A229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6339-D554-467E-BF70-C1858959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A2C2-654D-48E7-8529-6D93C7F1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F7B-D43F-4C22-A3BA-C93176DC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966E0-C933-453B-92AF-F2578A77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4394-78C4-448A-931E-26FBEC8A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52FD7-886E-4BB0-8CF9-D2E8C3F7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7FA88-159F-49AD-9FDA-87F6A27D6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C4CFB-8075-408E-8511-5E0E8112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979-5F34-446B-A712-3AC16DF8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75AD-71AE-4BAA-AFEF-3C9852BB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942E-C33B-4309-A1BD-C38DB455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9BC6-DAF8-4612-8A59-F930BEC9B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054-F038-48D6-82A2-CA1C86275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A132-03EC-48C0-B486-2810F435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53E-0D4D-4F52-914E-34F79200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1F3B-D637-4DA7-BE85-B89F06AC3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782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2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4700"/>
                </a:gs>
                <a:gs pos="100000">
                  <a:srgbClr val="008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8000"/>
                </a:gs>
                <a:gs pos="50000">
                  <a:srgbClr val="005800"/>
                </a:gs>
                <a:gs pos="100000">
                  <a:srgbClr val="008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07825"/>
                </a:gs>
                <a:gs pos="100000">
                  <a:srgbClr val="005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CB09-8C62-488A-89F3-7E8B2D239A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541800" y="-819360"/>
            <a:ext cx="10153800" cy="78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Урок - закрепления </a:t>
            </a:r>
            <a:br>
              <a:rPr sz="5400"/>
            </a:b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по теме :</a:t>
            </a:r>
            <a:br>
              <a:rPr sz="5400"/>
            </a:b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 « Умножение и деление </a:t>
            </a:r>
            <a:br>
              <a:rPr sz="5400"/>
            </a:b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imes New Roman"/>
              </a:rPr>
              <a:t>натуральных чисел»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О каком дереве идёт речь?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64072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Узнаете об этом после выполнения действий в следующем выражении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14840:760 – 57*13 + 204476:68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809 – О; 89 – Е; 751- Б; 741 – С; 3007 – 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307 – Р; 37 – З; 3075 – А; 68 – Н; 168 – П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71 – Ь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Осин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3961080" cy="6093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572000" y="765000"/>
            <a:ext cx="4176720" cy="2016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4500720" y="2997360"/>
            <a:ext cx="431928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Решение уравнений по уровням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560" y="954000"/>
            <a:ext cx="453708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0099"/>
                </a:solidFill>
                <a:uFillTx/>
                <a:latin typeface="Times New Roman"/>
              </a:rPr>
              <a:t>1 уров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Z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:35 = 18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0099"/>
                </a:solidFill>
                <a:uFillTx/>
                <a:latin typeface="Times New Roman"/>
              </a:rPr>
              <a:t>2 уров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124:(у – 5) = 3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cc0099"/>
                </a:solidFill>
                <a:uFillTx/>
                <a:latin typeface="Times New Roman"/>
              </a:rPr>
              <a:t>3 уровен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((422 – х):12)*4= 2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292720" y="1125360"/>
            <a:ext cx="367200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Домашнее задание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8000" y="836640"/>
            <a:ext cx="4535280" cy="57610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859280" y="836280"/>
            <a:ext cx="396072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) Повторить: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п.11, п.1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№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55 (1,3 столбик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№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5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)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Творческое задание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найти интересны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сведения о деревьях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растениях и составит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задание, аналогично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классном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468360" y="620640"/>
            <a:ext cx="777708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8360" y="3789360"/>
            <a:ext cx="395928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Цели урока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036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Закрепить и проконтролировать уровень знаний, умений и навыков умножения, деления натуральных чисел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совершенствовать навыки решения задач, используя действия над числами;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проверить умения решать простейшие уравнения, используя зависимость между компонентами арифметических действий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404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Девиз урока</a:t>
            </a: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424476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В труде умножение поможе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Чтоб дельной работа была, Стократ трудолюбие умножим- Умножатся наши дел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Деление нам служит на деле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Оно нам поможет всегд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Кто поровну трудности делит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Разделит успехи труда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Поможет любое из действий –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Они нам удачу несут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И в жизни поэтому вмест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Шагают наука и труд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4500720" y="765000"/>
            <a:ext cx="4535280" cy="56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Тест: «Верно, неверно»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79280" y="1412640"/>
            <a:ext cx="3456000" cy="23763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верн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79280" y="3941280"/>
            <a:ext cx="3384720" cy="2367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неверно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635280" y="980640"/>
            <a:ext cx="5508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Деление обладает переместительным свойство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2. Чтобы найти неизвестный множитель, надо произведение разделить на известный множит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3. Чтобы найти неизвестный делитель, надо делимое разделить на частно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4. Чтобы найти неизвестное делимое надо частное  умножить на делител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5. Делить можно на любое число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Устный счёт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16000" y="764640"/>
            <a:ext cx="2735280" cy="510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80: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78:1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38*4*2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25*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84:1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75:1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0*3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1*14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25*96*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42920" y="765000"/>
            <a:ext cx="4038840" cy="532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15*6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87: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0:8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42: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98:14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2400:40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90: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12*5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50*786*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Математический диктант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27280" y="980640"/>
            <a:ext cx="60595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1) Число, которое получается в результате деления чисе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) Число, которое деля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3) Число, на которое умножаю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4) Число, на которое делят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5) Действие, с помощью которого по произведению и одному из множителей, находят другой множитель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6) Число 14 в равенстве 100=43*2+14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232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роверь себя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1) Частно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2) Делимо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3) Множител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4) Делител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5) Деле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6) Слагаемо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3280" y="1268280"/>
            <a:ext cx="42498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шаем задачу!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Лес – санитар атмосферы. Один гектар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еловых насаждений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может задерживать в год до 32т пыли,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сосновых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- до 35т,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вяз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– до 43т,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дуб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– до 54т,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бук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– до 68т. Сколько тонн пыли задержит 10 га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ельник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за 3 года? 3 га 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Times New Roman"/>
              </a:rPr>
              <a:t>дуб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за 6 месяцев?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611280" y="3860640"/>
            <a:ext cx="777708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58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Физкультминутка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Любопытная Варвара смотрит влево, смотрит вправо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А потом опять вперёд, тут немного отдохнё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Шея не напряжена и расслабле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А Варвара смотрит вверх, выше всех, всё дальше вверх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Возвращаемся обратно, расслабление прият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Шея не напряжена и расслаблена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А теперь посмотрим вниз, мышцы шеи напряглись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Возвращаемся обратно, расслабление приятн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Шея не напряжена и расслаблена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332000" y="765000"/>
            <a:ext cx="6192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2T14:15:27Z</dcterms:created>
  <dc:creator>Алина</dc:creator>
  <dc:description/>
  <dc:language>en-US</dc:language>
  <cp:lastModifiedBy>Алина</cp:lastModifiedBy>
  <dcterms:modified xsi:type="dcterms:W3CDTF">2008-11-18T15:12:44Z</dcterms:modified>
  <cp:revision>9</cp:revision>
  <dc:subject/>
  <dc:title>Слайд 1</dc:title>
</cp:coreProperties>
</file>