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media/image8.gif" ContentType="image/gi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11D9-4D96-433E-BBF3-241455B83F50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B815-4052-4F06-8FC0-51A5AB993A51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на внимание. Учащиеся смотрят несколько секун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E76D-F58F-4709-BF45-6E7952F48C44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роверки по щелчку появляются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7E66-47FF-45DF-A278-B7EBAB3F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9C36-997C-4E97-B57F-1A30CBBB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308-66E5-4571-A299-9F416F42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0D91-39DA-4402-BE79-0A38078D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485-1023-4B7E-98A1-D522F0A9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F40A-87EB-4DB9-98A8-2003D9F2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32C0-DDCC-406E-88AE-5BB66A1D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AAA7-BC46-43DF-930B-C745EB9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3082-136C-4FA6-9D31-F7C3B89E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76C0-DED4-429B-B899-56F0505F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F148-93EA-46B8-A50B-A21558BC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EC6F-EDDD-4E80-A0A6-E0A0B6F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0DB1-EADE-4F89-8FFC-79277D2EFA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2421000"/>
            <a:ext cx="763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я с целыми числа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 rot="18561600">
            <a:off x="1692360" y="436536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5+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 rot="1715400">
            <a:off x="6516360" y="4581360"/>
            <a:ext cx="933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16 : 8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 rot="20598600">
            <a:off x="1468440" y="1061640"/>
            <a:ext cx="9968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 - 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 rot="999600">
            <a:off x="6927480" y="1044720"/>
            <a:ext cx="996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(-8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 rot="21305400">
            <a:off x="4211640" y="1780920"/>
            <a:ext cx="114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21 : (-3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39640" y="476280"/>
            <a:ext cx="8280360" cy="59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84360" y="24210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48436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349800" y="20606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645080" y="313992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07672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916360" y="242100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349800" y="24210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781440" y="278136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21308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21308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508720" y="350028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940360" y="350028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07672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5076720" y="24210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5076720" y="350028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2629080" y="162864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WordArt 21"/>
          <p:cNvSpPr txBox="1"/>
          <p:nvPr/>
        </p:nvSpPr>
        <p:spPr>
          <a:xfrm>
            <a:off x="2124000" y="242100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22"/>
          <p:cNvSpPr txBox="1"/>
          <p:nvPr/>
        </p:nvSpPr>
        <p:spPr>
          <a:xfrm>
            <a:off x="3492360" y="1700280"/>
            <a:ext cx="1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23"/>
          <p:cNvSpPr txBox="1"/>
          <p:nvPr/>
        </p:nvSpPr>
        <p:spPr>
          <a:xfrm>
            <a:off x="3492360" y="2852640"/>
            <a:ext cx="1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24"/>
          <p:cNvSpPr txBox="1"/>
          <p:nvPr/>
        </p:nvSpPr>
        <p:spPr>
          <a:xfrm>
            <a:off x="4357800" y="234792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25"/>
          <p:cNvSpPr txBox="1"/>
          <p:nvPr/>
        </p:nvSpPr>
        <p:spPr>
          <a:xfrm>
            <a:off x="3924360" y="321300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26"/>
          <p:cNvSpPr txBox="1"/>
          <p:nvPr/>
        </p:nvSpPr>
        <p:spPr>
          <a:xfrm>
            <a:off x="5221440" y="2060640"/>
            <a:ext cx="287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7"/>
          <p:cNvSpPr txBox="1"/>
          <p:nvPr/>
        </p:nvSpPr>
        <p:spPr>
          <a:xfrm>
            <a:off x="4861080" y="35733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8"/>
          <p:cNvSpPr txBox="1"/>
          <p:nvPr/>
        </p:nvSpPr>
        <p:spPr>
          <a:xfrm>
            <a:off x="6084720" y="2421000"/>
            <a:ext cx="1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594036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594036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1"/>
          <p:cNvSpPr/>
          <p:nvPr/>
        </p:nvSpPr>
        <p:spPr>
          <a:xfrm>
            <a:off x="324000" y="4797360"/>
            <a:ext cx="5040000" cy="1800360"/>
          </a:xfrm>
          <a:prstGeom prst="cube">
            <a:avLst>
              <a:gd name="adj" fmla="val 46138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ЧИСЛОВОЙ 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33"/>
          <p:cNvSpPr txBox="1"/>
          <p:nvPr/>
        </p:nvSpPr>
        <p:spPr>
          <a:xfrm>
            <a:off x="684360" y="260280"/>
            <a:ext cx="56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т "Числовой кроссворд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Picture 34" descr="MCj03986930000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вариант                                                 2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ычисли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(72 – 36 · (- 8) – 24) : (- 8),                а) (180 – 11 · (- 6) – 18) : (- 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- 420 : (-14 - 7) · 3 -7,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- 250 : (- 17 + 7) · 4 – 8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(-9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(- 15 - 3)                                  в) (-7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(- 23 –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устись по канат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(дополнительное зад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539640" y="260280"/>
            <a:ext cx="581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КТЕЙЛЬ "ПОСЧИТАЙ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547640" y="3070080"/>
            <a:ext cx="144720" cy="32403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dd4f"/>
              </a:gs>
              <a:gs pos="100000">
                <a:srgbClr val="cc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1403280" y="2709720"/>
            <a:ext cx="5032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1476360" y="357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1476360" y="4292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1476360" y="4941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9"/>
          <p:cNvSpPr/>
          <p:nvPr/>
        </p:nvSpPr>
        <p:spPr>
          <a:xfrm>
            <a:off x="1476360" y="5589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0"/>
          <p:cNvSpPr/>
          <p:nvPr/>
        </p:nvSpPr>
        <p:spPr>
          <a:xfrm>
            <a:off x="1403280" y="623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WordArt 21"/>
          <p:cNvSpPr txBox="1"/>
          <p:nvPr/>
        </p:nvSpPr>
        <p:spPr>
          <a:xfrm>
            <a:off x="1835280" y="3213000"/>
            <a:ext cx="2156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9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22"/>
          <p:cNvSpPr txBox="1"/>
          <p:nvPr/>
        </p:nvSpPr>
        <p:spPr>
          <a:xfrm>
            <a:off x="1835280" y="393372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4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WordArt 23"/>
          <p:cNvSpPr txBox="1"/>
          <p:nvPr/>
        </p:nvSpPr>
        <p:spPr>
          <a:xfrm>
            <a:off x="1835280" y="4653000"/>
            <a:ext cx="57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(-29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1835280" y="5300640"/>
            <a:ext cx="57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11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WordArt 25"/>
          <p:cNvSpPr txBox="1"/>
          <p:nvPr/>
        </p:nvSpPr>
        <p:spPr>
          <a:xfrm>
            <a:off x="1835280" y="595008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· 29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6372360" y="3070080"/>
            <a:ext cx="144360" cy="32403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dd4f"/>
              </a:gs>
              <a:gs pos="100000">
                <a:srgbClr val="cc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27"/>
          <p:cNvSpPr/>
          <p:nvPr/>
        </p:nvSpPr>
        <p:spPr>
          <a:xfrm>
            <a:off x="6227640" y="2709720"/>
            <a:ext cx="5032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8"/>
          <p:cNvSpPr/>
          <p:nvPr/>
        </p:nvSpPr>
        <p:spPr>
          <a:xfrm>
            <a:off x="6300720" y="357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9"/>
          <p:cNvSpPr/>
          <p:nvPr/>
        </p:nvSpPr>
        <p:spPr>
          <a:xfrm>
            <a:off x="6300720" y="4292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0"/>
          <p:cNvSpPr/>
          <p:nvPr/>
        </p:nvSpPr>
        <p:spPr>
          <a:xfrm>
            <a:off x="6300720" y="4941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1"/>
          <p:cNvSpPr/>
          <p:nvPr/>
        </p:nvSpPr>
        <p:spPr>
          <a:xfrm>
            <a:off x="6300720" y="5589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2"/>
          <p:cNvSpPr/>
          <p:nvPr/>
        </p:nvSpPr>
        <p:spPr>
          <a:xfrm>
            <a:off x="6227640" y="623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33"/>
          <p:cNvSpPr txBox="1"/>
          <p:nvPr/>
        </p:nvSpPr>
        <p:spPr>
          <a:xfrm>
            <a:off x="6659640" y="321300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7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WordArt 34"/>
          <p:cNvSpPr txBox="1"/>
          <p:nvPr/>
        </p:nvSpPr>
        <p:spPr>
          <a:xfrm>
            <a:off x="6659640" y="5877000"/>
            <a:ext cx="64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(-31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WordArt 35"/>
          <p:cNvSpPr txBox="1"/>
          <p:nvPr/>
        </p:nvSpPr>
        <p:spPr>
          <a:xfrm>
            <a:off x="6659640" y="393372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· 6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36"/>
          <p:cNvSpPr txBox="1"/>
          <p:nvPr/>
        </p:nvSpPr>
        <p:spPr>
          <a:xfrm>
            <a:off x="6659640" y="4653000"/>
            <a:ext cx="64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12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37"/>
          <p:cNvSpPr txBox="1"/>
          <p:nvPr/>
        </p:nvSpPr>
        <p:spPr>
          <a:xfrm>
            <a:off x="6732720" y="5229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0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Picture 38" descr="MCj02902270000[1]"/>
          <p:cNvPicPr/>
          <p:nvPr/>
        </p:nvPicPr>
        <p:blipFill>
          <a:blip r:embed="rId1"/>
          <a:stretch/>
        </p:blipFill>
        <p:spPr>
          <a:xfrm>
            <a:off x="3546360" y="1074600"/>
            <a:ext cx="9842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81503E-006 L 0.43264 -0.09295 E">
                                      <p:cBhvr>
                                        <p:cTn id="51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042920" y="1773360"/>
            <a:ext cx="720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1" name="Picture 5" descr="MCj03433630000[1]"/>
          <p:cNvPicPr/>
          <p:nvPr/>
        </p:nvPicPr>
        <p:blipFill>
          <a:blip r:embed="rId1"/>
          <a:stretch/>
        </p:blipFill>
        <p:spPr>
          <a:xfrm>
            <a:off x="3059280" y="3500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24000" y="620640"/>
            <a:ext cx="8569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“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Учиться можно только весело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Чтобы переваривать знания,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надо поглощать их с аппетитом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1258920" y="981000"/>
            <a:ext cx="2160720" cy="15843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6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8"/>
          <p:cNvSpPr/>
          <p:nvPr/>
        </p:nvSpPr>
        <p:spPr>
          <a:xfrm>
            <a:off x="5292720" y="836640"/>
            <a:ext cx="2016000" cy="18730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92360" y="3357720"/>
            <a:ext cx="2519280" cy="1871640"/>
          </a:xfrm>
          <a:prstGeom prst="triangle">
            <a:avLst>
              <a:gd name="adj" fmla="val 50000"/>
            </a:avLst>
          </a:prstGeom>
          <a:solidFill>
            <a:srgbClr val="b7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 : (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6"/>
          <p:cNvSpPr/>
          <p:nvPr/>
        </p:nvSpPr>
        <p:spPr>
          <a:xfrm rot="4746600">
            <a:off x="5406840" y="3530520"/>
            <a:ext cx="2438280" cy="2092320"/>
          </a:xfrm>
          <a:prstGeom prst="pie">
            <a:avLst/>
          </a:prstGeom>
          <a:solidFill>
            <a:srgbClr val="b2b2b2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  (-9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6443640" y="4581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068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к «Ошиб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рог «Логическое задание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лат фруктовый «Расшифруй-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рт «Числовой кроссвор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ктейль «Посчитай-ка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763640" y="1197000"/>
            <a:ext cx="5327640" cy="73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М Е Н Ю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64" name="Picture 15" descr="MCj02335610000[1]"/>
          <p:cNvPicPr/>
          <p:nvPr/>
        </p:nvPicPr>
        <p:blipFill>
          <a:blip r:embed="rId1"/>
          <a:stretch/>
        </p:blipFill>
        <p:spPr>
          <a:xfrm>
            <a:off x="250920" y="1989000"/>
            <a:ext cx="1179360" cy="1086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2902270000[1]"/>
          <p:cNvPicPr/>
          <p:nvPr/>
        </p:nvPicPr>
        <p:blipFill>
          <a:blip r:embed="rId2"/>
          <a:stretch/>
        </p:blipFill>
        <p:spPr>
          <a:xfrm>
            <a:off x="395280" y="5213520"/>
            <a:ext cx="984240" cy="164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3986930000[1]"/>
          <p:cNvPicPr/>
          <p:nvPr/>
        </p:nvPicPr>
        <p:blipFill>
          <a:blip r:embed="rId3"/>
          <a:stretch/>
        </p:blipFill>
        <p:spPr>
          <a:xfrm>
            <a:off x="324000" y="4653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4133560000[1]"/>
          <p:cNvPicPr/>
          <p:nvPr/>
        </p:nvPicPr>
        <p:blipFill>
          <a:blip r:embed="rId4"/>
          <a:stretch/>
        </p:blipFill>
        <p:spPr>
          <a:xfrm>
            <a:off x="250920" y="3068640"/>
            <a:ext cx="1296720" cy="8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MCj04131360000[1]"/>
          <p:cNvPicPr/>
          <p:nvPr/>
        </p:nvPicPr>
        <p:blipFill>
          <a:blip r:embed="rId5"/>
          <a:stretch/>
        </p:blipFill>
        <p:spPr>
          <a:xfrm>
            <a:off x="250920" y="3789360"/>
            <a:ext cx="14284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87283E-006 L 0.72726 0.00069 E">
                                      <p:cBhvr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83237E-006 L 0.76407 -0.00255 E">
                                      <p:cBhvr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90751E-006 L 0.81111 -1.90751E-006 E">
                                      <p:cBhvr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54913E-006 L 0.74028 -5.54913E-006 E">
                                      <p:cBhvr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3353 L 0.62344 -0.03353 E">
                                      <p:cBhvr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6"/>
          <p:cNvSpPr txBox="1"/>
          <p:nvPr/>
        </p:nvSpPr>
        <p:spPr>
          <a:xfrm>
            <a:off x="324000" y="40464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К "ОШИБ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1984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932360" y="765000"/>
            <a:ext cx="30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 +(-5) = -9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(-5) = 1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 (-6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5 : (-3) = 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· (-6) = 2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 10 = -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6 + 9 = -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7 – (-9)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+ (-5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) · (-4) = -3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2 : 7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– 24 = -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- 30 =  -1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· 6 = - 4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1 : ( -9) =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859280" y="692280"/>
            <a:ext cx="3241800" cy="576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7380360" y="119700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3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7308720" y="163836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7308720" y="2349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730872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7323120" y="30654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7524720" y="3805200"/>
            <a:ext cx="432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7667640" y="418788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7207200" y="453384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6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18"/>
          <p:cNvSpPr txBox="1"/>
          <p:nvPr/>
        </p:nvSpPr>
        <p:spPr>
          <a:xfrm>
            <a:off x="7337520" y="5589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5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19" descr="MCj02335610000[1]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364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image825"/>
          <p:cNvPicPr/>
          <p:nvPr/>
        </p:nvPicPr>
        <p:blipFill>
          <a:blip r:embed="rId2"/>
          <a:stretch/>
        </p:blipFill>
        <p:spPr>
          <a:xfrm>
            <a:off x="1835280" y="5516640"/>
            <a:ext cx="846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1044720" y="443880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2360" y="595008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763640" y="595008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900000" y="508644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76364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71640" y="451008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79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826920" y="515772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971640" y="450864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619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826920" y="515628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611280" y="40464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РОГ "ЛОГИЧЕСКОЕ ЗАДАНИ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18" descr="MCj04133560000[1]"/>
          <p:cNvPicPr/>
          <p:nvPr/>
        </p:nvPicPr>
        <p:blipFill>
          <a:blip r:embed="rId4"/>
          <a:stretch/>
        </p:blipFill>
        <p:spPr>
          <a:xfrm>
            <a:off x="0" y="5075280"/>
            <a:ext cx="2843280" cy="1782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19"/>
          <p:cNvSpPr txBox="1"/>
          <p:nvPr/>
        </p:nvSpPr>
        <p:spPr>
          <a:xfrm>
            <a:off x="4194000" y="3201840"/>
            <a:ext cx="381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20"/>
          <p:cNvSpPr txBox="1"/>
          <p:nvPr/>
        </p:nvSpPr>
        <p:spPr>
          <a:xfrm>
            <a:off x="6407280" y="398448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7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8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8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4"/>
          <p:cNvSpPr/>
          <p:nvPr/>
        </p:nvSpPr>
        <p:spPr>
          <a:xfrm>
            <a:off x="324000" y="1125360"/>
            <a:ext cx="842472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отрицательные числа встречаются в одной из книг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*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*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. до н. э.,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**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Отрицательное число понималось как долг, а положительное как  имуще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все четыре арифметических действия с отрицательными числами приведены индийским  математиком  и астроном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*****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598 – 66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124000" y="189000"/>
            <a:ext cx="4896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АТ ФРУКТОВЫ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АСШИФРУЙ-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419640" y="1773360"/>
            <a:ext cx="482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а в девяти книгах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332000" y="2205000"/>
            <a:ext cx="201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жань  Цань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4284720" y="220500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971640" y="263700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тай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2124000" y="5373720"/>
            <a:ext cx="249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магуптой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15" descr="MCj04131360000[1]"/>
          <p:cNvPicPr/>
          <p:nvPr/>
        </p:nvPicPr>
        <p:blipFill>
          <a:blip r:embed="rId5"/>
          <a:stretch/>
        </p:blipFill>
        <p:spPr>
          <a:xfrm>
            <a:off x="7601040" y="115920"/>
            <a:ext cx="1428840" cy="110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image825"/>
          <p:cNvPicPr/>
          <p:nvPr/>
        </p:nvPicPr>
        <p:blipFill>
          <a:blip r:embed="rId6"/>
          <a:stretch/>
        </p:blipFill>
        <p:spPr>
          <a:xfrm>
            <a:off x="3276720" y="1700280"/>
            <a:ext cx="36180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image825"/>
          <p:cNvPicPr/>
          <p:nvPr/>
        </p:nvPicPr>
        <p:blipFill>
          <a:blip r:embed="rId7"/>
          <a:stretch/>
        </p:blipFill>
        <p:spPr>
          <a:xfrm>
            <a:off x="1352520" y="2162160"/>
            <a:ext cx="362160" cy="43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image825"/>
          <p:cNvPicPr/>
          <p:nvPr/>
        </p:nvPicPr>
        <p:blipFill>
          <a:blip r:embed="rId8"/>
          <a:stretch/>
        </p:blipFill>
        <p:spPr>
          <a:xfrm>
            <a:off x="3924360" y="2133720"/>
            <a:ext cx="361800" cy="43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image825"/>
          <p:cNvPicPr/>
          <p:nvPr/>
        </p:nvPicPr>
        <p:blipFill>
          <a:blip r:embed="rId9"/>
          <a:stretch/>
        </p:blipFill>
        <p:spPr>
          <a:xfrm>
            <a:off x="2193840" y="2608200"/>
            <a:ext cx="362160" cy="4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image825"/>
          <p:cNvPicPr/>
          <p:nvPr/>
        </p:nvPicPr>
        <p:blipFill>
          <a:blip r:embed="rId10"/>
          <a:stretch/>
        </p:blipFill>
        <p:spPr>
          <a:xfrm>
            <a:off x="1979640" y="5300640"/>
            <a:ext cx="3618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4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присес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br>
              <a:rPr sz="4000"/>
            </a:b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Не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вста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-49320" y="1606680"/>
                <a:ext cx="917568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30320" y="1573200"/>
                <a:ext cx="88516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109440" y="1487520"/>
                <a:ext cx="874080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5"/>
              <p:cNvSpPr txBox="1"/>
              <p:nvPr/>
            </p:nvSpPr>
            <p:spPr>
              <a:xfrm>
                <a:off x="0" y="1657440"/>
                <a:ext cx="914400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6"/>
              <p:cNvSpPr txBox="1"/>
              <p:nvPr/>
            </p:nvSpPr>
            <p:spPr>
              <a:xfrm>
                <a:off x="81000" y="1581120"/>
                <a:ext cx="892800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7"/>
              <p:cNvSpPr txBox="1"/>
              <p:nvPr/>
            </p:nvSpPr>
            <p:spPr>
              <a:xfrm>
                <a:off x="130320" y="1573200"/>
                <a:ext cx="872316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8"/>
              <p:cNvSpPr txBox="1"/>
              <p:nvPr/>
            </p:nvSpPr>
            <p:spPr>
              <a:xfrm>
                <a:off x="17640" y="1693800"/>
                <a:ext cx="904392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826920" y="50562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826920" y="54165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826920" y="5776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692360" y="50562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2987640" y="6135840"/>
            <a:ext cx="43200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3419640" y="61358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258920" y="541656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92360" y="541656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124000" y="5776920"/>
            <a:ext cx="43200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556000" y="577692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556000" y="61358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851280" y="649620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282920" y="64962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419640" y="577692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419640" y="541656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3419640" y="64962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25"/>
          <p:cNvSpPr txBox="1"/>
          <p:nvPr/>
        </p:nvSpPr>
        <p:spPr>
          <a:xfrm>
            <a:off x="971640" y="462456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26"/>
          <p:cNvSpPr txBox="1"/>
          <p:nvPr/>
        </p:nvSpPr>
        <p:spPr>
          <a:xfrm>
            <a:off x="466560" y="5416560"/>
            <a:ext cx="1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WordArt 27"/>
          <p:cNvSpPr txBox="1"/>
          <p:nvPr/>
        </p:nvSpPr>
        <p:spPr>
          <a:xfrm>
            <a:off x="1835280" y="469584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28"/>
          <p:cNvSpPr txBox="1"/>
          <p:nvPr/>
        </p:nvSpPr>
        <p:spPr>
          <a:xfrm>
            <a:off x="1835280" y="584820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29"/>
          <p:cNvSpPr txBox="1"/>
          <p:nvPr/>
        </p:nvSpPr>
        <p:spPr>
          <a:xfrm>
            <a:off x="2700360" y="534348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30"/>
          <p:cNvSpPr txBox="1"/>
          <p:nvPr/>
        </p:nvSpPr>
        <p:spPr>
          <a:xfrm>
            <a:off x="2266920" y="62085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31"/>
          <p:cNvSpPr txBox="1"/>
          <p:nvPr/>
        </p:nvSpPr>
        <p:spPr>
          <a:xfrm>
            <a:off x="3564000" y="505620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32"/>
          <p:cNvSpPr txBox="1"/>
          <p:nvPr/>
        </p:nvSpPr>
        <p:spPr>
          <a:xfrm>
            <a:off x="3203640" y="656892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4427640" y="54165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4282920" y="5776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4282920" y="613584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84360" y="333360"/>
            <a:ext cx="56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т "Числовой кроссворд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395280" y="4797360"/>
            <a:ext cx="4753080" cy="1800360"/>
          </a:xfrm>
          <a:prstGeom prst="cube">
            <a:avLst>
              <a:gd name="adj" fmla="val 46138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ЧИСЛОВОЙ 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6" descr="MCj03986930000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6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6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лоболкин В.И.</cp:lastModifiedBy>
  <dcterms:modified xsi:type="dcterms:W3CDTF">2008-11-22T06:08:44Z</dcterms:modified>
  <cp:revision>55</cp:revision>
  <dc:subject/>
  <dc:title>PowerPoint Presentation</dc:title>
</cp:coreProperties>
</file>