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8E7-2826-4A05-9688-C8206384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067-CFF7-49D4-8720-A7F7413C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437-7139-4425-8269-46DA2739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DA4-62A5-4E09-9E9C-B8088790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7E2A-00E6-46BA-AF2E-CA3B4CFC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B243-0C3A-42FC-83FD-25223471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E1B8-BA18-441A-9D03-6ADD1D4C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80C5-4BF7-4432-872C-1223F22B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3F15-5368-4EA9-B44B-B8ED379D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D56E-F19A-4909-B888-BE1D4286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DBDF-E287-4116-9E8F-C09241C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57E-ED38-4C32-A6D9-5B4FBDD4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525A-B494-4A09-9591-FA6E96E4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7B57-E508-40E5-A035-055882DE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55F1-6BB0-484C-B61D-816F77AC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EE0F-37AF-4705-B5A9-1F17E524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756C-EC5A-40EB-A6CE-4CFFF78D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885-9566-4E37-9DD0-EEAADBAF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F57-A53C-4294-B174-BABCF189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702-E1D9-4ACA-A230-7BF79C86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783-7154-4AF1-945E-59A4CB18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C75-00E2-48C0-ACE9-F80C86E6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229-A0C9-45F6-AF9F-21E4D92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3FE-65C4-4E57-ADA6-631F9D7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CA87-E98C-452F-9288-83CC5D9AAE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EFB5-480C-4BEB-B088-1E8F583BFC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ремена года.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ЕС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оспитатель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БДОУ № 46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«Малинка»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. Кагальник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Батехина С.В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0773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орисов – Мусатов В.Э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1905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52520" y="1357200"/>
            <a:ext cx="7619760" cy="5286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35812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данов Владимир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Юрьеви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3733920" y="609480"/>
            <a:ext cx="4911480" cy="6019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54864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данов В.Ю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676520" y="0"/>
            <a:ext cx="7467480" cy="5283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48927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аранов Вячеслав Александрови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410080" cy="4716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аранов В.А.        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Месяц Ма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4879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Левитан И.И.   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Цветущие яблон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371600" y="1012680"/>
            <a:ext cx="7772400" cy="5845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244080"/>
            <a:ext cx="3357360" cy="30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аврасов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Алексей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ондратьевич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ле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68960" cy="6477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Левитан Исаак Ильич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1447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76440" y="957240"/>
            <a:ext cx="6667560" cy="5900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840" y="244440"/>
            <a:ext cx="2786040" cy="45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упич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Окса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5514840" cy="5943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42670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Лупич Окса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43600" y="38052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неж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209680" y="1198440"/>
            <a:ext cx="6934320" cy="5659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4471920" cy="4586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495680" cy="4043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44080"/>
            <a:ext cx="3353040" cy="56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йков А.Н., Грицай А.М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дснежни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283360" cy="6095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6T19:46:00Z</dcterms:created>
  <dc:creator>Ксюня</dc:creator>
  <dc:description/>
  <dc:language>en-US</dc:language>
  <cp:lastModifiedBy>Qwerty</cp:lastModifiedBy>
  <dcterms:modified xsi:type="dcterms:W3CDTF">2018-06-30T18:43:1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