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43B-832B-41BC-92C4-84A0AFD6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361-4E18-43AD-A37D-871B72D4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46D-1AB4-46E5-859B-8294E686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C23-9C02-43F0-89A6-C63DA10A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1F3F-1A8D-438C-85DF-568AD29D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321D-998B-4BE4-BFA2-DFB1FBDF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C456-EAC9-423B-BA3A-BDC9EFBB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E556-D61A-4F61-B8EB-4BA12DE2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6AB3-46A0-4CD0-82D5-4C40E00D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50FE-1562-48E6-968B-53C2B28F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5115-403D-4A91-B654-72CFBC4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C13-AB00-41BF-AA46-CD56587D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CCFE-922A-41B2-8C96-2891B9C4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BF50-F310-45C4-AFD0-F3819597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67FA-BDE3-477B-88BB-5F2E124C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43F0-320F-4BCA-BA15-D42EC90B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0A39-4EE0-40C3-A662-DCC256AE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62B-2DD0-43F2-BD02-F03BF50F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22F-4734-4594-8C15-250E1B07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CB4-847F-4E4B-9DAF-3753C6DD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AA2-E77B-44B3-A036-EE4D9382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D7E-77C2-495C-A898-DB62D033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02E-4F7D-402A-838A-A5CB25DA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B5E-B008-4C7E-A72D-D82A550C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17C4-535E-4375-9455-25A8D77C42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F3D6-14C5-4ADB-B4CA-5EC331CE8D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ремена года.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ЕСН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оспитатель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БДОУ № 46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«Малинка»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с. Кагальник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Батехина С.В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0773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орисов – Мусатов В.Э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1905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52520" y="1357200"/>
            <a:ext cx="7619760" cy="5286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35812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Жданов Владимир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Юрьеви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3733920" y="609480"/>
            <a:ext cx="4911480" cy="6019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5486400"/>
            <a:ext cx="85406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Жданов В.Ю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676520" y="0"/>
            <a:ext cx="7467480" cy="5283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48927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аранов Вячеслав Александрови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410080" cy="4716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аранов В.А.         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Месяц Ма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4879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Левитан И.И.    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Цветущие яблон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371600" y="1012680"/>
            <a:ext cx="7772400" cy="5845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840" y="244080"/>
            <a:ext cx="3357360" cy="30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аврасов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Алексей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ондратьевич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ле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68960" cy="6477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Левитан Исаак Ильич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1447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476440" y="957240"/>
            <a:ext cx="6667560" cy="5900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840" y="244440"/>
            <a:ext cx="2786040" cy="45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упич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Окса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5514840" cy="5943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426708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Лупич Окса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43600" y="38052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снеж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209680" y="1198440"/>
            <a:ext cx="6934320" cy="5659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4471920" cy="4586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495680" cy="4043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44080"/>
            <a:ext cx="3353040" cy="56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айков А.Н., Грицай А.М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одснежни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283360" cy="6095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6T19:46:00Z</dcterms:created>
  <dc:creator>Ксюня</dc:creator>
  <dc:description/>
  <dc:language>en-US</dc:language>
  <cp:lastModifiedBy>Qwerty</cp:lastModifiedBy>
  <dcterms:modified xsi:type="dcterms:W3CDTF">2018-06-30T18:43:1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