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81FE-0900-498A-BEB7-639BAE2C4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2FB5-9413-4A30-92DB-9E03B957F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A311-3D0F-4191-8FE6-2C5297C06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B9C0-6A7E-42D0-B4F2-5D33E8E43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5155F-219D-4724-91DA-B3C020165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48201-FF3D-4D80-A16E-CC620717E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4BAC3-0176-46B2-90C7-80BEB0D82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79435-281D-445F-B0EB-FCB7A7349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7DE7A-5060-41D8-B7A6-31A561DA5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F9DBA-EA53-406B-B4E5-4EA9AF13F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A9142-1FB0-4AD3-A5B4-60158FE7A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3268-C08E-4630-A825-1551E2063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6B164-A411-4D24-8682-83DF13C2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9CC51-B695-46C3-ABD3-D55A64B8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45A24-B5DD-4EC4-B9AB-7AFC3D687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73097-3DFF-4502-83D9-F6DE692E6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CD7A5-D3B5-4D50-86E2-D86D1EDC5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69F8E-2C5B-4839-89E9-601DD5305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A88B5-A9B4-4343-A4F7-02B224526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B438A-7FD0-4DBD-BD78-C304ABA0A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7B34E-77FE-41D3-98DF-31BD3F686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BF44A-10D6-4C81-99CA-BC4AFF4E2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56C8-3AC4-4D7F-921D-4C23A1545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BDE58-6BC3-4ACE-B4B7-0003712BD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0903D-F4E3-47BA-A053-3B2AA7F1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1F28B-CA7A-4D0F-900A-4A6711DD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63921-C5E4-4D5D-9D20-7026534A9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140BA-E063-4B71-9755-81CF3103C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67390-F6BE-4FC0-8125-075A9EB4A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F9A83-3163-445E-A0D4-E6A849548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9D8DF-119C-48D6-9303-A9E789C5B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0F2DB-01C3-49C5-9A95-602544BC2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A04D4-DC41-4D24-87CC-B0034C94F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21A8-052E-44B9-918F-530D07224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CA2A2-E204-4DEB-ACDE-C2771306E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C567D-9F5F-4EBD-9652-6C41AE4DC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261BB-72B2-4CD9-9E8F-8F8D0AAB6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7A0D6-F68A-494E-A25B-CC8B5707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B9AB0-32EE-4120-AC4F-52544CC1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39362-C4CA-4713-8FCB-5F92E5CC1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ADB1A-4672-435C-815D-DBCF131CF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8B53D-1851-4234-B5CD-B284A9D99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79BEC-D863-43A2-BCBF-5B12BCC52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03A008-F712-4F89-8F45-A27E0A57D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E5FD-1E9D-4485-A3F3-C5F0F67E3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4893C-35BF-4167-B515-D18402A2D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CFFFF9-449B-4E1A-B840-7DC82BE1D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1A3B3-97DA-462F-95F4-25084DA5B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05E84B-0B48-4173-ACAD-DF2858634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A8CA4C-043C-4D26-B792-E9585E0AC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69777-0684-4C4A-964F-B974387D9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F0F25-C880-4FD0-A5CB-9FE6DB19F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BC3F0-350B-493D-B5C9-8B2492B8F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292702-F6CA-4E25-94CF-5A36E4DAF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DC353-C23C-4095-AB1E-5AE0A5354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6939-778B-4024-A6E1-7B3F88B8F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54A5F7-7960-490E-B8AB-7844686E7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A7BDC0-038B-4B2E-8332-54D09359A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DD2958-3BD4-4506-8425-59604AB7E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22434A-6E2D-4514-BD4C-4DA38F9F4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68BE45-F4D1-4FDF-AA6B-8A889FC58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2738C1-4437-4840-9EDF-C88F740CC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32E1F-D9D8-4EEB-A676-7CB7F21E0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6D3C87-B102-4E1D-86EE-79571CDC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CC3729-CD8D-4FF5-8727-C16F10E89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17B9D0-BF4B-42B7-9065-6D3003AD6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C1EF-5FD9-4B15-A1F7-E165ED0A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FB7603-B97C-42F6-9D2D-E9F8008E2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56C77E-9968-42B4-ABA8-ED53E1589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55C8E1-DB99-4E5A-B9B9-B1E3E8F4F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9FE7-E351-4F29-8BAB-D4A9CBB6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A904-D615-4AE0-8B67-A41C76198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CF7E3-2F1E-406E-ACD6-A3195C14A8B0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34F41-20E8-40CE-87A2-6BDF3B93B5FC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48E7C-8486-4681-A7C7-E499A72AEEEE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9F467-1980-4A20-9D2E-980136A6DB9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3853D-05D1-473F-A743-BA54371813ED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6865200" y="6314400"/>
            <a:ext cx="1508760" cy="3373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70074-280F-4107-AE9C-CFC4707A5556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Восприятие цвета человеком и цветовые модели.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2" name="TextBox 1"/>
          <p:cNvSpPr/>
          <p:nvPr/>
        </p:nvSpPr>
        <p:spPr>
          <a:xfrm>
            <a:off x="5364000" y="5373720"/>
            <a:ext cx="33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ютина Т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информатики и И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СОШ № 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Палитра 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MYK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28584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b2d1f"/>
                </a:solidFill>
                <a:latin typeface="Cambria"/>
              </a:rPr>
              <a:t>В полиграфии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применяется субстрактивная система цветопередачи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CMYK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(для описания </a:t>
            </a: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отражённого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света)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1440" indent="28584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Perpetua"/>
              </a:rPr>
              <a:t>Cyan – </a:t>
            </a:r>
            <a:r>
              <a:rPr b="0" lang="ru-RU" sz="2000" spc="-1" strike="noStrike">
                <a:solidFill>
                  <a:srgbClr val="ff0000"/>
                </a:solidFill>
                <a:latin typeface="Cambria"/>
              </a:rPr>
              <a:t>голубой, </a:t>
            </a:r>
            <a:r>
              <a:rPr b="0" lang="en-US" sz="2000" spc="-1" strike="noStrike">
                <a:solidFill>
                  <a:srgbClr val="ff0000"/>
                </a:solidFill>
                <a:latin typeface="Perpetua"/>
              </a:rPr>
              <a:t>Magenta </a:t>
            </a:r>
            <a:r>
              <a:rPr b="0" lang="ru-RU" sz="2000" spc="-1" strike="noStrike">
                <a:solidFill>
                  <a:srgbClr val="ff0000"/>
                </a:solidFill>
                <a:latin typeface="Cambria"/>
              </a:rPr>
              <a:t>–пурпурный, </a:t>
            </a:r>
            <a:r>
              <a:rPr b="0" lang="en-US" sz="2000" spc="-1" strike="noStrike">
                <a:solidFill>
                  <a:srgbClr val="ff0000"/>
                </a:solidFill>
                <a:latin typeface="Perpetua"/>
              </a:rPr>
              <a:t>Yellow</a:t>
            </a:r>
            <a:r>
              <a:rPr b="0" lang="ru-RU" sz="2000" spc="-1" strike="noStrike">
                <a:solidFill>
                  <a:srgbClr val="ff0000"/>
                </a:solidFill>
                <a:latin typeface="Cambria"/>
              </a:rPr>
              <a:t>- жёлтый, </a:t>
            </a:r>
            <a:r>
              <a:rPr b="0" lang="en-US" sz="2000" spc="-1" strike="noStrike">
                <a:solidFill>
                  <a:srgbClr val="ff0000"/>
                </a:solidFill>
                <a:latin typeface="Perpetua"/>
              </a:rPr>
              <a:t>blaK</a:t>
            </a:r>
            <a:r>
              <a:rPr b="0" lang="ru-RU" sz="2000" spc="-1" strike="noStrike">
                <a:solidFill>
                  <a:srgbClr val="ff0000"/>
                </a:solidFill>
                <a:latin typeface="Cambria"/>
              </a:rPr>
              <a:t>- чёрный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1440" indent="28584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Напечатанное на бумаге изображение человек воспринимает в отражённом свете. Если на бумагу краски не нанесены, то падающий белый свет полностью отражается, и мы видим белый лист бумаги. Если краски нанесены, то они поглощают определённые цвета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1440" indent="28584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Краски поглощают одну часть спектра и отражают другую. Например, жёлтая краска поглощает синий цвет и отражает красный и зелёный. Таким образом, жёлтый краситель вычитает синий свет из падающего белого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13" name="Picture 2" descr=""/>
          <p:cNvPicPr/>
          <p:nvPr/>
        </p:nvPicPr>
        <p:blipFill>
          <a:blip r:embed="rId1"/>
          <a:stretch/>
        </p:blipFill>
        <p:spPr>
          <a:xfrm>
            <a:off x="0" y="5013360"/>
            <a:ext cx="2292480" cy="18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Палитра 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MY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При печати изображений на принтерах используется палитра цветов в системе </a:t>
            </a:r>
            <a:r>
              <a:rPr b="0" lang="en-US" sz="2800" spc="-1" strike="noStrike">
                <a:solidFill>
                  <a:srgbClr val="ff0000"/>
                </a:solidFill>
                <a:latin typeface="Perpetua"/>
              </a:rPr>
              <a:t>CMY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b2d1f"/>
                </a:solidFill>
                <a:latin typeface="Cambria"/>
              </a:rPr>
              <a:t>Основными красками в ней являются : голубая, пурпурная, жёлтая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Цвета формируются путём </a:t>
            </a: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наложения красок базовых цветов,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интенсивность каждой краски задаётся в процентах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Perpetua"/>
              </a:rPr>
              <a:t>Color=C+M+Y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Палитра 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MY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250560" y="1388880"/>
            <a:ext cx="6049800" cy="50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mbria"/>
              </a:rPr>
              <a:t>Цвета получаются путём вычитания из белого цвета определённых цветов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Нанесённая на бумагу голубая краска поглощает (вычитает) красный свет и отражает зелёный и синий, а мы видим голубой цвет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Смешивая попарно краски системы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CMY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, мы получим базовые цвета в системе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RGB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. Если нанести на бумагу пурпурную и жёлтую краски, то будет поглощаться зелёный и синий свет, и мы увидим красный цвет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Смешение трёх красок – голубой, жёлтой и пурпурной  - должно приводить к полному поглощению света, и мы должны видеть чёрный цвет. Однако, на практике получается грязно-бурый цвет. Поэтому в цветовую модель добавили истинно чёрный цвет. Расширенная палитра получила название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CMYK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18" name="Picture 4" descr=""/>
          <p:cNvPicPr/>
          <p:nvPr/>
        </p:nvPicPr>
        <p:blipFill>
          <a:blip r:embed="rId1"/>
          <a:stretch/>
        </p:blipFill>
        <p:spPr>
          <a:xfrm>
            <a:off x="6300720" y="3933720"/>
            <a:ext cx="259236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Палитра 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MY</a:t>
            </a: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К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9280" y="1125000"/>
            <a:ext cx="7355160" cy="8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Формирование цветов в системе цветопередачи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CMYK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21" name="Picture 3" descr=""/>
          <p:cNvPicPr/>
          <p:nvPr/>
        </p:nvPicPr>
        <p:blipFill>
          <a:blip r:embed="rId1"/>
          <a:stretch/>
        </p:blipFill>
        <p:spPr>
          <a:xfrm>
            <a:off x="-163440" y="1663560"/>
            <a:ext cx="91328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Заключение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В графических редакторах обычно имеется возможность перехода от одной модели цветопередачи к другой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Отображение цвета зависит от многих факторов. На практике нет однозначного соответствия палитр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CMYK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и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RGB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при передачи цвета на мониторе и на бумаге. Цветопередача на разных мониторах и разной бумаге может также отличаться.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Фактическим стандартом в области идентификации цветов являются цветовые справочники фирмы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PANTONE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24" name="Picture 5" descr="http://im7-tub-ru.yandex.net/i?id=389078554-43-72&amp;n=21"/>
          <p:cNvPicPr/>
          <p:nvPr/>
        </p:nvPicPr>
        <p:blipFill>
          <a:blip r:embed="rId1"/>
          <a:stretch/>
        </p:blipFill>
        <p:spPr>
          <a:xfrm>
            <a:off x="250920" y="5661000"/>
            <a:ext cx="1054080" cy="105264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7" descr="http://im8-tub-ru.yandex.net/i?id=272920357-35-72&amp;n=21"/>
          <p:cNvPicPr/>
          <p:nvPr/>
        </p:nvPicPr>
        <p:blipFill>
          <a:blip r:embed="rId2"/>
          <a:stretch/>
        </p:blipFill>
        <p:spPr>
          <a:xfrm>
            <a:off x="7812000" y="5284800"/>
            <a:ext cx="11430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Как человек воспринимает цвета?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Основной объем информации человек получает  в виде зрительных образов с помощью света. Светом принято называть электромагнитное излучение с длиной волны от 440 до 700 нм. Только в этом диапазоне глаз может воспринимать электромагнитные волны. Меньшие значения соответствуют синей части спектра, а большие – красной части спектра. Волны за пределами этого диапазона называются ультрафиолетовыми и инфракрасными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75" name="Picture 4" descr="Рис1"/>
          <p:cNvPicPr/>
          <p:nvPr/>
        </p:nvPicPr>
        <p:blipFill>
          <a:blip r:embed="rId1"/>
          <a:stretch/>
        </p:blipFill>
        <p:spPr>
          <a:xfrm>
            <a:off x="5867280" y="4365720"/>
            <a:ext cx="281952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Как человек воспринимает цвета?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9528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гласно </a:t>
            </a:r>
            <a:r>
              <a:rPr b="0" lang="ru-RU" sz="1800" spc="-1" strike="noStrike">
                <a:solidFill>
                  <a:srgbClr val="9b2d1f"/>
                </a:solidFill>
                <a:latin typeface="Times New Roman"/>
              </a:rPr>
              <a:t>теор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6600"/>
                </a:solidFill>
                <a:latin typeface="Times New Roman"/>
              </a:rPr>
              <a:t>цветног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зрения, цвет воспринимается цветовыми рецепторами (колбочками), находящимися на сетчатке глаза.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Колбочк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увствительны к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красному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ru-RU" sz="1800" spc="-1" strike="noStrike">
                <a:solidFill>
                  <a:srgbClr val="9b2d1f"/>
                </a:solidFill>
                <a:latin typeface="Times New Roman"/>
              </a:rPr>
              <a:t>синему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i="1" lang="ru-RU" sz="1800" spc="-1" strike="noStrike">
                <a:solidFill>
                  <a:srgbClr val="33cc33"/>
                </a:solidFill>
                <a:latin typeface="Times New Roman"/>
              </a:rPr>
              <a:t>зелёному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вету, остальные цвета получаются в результате смешивания этих трёх цветов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роме колбочек в сетчатке имеются более чувствительные к свету рецепторы – палочки, которые не способны различать цвета и отвечают за интенсивность (яркость),  за восприятие оттенков серого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  <a:ea typeface="Times New Roman"/>
              </a:rPr>
              <a:t>Эффективность поглощения световых волн существенно различается для различных типов колбочек. Особенно хорошо воспринимается зелёный свет, красный свет воспринимается несколько хуже, а чувствительность глаза к синему свету ещё ниже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78" name="Picture 5" descr="Рис2"/>
          <p:cNvPicPr/>
          <p:nvPr/>
        </p:nvPicPr>
        <p:blipFill>
          <a:blip r:embed="rId1"/>
          <a:stretch/>
        </p:blipFill>
        <p:spPr>
          <a:xfrm>
            <a:off x="395280" y="4724280"/>
            <a:ext cx="2455920" cy="17654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6" descr="Рис3"/>
          <p:cNvPicPr/>
          <p:nvPr/>
        </p:nvPicPr>
        <p:blipFill>
          <a:blip r:embed="rId2"/>
          <a:stretch/>
        </p:blipFill>
        <p:spPr>
          <a:xfrm>
            <a:off x="5364000" y="4797360"/>
            <a:ext cx="230688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Как человек воспринимает цвета?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080" indent="3618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Глаз ощущает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mbria"/>
              </a:rPr>
              <a:t>белый цвет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, когда все виды нервных окончаний раздражаются одновременно и в одинаковой степени (сумма цветов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1080" indent="3618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mbria"/>
              </a:rPr>
              <a:t>Серый цвет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ощущается глазом при одновременном раздражении нервных окончаний, но меньшей силы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1080" indent="3618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mbria"/>
              </a:rPr>
              <a:t>Чёрный цвет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ощущается при отсутствии раздражения на всех рецепторах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1080" indent="3618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Преобладающее раздражение какого-либо одного рецептора вызывает восприятие соответствующего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mbria"/>
              </a:rPr>
              <a:t>цветового оттенка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1080" indent="3618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b2d1f"/>
                </a:solidFill>
                <a:latin typeface="Cambria"/>
              </a:rPr>
              <a:t>Таким образом, человек воспринимает цвет как сумму излучений трёх базовых цветов: красного, синего и зелёного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Цветовая модель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Цветовой моделью называется правило представления цвета в виде наборов чисел (обычно 3-4).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В компьютерной графике используется несколько видов цветовых моделей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Палитра 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RGB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080" indent="36936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В мониторах компьютеров, в телевизорах и других </a:t>
            </a: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излучающих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свет технических устройствах  применяется </a:t>
            </a:r>
            <a:r>
              <a:rPr b="0" lang="ru-RU" sz="2400" spc="-1" strike="noStrike">
                <a:solidFill>
                  <a:srgbClr val="9b2d1f"/>
                </a:solidFill>
                <a:latin typeface="Cambria"/>
              </a:rPr>
              <a:t>аддитивная система цветопередачи </a:t>
            </a:r>
            <a:r>
              <a:rPr b="0" lang="en-US" sz="2400" spc="-1" strike="noStrike">
                <a:solidFill>
                  <a:srgbClr val="9b2d1f"/>
                </a:solidFill>
                <a:latin typeface="Perpetua"/>
              </a:rPr>
              <a:t>RGB</a:t>
            </a:r>
            <a:r>
              <a:rPr b="0" lang="ru-RU" sz="2400" spc="-1" strike="noStrike">
                <a:solidFill>
                  <a:srgbClr val="9b2d1f"/>
                </a:solidFill>
                <a:latin typeface="Cambr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1080" indent="36936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Аддитивной называется потому, что с экрана монитора человек воспринимает цвет</a:t>
            </a:r>
            <a:r>
              <a:rPr b="0" lang="ru-RU" sz="2400" spc="-1" strike="noStrike">
                <a:solidFill>
                  <a:srgbClr val="9b2d1f"/>
                </a:solidFill>
                <a:latin typeface="Cambria"/>
              </a:rPr>
              <a:t> как сумму излучения трёх базовых цветов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1080" indent="36936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Такая система называется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RGB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по первым буквам английских названий цветов</a:t>
            </a:r>
            <a:r>
              <a:rPr b="0" lang="ru-RU" sz="2400" spc="-1" strike="noStrike">
                <a:solidFill>
                  <a:srgbClr val="9b2d1f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Red, Green, Blue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1080" indent="36936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Цвета в палитре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RGB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формируются путём сложения базовых цветов, которые могут иметь различную интенсивность.  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86" name="Picture 3" descr=""/>
          <p:cNvPicPr/>
          <p:nvPr/>
        </p:nvPicPr>
        <p:blipFill>
          <a:blip r:embed="rId1"/>
          <a:stretch/>
        </p:blipFill>
        <p:spPr>
          <a:xfrm>
            <a:off x="7020000" y="5040360"/>
            <a:ext cx="191124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Палитра 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RGB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95280" y="126828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451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b2d1f"/>
                </a:solidFill>
                <a:latin typeface="Times New Roman"/>
              </a:rPr>
              <a:t>Глубина цвет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это число бит, используемых для представления каждого пикселя изображения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1440" indent="451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модел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GB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каждый цвет может кодироваться тремя байтами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eColor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Каждый байт отвечает за интенсивность (яркость) красной, зелёной и синей составляющей пикселя соответственно. Таким образом, глубина цвета составляет 24 бита.  Для каждого из цветов возможны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=2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=256 уровней интенсивности. Уровни интенсивности задаются десятичными  (от0 до 255) , двоичными (от 00000000 до 11111111) или шестнадцатеричными (от 00 до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F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 кодами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1440" indent="451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b2d1f"/>
                </a:solidFill>
                <a:latin typeface="Times New Roman"/>
              </a:rPr>
              <a:t>Чтобы указать цвет пиксел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 данной модели надо указать уровни интенсивности каждой составляющей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1440" indent="45108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Color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R+G+B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1440" indent="451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b2d1f"/>
                </a:solidFill>
                <a:latin typeface="Times New Roman"/>
              </a:rPr>
              <a:t>В языке разметки </a:t>
            </a:r>
            <a:r>
              <a:rPr b="0" lang="en-US" sz="2000" spc="-1" strike="noStrike">
                <a:solidFill>
                  <a:srgbClr val="9b2d1f"/>
                </a:solidFill>
                <a:latin typeface="Times New Roman"/>
              </a:rPr>
              <a:t> HTM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для обозначения цвета используется шестнадцатеричная запись вида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1440" indent="45108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#RRGGBB”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1440" indent="451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ждый цвет записывается в виде двух шестнадцатеричных цифр без пробелов. Первая пара – интенсивность красного, вторая – зелёного, последняя – синего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89" name="Picture 3" descr=""/>
          <p:cNvPicPr/>
          <p:nvPr/>
        </p:nvPicPr>
        <p:blipFill>
          <a:blip r:embed="rId1"/>
          <a:stretch/>
        </p:blipFill>
        <p:spPr>
          <a:xfrm>
            <a:off x="7524720" y="189000"/>
            <a:ext cx="1295280" cy="11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Палитра 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RGB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91" name="Picture 5" descr=""/>
          <p:cNvPicPr/>
          <p:nvPr/>
        </p:nvPicPr>
        <p:blipFill>
          <a:blip r:embed="rId1"/>
          <a:stretch/>
        </p:blipFill>
        <p:spPr>
          <a:xfrm>
            <a:off x="2124000" y="2060640"/>
            <a:ext cx="2838600" cy="287964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6"/>
          <p:cNvSpPr/>
          <p:nvPr/>
        </p:nvSpPr>
        <p:spPr>
          <a:xfrm>
            <a:off x="1476360" y="537372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сный (255.0.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5292720" y="227664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ний  (0.0.25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0" y="206064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елёный  (0.255.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9"/>
          <p:cNvSpPr/>
          <p:nvPr/>
        </p:nvSpPr>
        <p:spPr>
          <a:xfrm>
            <a:off x="2340000" y="126828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лубой  (0.255.25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0"/>
          <p:cNvSpPr/>
          <p:nvPr/>
        </p:nvSpPr>
        <p:spPr>
          <a:xfrm>
            <a:off x="5364000" y="1557360"/>
            <a:ext cx="25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лый  (255.255.25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0" y="3429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ёлтый (255.255.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2"/>
          <p:cNvSpPr/>
          <p:nvPr/>
        </p:nvSpPr>
        <p:spPr>
          <a:xfrm>
            <a:off x="5292720" y="299736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уксии (255.0.25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13"/>
          <p:cNvSpPr/>
          <p:nvPr/>
        </p:nvSpPr>
        <p:spPr>
          <a:xfrm>
            <a:off x="3564000" y="162864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14"/>
          <p:cNvSpPr/>
          <p:nvPr/>
        </p:nvSpPr>
        <p:spPr>
          <a:xfrm flipV="1">
            <a:off x="3635280" y="1844280"/>
            <a:ext cx="172872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5"/>
          <p:cNvSpPr/>
          <p:nvPr/>
        </p:nvSpPr>
        <p:spPr>
          <a:xfrm flipV="1">
            <a:off x="4067280" y="3213000"/>
            <a:ext cx="115236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16"/>
          <p:cNvSpPr/>
          <p:nvPr/>
        </p:nvSpPr>
        <p:spPr>
          <a:xfrm flipV="1">
            <a:off x="4572000" y="2565000"/>
            <a:ext cx="64764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17"/>
          <p:cNvSpPr/>
          <p:nvPr/>
        </p:nvSpPr>
        <p:spPr>
          <a:xfrm flipH="1">
            <a:off x="2410920" y="4149720"/>
            <a:ext cx="100836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18"/>
          <p:cNvSpPr/>
          <p:nvPr/>
        </p:nvSpPr>
        <p:spPr>
          <a:xfrm flipH="1">
            <a:off x="1403280" y="3573360"/>
            <a:ext cx="1656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19"/>
          <p:cNvSpPr/>
          <p:nvPr/>
        </p:nvSpPr>
        <p:spPr>
          <a:xfrm flipH="1" flipV="1">
            <a:off x="1476000" y="2491920"/>
            <a:ext cx="10796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20"/>
          <p:cNvSpPr/>
          <p:nvPr/>
        </p:nvSpPr>
        <p:spPr>
          <a:xfrm>
            <a:off x="5148360" y="3645000"/>
            <a:ext cx="399564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0" lang="ru-RU" sz="1800" spc="-1" strike="noStrike">
                <a:solidFill>
                  <a:srgbClr val="9b2d1f"/>
                </a:solidFill>
                <a:latin typeface="Arial"/>
              </a:rPr>
              <a:t>минимальны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нтенсивностях всех базовых цветов –чёрный цвет, при </a:t>
            </a:r>
            <a:r>
              <a:rPr b="0" lang="ru-RU" sz="1800" spc="-1" strike="noStrike">
                <a:solidFill>
                  <a:srgbClr val="9b2d1f"/>
                </a:solidFill>
                <a:latin typeface="Arial"/>
              </a:rPr>
              <a:t>максимальн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нтенсивности одного цвета  и минимальной двух других – красный, зелёный и синий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b2d1f"/>
                </a:solidFill>
                <a:latin typeface="Arial"/>
              </a:rPr>
              <a:t>Чем ниж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нтенсивность составляющих, </a:t>
            </a:r>
            <a:r>
              <a:rPr b="0" lang="ru-RU" sz="1800" spc="-1" strike="noStrike">
                <a:solidFill>
                  <a:srgbClr val="9b2d1f"/>
                </a:solidFill>
                <a:latin typeface="Arial"/>
              </a:rPr>
              <a:t>тем темне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цвет на экране, </a:t>
            </a:r>
            <a:r>
              <a:rPr b="0" lang="ru-RU" sz="1800" spc="-1" strike="noStrike">
                <a:solidFill>
                  <a:srgbClr val="9b2d1f"/>
                </a:solidFill>
                <a:latin typeface="Arial"/>
              </a:rPr>
              <a:t>чем выш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нтенсивность, </a:t>
            </a:r>
            <a:r>
              <a:rPr b="0" lang="ru-RU" sz="1800" spc="-1" strike="noStrike">
                <a:solidFill>
                  <a:srgbClr val="9b2d1f"/>
                </a:solidFill>
                <a:latin typeface="Arial"/>
              </a:rPr>
              <a:t>тем светле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ттен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Палитра 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RGB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graphicFrame>
        <p:nvGraphicFramePr>
          <p:cNvPr id="308" name="Object 5"/>
          <p:cNvGraphicFramePr/>
          <p:nvPr/>
        </p:nvGraphicFramePr>
        <p:xfrm>
          <a:off x="1332000" y="1341360"/>
          <a:ext cx="6192720" cy="249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341360"/>
                    <a:ext cx="6192720" cy="24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Text Box 7"/>
          <p:cNvSpPr/>
          <p:nvPr/>
        </p:nvSpPr>
        <p:spPr>
          <a:xfrm>
            <a:off x="1238400" y="4076640"/>
            <a:ext cx="678960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значения интенсивности всех трёх составляющих равны, но не максимальны и не минимальны, то получим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ттенки серого цве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b2d1f"/>
                </a:solidFill>
                <a:latin typeface="Arial"/>
              </a:rPr>
              <a:t>Можно изменять интенсивность каждого цве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Например, задать цвет 127.127.0, то получим на экране болотный цвет, а не тёмный оттенок жёлтого, как можно было ожидать. Это связано с тем, что человеческий глаз более чувствителен к зелёному цве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09:14:06Z</dcterms:created>
  <dc:creator>Тютина</dc:creator>
  <dc:description/>
  <dc:language>en-US</dc:language>
  <cp:lastModifiedBy>User</cp:lastModifiedBy>
  <dcterms:modified xsi:type="dcterms:W3CDTF">2018-06-30T11:20:35Z</dcterms:modified>
  <cp:revision>6</cp:revision>
  <dc:subject/>
  <dc:title>Слайд 1</dc:title>
</cp:coreProperties>
</file>