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wmf" ContentType="image/x-wmf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1EE8-5B1E-4E7D-9B9C-4722C251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0CD5-3E88-4A66-8E6C-E40E2547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B739-2457-4824-B643-9FF0858A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07C-56D7-4816-9535-3EEC2FE15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861B-FD18-489B-8841-68073F442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DF59-B5E3-49C4-A813-29A4503BE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B5DA8-1C3D-4EA5-B822-4B16973FF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5E29-805C-493C-BA66-96A6BAF2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55EF-718A-4A9F-A520-FA374DAAB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512D-C5A5-4F95-86BD-712D7DFEF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7B7AC-284E-45BA-AE10-FC3B55F0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74C6-1289-4456-8B73-5DAB6A703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65494-C0EB-401D-BDD0-C2952447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1799-32BD-41A8-B7C8-5911602D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AAC8-74A9-4118-9150-6E3FE49FF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986AD-7216-461D-841D-EA6D0D6BE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CCD32-A777-474D-A29F-73818FA9A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D69C6-32ED-4FBE-A26D-176EAF2F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7324C-5364-4FF7-A22A-37099816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3E8550-2AB7-46CD-B6C6-DD88A3D79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7AAB-CF57-4EAF-9B6F-49BF70A6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F3D08-4AA7-4CF1-98ED-0C28FA1B9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F79-EA60-40DB-95E7-7FCC158D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A6435-F4CC-4BC8-BEB3-2D8A78DF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CBAA5-5E64-4673-AC50-4D7F362FA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3209E-81CE-43BE-8991-BBBC5191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F338C-216D-4F68-9FB2-305C3FC1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88735-B8F6-41C0-B668-EDE3EE6F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193D4-5606-4BF8-8E52-E5671AC1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F6C48-990B-4381-91B9-8A63032B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F6813-F8D6-42CF-83D6-A479E474E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224DC-933E-4FAD-A2DA-EB29E53A7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0F49A-2A7D-410C-BA5C-77AE524F2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D0E0-619F-4840-AB33-63E554665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086BD-CDF5-42C2-9ECA-37AA1FAD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A1154-9B17-42D0-86A4-6D8E51F6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52D08-9E8E-4B34-80A0-5A519AF0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7B33F-9F9C-4031-8533-B08255B2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1EA86-F58A-4713-A04E-5E91FBC1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9EB0D-2764-4A15-A6CE-3912E27B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57352-0F83-4BFB-8D6B-4A35B4E0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E1CFEB-A778-4CAB-9E95-76AE0658D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459C0-8E3C-45DD-B674-9CEF1E95C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32A46-A3E5-4BB2-B135-CD7966C27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5EEE-2375-4231-A5DE-5A149B8DA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A05CB-EB09-4DC4-A4AB-E5C6EEC4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49B09-9A6B-40A5-A0D3-31233108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54D07-FF6B-42F5-BCE4-B6C740B7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573A9-364A-45D1-8B04-36C9450D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F248F-2D90-4C11-A629-5AB164580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516B4A-A202-4F43-AEE3-519E7559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8837-71EC-4035-B95C-BEF76BD7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960125-1222-439F-B6FA-76CE5E30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837C0-AD4B-4E92-A741-483D41439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C945E-2FA1-40DD-AE0A-DC861FAB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B91-48DD-4AB5-B832-B92DF022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5A793-A51C-41A8-8592-4F85E211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89144-B16F-4C43-8A29-D633DE79B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E30E1-7014-4928-97AE-B7AE4659F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9F886-55F6-4D2E-B4D9-A325EF2C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4EED81-B19E-44A0-954D-A65BD3132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8498A-61E6-4638-A470-77653E49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105952-7614-47A3-927E-971A37EC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6FC93-F647-4170-9082-5FFBD56C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EBC430-2AE3-4B96-8DD5-6A0EB8A7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5CD87D-5690-4946-8108-7C58461B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6B31-697E-49C4-8E98-9E0013BD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F555D2-92D4-4F56-A94B-09FAB4CCD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5F8824-B4ED-4A98-BC01-8935EE897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3C6528-A437-4D1A-B388-807F6DCD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7A5D-27E1-4CC3-96A0-51ADDD27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9F7-CC86-4F56-AC68-22D0863D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04C25-1105-4331-AB47-1DA6B082F18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D0713-43BB-4277-B0EA-94B77E67A82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02137-808E-4A55-91BB-259A8E7626A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4B03-59B8-4BAE-9E33-5817600E82B7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6F8F-6894-4C20-AC44-05E32EF9C85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842C-2672-4774-9A61-C18DA6957A5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осприятие цвета человеком и цветовые модели.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5364000" y="53737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ютина Т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БОУ СОШ № 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литра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MYK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b2d1f"/>
                </a:solidFill>
                <a:latin typeface="Cambria"/>
              </a:rPr>
              <a:t>В полиграфии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применяется субстрактивная система цветопередачи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MYK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 (для описания </a:t>
            </a:r>
            <a:r>
              <a:rPr b="1" i="1" lang="ru-RU" sz="2000" spc="-1" strike="noStrike">
                <a:solidFill>
                  <a:srgbClr val="000000"/>
                </a:solidFill>
                <a:latin typeface="Cambria"/>
              </a:rPr>
              <a:t>отражённого 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вета)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1440" indent="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Cyan –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голубой, </a:t>
            </a: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Magenta 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–пурпурный, </a:t>
            </a: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Yellow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- жёлтый, </a:t>
            </a:r>
            <a:r>
              <a:rPr b="0" lang="en-US" sz="2000" spc="-1" strike="noStrike">
                <a:solidFill>
                  <a:srgbClr val="ff0000"/>
                </a:solidFill>
                <a:latin typeface="Perpetua"/>
              </a:rPr>
              <a:t>blaK</a:t>
            </a: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- чёрный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1440" indent="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печатанное на бумаге изображение человек воспринимает в отражённом свете. Если на бумагу краски не нанесены, то падающий белый свет полностью отражается, и мы видим белый лист бумаги. Если краски нанесены, то они поглощают определённые цвета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1440" indent="2858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Краски поглощают одну часть спектра и отражают другую. Например, жёлтая краска поглощает синий цвет и отражает красный и зелёный. Таким образом, жёлтый краситель вычитает синий свет из падающего белого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0" y="5013360"/>
            <a:ext cx="229248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литра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MY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При печати изображений на принтерах используется палитра цветов в системе </a:t>
            </a:r>
            <a:r>
              <a:rPr b="0" lang="en-US" sz="2800" spc="-1" strike="noStrike">
                <a:solidFill>
                  <a:srgbClr val="ff0000"/>
                </a:solidFill>
                <a:latin typeface="Perpetua"/>
              </a:rPr>
              <a:t>CMY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b2d1f"/>
                </a:solidFill>
                <a:latin typeface="Cambria"/>
              </a:rPr>
              <a:t>Основными красками в ней являются : голубая, пурпурная, жёлтая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Цвета формируются путём </a:t>
            </a:r>
            <a:r>
              <a:rPr b="1" i="1" lang="ru-RU" sz="2800" spc="-1" strike="noStrike">
                <a:solidFill>
                  <a:srgbClr val="000000"/>
                </a:solidFill>
                <a:latin typeface="Cambria"/>
              </a:rPr>
              <a:t>наложения красок базовых цветов,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нтенсивность каждой краски задаётся в процентах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Perpetua"/>
              </a:rPr>
              <a:t>Color=C+M+Y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литра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MY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0560" y="1388880"/>
            <a:ext cx="6049800" cy="50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mbria"/>
              </a:rPr>
              <a:t>Цвета получаются путём вычитания из белого цвета определённых цветов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Нанесённая на бумагу голубая краска поглощает (вычитает) красный свет и отражает зелёный и синий, а мы видим голубой цвет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мешивая попарно краски системы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MY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, мы получим базовые цвета в системе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RGB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 Если нанести на бумагу пурпурную и жёлтую краски, то будет поглощаться зелёный и синий свет, и мы увидим красный цвет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Смешение трёх красок – голубой, жёлтой и пурпурной  - должно приводить к полному поглощению света, и мы должны видеть чёрный цвет. Однако, на практике получается грязно-бурый цвет. Поэтому в цветовую модель добавили истинно чёрный цвет. Расширенная палитра получила название 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MYK</a:t>
            </a:r>
            <a:r>
              <a:rPr b="0" lang="ru-RU" sz="20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8" name="Picture 4" descr=""/>
          <p:cNvPicPr/>
          <p:nvPr/>
        </p:nvPicPr>
        <p:blipFill>
          <a:blip r:embed="rId1"/>
          <a:stretch/>
        </p:blipFill>
        <p:spPr>
          <a:xfrm>
            <a:off x="6300720" y="3933720"/>
            <a:ext cx="2592360" cy="24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литра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MY</a:t>
            </a: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К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9280" y="1125000"/>
            <a:ext cx="7355160" cy="8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ормирование цветов в системе цветопередачи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MY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-163440" y="1663560"/>
            <a:ext cx="91328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Заключение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графических редакторах обычно имеется возможность перехода от одной модели цветопередачи к другой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Отображение цвета зависит от многих факторов. На практике нет однозначного соответствия палитр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CMYK 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GB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 при передачи цвета на мониторе и на бумаге. Цветопередача на разных мониторах и разной бумаге может также отличаться.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актическим стандартом в области идентификации цветов являются цветовые справочники фирмы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ANTONE</a:t>
            </a: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24" name="Picture 5" descr="http://im7-tub-ru.yandex.net/i?id=389078554-43-72&amp;n=21"/>
          <p:cNvPicPr/>
          <p:nvPr/>
        </p:nvPicPr>
        <p:blipFill>
          <a:blip r:embed="rId1"/>
          <a:stretch/>
        </p:blipFill>
        <p:spPr>
          <a:xfrm>
            <a:off x="250920" y="5661000"/>
            <a:ext cx="1054080" cy="105264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http://im8-tub-ru.yandex.net/i?id=272920357-35-72&amp;n=21"/>
          <p:cNvPicPr/>
          <p:nvPr/>
        </p:nvPicPr>
        <p:blipFill>
          <a:blip r:embed="rId2"/>
          <a:stretch/>
        </p:blipFill>
        <p:spPr>
          <a:xfrm>
            <a:off x="7812000" y="5284800"/>
            <a:ext cx="11430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Как человек воспринимает цвета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ной объем информации человек получает  в виде зрительных образов с помощью света. Светом принято называть электромагнитное излучение с длиной волны от 440 до 700 нм. Только в этом диапазоне глаз может воспринимать электромагнитные волны. Меньшие значения соответствуют синей части спектра, а большие – красной части спектра. Волны за пределами этого диапазона называются ультрафиолетовыми и инфракрасными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5" name="Picture 4" descr="Рис1"/>
          <p:cNvPicPr/>
          <p:nvPr/>
        </p:nvPicPr>
        <p:blipFill>
          <a:blip r:embed="rId1"/>
          <a:stretch/>
        </p:blipFill>
        <p:spPr>
          <a:xfrm>
            <a:off x="5867280" y="4365720"/>
            <a:ext cx="2819520" cy="202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Как человек воспринимает цвета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гласно </a:t>
            </a:r>
            <a:r>
              <a:rPr b="0" lang="ru-RU" sz="1800" spc="-1" strike="noStrike">
                <a:solidFill>
                  <a:srgbClr val="9b2d1f"/>
                </a:solidFill>
                <a:latin typeface="Times New Roman"/>
              </a:rPr>
              <a:t>теори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6600"/>
                </a:solidFill>
                <a:latin typeface="Times New Roman"/>
              </a:rPr>
              <a:t>цветног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зрения, цвет воспринимается цветовыми рецепторами (колбочками), находящимися на сетчатке глаза.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Колбочк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увствительны к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0000"/>
                </a:solidFill>
                <a:latin typeface="Times New Roman"/>
              </a:rPr>
              <a:t>красному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9b2d1f"/>
                </a:solidFill>
                <a:latin typeface="Times New Roman"/>
              </a:rPr>
              <a:t>синему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ru-RU" sz="1800" spc="-1" strike="noStrike">
                <a:solidFill>
                  <a:srgbClr val="33cc33"/>
                </a:solidFill>
                <a:latin typeface="Times New Roman"/>
              </a:rPr>
              <a:t>зелёному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ту, остальные цвета получаются в результате смешивания этих трёх цветов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оме колбочек в сетчатке имеются более чувствительные к свету рецепторы – палочки, которые не способны различать цвета и отвечают за интенсивность (яркость),  за восприятие оттенков серого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  <a:ea typeface="Times New Roman"/>
              </a:rPr>
              <a:t>Эффективность поглощения световых волн существенно различается для различных типов колбочек. Особенно хорошо воспринимается зелёный свет, красный свет воспринимается несколько хуже, а чувствительность глаза к синему свету ещё ниже</a:t>
            </a: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8" name="Picture 5" descr="Рис2"/>
          <p:cNvPicPr/>
          <p:nvPr/>
        </p:nvPicPr>
        <p:blipFill>
          <a:blip r:embed="rId1"/>
          <a:stretch/>
        </p:blipFill>
        <p:spPr>
          <a:xfrm>
            <a:off x="395280" y="4724280"/>
            <a:ext cx="2455920" cy="176544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Рис3"/>
          <p:cNvPicPr/>
          <p:nvPr/>
        </p:nvPicPr>
        <p:blipFill>
          <a:blip r:embed="rId2"/>
          <a:stretch/>
        </p:blipFill>
        <p:spPr>
          <a:xfrm>
            <a:off x="5364000" y="4797360"/>
            <a:ext cx="230688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Как человек воспринимает цвета?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080" indent="3618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Глаз ощущает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белый цвет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, когда все виды нервных окончаний раздражаются одновременно и в одинаковой степени (сумма цветов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1080" indent="3618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Серый цвет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ощущается глазом при одновременном раздражении нервных окончаний, но меньшей силы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1080" indent="3618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Чёрный цвет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ощущается при отсутствии раздражения на всех рецепторах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1080" indent="3618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Преобладающее раздражение какого-либо одного рецептора вызывает восприятие соответствующего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цветового оттенка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1080" indent="36180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b2d1f"/>
                </a:solidFill>
                <a:latin typeface="Cambria"/>
              </a:rPr>
              <a:t>Таким образом, человек воспринимает цвет как сумму излучений трёх базовых цветов: красного, синего и зелёного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Цветовая модель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ветовой моделью называется правило представления цвета в виде наборов чисел (обычно 3-4)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 компьютерной графике используется несколько видов цветовых моделей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литра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GB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080" indent="3693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мониторах компьютеров, в телевизорах и других </a:t>
            </a:r>
            <a:r>
              <a:rPr b="1" i="1" lang="ru-RU" sz="2400" spc="-1" strike="noStrike">
                <a:solidFill>
                  <a:srgbClr val="000000"/>
                </a:solidFill>
                <a:latin typeface="Cambria"/>
              </a:rPr>
              <a:t>излучающих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свет технических устройствах  применяется </a:t>
            </a:r>
            <a:r>
              <a:rPr b="0" lang="ru-RU" sz="2400" spc="-1" strike="noStrike">
                <a:solidFill>
                  <a:srgbClr val="9b2d1f"/>
                </a:solidFill>
                <a:latin typeface="Cambria"/>
              </a:rPr>
              <a:t>аддитивная система цветопередачи </a:t>
            </a:r>
            <a:r>
              <a:rPr b="0" lang="en-US" sz="2400" spc="-1" strike="noStrike">
                <a:solidFill>
                  <a:srgbClr val="9b2d1f"/>
                </a:solidFill>
                <a:latin typeface="Perpetua"/>
              </a:rPr>
              <a:t>RGB</a:t>
            </a:r>
            <a:r>
              <a:rPr b="0" lang="ru-RU" sz="2400" spc="-1" strike="noStrike">
                <a:solidFill>
                  <a:srgbClr val="9b2d1f"/>
                </a:solidFill>
                <a:latin typeface="Cambr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1080" indent="3693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Аддитивной называется потому, что с экрана монитора человек воспринимает цвет</a:t>
            </a:r>
            <a:r>
              <a:rPr b="0" lang="ru-RU" sz="2400" spc="-1" strike="noStrike">
                <a:solidFill>
                  <a:srgbClr val="9b2d1f"/>
                </a:solidFill>
                <a:latin typeface="Cambria"/>
              </a:rPr>
              <a:t> как сумму излучения трёх базовых цветов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1080" indent="3693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акая система называется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GB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по первым буквам английских названий цветов</a:t>
            </a:r>
            <a:r>
              <a:rPr b="0" lang="ru-RU" sz="2400" spc="-1" strike="noStrike">
                <a:solidFill>
                  <a:srgbClr val="9b2d1f"/>
                </a:solidFill>
                <a:latin typeface="Cambri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d, Green, Blue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1080" indent="36936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Цвета в палитре </a:t>
            </a: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GB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 формируются путём сложения базовых цветов, которые могут иметь различную интенсивность.  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6" name="Picture 3" descr=""/>
          <p:cNvPicPr/>
          <p:nvPr/>
        </p:nvPicPr>
        <p:blipFill>
          <a:blip r:embed="rId1"/>
          <a:stretch/>
        </p:blipFill>
        <p:spPr>
          <a:xfrm>
            <a:off x="7020000" y="5040360"/>
            <a:ext cx="1911240" cy="16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литра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GB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95280" y="126828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451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2d1f"/>
                </a:solidFill>
                <a:latin typeface="Times New Roman"/>
              </a:rPr>
              <a:t>Глубина цвет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– это число бит, используемых для представления каждого пикселя изображения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1440" indent="451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моде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GB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каждый цвет может кодироваться тремя байтами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eColor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Каждый байт отвечает за интенсивность (яркость) красной, зелёной и синей составляющей пикселя соответственно. Таким образом, глубина цвета составляет 24 бита.  Для каждого из цветов возможн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2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256 уровней интенсивности. Уровни интенсивности задаются десятичными  (от0 до 255) , двоичными (от 00000000 до 11111111) или шестнадцатеричными (от 00 д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 кодами.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1440" indent="451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2d1f"/>
                </a:solidFill>
                <a:latin typeface="Times New Roman"/>
              </a:rPr>
              <a:t>Чтобы указать цвет пикс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в данной модели надо указать уровни интенсивности каждой составляюще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1440" indent="451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Color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R+G+B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1440" indent="451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b2d1f"/>
                </a:solidFill>
                <a:latin typeface="Times New Roman"/>
              </a:rPr>
              <a:t>В языке разметки </a:t>
            </a:r>
            <a:r>
              <a:rPr b="0" lang="en-US" sz="2000" spc="-1" strike="noStrike">
                <a:solidFill>
                  <a:srgbClr val="9b2d1f"/>
                </a:solidFill>
                <a:latin typeface="Times New Roman"/>
              </a:rPr>
              <a:t> HTM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ля обозначения цвета используется шестнадцатеричная запись вида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1440" indent="4510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#RRGGBB”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1440" indent="4510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ждый цвет записывается в виде двух шестнадцатеричных цифр без пробелов. Первая пара – интенсивность красного, вторая – зелёного, последняя – синего.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1"/>
          <a:stretch/>
        </p:blipFill>
        <p:spPr>
          <a:xfrm>
            <a:off x="7524720" y="189000"/>
            <a:ext cx="129528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литра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GB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91" name="Picture 5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2838600" cy="287964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6"/>
          <p:cNvSpPr/>
          <p:nvPr/>
        </p:nvSpPr>
        <p:spPr>
          <a:xfrm>
            <a:off x="1476360" y="537372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сный (255.0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5292720" y="2276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ий  (0.0.2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0" y="2060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елёный  (0.255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2340000" y="126828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убой  (0.255.2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5364000" y="1557360"/>
            <a:ext cx="25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лый  (255.255.2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1"/>
          <p:cNvSpPr/>
          <p:nvPr/>
        </p:nvSpPr>
        <p:spPr>
          <a:xfrm>
            <a:off x="0" y="3429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ёлтый (255.255.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2"/>
          <p:cNvSpPr/>
          <p:nvPr/>
        </p:nvSpPr>
        <p:spPr>
          <a:xfrm>
            <a:off x="5292720" y="299736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уксии (255.0.2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3"/>
          <p:cNvSpPr/>
          <p:nvPr/>
        </p:nvSpPr>
        <p:spPr>
          <a:xfrm>
            <a:off x="3564000" y="162864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4"/>
          <p:cNvSpPr/>
          <p:nvPr/>
        </p:nvSpPr>
        <p:spPr>
          <a:xfrm flipV="1">
            <a:off x="3635280" y="1844280"/>
            <a:ext cx="172872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5"/>
          <p:cNvSpPr/>
          <p:nvPr/>
        </p:nvSpPr>
        <p:spPr>
          <a:xfrm flipV="1">
            <a:off x="4067280" y="3213000"/>
            <a:ext cx="115236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6"/>
          <p:cNvSpPr/>
          <p:nvPr/>
        </p:nvSpPr>
        <p:spPr>
          <a:xfrm flipV="1">
            <a:off x="4572000" y="2565000"/>
            <a:ext cx="64764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7"/>
          <p:cNvSpPr/>
          <p:nvPr/>
        </p:nvSpPr>
        <p:spPr>
          <a:xfrm flipH="1">
            <a:off x="2410920" y="4149720"/>
            <a:ext cx="1008360" cy="115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8"/>
          <p:cNvSpPr/>
          <p:nvPr/>
        </p:nvSpPr>
        <p:spPr>
          <a:xfrm flipH="1">
            <a:off x="1403280" y="3573360"/>
            <a:ext cx="165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19"/>
          <p:cNvSpPr/>
          <p:nvPr/>
        </p:nvSpPr>
        <p:spPr>
          <a:xfrm flipH="1" flipV="1">
            <a:off x="1476000" y="2491920"/>
            <a:ext cx="1079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0"/>
          <p:cNvSpPr/>
          <p:nvPr/>
        </p:nvSpPr>
        <p:spPr>
          <a:xfrm>
            <a:off x="5148360" y="3645000"/>
            <a:ext cx="399564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ru-RU" sz="1800" spc="-1" strike="noStrike">
                <a:solidFill>
                  <a:srgbClr val="9b2d1f"/>
                </a:solidFill>
                <a:latin typeface="Arial"/>
              </a:rPr>
              <a:t>минимальны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тенсивностях всех базовых цветов –чёрный цвет, при </a:t>
            </a:r>
            <a:r>
              <a:rPr b="0" lang="ru-RU" sz="1800" spc="-1" strike="noStrike">
                <a:solidFill>
                  <a:srgbClr val="9b2d1f"/>
                </a:solidFill>
                <a:latin typeface="Arial"/>
              </a:rPr>
              <a:t>максимальн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тенсивности одного цвета  и минимальной двух других – красный, зелёный и синий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2d1f"/>
                </a:solidFill>
                <a:latin typeface="Arial"/>
              </a:rPr>
              <a:t>Чем ниж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тенсивность составляющих, </a:t>
            </a:r>
            <a:r>
              <a:rPr b="0" lang="ru-RU" sz="1800" spc="-1" strike="noStrike">
                <a:solidFill>
                  <a:srgbClr val="9b2d1f"/>
                </a:solidFill>
                <a:latin typeface="Arial"/>
              </a:rPr>
              <a:t>тем темне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цвет на экране, </a:t>
            </a:r>
            <a:r>
              <a:rPr b="0" lang="ru-RU" sz="1800" spc="-1" strike="noStrike">
                <a:solidFill>
                  <a:srgbClr val="9b2d1f"/>
                </a:solidFill>
                <a:latin typeface="Arial"/>
              </a:rPr>
              <a:t>чем выш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нтенсивность, </a:t>
            </a:r>
            <a:r>
              <a:rPr b="0" lang="ru-RU" sz="1800" spc="-1" strike="noStrike">
                <a:solidFill>
                  <a:srgbClr val="9b2d1f"/>
                </a:solidFill>
                <a:latin typeface="Arial"/>
              </a:rPr>
              <a:t>тем светле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те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литра 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RGB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308" name="Object 5"/>
          <p:cNvGraphicFramePr/>
          <p:nvPr/>
        </p:nvGraphicFramePr>
        <p:xfrm>
          <a:off x="1332000" y="1341360"/>
          <a:ext cx="6192720" cy="249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341360"/>
                    <a:ext cx="6192720" cy="24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Text Box 7"/>
          <p:cNvSpPr/>
          <p:nvPr/>
        </p:nvSpPr>
        <p:spPr>
          <a:xfrm>
            <a:off x="1238400" y="4076640"/>
            <a:ext cx="67896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значения интенсивности всех трёх составляющих равны, но не максимальны и не минимальны, то получим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оттенки серого цв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b2d1f"/>
                </a:solidFill>
                <a:latin typeface="Arial"/>
              </a:rPr>
              <a:t>Можно изменять интенсивность каждого цв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апример, задать цвет 127.127.0, то получим на экране болотный цвет, а не тёмный оттенок жёлтого, как можно было ожидать. Это связано с тем, что человеческий глаз более чувствителен к зелёному цве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4T09:14:06Z</dcterms:created>
  <dc:creator>Тютина</dc:creator>
  <dc:description/>
  <dc:language>en-US</dc:language>
  <cp:lastModifiedBy>User</cp:lastModifiedBy>
  <dcterms:modified xsi:type="dcterms:W3CDTF">2018-06-30T11:20:35Z</dcterms:modified>
  <cp:revision>6</cp:revision>
  <dc:subject/>
  <dc:title>Слайд 1</dc:title>
</cp:coreProperties>
</file>