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24F-A393-4F02-ADBA-30D1D9A6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F7B-BF9C-4024-8D0E-CC24B662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A5A-5885-41DA-B8BF-B2208EC5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5FD-95D0-4E1B-ACF9-DF2756C5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A50-15B0-4A02-97D3-53F0C9E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F69-2999-4B7C-9767-D14FCE10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56E-533B-4E0B-9D64-D5C97814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DC9-393E-4C43-9B1D-4BE634D8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B28-E5FA-4817-BE89-69A85886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AB3-7644-4CB2-A9A5-CC51127A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499-940C-40F2-9661-5FD0010A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950-4F0B-4BAF-8692-8BEC187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248B-97E2-41E8-A4AD-51E25E47D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i.liu.se/kovalevsky/2004/bilder/sonja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alin.ru/upload/iblock/712/7129b97f7f55552fb917184188ef45b9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019160" y="428760"/>
            <a:ext cx="759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5000" spc="-1" strike="noStrike">
                <a:solidFill>
                  <a:srgbClr val="ff3300"/>
                </a:solidFill>
                <a:latin typeface="Times New Roman"/>
              </a:rPr>
              <a:t>АЛГЕБРА 9 КЛАС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4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753160" cy="3476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4000" y="4941720"/>
            <a:ext cx="849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рок разработала учитель математики МБОУ ЦО № 4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ущенко Татьян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9280" y="260280"/>
          <a:ext cx="8785440" cy="6543720"/>
        </p:xfrm>
        <a:graphic>
          <a:graphicData uri="http://schemas.openxmlformats.org/drawingml/2006/table">
            <a:tbl>
              <a:tblPr/>
              <a:tblGrid>
                <a:gridCol w="862200"/>
                <a:gridCol w="3894120"/>
                <a:gridCol w="40291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2) 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4) =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вести новую переменную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которой обозначить по-вторяющееся выражение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Записать получив-шееся урав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 = 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тог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у+2)(у+4) = 4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шить уравнение относительно новой перемен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r>
                        <a:rPr b="1" lang="ru-RU" sz="24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+ 4у + 2у + 8 – 48 = 0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у</a:t>
                      </a:r>
                      <a:r>
                        <a:rPr b="1" lang="ru-RU" sz="2400" spc="-1" strike="noStrike" baseline="30000">
                          <a:solidFill>
                            <a:srgbClr val="3366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 + 6у – 40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</a:t>
                      </a:r>
                      <a:r>
                        <a:rPr b="1" lang="ru-RU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– 10 , у</a:t>
                      </a:r>
                      <a:r>
                        <a:rPr b="1" lang="ru-RU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29"/>
          <p:cNvSpPr/>
          <p:nvPr/>
        </p:nvSpPr>
        <p:spPr>
          <a:xfrm>
            <a:off x="179280" y="436572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1116000" y="4076640"/>
            <a:ext cx="3816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уться к первона-чальной переменной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ставив найденные значения вместо введенной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4968720" y="407664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3х = –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ил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3х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4932360" y="450864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+3х+10=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4932360" y="450864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+3х+10=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=9 - 4·10 = 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 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не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7128000" y="450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+3х – 4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7128000" y="4508640"/>
            <a:ext cx="2016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+3х – 4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=1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= –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6372360" y="602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– 4,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333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ff3300"/>
                </a:solidFill>
                <a:latin typeface="Arial"/>
              </a:rPr>
              <a:t>4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– 5х</a:t>
            </a:r>
            <a:r>
              <a:rPr b="1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– 36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250920" y="1125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равнения вида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x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Arial"/>
              </a:rPr>
              <a:t>4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x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= 0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, где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0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 0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являющиеся квадратными относительно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i="1" lang="ru-RU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зывают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иквадратными уравнениям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50920" y="2781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ИКВАДРАТНЫЕ УРАВ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– о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ва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и латинск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quadrat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квадратный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, т.е. дважды квадра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79280" y="443700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ешение биквадратных уравнений приводится к решению квадратных уравнений подстанов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у = х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50920" y="333360"/>
          <a:ext cx="8642160" cy="6370560"/>
        </p:xfrm>
        <a:graphic>
          <a:graphicData uri="http://schemas.openxmlformats.org/drawingml/2006/table">
            <a:tbl>
              <a:tblPr/>
              <a:tblGrid>
                <a:gridCol w="733320"/>
                <a:gridCol w="3311640"/>
                <a:gridCol w="459720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– 5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– 36 =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сти новую перемен-ную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ой обозна-чить повторяющееся выражени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Записать получившееся урав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______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г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ить уравнение относительно новой перемен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уться к первона-чальной переменной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одставив найденные значения вместо введенной переменной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 или 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17"/>
          <p:cNvSpPr/>
          <p:nvPr/>
        </p:nvSpPr>
        <p:spPr>
          <a:xfrm>
            <a:off x="5796000" y="162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8"/>
          <p:cNvSpPr/>
          <p:nvPr/>
        </p:nvSpPr>
        <p:spPr>
          <a:xfrm>
            <a:off x="4932360" y="206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– 5у – 3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9"/>
          <p:cNvSpPr/>
          <p:nvPr/>
        </p:nvSpPr>
        <p:spPr>
          <a:xfrm>
            <a:off x="5003640" y="357336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 + 4·36 =  169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&gt;0, 2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0"/>
          <p:cNvSpPr/>
          <p:nvPr/>
        </p:nvSpPr>
        <p:spPr>
          <a:xfrm>
            <a:off x="4728960" y="472428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1"/>
          <p:cNvSpPr/>
          <p:nvPr/>
        </p:nvSpPr>
        <p:spPr>
          <a:xfrm>
            <a:off x="7320240" y="47242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2"/>
          <p:cNvSpPr/>
          <p:nvPr/>
        </p:nvSpPr>
        <p:spPr>
          <a:xfrm>
            <a:off x="4859280" y="4292640"/>
            <a:ext cx="28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= 9,   у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= –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3"/>
          <p:cNvSpPr/>
          <p:nvPr/>
        </p:nvSpPr>
        <p:spPr>
          <a:xfrm>
            <a:off x="7380360" y="5229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рне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4"/>
          <p:cNvSpPr/>
          <p:nvPr/>
        </p:nvSpPr>
        <p:spPr>
          <a:xfrm>
            <a:off x="4500720" y="5157720"/>
            <a:ext cx="158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=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5"/>
          <p:cNvSpPr/>
          <p:nvPr/>
        </p:nvSpPr>
        <p:spPr>
          <a:xfrm>
            <a:off x="5508720" y="623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;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187280" y="333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ВВЕДЕНИЯ НОВОЙ ПЕРЕМ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07"/>
          <p:cNvSpPr/>
          <p:nvPr/>
        </p:nvSpPr>
        <p:spPr>
          <a:xfrm>
            <a:off x="250920" y="8618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очему  в теме есть словосочетание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«приводимые к квадратным»?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198360"/>
          <a:ext cx="8569080" cy="59436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№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шите уравнение, полученное в результате введения новой переменн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х–3) (7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х+5)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х+1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(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х+1) – 6 = –1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х–5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4(3х–5)=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х+2)(3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х–5) –5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25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144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8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1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2"/>
          <p:cNvSpPr/>
          <p:nvPr/>
        </p:nvSpPr>
        <p:spPr>
          <a:xfrm>
            <a:off x="1547640" y="184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7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+2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117440" y="22050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у–3) (у+5)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796000" y="1773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+3х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5515920" y="22050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+4у – 6 = 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621800" y="33577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х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266120" y="37162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4у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876280" y="33577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+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510520" y="371628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у+2)(у–5) –5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701000" y="486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020640" y="486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265400" y="530064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25у + 144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514840" y="530064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6у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8у + 1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1"/>
          <p:cNvSpPr/>
          <p:nvPr/>
        </p:nvSpPr>
        <p:spPr>
          <a:xfrm>
            <a:off x="539640" y="33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39640" y="1341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шить  уравнения: первая буква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ариант, вторая буква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ариант 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22 (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), № 223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(а, в)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68360" y="436572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Arial"/>
              </a:rPr>
              <a:t>Результаты выполнения можно проверить с помощью компьютера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ограмма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LGEBRA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(вводим коэффициенты биквадратного уравнения и получаем отв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40464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22 (б,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) у4 – 6у2 + 8 = 0                  в)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 + 10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 + 25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х2 – 6х + 8 =  0                      у2 + 10у  + 25 = 0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Ответ:  -2; 2; -     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Ответ:  корней 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/у = - 5 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23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(а, 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а) х4 – 25х2 + 144 = 0            в) х4 – 4х2 + 4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у2 – 25у + 144 = 0                   у2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4у + 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-3; 3; - 4; 4                        Ответ:  -      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2771640" y="1700280"/>
                <a:ext cx="505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3492360" y="1700280"/>
                <a:ext cx="460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0"/>
              <p:cNvSpPr txBox="1"/>
              <p:nvPr/>
            </p:nvSpPr>
            <p:spPr>
              <a:xfrm>
                <a:off x="7524720" y="3789360"/>
                <a:ext cx="460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"/>
              <p:cNvSpPr txBox="1"/>
              <p:nvPr/>
            </p:nvSpPr>
            <p:spPr>
              <a:xfrm>
                <a:off x="8317080" y="3789360"/>
                <a:ext cx="46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0"/>
          <p:cNvSpPr/>
          <p:nvPr/>
        </p:nvSpPr>
        <p:spPr>
          <a:xfrm>
            <a:off x="539640" y="476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им методом мы сегодня решали урав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539640" y="198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В чем идея метода введения новой перемен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539640" y="4508640"/>
            <a:ext cx="54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валевская Софья Васильев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атематик, писатель и публицист, первая женщина-профессор, член-корреспондент Петербургской АН (188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76720" y="189000"/>
            <a:ext cx="56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Если ты в жизни хотя на мгновен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Истину в сердце своем ощут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Если луч света сквозь мрак и сомнен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Ярким сияньем твой путь озари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Чтобы в решеньи своем неизмен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Рок не назначил тебе впер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Память об этом мгновенье священ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Вечно храни, как святыню в гру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Тучи сберутся громадой нестрой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Небо покроется черною мгл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С ясной решимостью, с верой спокой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Бурю ты встреть и померься с гро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Картинка 2 из 1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11280" y="62064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формация о домашнем зад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п.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21 (а, б); № 223 ( г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24360" y="476280"/>
            <a:ext cx="4824360" cy="48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Люди не знакомые с алгеброй не могут представить себе тех удивительных вещей, которых можно достигнуть при помощи названной науки»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/Г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йбниц/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27" descr="Картинка 1 из 31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83664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260280"/>
            <a:ext cx="83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арточка розового цвет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бозначает: “Я удовлетворён уроком, урок был полезен для меня, я много, с пользой и хорошо работал на уроке, и получил заслуженную оценку, я понимал всё, о чём говорилось и что делалось на уроке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Карточка зеленого цвет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бозначает: “Урок был интересен, я принимал в нём активное участие, урок был в определённой степени полезен для меня, я отвечал с места, я сумел выполнить ряд заданий, мне было на уроке достаточно комфортно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рточка желтого цвет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бозначает: “Пользы от урока я получил мало, я не очень понимал, о чём идёт речь, мне это не очень нужно, домашнее задание я не понял, к ответу на уроке я был не готов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042920" y="333360"/>
            <a:ext cx="7345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унки -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 к презентации: учебник алгебры 9 класса /Ю.Н. Макарычев и др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Д. Агеева «Занимательные материалы по информатике и математике» / Методическое пособие. М: ЕЦ Сфера, 2006- 240с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BG_OV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Какие уравнения называются квадрат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24000" y="2708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2. Среди данных уравнений выберите те, которые являются квадрат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2х + 6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– 3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 + 6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24000" y="1125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вадратным уравнением называется уравнение вида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х</a:t>
            </a:r>
            <a:r>
              <a:rPr b="1" i="1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 + с = 0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, гд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– переменная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некото-рые числа, прич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0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4000" y="2708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2. Среди данных уравнений выберите те, которые являются квадрат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х + 6х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– 3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х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2х + 6 = 0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79280" y="260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уравнения называются неполными квадратными уравн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24000" y="299736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Среди данных уравнений выберите те, которые являются неполными квадратными уравн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2х + 6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3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324000" y="126828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Если в квадратном уравн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х2 +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 + с = 0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отя бы один из коэффициентов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ли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вен нулю, то такое уравнение называю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полным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квадратным уравнением.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29"/>
          <p:cNvSpPr/>
          <p:nvPr/>
        </p:nvSpPr>
        <p:spPr>
          <a:xfrm>
            <a:off x="324000" y="299736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Среди данных уравнений выберите те, которые являются неполными квадратными уравн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2х + 6х</a:t>
            </a:r>
            <a:r>
              <a:rPr b="0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3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4000" y="90792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из следующих уравнений мы умеем решать, объясните прием решения каждого из этих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2х + 6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(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3х + 2 ) (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3х + 4 ) =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6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3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907920"/>
            <a:ext cx="712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Решение уравнений, приводимых к квадратным</a:t>
            </a: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95280" y="260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пишем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013840" y="1915560"/>
            <a:ext cx="43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6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15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18х – 40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50920" y="2997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мотрите внимательно на исходное уравнение, какой особенностью оно облада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0920" y="4653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Переменная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входит только в выражение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х</a:t>
            </a:r>
            <a:r>
              <a:rPr b="1" lang="ru-RU" sz="2800" spc="-1" strike="noStrike" u="sng" baseline="30000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+3х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0"/>
          <p:cNvSpPr/>
          <p:nvPr/>
        </p:nvSpPr>
        <p:spPr>
          <a:xfrm>
            <a:off x="468360" y="1052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( х</a:t>
            </a:r>
            <a:r>
              <a:rPr b="1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+ 3х + 2 ) (х</a:t>
            </a:r>
            <a:r>
              <a:rPr b="1" lang="ru-RU" sz="2800" spc="-1" strike="noStrike" baseline="30000">
                <a:solidFill>
                  <a:srgbClr val="ff33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+ 3х + 4 ) = 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"/>
          <p:cNvSpPr/>
          <p:nvPr/>
        </p:nvSpPr>
        <p:spPr>
          <a:xfrm>
            <a:off x="468360" y="1052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(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+ 3х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+ 2 )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+ 3х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+ 4 ) = 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9280" y="260280"/>
          <a:ext cx="8785440" cy="5176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2) 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4) =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79280" y="260280"/>
          <a:ext cx="8785440" cy="2517840"/>
        </p:xfrm>
        <a:graphic>
          <a:graphicData uri="http://schemas.openxmlformats.org/drawingml/2006/table">
            <a:tbl>
              <a:tblPr/>
              <a:tblGrid>
                <a:gridCol w="862200"/>
                <a:gridCol w="3894120"/>
                <a:gridCol w="40291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2) 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4) =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вести новую переменную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которой обозначить по-вторяющееся выражение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82"/>
          <p:cNvSpPr/>
          <p:nvPr/>
        </p:nvSpPr>
        <p:spPr>
          <a:xfrm>
            <a:off x="5083920" y="98100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3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9280" y="260280"/>
          <a:ext cx="8785440" cy="4041720"/>
        </p:xfrm>
        <a:graphic>
          <a:graphicData uri="http://schemas.openxmlformats.org/drawingml/2006/table">
            <a:tbl>
              <a:tblPr/>
              <a:tblGrid>
                <a:gridCol w="862200"/>
                <a:gridCol w="3894120"/>
                <a:gridCol w="40291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2) 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4) =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вести новую переменную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которой обозначить по-вторяющееся выражение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Записать получив-шееся урав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 = 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тог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1049"/>
          <p:cNvSpPr/>
          <p:nvPr/>
        </p:nvSpPr>
        <p:spPr>
          <a:xfrm>
            <a:off x="3564000" y="4869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50"/>
          <p:cNvSpPr/>
          <p:nvPr/>
        </p:nvSpPr>
        <p:spPr>
          <a:xfrm>
            <a:off x="5219640" y="177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+2)(у+4) =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51"/>
          <p:cNvSpPr/>
          <p:nvPr/>
        </p:nvSpPr>
        <p:spPr>
          <a:xfrm>
            <a:off x="250920" y="292428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52"/>
          <p:cNvSpPr/>
          <p:nvPr/>
        </p:nvSpPr>
        <p:spPr>
          <a:xfrm>
            <a:off x="1187280" y="2852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уравнение относительно новой переме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53"/>
          <p:cNvSpPr/>
          <p:nvPr/>
        </p:nvSpPr>
        <p:spPr>
          <a:xfrm>
            <a:off x="5111640" y="2852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2 + 4у + 2у + 8 – 48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54"/>
          <p:cNvSpPr/>
          <p:nvPr/>
        </p:nvSpPr>
        <p:spPr>
          <a:xfrm>
            <a:off x="5148360" y="3213000"/>
            <a:ext cx="3311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у</a:t>
            </a:r>
            <a:r>
              <a:rPr b="1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+ 6у – 4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= – 10 , у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=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03:06Z</dcterms:created>
  <dc:creator>Косолапова Е.В.</dc:creator>
  <dc:description/>
  <dc:language>en-US</dc:language>
  <cp:lastModifiedBy>User</cp:lastModifiedBy>
  <dcterms:modified xsi:type="dcterms:W3CDTF">2018-06-30T03:49:18Z</dcterms:modified>
  <cp:revision>8</cp:revision>
  <dc:subject/>
  <dc:title>Алгебра</dc:title>
</cp:coreProperties>
</file>