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696-4B62-4B4A-ACE0-5F69769A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BFF-1D11-4B6C-B6F5-7CA86753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2FF-1C1F-4322-B5CF-5510644E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099D-D8B9-42CC-BDFD-0F7D763F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76BB-82E8-4863-8A8F-CFD3BBC5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8F2-7AC8-46BA-99D6-4E2A331A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5B95-91C7-4E0A-AC4D-9F9842CD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C01-689D-46A0-9D0C-CA2398FA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52F2-C35F-4127-B211-3E00C383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D9E7-738D-4C24-8DD5-48C84430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1CA-3AC9-43B0-90DC-10DD2F35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8DD9-E14C-46E5-89AB-D3019CD0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7B89-F80D-43AD-9EF2-7432CB0F57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ai.liu.se/kovalevsky/2004/bilder/sonja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ialin.ru/upload/iblock/712/7129b97f7f55552fb917184188ef45b9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019160" y="428760"/>
            <a:ext cx="7593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5000" spc="-1" strike="noStrike">
                <a:solidFill>
                  <a:srgbClr val="ff3300"/>
                </a:solidFill>
                <a:latin typeface="Times New Roman"/>
              </a:rPr>
              <a:t>АЛГЕБРА 9 КЛАС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ject 4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753160" cy="3476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24000" y="4941720"/>
            <a:ext cx="8496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рок разработала учитель математики МБОУ ЦО № 4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лущенко Татьяна Вале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79280" y="260280"/>
          <a:ext cx="8785440" cy="6543720"/>
        </p:xfrm>
        <a:graphic>
          <a:graphicData uri="http://schemas.openxmlformats.org/drawingml/2006/table">
            <a:tbl>
              <a:tblPr/>
              <a:tblGrid>
                <a:gridCol w="862200"/>
                <a:gridCol w="3894120"/>
                <a:gridCol w="402912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(х</a:t>
                      </a:r>
                      <a:r>
                        <a:rPr b="1" lang="ru-RU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+3х+2) (х</a:t>
                      </a:r>
                      <a:r>
                        <a:rPr b="1" lang="ru-RU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+3х+4) = 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 ша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вести новую переменную 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которой обозначить по-вторяющееся выражение 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400" spc="-1" strike="noStrike" baseline="30000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+3х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Записать получив-шееся уравн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у = х</a:t>
                      </a:r>
                      <a:r>
                        <a:rPr b="1" lang="ru-RU" sz="2400" spc="-1" strike="noStrike" baseline="30000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+3х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тог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у+2)(у+4) = 48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 ша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шить уравнение относительно новой перемено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r>
                        <a:rPr b="1" lang="ru-RU" sz="24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+ 4у + 2у + 8 – 48 = 0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у</a:t>
                      </a:r>
                      <a:r>
                        <a:rPr b="1" lang="ru-RU" sz="2400" spc="-1" strike="noStrike" baseline="30000">
                          <a:solidFill>
                            <a:srgbClr val="3366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 + 6у – 40 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</a:t>
                      </a:r>
                      <a:r>
                        <a:rPr b="1" lang="ru-RU" sz="24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– 10 , у</a:t>
                      </a:r>
                      <a:r>
                        <a:rPr b="1" lang="ru-RU" sz="24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29"/>
          <p:cNvSpPr/>
          <p:nvPr/>
        </p:nvSpPr>
        <p:spPr>
          <a:xfrm>
            <a:off x="179280" y="436572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0"/>
          <p:cNvSpPr/>
          <p:nvPr/>
        </p:nvSpPr>
        <p:spPr>
          <a:xfrm>
            <a:off x="1116000" y="4076640"/>
            <a:ext cx="3816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уться к первона-чальной переменной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ставив найденные значения вместо введенной переме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4968720" y="407664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+3х = –1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или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+3х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4932360" y="450864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3366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+3х+10=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4932360" y="4508640"/>
            <a:ext cx="24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3366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+3х+10=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=9 - 4·10 = 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&lt; 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ней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4"/>
          <p:cNvSpPr/>
          <p:nvPr/>
        </p:nvSpPr>
        <p:spPr>
          <a:xfrm>
            <a:off x="7128000" y="450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+3х – 4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5"/>
          <p:cNvSpPr/>
          <p:nvPr/>
        </p:nvSpPr>
        <p:spPr>
          <a:xfrm>
            <a:off x="7128000" y="4508640"/>
            <a:ext cx="2016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+3х – 4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lang="ru-RU" sz="24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=1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lang="ru-RU" sz="24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= –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6"/>
          <p:cNvSpPr/>
          <p:nvPr/>
        </p:nvSpPr>
        <p:spPr>
          <a:xfrm>
            <a:off x="6372360" y="602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– 4, 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50920" y="33336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х</a:t>
            </a:r>
            <a:r>
              <a:rPr b="1" lang="ru-RU" sz="2800" spc="-1" strike="noStrike" baseline="30000">
                <a:solidFill>
                  <a:srgbClr val="ff3300"/>
                </a:solidFill>
                <a:latin typeface="Arial"/>
              </a:rPr>
              <a:t>4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– 5х</a:t>
            </a:r>
            <a:r>
              <a:rPr b="1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– 36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"/>
          <p:cNvSpPr/>
          <p:nvPr/>
        </p:nvSpPr>
        <p:spPr>
          <a:xfrm>
            <a:off x="250920" y="1125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равнения вида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ax</a:t>
            </a:r>
            <a:r>
              <a:rPr b="1" i="1" lang="ru-RU" sz="2800" spc="-1" strike="noStrike" baseline="30000">
                <a:solidFill>
                  <a:srgbClr val="ff3300"/>
                </a:solidFill>
                <a:latin typeface="Arial"/>
              </a:rPr>
              <a:t>4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+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bx</a:t>
            </a:r>
            <a:r>
              <a:rPr b="1" i="1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 = 0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, где 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а </a:t>
            </a:r>
            <a:r>
              <a:rPr b="0" i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 0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являющиеся квадратными относительно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i="1" lang="ru-RU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азывают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иквадратными уравнениями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50920" y="2781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БИКВАДРАТНЫЕ УРАВ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– о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б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два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и латинско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quadratu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квадратный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, т.е. дважды квадра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79280" y="443700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ешение биквадратных уравнений приводится к решению квадратных уравнений подстанов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у = х</a:t>
            </a:r>
            <a:r>
              <a:rPr b="1" i="1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50920" y="333360"/>
          <a:ext cx="8642160" cy="6370560"/>
        </p:xfrm>
        <a:graphic>
          <a:graphicData uri="http://schemas.openxmlformats.org/drawingml/2006/table">
            <a:tbl>
              <a:tblPr/>
              <a:tblGrid>
                <a:gridCol w="733320"/>
                <a:gridCol w="3311640"/>
                <a:gridCol w="459720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– 5х</a:t>
                      </a:r>
                      <a:r>
                        <a:rPr b="1" lang="ru-RU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– 36 =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 ша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сти новую перемен-ную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ой обозна-чить повторяющееся выражение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Записать получившееся уравн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сть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=______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тог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 ша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ить уравнение относительно новой перемено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3 ша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уться к первона-чальной переменной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подставив найденные значения вместо введенной переменной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 или 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117"/>
          <p:cNvSpPr/>
          <p:nvPr/>
        </p:nvSpPr>
        <p:spPr>
          <a:xfrm>
            <a:off x="5796000" y="1628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8"/>
          <p:cNvSpPr/>
          <p:nvPr/>
        </p:nvSpPr>
        <p:spPr>
          <a:xfrm>
            <a:off x="4932360" y="2060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у</a:t>
            </a:r>
            <a:r>
              <a:rPr b="1" i="1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– 5у – 3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9"/>
          <p:cNvSpPr/>
          <p:nvPr/>
        </p:nvSpPr>
        <p:spPr>
          <a:xfrm>
            <a:off x="5003640" y="357336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5 + 4·36 =  169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&gt;0, 2 кор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0"/>
          <p:cNvSpPr/>
          <p:nvPr/>
        </p:nvSpPr>
        <p:spPr>
          <a:xfrm>
            <a:off x="4728960" y="472428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1"/>
          <p:cNvSpPr/>
          <p:nvPr/>
        </p:nvSpPr>
        <p:spPr>
          <a:xfrm>
            <a:off x="7320240" y="472428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=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2"/>
          <p:cNvSpPr/>
          <p:nvPr/>
        </p:nvSpPr>
        <p:spPr>
          <a:xfrm>
            <a:off x="4859280" y="4292640"/>
            <a:ext cx="28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= 9,   у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= –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3"/>
          <p:cNvSpPr/>
          <p:nvPr/>
        </p:nvSpPr>
        <p:spPr>
          <a:xfrm>
            <a:off x="7380360" y="522936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рней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4"/>
          <p:cNvSpPr/>
          <p:nvPr/>
        </p:nvSpPr>
        <p:spPr>
          <a:xfrm>
            <a:off x="4500720" y="5157720"/>
            <a:ext cx="158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= 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5"/>
          <p:cNvSpPr/>
          <p:nvPr/>
        </p:nvSpPr>
        <p:spPr>
          <a:xfrm>
            <a:off x="5508720" y="623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; 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6"/>
          <p:cNvSpPr/>
          <p:nvPr/>
        </p:nvSpPr>
        <p:spPr>
          <a:xfrm>
            <a:off x="1187280" y="3333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 ВВЕДЕНИЯ НОВОЙ ПЕРЕМ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107"/>
          <p:cNvSpPr/>
          <p:nvPr/>
        </p:nvSpPr>
        <p:spPr>
          <a:xfrm>
            <a:off x="250920" y="86184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Почему  в теме есть словосочетание</a:t>
            </a: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«приводимые к квадратным»?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24000" y="198360"/>
          <a:ext cx="8569080" cy="5943600"/>
        </p:xfrm>
        <a:graphic>
          <a:graphicData uri="http://schemas.openxmlformats.org/drawingml/2006/table">
            <a:tbl>
              <a:tblPr/>
              <a:tblGrid>
                <a:gridCol w="4284360"/>
                <a:gridCol w="42847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ЧКА №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шите уравнение, полученное в результате введения новой переменно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7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х–3) (7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х+5)=1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сть у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х+1)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4(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х+1) – 6 = –1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сть у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х–5)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4(3х–5)=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сть у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5х+2)(3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5х–5) –5=1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сть у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25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144 =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сть у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8х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1 =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сть у=_______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гда_____________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 Box 2"/>
          <p:cNvSpPr/>
          <p:nvPr/>
        </p:nvSpPr>
        <p:spPr>
          <a:xfrm>
            <a:off x="1547640" y="184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7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+2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117440" y="22050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у–3) (у+5)=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796000" y="1773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+3х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5515920" y="22050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</a:t>
            </a:r>
            <a:r>
              <a:rPr b="0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+4у – 6 = 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621800" y="33577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3х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266120" y="371628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</a:t>
            </a:r>
            <a:r>
              <a:rPr b="0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4у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5876280" y="335772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3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+5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5510520" y="371628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у+2)(у–5) –5=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701000" y="486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6020640" y="486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1265400" y="530064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</a:t>
            </a:r>
            <a:r>
              <a:rPr b="0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25у + 144 =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5514840" y="530064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6у</a:t>
            </a:r>
            <a:r>
              <a:rPr b="0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8у + 1 =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1"/>
          <p:cNvSpPr/>
          <p:nvPr/>
        </p:nvSpPr>
        <p:spPr>
          <a:xfrm>
            <a:off x="539640" y="3333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39640" y="1341360"/>
            <a:ext cx="8280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ешить  уравнения: первая буква –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ариант, вторая буква –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I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ариант 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222 (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б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), № 223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(а, в)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468360" y="436572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00"/>
                </a:solidFill>
                <a:latin typeface="Arial"/>
              </a:rPr>
              <a:t>Результаты выполнения можно проверить с помощью компьютера –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ограмма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ALGEBRA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(вводим коэффициенты биквадратного уравнения и получаем отве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95280" y="404640"/>
            <a:ext cx="8497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№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222 (б, 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) у4 – 6у2 + 8 = 0                  в)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4 + 10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 + 25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х2 – 6х + 8 =  0                      у2 + 10у  + 25 = 0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Ответ:  -2; 2; -     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Ответ:  корней 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                  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/у = - 5 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№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223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(а, в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а) х4 – 25х2 + 144 = 0            в) х4 – 4х2 + 4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у2 – 25у + 144 = 0                   у2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4у + 4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:  -3; 3; - 4; 4                        Ответ:  -      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2771640" y="1700280"/>
                <a:ext cx="505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5"/>
              <p:cNvSpPr txBox="1"/>
              <p:nvPr/>
            </p:nvSpPr>
            <p:spPr>
              <a:xfrm>
                <a:off x="3492360" y="1700280"/>
                <a:ext cx="460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0"/>
              <p:cNvSpPr txBox="1"/>
              <p:nvPr/>
            </p:nvSpPr>
            <p:spPr>
              <a:xfrm>
                <a:off x="7524720" y="3789360"/>
                <a:ext cx="460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"/>
              <p:cNvSpPr txBox="1"/>
              <p:nvPr/>
            </p:nvSpPr>
            <p:spPr>
              <a:xfrm>
                <a:off x="8317080" y="3789360"/>
                <a:ext cx="460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0"/>
          <p:cNvSpPr/>
          <p:nvPr/>
        </p:nvSpPr>
        <p:spPr>
          <a:xfrm>
            <a:off x="539640" y="476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аким методом мы сегодня решали уравн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539640" y="1989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В чем идея метода введения новой перемен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539640" y="4508640"/>
            <a:ext cx="54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овалевская Софья Васильев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атематик, писатель и публицист, первая женщина-профессор, член-корреспондент Петербургской АН (188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276720" y="189000"/>
            <a:ext cx="561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Если ты в жизни хотя на мгновень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Истину в сердце своем ощут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Если луч света сквозь мрак и сомнень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Ярким сияньем твой путь озари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Чтобы в решеньи своем неизмен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Рок не назначил тебе впере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Память об этом мгновенье священ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Вечно храни, как святыню в гру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Тучи сберутся громадой нестрой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Небо покроется черною мгл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С ясной решимостью, с верой спокой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Бурю ты встреть и померься с гроз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Картинка 2 из 1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76280"/>
            <a:ext cx="254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11280" y="62064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нформация о домашнем зад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п.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221 (а, б); № 223 ( г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24360" y="476280"/>
            <a:ext cx="4824360" cy="48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Люди не знакомые с алгеброй не могут представить себе тех удивительных вещей, которых можно достигнуть при помощи названной науки»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/Г.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Лейбниц/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27" descr="Картинка 1 из 31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836640"/>
            <a:ext cx="300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50920" y="260280"/>
            <a:ext cx="8353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арточка розового цвет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обозначает: “Я удовлетворён уроком, урок был полезен для меня, я много, с пользой и хорошо работал на уроке, и получил заслуженную оценку, я понимал всё, о чём говорилось и что делалось на уроке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Карточка зеленого цвет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обозначает: “Урок был интересен, я принимал в нём активное участие, урок был в определённой степени полезен для меня, я отвечал с места, я сумел выполнить ряд заданий, мне было на уроке достаточно комфортно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арточка желтого цвет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обозначает: “Пользы от урока я получил мало, я не очень понимал, о чём идёт речь, мне это не очень нужно, домашнее задание я не понял, к ответу на уроке я был не готов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042920" y="333360"/>
            <a:ext cx="73454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унки -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ages.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ал к презентации: учебник алгебры 9 класса /Ю.Н. Макарычев и др.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Д. Агеева «Занимательные материалы по информатике и математике» / Методическое пособие. М: ЕЦ Сфера, 2006- 240с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BG_OV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>
            <a:off x="1247760" y="2819520"/>
            <a:ext cx="7896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327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Спасибо всем за работу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327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1447920" y="51814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7543800" y="3809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7086600" y="5335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3352680" y="19051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5638680" y="57913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7772400" y="5791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1219320" y="21337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2"/>
          <p:cNvSpPr/>
          <p:nvPr/>
        </p:nvSpPr>
        <p:spPr>
          <a:xfrm>
            <a:off x="4572000" y="7621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3"/>
          <p:cNvSpPr/>
          <p:nvPr/>
        </p:nvSpPr>
        <p:spPr>
          <a:xfrm>
            <a:off x="3429000" y="44956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M-Sch4"/>
          <p:cNvPicPr/>
          <p:nvPr/>
        </p:nvPicPr>
        <p:blipFill>
          <a:blip r:embed="rId2"/>
          <a:stretch/>
        </p:blipFill>
        <p:spPr>
          <a:xfrm>
            <a:off x="2514600" y="5257800"/>
            <a:ext cx="971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. Какие уравнения называются квадрат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324000" y="270828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2. Среди данных уравнений выберите те, которые являются квадрат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) 3х – 4 = х + 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2) 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5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3) 2х + 6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4) 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2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– 3 = 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5) 5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2х + 6 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24000" y="1125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вадратным уравнением называется уравнение вида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ах</a:t>
            </a:r>
            <a:r>
              <a:rPr b="1" i="1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х + с = 0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, где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х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– переменная,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некото-рые числа, причем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а </a:t>
            </a:r>
            <a:r>
              <a:rPr b="1" i="1" lang="ru-RU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0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24000" y="270828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2. Среди данных уравнений выберите те, которые являются квадрат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) 3х – 4 = х + 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0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5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3)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х + 6х</a:t>
            </a:r>
            <a:r>
              <a:rPr b="0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4) 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2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– 3 = 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5)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х</a:t>
            </a:r>
            <a:r>
              <a:rPr b="0" lang="ru-RU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2х + 6 = 0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026"/>
          <p:cNvSpPr/>
          <p:nvPr/>
        </p:nvSpPr>
        <p:spPr>
          <a:xfrm>
            <a:off x="179280" y="26028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акие уравнения называются неполными квадратными уравнен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27"/>
          <p:cNvSpPr/>
          <p:nvPr/>
        </p:nvSpPr>
        <p:spPr>
          <a:xfrm>
            <a:off x="324000" y="299736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Среди данных уравнений выберите те, которые являются неполными квадратными уравнен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) 3х – 4 = х + 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2) 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5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3) 2х + 6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4) 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2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3 = 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5) 5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2х + 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28"/>
          <p:cNvSpPr/>
          <p:nvPr/>
        </p:nvSpPr>
        <p:spPr>
          <a:xfrm>
            <a:off x="324000" y="126828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Если в квадратном уравнении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ах2 +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х + с = 0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хотя бы один из коэффициентов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или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авен нулю, то такое уравнение называют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еполным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квадратным уравнением.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29"/>
          <p:cNvSpPr/>
          <p:nvPr/>
        </p:nvSpPr>
        <p:spPr>
          <a:xfrm>
            <a:off x="324000" y="299736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Среди данных уравнений выберите те, которые являются неполными квадратными уравнен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) 3х – 4 = х + 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х</a:t>
            </a:r>
            <a:r>
              <a:rPr b="0" lang="ru-RU" sz="2400" spc="-1" strike="noStrike" baseline="30000">
                <a:solidFill>
                  <a:srgbClr val="3366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– 5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3)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2х + 6х</a:t>
            </a:r>
            <a:r>
              <a:rPr b="0" lang="ru-RU" sz="2400" spc="-1" strike="noStrike" baseline="30000">
                <a:solidFill>
                  <a:srgbClr val="3366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4) 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2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3 = 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5) 5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2х + 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24000" y="90792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акие из следующих уравнений мы умеем решать, объясните прием решения каждого из этих уравн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) 3х – 4 = х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2) 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5х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3) 2х + 6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4) 5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2х + 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5) ( 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+ 3х + 2 ) (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+ 3х + 4 ) =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6) 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5х</a:t>
            </a:r>
            <a:r>
              <a:rPr b="0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– 3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907920"/>
            <a:ext cx="7129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Решение уравнений, приводимых к квадратным</a:t>
            </a:r>
            <a:r>
              <a:rPr b="0" lang="ru-RU" sz="6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95280" y="260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пишем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013840" y="1915560"/>
            <a:ext cx="43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6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15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18х – 40 =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50920" y="299736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мотрите внимательно на исходное уравнение, какой особенностью оно облада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50920" y="4653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Переменная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х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 входит только в выражение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х</a:t>
            </a:r>
            <a:r>
              <a:rPr b="1" lang="ru-RU" sz="2800" spc="-1" strike="noStrike" u="sng" baseline="30000">
                <a:solidFill>
                  <a:srgbClr val="ff3300"/>
                </a:solidFill>
                <a:uFillTx/>
                <a:latin typeface="Arial"/>
              </a:rPr>
              <a:t>2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+3х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0"/>
          <p:cNvSpPr/>
          <p:nvPr/>
        </p:nvSpPr>
        <p:spPr>
          <a:xfrm>
            <a:off x="468360" y="1052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( х</a:t>
            </a:r>
            <a:r>
              <a:rPr b="1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+ 3х + 2 ) (х</a:t>
            </a:r>
            <a:r>
              <a:rPr b="1" lang="ru-RU" sz="2800" spc="-1" strike="noStrike" baseline="30000">
                <a:solidFill>
                  <a:srgbClr val="ff3300"/>
                </a:solidFill>
                <a:latin typeface="Arial"/>
              </a:rPr>
              <a:t>2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+ 3х + 4 ) = 4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"/>
          <p:cNvSpPr/>
          <p:nvPr/>
        </p:nvSpPr>
        <p:spPr>
          <a:xfrm>
            <a:off x="468360" y="1052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(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lang="ru-RU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+ 3х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+ 2 ) (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lang="ru-RU" sz="28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+ 3х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+ 4 ) = 4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79280" y="260280"/>
          <a:ext cx="8785440" cy="5176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(х</a:t>
                      </a:r>
                      <a:r>
                        <a:rPr b="1" lang="ru-RU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+3х+2) (х</a:t>
                      </a:r>
                      <a:r>
                        <a:rPr b="1" lang="ru-RU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+3х+4) = 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79280" y="260280"/>
          <a:ext cx="8785440" cy="2517840"/>
        </p:xfrm>
        <a:graphic>
          <a:graphicData uri="http://schemas.openxmlformats.org/drawingml/2006/table">
            <a:tbl>
              <a:tblPr/>
              <a:tblGrid>
                <a:gridCol w="862200"/>
                <a:gridCol w="3894120"/>
                <a:gridCol w="402912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(х</a:t>
                      </a:r>
                      <a:r>
                        <a:rPr b="1" lang="ru-RU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+3х+2) (х</a:t>
                      </a:r>
                      <a:r>
                        <a:rPr b="1" lang="ru-RU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+3х+4) = 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 ша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вести новую переменную 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которой обозначить по-вторяющееся выражение 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400" spc="-1" strike="noStrike" baseline="30000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+3х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82"/>
          <p:cNvSpPr/>
          <p:nvPr/>
        </p:nvSpPr>
        <p:spPr>
          <a:xfrm>
            <a:off x="5083920" y="98100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 = х</a:t>
            </a:r>
            <a:r>
              <a:rPr b="1" lang="ru-RU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+3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79280" y="260280"/>
          <a:ext cx="8785440" cy="4041720"/>
        </p:xfrm>
        <a:graphic>
          <a:graphicData uri="http://schemas.openxmlformats.org/drawingml/2006/table">
            <a:tbl>
              <a:tblPr/>
              <a:tblGrid>
                <a:gridCol w="862200"/>
                <a:gridCol w="3894120"/>
                <a:gridCol w="402912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(х</a:t>
                      </a:r>
                      <a:r>
                        <a:rPr b="1" lang="ru-RU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+3х+2) (х</a:t>
                      </a:r>
                      <a:r>
                        <a:rPr b="1" lang="ru-RU" sz="2800" spc="-1" strike="noStrike" baseline="30000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+3х+4) = 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 ша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вести новую переменную 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которой обозначить по-вторяющееся выражение 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ru-RU" sz="2400" spc="-1" strike="noStrike" baseline="30000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+3х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Записать получив-шееся уравн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сть 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у = х</a:t>
                      </a:r>
                      <a:r>
                        <a:rPr b="1" lang="ru-RU" sz="2400" spc="-1" strike="noStrike" baseline="30000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+3х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тог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1049"/>
          <p:cNvSpPr/>
          <p:nvPr/>
        </p:nvSpPr>
        <p:spPr>
          <a:xfrm>
            <a:off x="3564000" y="486900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50"/>
          <p:cNvSpPr/>
          <p:nvPr/>
        </p:nvSpPr>
        <p:spPr>
          <a:xfrm>
            <a:off x="5219640" y="1773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у+2)(у+4) =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51"/>
          <p:cNvSpPr/>
          <p:nvPr/>
        </p:nvSpPr>
        <p:spPr>
          <a:xfrm>
            <a:off x="250920" y="2924280"/>
            <a:ext cx="79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52"/>
          <p:cNvSpPr/>
          <p:nvPr/>
        </p:nvSpPr>
        <p:spPr>
          <a:xfrm>
            <a:off x="1187280" y="285264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ь уравнение относительно новой переме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53"/>
          <p:cNvSpPr/>
          <p:nvPr/>
        </p:nvSpPr>
        <p:spPr>
          <a:xfrm>
            <a:off x="5111640" y="2852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2 + 4у + 2у + 8 – 48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54"/>
          <p:cNvSpPr/>
          <p:nvPr/>
        </p:nvSpPr>
        <p:spPr>
          <a:xfrm>
            <a:off x="5148360" y="3213000"/>
            <a:ext cx="3311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у</a:t>
            </a:r>
            <a:r>
              <a:rPr b="1" lang="ru-RU" sz="2400" spc="-1" strike="noStrike" baseline="30000">
                <a:solidFill>
                  <a:srgbClr val="3366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 + 6у – 40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1" lang="ru-RU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= – 10 , у</a:t>
            </a:r>
            <a:r>
              <a:rPr b="1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=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3:03:06Z</dcterms:created>
  <dc:creator>Косолапова Е.В.</dc:creator>
  <dc:description/>
  <dc:language>en-US</dc:language>
  <cp:lastModifiedBy>User</cp:lastModifiedBy>
  <dcterms:modified xsi:type="dcterms:W3CDTF">2018-06-30T03:49:18Z</dcterms:modified>
  <cp:revision>8</cp:revision>
  <dc:subject/>
  <dc:title>Алгебра</dc:title>
</cp:coreProperties>
</file>