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E1FB-CE13-4521-9F42-B33C65D40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C5A-D207-4449-8E2D-DC98D5636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1B2D-A565-4318-B1E5-F953637D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7859-E4A4-4FC8-96CD-407C7C07E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3405A-107D-4F0E-8C43-A4408572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C803-59EC-4124-BEC3-C2EC6C51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BF48-5A3D-40C8-8638-D0B216AB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AE184-04E0-434A-AE12-2FE91C99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3562-081A-4A8D-978F-00E9E738A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92D3-FB19-4EB4-B0E2-016EC4596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87D46-6074-4A67-8B3C-F0287DB9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8248-0C99-4850-8D7A-D8A13F5D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0E19-5BE8-4965-9A12-6E731F0E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D28B-A635-43E1-BE12-30D646F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21000-49B6-4BB6-821A-3897BBAEA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C51C-6196-4BEF-B5FB-A04BD9580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7CBD3-F9E2-4782-A68E-18924794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5564-F62A-4E43-86A3-41DA769F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3A5-57EA-49B2-9E11-19F7F42E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951-80CC-4B42-894F-AE655928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F1DD-DB8E-41CA-8363-BE73C53ED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D025-368B-49FB-BCF5-1AFD6C46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F91-0D5E-44BE-9A77-2AFDE83A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E82A-238A-492C-9E64-DB2F84A4F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C39E0-2B96-4B43-B557-7D2EDE9928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82BF-67A2-4994-8F76-92FA85937A0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Основные направления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в деятельности учителя по здоровьесбережению учащихс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хнологии сотрудничеств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оритет личностных отношени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нежесткое демократическое управление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яркая гуманистическая направленность содержа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бъяснительно-репродуктивные технолог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амках этих технологий может частично реализоваться учет индивидуальных особенностей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в состоянии обеспечить развитие и самореализацию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граммированное обу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ет возможность индивидуализировать темп обучения, учитывать уровень обучен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тносится к дидактоцентрическим технологиям, используются, в основном, репродуктивные методы. Не создаются условия для самореализации личност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хнология построения учебного процесса на опережающей основ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пособствует эффективной подготовке учащихся к восприятию нового материала, что снижает их тревожност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ожет относиться к группе дидактоцентрических технологий и не решать проблемы самоактуализации личност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хнология дифференцированного и индивидуализированного обучения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зволяет учитывать индивидуальные особенности учащихся и проектировать на этой основе педагогический процесс; ведет к снижению психологического травмирования учащихс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Может быть в группе дидактоцентрических, авторитарных технологий и вследствие этого препятствовать формированию самостоятельности, самореализации ребенк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хнология проблемного обучени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звиваются творческие возможности учащихся; способствует решению проблемы самоактуализации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Не в состоянии полностью обеспечить развитие и саморазвитие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Групповые технолог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ется действенное общение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зникает взаимопомощь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формируются коммуникативные умения, умение разрешать конфликт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амоуважение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ледует учитывать межличностные отношения, возможны негативные стороны соревнования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хнология «Коллективные способы обучения»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ый ребенок в сменных парах и микрогруппах включается в активную работу на весь урок. Создаются условия живого, непринужденного общения. Каждый ученик – субъект самообуч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ледует учитывать межличностные отношения в класс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Технология диалогового обучения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Благоприятна в плане организации общения, возникает эмоциональный контакт, обратная связь, возникает взаимоуважение, взаимопонимание; создаются условия для создания благоприятного психологического фон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Возможно возникновение нервного напряжения для детей с ярко выраженными инертными особенностями, с замедленными нервными реакциям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Игровые технологи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воляют вписать учебный процесс в контекст реальной жизнедеятельности учащихся; игра может быть средством преодоления различных трудностей, возникающих у ребенка в поведении, общении, учени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ледует более внимательно относиться к детям с повышенной возбудимость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Воспитание самоактуализирующейся личност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формирование самоуважения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декватной самооцен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увства успеш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пособности к самореализ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Проектное обучени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ет творческую атмосфер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ет условия для самореализации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зволяет создать ситуацию успеха для каждого уче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Природосообразные технологии (обучение по Л.Н.Толстому, технология М.Монтессори)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раются на естественные процессы развития ребен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Витагенное обучение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чет индивидуальных особенностей, интересов личност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ора на положительное в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Жизненный опыт личности может иметь и негативные стороны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равнительная характеристи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ндивидуального и личностно-ориентированного подходов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Теоретико-методологическая основ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деи традиционной педагогической парадиг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деи гуманистической педагогики и психологии, философской и педагогической антрополог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Цель использован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снове учета индивидуальных особенностей учащихся способствовать формированию ЗУНов и социально-ценных кач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 основе выявления индивидуальных особенностей ребенка содействовать развитию его индивидуальнос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держательные аспект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гнитивный, практико-операционный, аксиологический компоненты содержания образ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убъектный опыт учащегося, пути и способы его анализа и самоанализа, актуализации, обогащения и саморазвит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Организационно-деятельностные и отношенческие аспект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емы и методы педагогика формирования преобладающих субъектно-объектных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емы и методы педагогической поддержки, доминирования субъектно-субъектных отно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Критерии анализа и оценки эффективност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ученность учащихся как сформированность ЗУНов, и воспитанность как усвоение социально одобряемых норм и ценно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Личностно-ориентированный подход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витость индивидуальности ребенка, проявление его уникальных ч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Принципы личностно-ориентированного подх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амоактуализаци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дивидуаль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бъект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бор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ворчества и успех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оверия и поддерж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ормирование у ребен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готовности противостоять стрессовым ситуациям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декватно на них реагировать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пираться на свои жизненные приоритеты и ценност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меть рационально управлять собой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ланировать свою деятельность и жиз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етоды личностно-ориентированного подх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алога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гровы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флексивны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едагогической поддержки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иагностическ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здание ситуации выбора и успех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ледование принципу «не навреди»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 организации учебно-воспитательного процесса (создание благоприятного психологического климата, не допускать перегрузок и пр.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Здоровьесберегающие образовательные технологии (ЗОТ)  -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се те технологии, использование которых в образовательном процессе идет на пользу здоровью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Анализ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современных образовательных технологий с точки зрения здоровьесбережен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Дидактоцентрические технологи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бъект-объектные отношения не создают условия для самореализации лично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Личностно-ориентированные технологи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центре внимания – субъектный опыт учащихся и его анализ и самоанализ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действуют развитию их индивидуальности, саморазвитию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убъектно-субъектные отношения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атмосфера творчества и успеха, доверия и поддержк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Авторитарные технологии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Жесткая  организация учебного процесса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давление инициативы учащихся, принужден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могут способствовать возникновению неврозов учащихс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08:43:04Z</dcterms:created>
  <dc:creator>Customer</dc:creator>
  <dc:description/>
  <dc:language>en-US</dc:language>
  <cp:lastModifiedBy>Customer</cp:lastModifiedBy>
  <dcterms:modified xsi:type="dcterms:W3CDTF">2009-12-01T19:12:35Z</dcterms:modified>
  <cp:revision>12</cp:revision>
  <dc:subject/>
  <dc:title>Слайд 1</dc:title>
</cp:coreProperties>
</file>