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D51F-30E5-47C8-B932-8D3543F45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FDA3-6626-45C7-8CE8-5F3656458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E683-999B-4998-BB89-7FA3BE043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576C-6780-4FBF-A168-722E24FD8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1855C-C338-4319-BFB0-3C4DD92B6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45FC3-EB3F-4F75-856F-31DA06D46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81666-D460-4246-A42D-573BE5B62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18EEA-344F-4684-B5FC-D4353B2A7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D6661-C809-4BAD-940B-6D54B825F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CD66A-9A2B-4444-8D4C-64804EE69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9BC9E-1CE0-4C5B-BEF8-36F633B1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6B7A-A42C-48BD-80DC-B20B66358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47232-6039-4F5E-82F7-5F82BA244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59A5E-B08D-4264-AB71-5A388595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8DE17-D881-49E2-A757-0D19F60AE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728AB-81D1-4A43-8190-37ADD8B75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7B3AA-ACA0-4E6E-B68F-F61ED7386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327E-6B42-4897-A3F0-974EC9F59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E5B2-7C06-4745-8D1B-C626325D5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BC2F-7F33-437F-887F-5FEF66E0D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F7B2-68B9-470A-BD77-CB4EF8A2C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44E8-6EE8-44AE-A7ED-E773E64B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B54F-78D6-4D1D-A0A9-31A3E8C4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F480-1A71-4DC8-9F16-373E18A5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3E194-DE21-4834-85BA-5B073090DE1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6D73B-8BE6-4586-8A44-DAB04CEAC8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Основные направления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 деятельности учителя по здоровьесбережению учащихс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Технологии сотрудничеств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оритет личностных отношений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ндивидуальный подход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жесткое демократическое управление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яркая гуманистическая направленность содерж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Объяснительно-репродуктивные технологии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рамках этих технологий может частично реализоваться учет индивидуальных особенностей учащихс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Не в состоянии обеспечить развитие и самореализацию учащихс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ограммированное обуче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ает возможность индивидуализировать темп обучения, учитывать уровень обученност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Относится к дидактоцентрическим технологиям, используются, в основном, репродуктивные методы. Не создаются условия для самореализации личност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Технология построения учебного процесса на опережающей основе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пособствует эффективной подготовке учащихся к восприятию нового материала, что снижает их тревожност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Может относиться к группе дидактоцентрических технологий и не решать проблемы самоактуализации личност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Технология дифференцированного и индивидуализированного обучения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зволяет учитывать индивидуальные особенности учащихся и проектировать на этой основе педагогический процесс; ведет к снижению психологического травмирования учащих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Может быть в группе дидактоцентрических, авторитарных технологий и вследствие этого препятствовать формированию самостоятельности, самореализации ребенка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Технология проблемного обучения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звиваются творческие возможности учащихся; способствует решению проблемы самоактуализации учащихс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Не в состоянии полностью обеспечить развитие и саморазвитие учащихс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Групповые технологи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здается действенное общени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зникает взаимопомощь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формируются коммуникативные умения, умение разрешать конфликты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амоуваже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Следует учитывать межличностные отношения, возможны негативные стороны соревнования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Технология «Коллективные способы обучения»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ждый ребенок в сменных парах и микрогруппах включается в активную работу на весь урок. Создаются условия живого, непринужденного общения. Каждый ученик – субъект самообучен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ледует учитывать межличностные отношения в класс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Технология диалогового обучения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лагоприятна в плане организации общения, возникает эмоциональный контакт, обратная связь, возникает взаимоуважение, взаимопонимание; создаются условия для создания благоприятного психологического фо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Возможно возникновение нервного напряжения для детей с ярко выраженными инертными особенностями, с замедленными нервными реакция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Игровые технологии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зволяют вписать учебный процесс в контекст реальной жизнедеятельности учащихся; игра может быть средством преодоления различных трудностей, возникающих у ребенка в поведении, общении, учен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Следует более внимательно относиться к детям с повышенной возбудимостью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Воспитание самоактуализирующейся личности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формирование самоуважения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декватной самооценки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увства успешности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пособности к самореализ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оектное обуче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здает творческую атмосферу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здает условия для самореализации личност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зволяет создать ситуацию успеха для каждого учен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Природосообразные технологии (обучение по Л.Н.Толстому, технология М.Монтессори) 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пираются на естественные процессы развития ребен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итагенное обучение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чет индивидуальных особенностей, интересов личности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пора на положительное в личност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Жизненный опыт личности может иметь и негативные стороны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равнительная характерис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индивидуального и личностно-ориентированного подход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Теоретико-методологическая основ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ндивидуальный подход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деи традиционной педагогической парадигм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ичностно-ориентированный подход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деи гуманистической педагогики и психологии, философской и педагогической антрополог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Цель использова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ндивидуальный подход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 основе учета индивидуальных особенностей учащихся способствовать формированию ЗУНов и социально-ценных качест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ичностно-ориентированный подход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 основе выявления индивидуальных особенностей ребенка содействовать развитию его индивидуальнос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одержательные аспек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ндивидуальный подход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гнитивный, практико-операционный, аксиологический компоненты содержания образов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ичностно-ориентированный подход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убъектный опыт учащегося, пути и способы его анализа и самоанализа, актуализации, обогащения и саморазвит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Организационно-деятельностные и отношенческие аспекты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ндивидуальный подход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иемы и методы педагогика формирования преобладающих субъектно-объектных отнош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ичностно-ориентированный подход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иемы и методы педагогической поддержки, доминирования субъектно-субъектных отнош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Критерии анализа и оценки эффективност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ндивидуальный подход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ученность учащихся как сформированность ЗУНов, и воспитанность как усвоение социально одобряемых норм и ценност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ичностно-ориентированный подход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звитость индивидуальности ребенка, проявление его уникальных чер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Принципы личностно-ориентированного подход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амоактуализации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ндивидуальности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убъектности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бор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ворчества и успех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оверия и поддерж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Формирование у ребен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отовности противостоять стрессовым ситуациям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декватно на них реагировать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пираться на свои жизненные приоритеты и ценности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меть рационально управлять собой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ланировать свою деятельность и жиз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Методы личностно-ориентированного подход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иалог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гровы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ефлексивны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едагогической поддержки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иагностически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здание ситуации выбора и успех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ледование принципу «не навреди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 организации учебно-воспитательного процесса (создание благоприятного психологического климата, не допускать перегрузок и пр.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Здоровьесберегающие образовательные технологии (ЗОТ)  -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се те технологии, использование которых в образовательном процессе идет на пользу здоровью учащихс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Анализ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овременных образовательных технологий с точки зрения здоровьесбереж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Дидактоцентрические технологии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убъект-объектные отношения не создают условия для самореализации лич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Личностно-ориентированные технологии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центре внимания – субъектный опыт учащихся и его анализ и самоанализ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действуют развитию их индивидуальности, саморазвитию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убъектно-субъектные отношения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тмосфера творчества и успеха, доверия и поддержк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Авторитарные технологии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Жесткая  организация учебного процесса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давление инициативы учащихся, принуждени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огут способствовать возникновению неврозов учащихс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08:43:04Z</dcterms:created>
  <dc:creator>Customer</dc:creator>
  <dc:description/>
  <dc:language>en-US</dc:language>
  <cp:lastModifiedBy>Customer</cp:lastModifiedBy>
  <dcterms:modified xsi:type="dcterms:W3CDTF">2009-12-01T19:12:35Z</dcterms:modified>
  <cp:revision>12</cp:revision>
  <dc:subject/>
  <dc:title>Слайд 1</dc:title>
</cp:coreProperties>
</file>