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wmf" ContentType="image/x-wmf"/>
  <Override PartName="/ppt/media/image11.wmf" ContentType="image/x-wmf"/>
  <Override PartName="/ppt/media/image3.png" ContentType="image/png"/>
  <Override PartName="/ppt/media/image17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4.wmf" ContentType="image/x-wmf"/>
  <Override PartName="/ppt/media/image6.png" ContentType="image/png"/>
  <Override PartName="/ppt/media/image18.png" ContentType="image/png"/>
  <Override PartName="/ppt/media/image7.jpeg" ContentType="image/jpeg"/>
  <Override PartName="/ppt/media/image2.png" ContentType="image/png"/>
  <Override PartName="/ppt/media/image10.wmf" ContentType="image/x-wmf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BF03-0310-440B-A445-6EB1B4C30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82CF-79C7-49CA-BF66-9CD6BE41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4971-A28F-4762-99E4-6FCBAC3C8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6BB5-FB85-4E8D-9046-8B0C8D95E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08CF-5E51-41A3-A230-D82BF2D4E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E07F-4E73-4525-AA78-3E01E790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73AE-6E37-409D-89D3-62BDDE99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B599-8946-4FDD-80E4-D5873EDE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330E-CAC9-4EEE-A20F-ADB4C344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E4D5-B1F4-47F0-B5F8-60FDA8C2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7EED-1095-467E-A05B-EDDB2C69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1C93-DB42-4F02-93B8-8F02AA3E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9490-765F-4B9D-8BBE-42B8A56A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5045-500E-4963-B07A-D0B7A2C3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F8E1-5C05-4498-9D74-F4E37DB4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23F8-C761-4F49-A23B-F3962963E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FCE2-E7FD-41EF-9ABD-2019B4201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43F33-9609-4BCD-800B-B98C84B7B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C1D06-5A5A-4389-ACF9-95806C45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505A6-E1E4-4F34-9BAF-A1EFF73D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6AEC1-408E-47A9-90C2-DD083A74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906CA-1E28-4196-817E-3E6934BF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312C-A4C2-4DCD-B5E8-29A7A362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996B7-641B-4505-BDF0-1B0A0319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18752-FBDB-4BD3-920E-901F0661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C6638-EAD0-4458-9A79-5782312F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B3BDF-6233-4918-9734-C6A6FB80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9D4C3-2333-4C6E-B8D2-DA9FDB4B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DDD2F-CA02-4271-A8DD-F2099B430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2560E-399D-4172-BAFD-593C3545B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ED3A4-9FC1-4019-93E8-E9842D59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18E45-03AE-4951-B17F-DBCB2CC0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6938A-0390-4DCE-B909-E6009BF4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1931-B138-4E58-A4CB-11F68A10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6AF80-2507-4F91-87E1-445E472C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06927-6CFA-4EB6-8116-53CC7B69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70F13-588C-44BD-ACBE-FE0A68F7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BA3D1-AEFA-424C-8856-6D4C745A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480F3-2172-48A2-8DA4-261E4956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5AC39-9397-4172-BEDA-06D82F42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9C1AA-E584-4D35-8DFB-4B902925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948DB-9D36-4953-A0EF-72D85BB6C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7C76F-17A5-4A5B-A50E-14487D0B2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2F55-7579-42DD-A655-C48F74E8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6790-A08A-4483-804F-A67AD70D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02BF-2170-47BC-967C-7A2F55BF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FEE6-E990-4306-A201-6DA8AEF8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A0F0-459D-48B0-8427-68460162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CE3D-D4AA-44A3-B104-BFCBECAD124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FA0B-C1C3-4DD9-B525-5B66651FE53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927A-97E1-452F-BE4F-F3BC798FE10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2214-5B2F-4F1D-AC15-05E1495D547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335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0" spc="-1" strike="noStrike">
                <a:solidFill>
                  <a:srgbClr val="54a021"/>
                </a:solidFill>
                <a:latin typeface="Trebuchet MS"/>
              </a:rPr>
              <a:t>Проект </a:t>
            </a:r>
            <a:br>
              <a:rPr sz="6000"/>
            </a:br>
            <a:r>
              <a:rPr b="0" lang="ru-RU" sz="5500" spc="-1" strike="noStrike">
                <a:solidFill>
                  <a:srgbClr val="54a021"/>
                </a:solidFill>
                <a:latin typeface="Trebuchet MS"/>
              </a:rPr>
              <a:t>«Азбука здоровья»</a:t>
            </a:r>
            <a:endParaRPr b="0" lang="en-US" sz="55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214" name="TextBox 3"/>
          <p:cNvSpPr/>
          <p:nvPr/>
        </p:nvSpPr>
        <p:spPr>
          <a:xfrm>
            <a:off x="6172200" y="449568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Воспитатель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Фролова А.А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МБДОУ №101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5" name="Picture 5" descr="img1"/>
          <p:cNvPicPr/>
          <p:nvPr/>
        </p:nvPicPr>
        <p:blipFill>
          <a:blip r:embed="rId2"/>
          <a:stretch/>
        </p:blipFill>
        <p:spPr>
          <a:xfrm>
            <a:off x="3809880" y="4267080"/>
            <a:ext cx="1438560" cy="17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07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200" spc="-1" strike="noStrike">
                <a:solidFill>
                  <a:srgbClr val="54a021"/>
                </a:solidFill>
                <a:latin typeface="Times New Roman"/>
                <a:ea typeface="Times New Roman"/>
              </a:rPr>
              <a:t>Беседа «Полезные и вредные привычки»</a:t>
            </a:r>
            <a:br>
              <a:rPr sz="2200"/>
            </a:b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1" name="Picture 6" descr=""/>
          <p:cNvPicPr/>
          <p:nvPr/>
        </p:nvPicPr>
        <p:blipFill>
          <a:blip r:embed="rId1"/>
          <a:stretch/>
        </p:blipFill>
        <p:spPr>
          <a:xfrm>
            <a:off x="8686800" y="-6858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2" descr="ÐÐ°ÑÑÐ¸Ð½ÐºÐ¸ Ð¿Ð¾ Ð·Ð°Ð¿ÑÐ¾ÑÑ Ð¿Ð¾Ð»ÐµÐ·Ð½ÑÐµ Ð¸ Ð²ÑÐµÐ´Ð½ÑÐµ Ð¿ÑÐ¸Ð²ÑÑÐº ÑÐ¾ÑÐ¾"/>
          <p:cNvPicPr/>
          <p:nvPr/>
        </p:nvPicPr>
        <p:blipFill>
          <a:blip r:embed="rId2"/>
          <a:stretch/>
        </p:blipFill>
        <p:spPr>
          <a:xfrm>
            <a:off x="685800" y="91440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7761240" cy="8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800" spc="-1" strike="noStrike">
                <a:solidFill>
                  <a:srgbClr val="7030a0"/>
                </a:solidFill>
                <a:latin typeface="Times New Roman"/>
              </a:rPr>
              <a:t>Компоненты здоровья:</a:t>
            </a:r>
            <a:endParaRPr b="0" lang="en-US" sz="3800" spc="-1" strike="noStrike">
              <a:solidFill>
                <a:srgbClr val="90c226"/>
              </a:solidFill>
              <a:latin typeface="Trebuchet MS"/>
            </a:endParaRPr>
          </a:p>
        </p:txBody>
      </p:sp>
      <p:grpSp>
        <p:nvGrpSpPr>
          <p:cNvPr id="254" name="Diagram 2"/>
          <p:cNvGrpSpPr/>
          <p:nvPr/>
        </p:nvGrpSpPr>
        <p:grpSpPr>
          <a:xfrm>
            <a:off x="1592640" y="1800360"/>
            <a:ext cx="7457760" cy="4021560"/>
            <a:chOff x="1592640" y="1800360"/>
            <a:chExt cx="7457760" cy="4021560"/>
          </a:xfrm>
        </p:grpSpPr>
        <p:sp>
          <p:nvSpPr>
            <p:cNvPr id="255" name="_s1028"/>
            <p:cNvSpPr/>
            <p:nvPr/>
          </p:nvSpPr>
          <p:spPr>
            <a:xfrm flipV="1">
              <a:off x="5319720" y="2843280"/>
              <a:ext cx="0" cy="523440"/>
            </a:xfrm>
            <a:prstGeom prst="line">
              <a:avLst/>
            </a:prstGeom>
            <a:ln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56" name="_s1029"/>
            <p:cNvSpPr/>
            <p:nvPr/>
          </p:nvSpPr>
          <p:spPr>
            <a:xfrm>
              <a:off x="4370400" y="1800360"/>
              <a:ext cx="1901880" cy="10450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54a02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2c3c43"/>
                  </a:solidFill>
                  <a:latin typeface="Times New Roman"/>
                </a:rPr>
                <a:t>Движение</a:t>
              </a:r>
              <a:endParaRPr b="0" lang="en-US" sz="29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57" name="_s1030"/>
            <p:cNvSpPr/>
            <p:nvPr/>
          </p:nvSpPr>
          <p:spPr>
            <a:xfrm flipV="1">
              <a:off x="6062040" y="3236040"/>
              <a:ext cx="744120" cy="325800"/>
            </a:xfrm>
            <a:prstGeom prst="line">
              <a:avLst/>
            </a:prstGeom>
            <a:ln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58" name="_s1031"/>
            <p:cNvSpPr/>
            <p:nvPr/>
          </p:nvSpPr>
          <p:spPr>
            <a:xfrm>
              <a:off x="6598440" y="2388960"/>
              <a:ext cx="1901880" cy="1044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54a02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Положительные </a:t>
              </a:r>
              <a:endParaRPr b="0" lang="en-US" sz="20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эмоции</a:t>
              </a:r>
              <a:endParaRPr b="0" lang="en-US" sz="2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59" name="_s1032"/>
            <p:cNvSpPr/>
            <p:nvPr/>
          </p:nvSpPr>
          <p:spPr>
            <a:xfrm>
              <a:off x="6246360" y="4002480"/>
              <a:ext cx="925920" cy="117360"/>
            </a:xfrm>
            <a:prstGeom prst="line">
              <a:avLst/>
            </a:prstGeom>
            <a:ln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60" name="_s1033"/>
            <p:cNvSpPr/>
            <p:nvPr/>
          </p:nvSpPr>
          <p:spPr>
            <a:xfrm>
              <a:off x="7149240" y="3712680"/>
              <a:ext cx="1901160" cy="1045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54a02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Отказ от вредных </a:t>
              </a: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привычек</a:t>
              </a: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61" name="_s1034"/>
            <p:cNvSpPr/>
            <p:nvPr/>
          </p:nvSpPr>
          <p:spPr>
            <a:xfrm>
              <a:off x="5732280" y="4355640"/>
              <a:ext cx="411480" cy="472320"/>
            </a:xfrm>
            <a:prstGeom prst="line">
              <a:avLst/>
            </a:prstGeom>
            <a:ln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62" name="_s1035"/>
            <p:cNvSpPr/>
            <p:nvPr/>
          </p:nvSpPr>
          <p:spPr>
            <a:xfrm>
              <a:off x="5609880" y="4775760"/>
              <a:ext cx="1901880" cy="1044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54a02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Рациональное </a:t>
              </a:r>
              <a:endParaRPr b="0" lang="en-US" sz="20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питание</a:t>
              </a:r>
              <a:endParaRPr b="0" lang="en-US" sz="2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63" name="_s1036"/>
            <p:cNvSpPr/>
            <p:nvPr/>
          </p:nvSpPr>
          <p:spPr>
            <a:xfrm flipH="1">
              <a:off x="4496040" y="4355640"/>
              <a:ext cx="415440" cy="472320"/>
            </a:xfrm>
            <a:prstGeom prst="line">
              <a:avLst/>
            </a:prstGeom>
            <a:ln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64" name="_s1037"/>
            <p:cNvSpPr/>
            <p:nvPr/>
          </p:nvSpPr>
          <p:spPr>
            <a:xfrm>
              <a:off x="3138120" y="4777560"/>
              <a:ext cx="1901880" cy="1044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54a02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Закаливание и </a:t>
              </a:r>
              <a:endParaRPr b="0" lang="en-US" sz="20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оздоровление</a:t>
              </a:r>
              <a:endParaRPr b="0" lang="en-US" sz="2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65" name="_s1038"/>
            <p:cNvSpPr/>
            <p:nvPr/>
          </p:nvSpPr>
          <p:spPr>
            <a:xfrm flipH="1">
              <a:off x="3467520" y="4002480"/>
              <a:ext cx="929520" cy="117360"/>
            </a:xfrm>
            <a:prstGeom prst="line">
              <a:avLst/>
            </a:prstGeom>
            <a:ln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66" name="_s1039"/>
            <p:cNvSpPr/>
            <p:nvPr/>
          </p:nvSpPr>
          <p:spPr>
            <a:xfrm>
              <a:off x="1592640" y="3716280"/>
              <a:ext cx="1901160" cy="10443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54a02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Black"/>
                </a:rPr>
                <a:t>Чистота тела, жилища,</a:t>
              </a:r>
              <a:endParaRPr b="0" lang="en-US" sz="14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Black"/>
                </a:rPr>
                <a:t>продуктов питания</a:t>
              </a:r>
              <a:endParaRPr b="0" lang="en-US" sz="1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67" name="_s1040"/>
            <p:cNvSpPr/>
            <p:nvPr/>
          </p:nvSpPr>
          <p:spPr>
            <a:xfrm flipH="1" flipV="1">
              <a:off x="3834000" y="3236040"/>
              <a:ext cx="748080" cy="325800"/>
            </a:xfrm>
            <a:prstGeom prst="line">
              <a:avLst/>
            </a:prstGeom>
            <a:ln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68" name="_s1041"/>
            <p:cNvSpPr/>
            <p:nvPr/>
          </p:nvSpPr>
          <p:spPr>
            <a:xfrm>
              <a:off x="2139480" y="2390760"/>
              <a:ext cx="1901160" cy="1044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54a02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Режим дня</a:t>
              </a:r>
              <a:endParaRPr b="0" lang="en-US" sz="29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69" name="_s1042"/>
            <p:cNvSpPr/>
            <p:nvPr/>
          </p:nvSpPr>
          <p:spPr>
            <a:xfrm>
              <a:off x="4370400" y="3366720"/>
              <a:ext cx="1901880" cy="10443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b9d18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c3c43"/>
                  </a:solidFill>
                  <a:latin typeface="Times New Roman"/>
                </a:rPr>
                <a:t>ЗДОРОВЬЕ</a:t>
              </a:r>
              <a:endParaRPr b="0" lang="en-US" sz="2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270" name="Organization Chart 19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54a021"/>
                </a:solidFill>
                <a:latin typeface="Trebuchet MS"/>
              </a:rPr>
              <a:t>Результат работы над проектом</a:t>
            </a:r>
            <a:br>
              <a:rPr sz="3200"/>
            </a:br>
            <a:r>
              <a:rPr b="0" lang="ru-RU" sz="3200" spc="-1" strike="noStrike">
                <a:solidFill>
                  <a:srgbClr val="54a021"/>
                </a:solidFill>
                <a:latin typeface="Trebuchet MS"/>
              </a:rPr>
              <a:t>- </a:t>
            </a:r>
            <a:r>
              <a:rPr b="0" lang="ru-RU" sz="24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С детьми проведены тематические занятия, беседы  по формированию навыка здорового образа жизни.</a:t>
            </a:r>
            <a:br>
              <a:rPr sz="2400"/>
            </a:br>
            <a:r>
              <a:rPr b="0" lang="ru-RU" sz="24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- Разработан цикл игровых занятий «Изучаем свой организм».</a:t>
            </a:r>
            <a:br>
              <a:rPr sz="2400"/>
            </a:br>
            <a:r>
              <a:rPr b="0" lang="ru-RU" sz="24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- Оформлен дидактический материал по теме проекта.</a:t>
            </a:r>
            <a:br>
              <a:rPr sz="2400"/>
            </a:br>
            <a:r>
              <a:rPr b="0" lang="ru-RU" sz="24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- Оформлена картотека игр по формированию у дошкольников навыков ЗОЖ.</a:t>
            </a: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1"/>
          <a:stretch/>
        </p:blipFill>
        <p:spPr>
          <a:xfrm>
            <a:off x="868680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56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54a021"/>
                </a:solidFill>
                <a:latin typeface="Trebuchet MS"/>
              </a:rPr>
              <a:t>Спасибо за внимание!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4" name="Picture 5" descr=""/>
          <p:cNvPicPr/>
          <p:nvPr/>
        </p:nvPicPr>
        <p:blipFill>
          <a:blip r:embed="rId1"/>
          <a:stretch/>
        </p:blipFill>
        <p:spPr>
          <a:xfrm>
            <a:off x="8910720" y="-10666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846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6" descr=""/>
          <p:cNvPicPr/>
          <p:nvPr/>
        </p:nvPicPr>
        <p:blipFill>
          <a:blip r:embed="rId1"/>
          <a:stretch/>
        </p:blipFill>
        <p:spPr>
          <a:xfrm>
            <a:off x="8229600" y="-83808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1760" y="255240"/>
            <a:ext cx="7543800" cy="700236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проекта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оминирующему методу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о- творческий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числу участников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ой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ремени проведения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срочный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проекта: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, дети, воспитатели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0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сформировать у детей представление о здоровом образе жизни, привить навыки осознанного выполнения правил здоровьесбережения и ответственного отношения, как к собственному здоровью, так и здоровью окружающих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Задачи:</a:t>
            </a:r>
            <a:br>
              <a:rPr sz="2000"/>
            </a:br>
            <a:r>
              <a:rPr b="0" lang="ru-RU" sz="20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- Обогатить общие представления о здоровье, как ценности.</a:t>
            </a:r>
            <a:br>
              <a:rPr sz="2000"/>
            </a:br>
            <a:r>
              <a:rPr b="0" lang="ru-RU" sz="20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-Помочь детям в развитии привычек здорового образа жизни.</a:t>
            </a:r>
            <a:br>
              <a:rPr sz="2000"/>
            </a:br>
            <a:r>
              <a:rPr b="0" lang="ru-RU" sz="20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-Создать условия в группе для активной самостоятельной деятельности детей по развитию представлений о ЗОЖ.</a:t>
            </a:r>
            <a:br>
              <a:rPr sz="2000"/>
            </a:br>
            <a:r>
              <a:rPr b="0" lang="ru-RU" sz="20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-Привить навыки профилактики и гигиены, первой медицинской помощи, развивать умение предвидеть возможные опасные для жизни последствия своих поступков для себя и своих сверстников.</a:t>
            </a:r>
            <a:br>
              <a:rPr sz="2000"/>
            </a:br>
            <a:br>
              <a:rPr sz="1800"/>
            </a:br>
            <a:r>
              <a:rPr b="0" lang="ru-RU" sz="1800" spc="-1" strike="noStrike">
                <a:solidFill>
                  <a:srgbClr val="90c226"/>
                </a:solidFill>
                <a:latin typeface="Trebuchet MS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27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редполагаемый результат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220" name="TextBox 3"/>
          <p:cNvSpPr/>
          <p:nvPr/>
        </p:nvSpPr>
        <p:spPr>
          <a:xfrm>
            <a:off x="457200" y="1295280"/>
            <a:ext cx="8077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имеют представление о здоровье, здоровом образе жизни, о способах сохранения и укрепления здоровья;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знании детей сформированы  чувства: эмпатии, сопереживания, желания прийти на помощь;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компетентности родителей в вопросах сохранения здоровья и здорового образа жизни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315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900"/>
            </a:br>
            <a:r>
              <a:rPr b="1" lang="ru-RU" sz="1600" spc="-1" strike="noStrike">
                <a:solidFill>
                  <a:srgbClr val="90c226"/>
                </a:solidFill>
                <a:latin typeface="Trebuchet MS"/>
              </a:rPr>
              <a:t>Стратегия реализации  проекта «Азбука здоровья»</a:t>
            </a:r>
            <a:br>
              <a:rPr sz="2900"/>
            </a:br>
            <a:endParaRPr b="0" lang="en-US" sz="1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1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223" name="TextBox 3"/>
          <p:cNvSpPr/>
          <p:nvPr/>
        </p:nvSpPr>
        <p:spPr>
          <a:xfrm>
            <a:off x="457200" y="762120"/>
            <a:ext cx="82296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 Black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ельный (Декабрь 2017г)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окументально-организационная работа: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ыбор темы и составление паспорта  проекта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дбор иллюстративного материала по теме, художественных произведений для чтения, загадок, аудиозаписей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дготовка памяток, рекомендаций,  консультаций для родителей по теме проекта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й (основной) (Январь-Апрель 2018г) 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детьми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ие беседы, занятия по теме проекта с использованием ИКТ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игровых ситуаций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иллюстраций, плакатов, альбомов о ЗОЖ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и обыгрывание художественных произведений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ая деятельность: рисование «Я- человек», «На зарядку становись!», дидактическая игра «Хорошо- плохо», просмотр альбомов «Зимние виды спорта», «Лекарственные растения»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лечение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родителями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на стенде: «Режим дня», «Зарядка- это весело», «Гигиена и мы»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папки- передвижки «Уход за зубами»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ка «Растим детей здоровыми», «Вредные привычки у взрослых и их влияние на ЗОЖ»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ый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итогов работы над проектом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материалов, подготовка отчётности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315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4760" y="249120"/>
            <a:ext cx="8015400" cy="6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НОД «Чистота – залог здоровья!»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Каждый раз перед едой, 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Нужно фрукты мыть водой ! 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Чтобы быть здоровым,  сильным, 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Мой лицо и руки с мылом. 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Будь аккуратен, забудь лень ! 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Чисти зубы каждый день !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3300"/>
            </a:b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6" name="Picture 4" descr="HH01303_"/>
          <p:cNvPicPr/>
          <p:nvPr/>
        </p:nvPicPr>
        <p:blipFill>
          <a:blip r:embed="rId1"/>
          <a:stretch/>
        </p:blipFill>
        <p:spPr>
          <a:xfrm>
            <a:off x="6705720" y="4191120"/>
            <a:ext cx="2340000" cy="232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cc3399"/>
                </a:solidFill>
                <a:latin typeface="Times New Roman"/>
              </a:rPr>
              <a:t>Секреты закаливания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Picture 6" descr="Рисунок1"/>
          <p:cNvPicPr/>
          <p:nvPr/>
        </p:nvPicPr>
        <p:blipFill>
          <a:blip r:embed="rId1"/>
          <a:srcRect l="36252" t="15181" r="35334" b="49010"/>
          <a:stretch/>
        </p:blipFill>
        <p:spPr>
          <a:xfrm>
            <a:off x="6019920" y="3581280"/>
            <a:ext cx="2971800" cy="304812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7"/>
          <p:cNvSpPr/>
          <p:nvPr/>
        </p:nvSpPr>
        <p:spPr>
          <a:xfrm>
            <a:off x="838080" y="1980720"/>
            <a:ext cx="5791320" cy="41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тром - бег и душ бодрящий, Как для взрослых, настоящий!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 ночь окна открывать, Свежим воздухом дышать!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ги мыть водой холодной,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тогда микроб голодный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ас во век не одолеет!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54a021"/>
                </a:solidFill>
                <a:latin typeface="Times New Roman"/>
                <a:ea typeface="Times New Roman"/>
              </a:rPr>
              <a:t>Тематическое занятие «Олимпийские игры»</a:t>
            </a:r>
            <a:br>
              <a:rPr sz="2000"/>
            </a:br>
            <a:r>
              <a:rPr b="0" lang="ru-RU" sz="2000" spc="-1" strike="noStrike">
                <a:solidFill>
                  <a:srgbClr val="54a021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1"/>
          <a:stretch/>
        </p:blipFill>
        <p:spPr>
          <a:xfrm>
            <a:off x="8686800" y="-7621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"/>
          <p:cNvPicPr/>
          <p:nvPr/>
        </p:nvPicPr>
        <p:blipFill>
          <a:blip r:embed="rId2"/>
          <a:stretch/>
        </p:blipFill>
        <p:spPr>
          <a:xfrm>
            <a:off x="3090960" y="8259840"/>
            <a:ext cx="2084400" cy="23288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ÐÐ°ÑÑÐ¸Ð½ÐºÐ¸ Ð¿Ð¾ Ð·Ð°Ð¿ÑÐ¾ÑÑ ÐºÐ°ÑÑÐ¸Ð½ÐºÐ¸ Ð¾Ð»Ð¸Ð¼Ð¿Ð¸Ð¹ÑÐºÐ¸Ðµ Ð¸Ð³ÑÑ"/>
          <p:cNvPicPr/>
          <p:nvPr/>
        </p:nvPicPr>
        <p:blipFill>
          <a:blip r:embed="rId3"/>
          <a:stretch/>
        </p:blipFill>
        <p:spPr>
          <a:xfrm>
            <a:off x="76320" y="1066680"/>
            <a:ext cx="3809880" cy="2286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ÐÐ°ÑÑÐ¸Ð½ÐºÐ¸ Ð¿Ð¾ Ð·Ð°Ð¿ÑÐ¾ÑÑ Ð·Ð¸Ð¼Ð½Ð¸Ðµ Ð¾Ð»Ð¸Ð¼Ð¿Ð¸Ð¹ÑÐºÐ¸Ðµ Ð¸Ð³ÑÑ ÐºÐ°ÑÑÐ¸Ð½ÐºÐ¸"/>
          <p:cNvPicPr/>
          <p:nvPr/>
        </p:nvPicPr>
        <p:blipFill>
          <a:blip r:embed="rId4"/>
          <a:stretch/>
        </p:blipFill>
        <p:spPr>
          <a:xfrm>
            <a:off x="4267080" y="914400"/>
            <a:ext cx="4324320" cy="2590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4" descr="ÐÐ°ÑÑÐ¸Ð½ÐºÐ¸ Ð¿Ð¾ Ð·Ð°Ð¿ÑÐ¾ÑÑ Ð·Ð¸Ð¼Ð½Ð¸Ðµ Ð¾Ð»Ð¸Ð¼Ð¿Ð¸Ð¹ÑÐºÐ¸Ðµ Ð¸Ð³ÑÑ ÐºÐ°ÑÑÐ¸Ð½ÐºÐ¸"/>
          <p:cNvPicPr/>
          <p:nvPr/>
        </p:nvPicPr>
        <p:blipFill>
          <a:blip r:embed="rId5"/>
          <a:stretch/>
        </p:blipFill>
        <p:spPr>
          <a:xfrm>
            <a:off x="1752480" y="3581280"/>
            <a:ext cx="4724640" cy="26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543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500" spc="-1" strike="noStrike">
                <a:solidFill>
                  <a:srgbClr val="7030a0"/>
                </a:solidFill>
                <a:latin typeface="Times New Roman"/>
              </a:rPr>
              <a:t>Беседа Полезные и вредные продукты: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09120" y="2160360"/>
            <a:ext cx="30877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Picture 13" descr="FD00188_"/>
          <p:cNvPicPr/>
          <p:nvPr/>
        </p:nvPicPr>
        <p:blipFill>
          <a:blip r:embed="rId1"/>
          <a:stretch/>
        </p:blipFill>
        <p:spPr>
          <a:xfrm>
            <a:off x="4267080" y="1143000"/>
            <a:ext cx="2305080" cy="14479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4" descr="FD00961_"/>
          <p:cNvPicPr/>
          <p:nvPr/>
        </p:nvPicPr>
        <p:blipFill>
          <a:blip r:embed="rId2"/>
          <a:stretch/>
        </p:blipFill>
        <p:spPr>
          <a:xfrm>
            <a:off x="6781680" y="2590920"/>
            <a:ext cx="2001960" cy="17827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5" descr="FD00963_"/>
          <p:cNvPicPr/>
          <p:nvPr/>
        </p:nvPicPr>
        <p:blipFill>
          <a:blip r:embed="rId3"/>
          <a:stretch/>
        </p:blipFill>
        <p:spPr>
          <a:xfrm>
            <a:off x="5029200" y="5013360"/>
            <a:ext cx="1736640" cy="18446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16"/>
          <p:cNvSpPr/>
          <p:nvPr/>
        </p:nvSpPr>
        <p:spPr>
          <a:xfrm>
            <a:off x="152280" y="136944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Times New Roman"/>
              </a:rPr>
              <a:t>Надо кушать помидоры,</a:t>
            </a:r>
            <a:br>
              <a:rPr sz="2400"/>
            </a:br>
            <a:r>
              <a:rPr b="1" lang="ru-RU" sz="2400" spc="-1" strike="noStrike">
                <a:solidFill>
                  <a:srgbClr val="33cc33"/>
                </a:solidFill>
                <a:latin typeface="Times New Roman"/>
              </a:rPr>
              <a:t>Фрукты, овощи, лимоны,</a:t>
            </a:r>
            <a:br>
              <a:rPr sz="2400"/>
            </a:br>
            <a:r>
              <a:rPr b="1" lang="ru-RU" sz="2400" spc="-1" strike="noStrike">
                <a:solidFill>
                  <a:srgbClr val="33cc33"/>
                </a:solidFill>
                <a:latin typeface="Times New Roman"/>
              </a:rPr>
              <a:t>Кашу – утром, суп – в обед,</a:t>
            </a:r>
            <a:br>
              <a:rPr sz="2400"/>
            </a:br>
            <a:r>
              <a:rPr b="1" lang="ru-RU" sz="2400" spc="-1" strike="noStrike">
                <a:solidFill>
                  <a:srgbClr val="33cc33"/>
                </a:solidFill>
                <a:latin typeface="Times New Roman"/>
              </a:rPr>
              <a:t>А на ужин – винегрет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Rectangle 17"/>
          <p:cNvSpPr/>
          <p:nvPr/>
        </p:nvSpPr>
        <p:spPr>
          <a:xfrm>
            <a:off x="2362320" y="3121920"/>
            <a:ext cx="487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Times New Roman"/>
              </a:rPr>
              <a:t>Ну, а если свой обед</a:t>
            </a:r>
            <a:br>
              <a:rPr sz="2400"/>
            </a:br>
            <a:r>
              <a:rPr b="1" lang="ru-RU" sz="2400" spc="-1" strike="noStrike">
                <a:solidFill>
                  <a:srgbClr val="ff9933"/>
                </a:solidFill>
                <a:latin typeface="Times New Roman"/>
              </a:rPr>
              <a:t>Ты начнешь с кулька конфет,</a:t>
            </a:r>
            <a:br>
              <a:rPr sz="2400"/>
            </a:br>
            <a:r>
              <a:rPr b="1" lang="ru-RU" sz="2400" spc="-1" strike="noStrike">
                <a:solidFill>
                  <a:srgbClr val="ff9933"/>
                </a:solidFill>
                <a:latin typeface="Times New Roman"/>
              </a:rPr>
              <a:t>Жвачкой импортной закусишь,</a:t>
            </a:r>
            <a:br>
              <a:rPr sz="2400"/>
            </a:br>
            <a:r>
              <a:rPr b="1" lang="ru-RU" sz="2400" spc="-1" strike="noStrike">
                <a:solidFill>
                  <a:srgbClr val="ff9933"/>
                </a:solidFill>
                <a:latin typeface="Times New Roman"/>
              </a:rPr>
              <a:t>Шоколадом подсластишь,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Rectangle 18"/>
          <p:cNvSpPr/>
          <p:nvPr/>
        </p:nvSpPr>
        <p:spPr>
          <a:xfrm>
            <a:off x="457200" y="4950720"/>
            <a:ext cx="449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d181"/>
                </a:solidFill>
                <a:latin typeface="Times New Roman"/>
              </a:rPr>
              <a:t>То тогда наверняка</a:t>
            </a:r>
            <a:br>
              <a:rPr sz="2400"/>
            </a:br>
            <a:r>
              <a:rPr b="1" lang="ru-RU" sz="2400" spc="-1" strike="noStrike">
                <a:solidFill>
                  <a:srgbClr val="b9d181"/>
                </a:solidFill>
                <a:latin typeface="Times New Roman"/>
              </a:rPr>
              <a:t>Ваши спутники всегда -</a:t>
            </a:r>
            <a:br>
              <a:rPr sz="2400"/>
            </a:br>
            <a:r>
              <a:rPr b="1" lang="ru-RU" sz="2400" spc="-1" strike="noStrike">
                <a:solidFill>
                  <a:srgbClr val="b9d181"/>
                </a:solidFill>
                <a:latin typeface="Times New Roman"/>
              </a:rPr>
              <a:t>Близорукость, бледный вид</a:t>
            </a:r>
            <a:br>
              <a:rPr sz="2400"/>
            </a:br>
            <a:r>
              <a:rPr b="1" lang="ru-RU" sz="2400" spc="-1" strike="noStrike">
                <a:solidFill>
                  <a:srgbClr val="b9d181"/>
                </a:solidFill>
                <a:latin typeface="Times New Roman"/>
              </a:rPr>
              <a:t>И неважный аппетит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54a021"/>
                </a:solidFill>
                <a:latin typeface="Trebuchet MS"/>
              </a:rPr>
              <a:t>Беседа «Зимние виды спорта»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6" name="Picture 2" descr="ÐÐ°ÑÑÐ¸Ð½ÐºÐ¸ Ð¿Ð¾ Ð·Ð°Ð¿ÑÐ¾ÑÑ Ð·Ð¸Ð¼Ð½Ð¸Ðµ Ð²Ð¸Ð´Ñ ÑÐ¿Ð¾ÑÑÐ° ÑÐ¾ÑÐ¾"/>
          <p:cNvPicPr/>
          <p:nvPr/>
        </p:nvPicPr>
        <p:blipFill>
          <a:blip r:embed="rId1"/>
          <a:stretch/>
        </p:blipFill>
        <p:spPr>
          <a:xfrm>
            <a:off x="76320" y="1417680"/>
            <a:ext cx="3200400" cy="2228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ÐÐ°ÑÑÐ¸Ð½ÐºÐ¸ Ð¿Ð¾ Ð·Ð°Ð¿ÑÐ¾ÑÑ Ð·Ð¸Ð¼Ð½Ð¸Ðµ Ð²Ð¸Ð´Ñ ÑÐ¿Ð¾ÑÑÐ° ÑÐ¾ÑÐ¾"/>
          <p:cNvPicPr/>
          <p:nvPr/>
        </p:nvPicPr>
        <p:blipFill>
          <a:blip r:embed="rId2"/>
          <a:stretch/>
        </p:blipFill>
        <p:spPr>
          <a:xfrm>
            <a:off x="4572000" y="1143000"/>
            <a:ext cx="3048120" cy="25034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ÑÐ¸Ð³ÑÑÐ½Ð¾Ðµ ÐºÐ°ÑÐ°Ð½Ð¸Ðµ ÐºÐ°ÑÑÐ¸Ð½ÐºÐ¸"/>
          <p:cNvPicPr/>
          <p:nvPr/>
        </p:nvPicPr>
        <p:blipFill>
          <a:blip r:embed="rId3"/>
          <a:stretch/>
        </p:blipFill>
        <p:spPr>
          <a:xfrm>
            <a:off x="4800600" y="3807000"/>
            <a:ext cx="3530520" cy="26589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ÐºÐ¾Ð½ÑÐºÐ¾Ð±ÐµÐ¶Ð½ÑÐ¹ ÑÐ¿Ð¾ÑÑ"/>
          <p:cNvPicPr/>
          <p:nvPr/>
        </p:nvPicPr>
        <p:blipFill>
          <a:blip r:embed="rId4"/>
          <a:stretch/>
        </p:blipFill>
        <p:spPr>
          <a:xfrm>
            <a:off x="76320" y="3809880"/>
            <a:ext cx="3941640" cy="2665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на Фролова</dc:creator>
  <dc:description/>
  <dc:language>en-US</dc:language>
  <cp:lastModifiedBy>Анна Фролова</cp:lastModifiedBy>
  <dcterms:modified xsi:type="dcterms:W3CDTF">2018-07-01T16:26:29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