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9AA-0275-4665-9B6B-2C15D012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ED3-A12A-4EEF-89EB-4C0CBC5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814-4CA3-4AAE-B70C-ED499B97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D01-4DA3-4BA8-9A70-690809C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FA7D-F5D8-4A28-823B-452CA230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493A-0244-42DC-966B-88C994E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53E9-CD26-4F6C-BECF-A89D130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CFE7-096E-4D16-AA7D-0938BA8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F179-073A-4125-A9AB-F8B43FB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84B0-A865-456A-A132-FBE2984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CCCB-D3CB-409F-BC4E-69C6E22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2DB-740E-4028-B718-627EC654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8D0B-08D1-4BDC-A31E-64C3196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642-15D5-460A-813C-0DDB780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1F8-1C3A-472A-BC5D-B7455E2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9987-4885-4BDF-9E60-C79290C8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B7B-3760-4D37-85DF-02F16943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5873-A38D-4CD4-A696-1DAFFB62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846B-5806-48C8-B3CD-30BB0F9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5320-2D24-47DE-B8A8-F65FFF6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C389-6CD0-4F7B-8611-F5963F5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347C-9FC5-4F64-92CC-0D0DABF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6B5-2507-4FAA-8E2D-E81610C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9ACD-3D38-475D-8441-46CF6BC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6D3F-AC8A-402C-8705-8A3047F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A75C-F20A-4B8B-B72E-24300CC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E145-D43B-4A6E-8D0D-A34292F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621D-48C8-4D8A-A861-CA2E547E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3FD6-78C1-4CC1-8A75-1D3D82FA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12F0-5572-40D0-AAFD-9CF69199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68D9-F3DA-48AA-BC12-E598713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4C90-1076-420A-8C14-6B1DCF54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F7B5-0F9D-4DBC-B6EC-CB606FF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676-1E68-4B41-8006-4CE7ADCE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8F03-B9E8-457D-AD66-270A55F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41EE-8885-4315-9E43-5F3841A6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6F4B-4A64-456D-B22E-254C73B2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AEC7-C79A-49FD-BE3C-AF5A9732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B55C-09CF-4E14-A48C-DFE1CB1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3649-8B75-467C-B92D-26A0369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93B1-A7DD-420C-9DAD-804E5A4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8EA0-D2C6-4A11-BEDC-005A1EE1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0381-1C23-4C0C-8A16-1690C74C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D09-807C-4359-BA03-F871036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E60-66AE-49E1-BE72-C1D6FF3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3DC-ACE6-4C45-845A-79DB6AA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E1C-7BEE-4397-8A0D-D1C7DEC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9D2-FFB9-4F8B-AF7B-1B2276A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02F-DB0B-428A-8EA7-747AC559289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1438-CA32-47AC-9814-86E7FE6C16B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5AD-F3EA-49DB-98B2-41DC002F87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2C9D-180E-409A-8DAE-0085FF3715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54a021"/>
                </a:solidFill>
                <a:latin typeface="Trebuchet MS"/>
              </a:rPr>
              <a:t>Проект </a:t>
            </a:r>
            <a:br>
              <a:rPr sz="6000"/>
            </a:br>
            <a:r>
              <a:rPr b="0" lang="ru-RU" sz="5500" spc="-1" strike="noStrike">
                <a:solidFill>
                  <a:srgbClr val="54a021"/>
                </a:solidFill>
                <a:latin typeface="Trebuchet MS"/>
              </a:rPr>
              <a:t>«Азбука здоровья»</a:t>
            </a:r>
            <a:endParaRPr b="0" lang="en-US" sz="5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6172200" y="44956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Фролова А.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БДОУ №10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5" descr="img1"/>
          <p:cNvPicPr/>
          <p:nvPr/>
        </p:nvPicPr>
        <p:blipFill>
          <a:blip r:embed="rId2"/>
          <a:stretch/>
        </p:blipFill>
        <p:spPr>
          <a:xfrm>
            <a:off x="3809880" y="4267080"/>
            <a:ext cx="14385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Беседа «Полезные и вредные привычки»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ÐÐ°ÑÑÐ¸Ð½ÐºÐ¸ Ð¿Ð¾ Ð·Ð°Ð¿ÑÐ¾ÑÑ Ð¿Ð¾Ð»ÐµÐ·Ð½ÑÐµ Ð¸ Ð²ÑÐµÐ´Ð½ÑÐµ Ð¿ÑÐ¸Ð²ÑÑÐº ÑÐ¾ÑÐ¾"/>
          <p:cNvPicPr/>
          <p:nvPr/>
        </p:nvPicPr>
        <p:blipFill>
          <a:blip r:embed="rId2"/>
          <a:stretch/>
        </p:blipFill>
        <p:spPr>
          <a:xfrm>
            <a:off x="685800" y="9144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7612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7030a0"/>
                </a:solidFill>
                <a:latin typeface="Times New Roman"/>
              </a:rPr>
              <a:t>Компоненты здоровья:</a:t>
            </a:r>
            <a:endParaRPr b="0" lang="en-US" sz="38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54" name="Diagram 2"/>
          <p:cNvGrpSpPr/>
          <p:nvPr/>
        </p:nvGrpSpPr>
        <p:grpSpPr>
          <a:xfrm>
            <a:off x="1592640" y="1800360"/>
            <a:ext cx="7457760" cy="4021560"/>
            <a:chOff x="1592640" y="1800360"/>
            <a:chExt cx="7457760" cy="4021560"/>
          </a:xfrm>
        </p:grpSpPr>
        <p:sp>
          <p:nvSpPr>
            <p:cNvPr id="255" name="_s1028"/>
            <p:cNvSpPr/>
            <p:nvPr/>
          </p:nvSpPr>
          <p:spPr>
            <a:xfrm flipV="1">
              <a:off x="5319720" y="2843280"/>
              <a:ext cx="0" cy="52344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6" name="_s1029"/>
            <p:cNvSpPr/>
            <p:nvPr/>
          </p:nvSpPr>
          <p:spPr>
            <a:xfrm>
              <a:off x="4370400" y="1800360"/>
              <a:ext cx="1901880" cy="1045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2c3c43"/>
                  </a:solidFill>
                  <a:latin typeface="Times New Roman"/>
                </a:rPr>
                <a:t>Движение</a:t>
              </a:r>
              <a:endParaRPr b="0" lang="en-US" sz="2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_s1030"/>
            <p:cNvSpPr/>
            <p:nvPr/>
          </p:nvSpPr>
          <p:spPr>
            <a:xfrm flipV="1">
              <a:off x="6062040" y="3236040"/>
              <a:ext cx="744120" cy="32580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8" name="_s1031"/>
            <p:cNvSpPr/>
            <p:nvPr/>
          </p:nvSpPr>
          <p:spPr>
            <a:xfrm>
              <a:off x="6598440" y="2388960"/>
              <a:ext cx="1901880" cy="10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9" name="_s1032"/>
            <p:cNvSpPr/>
            <p:nvPr/>
          </p:nvSpPr>
          <p:spPr>
            <a:xfrm>
              <a:off x="6246360" y="4002480"/>
              <a:ext cx="925920" cy="11736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7149240" y="3712680"/>
              <a:ext cx="1901160" cy="1045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каз от вредных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ивычек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1" name="_s1034"/>
            <p:cNvSpPr/>
            <p:nvPr/>
          </p:nvSpPr>
          <p:spPr>
            <a:xfrm>
              <a:off x="5732280" y="4355640"/>
              <a:ext cx="411480" cy="47232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2" name="_s1035"/>
            <p:cNvSpPr/>
            <p:nvPr/>
          </p:nvSpPr>
          <p:spPr>
            <a:xfrm>
              <a:off x="5609880" y="4775760"/>
              <a:ext cx="1901880" cy="104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циональное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итани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3" name="_s1036"/>
            <p:cNvSpPr/>
            <p:nvPr/>
          </p:nvSpPr>
          <p:spPr>
            <a:xfrm flipH="1">
              <a:off x="4496040" y="4355640"/>
              <a:ext cx="415440" cy="47232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4" name="_s1037"/>
            <p:cNvSpPr/>
            <p:nvPr/>
          </p:nvSpPr>
          <p:spPr>
            <a:xfrm>
              <a:off x="3138120" y="4777560"/>
              <a:ext cx="1901880" cy="10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Закаливание и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здоровлени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5" name="_s1038"/>
            <p:cNvSpPr/>
            <p:nvPr/>
          </p:nvSpPr>
          <p:spPr>
            <a:xfrm flipH="1">
              <a:off x="3467520" y="4002480"/>
              <a:ext cx="929520" cy="11736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6" name="_s1039"/>
            <p:cNvSpPr/>
            <p:nvPr/>
          </p:nvSpPr>
          <p:spPr>
            <a:xfrm>
              <a:off x="1592640" y="3716280"/>
              <a:ext cx="1901160" cy="10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7" name="_s1040"/>
            <p:cNvSpPr/>
            <p:nvPr/>
          </p:nvSpPr>
          <p:spPr>
            <a:xfrm flipH="1" flipV="1">
              <a:off x="3834000" y="3236040"/>
              <a:ext cx="748080" cy="32580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8" name="_s1041"/>
            <p:cNvSpPr/>
            <p:nvPr/>
          </p:nvSpPr>
          <p:spPr>
            <a:xfrm>
              <a:off x="2139480" y="2390760"/>
              <a:ext cx="1901160" cy="1044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2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_s1042"/>
            <p:cNvSpPr/>
            <p:nvPr/>
          </p:nvSpPr>
          <p:spPr>
            <a:xfrm>
              <a:off x="4370400" y="3366720"/>
              <a:ext cx="1901880" cy="1044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9d18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c3c43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70" name="Organization Chart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4a021"/>
                </a:solidFill>
                <a:latin typeface="Trebuchet MS"/>
              </a:rPr>
              <a:t>Результат работы над проектом</a:t>
            </a:r>
            <a:br>
              <a:rPr sz="3200"/>
            </a:br>
            <a:r>
              <a:rPr b="0" lang="ru-RU" sz="3200" spc="-1" strike="noStrike">
                <a:solidFill>
                  <a:srgbClr val="54a021"/>
                </a:solidFill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 детьми проведены тематические занятия, беседы  по формированию навыка здорового образа жизни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Разработан цикл игровых занятий «Изучаем свой организм»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формлен дидактический материал по теме проекта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формлена картотека игр по формированию у дошкольников навыков ЗОЖ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5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54a021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8910720" y="-10666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84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8229600" y="-8380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255240"/>
            <a:ext cx="7543800" cy="700236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минирующему методу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 творческ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частнико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ремени проведе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дети, воспитател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формировать у детей представление о здоровом образе жизни, привить навыки осознанного выполнения правил здоровьесбережения и ответственного отношения, как к собственному здоровью, так и здоровью окружающи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богатить общие представления о здоровье, как ценности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Помочь детям в развитии привычек здорового образа жизни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Создать условия в группе для активной самостоятельной деятельности детей по развитию представлений о ЗОЖ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Привить навыки профилактики и гигиены, первой медицинской помощи, развивать умение предвидеть возможные опасные для жизни последствия своих поступков для себя и своих сверстников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едполагаемый результа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457200" y="129528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едставление о здоровье, здоровом образе жизни, о способах сохранения и укрепления здоровья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и детей сформированы  чувства: эмпатии, сопереживания, желания прийти на помощь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мпетентности родителей в вопросах сохранения здоровья и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5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lang="ru-RU" sz="1600" spc="-1" strike="noStrike">
                <a:solidFill>
                  <a:srgbClr val="90c226"/>
                </a:solidFill>
                <a:latin typeface="Trebuchet MS"/>
              </a:rPr>
              <a:t>Стратегия реализации  проекта «Азбука здоровья»</a:t>
            </a:r>
            <a:br>
              <a:rPr sz="29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57200" y="76212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(Декабрь 2017г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ументально-организационная работа: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бор темы и составление паспорта  проекта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бор иллюстративного материала по теме, художественных произведений для чтения, загадок, аудиозаписе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ка памяток, рекомендаций,  консультаций для родителей по теме проект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(основной) (Январь-Апрель 2018г)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беседы, занятия по теме проекта с использованием ИКТ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гровых ситуаци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, плакатов, альбомов о ЗОЖ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обыгрывание художественных произведени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: рисование «Я- человек», «На зарядку становись!», дидактическая игра «Хорошо- плохо», просмотр альбомов «Зимние виды спорта», «Лекарственные растения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стенде: «Режим дня», «Зарядка- это весело», «Гигиена и мы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апки- передвижки «Уход за зубами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«Растим детей здоровыми», «Вредные привычки у взрослых и их влияние на ЗОЖ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над проектом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материалов, подготовка отчётност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1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ОД «Чистота – залог здоровья!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Каждый раз перед едой,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Нужно фрукты мыть водой !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Чтобы быть здоровым,  сильным,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Мой лицо и руки с мылом.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Будь аккуратен, забудь лень !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Чисти зубы каждый день !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c3399"/>
                </a:solidFill>
                <a:latin typeface="Times New Roman"/>
              </a:rPr>
              <a:t>Секреты закаливан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Тематическое занятие «Олимпийские игры»</a:t>
            </a:r>
            <a:br>
              <a:rPr sz="2000"/>
            </a:br>
            <a:r>
              <a:rPr b="0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2"/>
          <a:stretch/>
        </p:blipFill>
        <p:spPr>
          <a:xfrm>
            <a:off x="3090960" y="8259840"/>
            <a:ext cx="2084400" cy="232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ÐÐ°ÑÑÐ¸Ð½ÐºÐ¸ Ð¿Ð¾ Ð·Ð°Ð¿ÑÐ¾ÑÑ ÐºÐ°ÑÑÐ¸Ð½ÐºÐ¸ Ð¾Ð»Ð¸Ð¼Ð¿Ð¸Ð¹ÑÐºÐ¸Ðµ Ð¸Ð³ÑÑ"/>
          <p:cNvPicPr/>
          <p:nvPr/>
        </p:nvPicPr>
        <p:blipFill>
          <a:blip r:embed="rId3"/>
          <a:stretch/>
        </p:blipFill>
        <p:spPr>
          <a:xfrm>
            <a:off x="76320" y="10666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ÐÐ°ÑÑÐ¸Ð½ÐºÐ¸ Ð¿Ð¾ Ð·Ð°Ð¿ÑÐ¾ÑÑ Ð·Ð¸Ð¼Ð½Ð¸Ðµ Ð¾Ð»Ð¸Ð¼Ð¿Ð¸Ð¹ÑÐºÐ¸Ðµ Ð¸Ð³ÑÑ ÐºÐ°ÑÑÐ¸Ð½ÐºÐ¸"/>
          <p:cNvPicPr/>
          <p:nvPr/>
        </p:nvPicPr>
        <p:blipFill>
          <a:blip r:embed="rId4"/>
          <a:stretch/>
        </p:blipFill>
        <p:spPr>
          <a:xfrm>
            <a:off x="4267080" y="914400"/>
            <a:ext cx="4324320" cy="2590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ÐÐ°ÑÑÐ¸Ð½ÐºÐ¸ Ð¿Ð¾ Ð·Ð°Ð¿ÑÐ¾ÑÑ Ð·Ð¸Ð¼Ð½Ð¸Ðµ Ð¾Ð»Ð¸Ð¼Ð¿Ð¸Ð¹ÑÐºÐ¸Ðµ Ð¸Ð³ÑÑ ÐºÐ°ÑÑÐ¸Ð½ÐºÐ¸"/>
          <p:cNvPicPr/>
          <p:nvPr/>
        </p:nvPicPr>
        <p:blipFill>
          <a:blip r:embed="rId5"/>
          <a:stretch/>
        </p:blipFill>
        <p:spPr>
          <a:xfrm>
            <a:off x="1752480" y="3581280"/>
            <a:ext cx="472464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500" spc="-1" strike="noStrike">
                <a:solidFill>
                  <a:srgbClr val="7030a0"/>
                </a:solidFill>
                <a:latin typeface="Times New Roman"/>
              </a:rPr>
              <a:t>Беседа Полезные и вредные продукты: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54a021"/>
                </a:solidFill>
                <a:latin typeface="Trebuchet MS"/>
              </a:rPr>
              <a:t>Беседа «Зимние виды спорта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ÐÐ°ÑÑÐ¸Ð½ÐºÐ¸ Ð¿Ð¾ Ð·Ð°Ð¿ÑÐ¾ÑÑ Ð·Ð¸Ð¼Ð½Ð¸Ðµ Ð²Ð¸Ð´Ñ ÑÐ¿Ð¾ÑÑÐ° ÑÐ¾ÑÐ¾"/>
          <p:cNvPicPr/>
          <p:nvPr/>
        </p:nvPicPr>
        <p:blipFill>
          <a:blip r:embed="rId1"/>
          <a:stretch/>
        </p:blipFill>
        <p:spPr>
          <a:xfrm>
            <a:off x="76320" y="1417680"/>
            <a:ext cx="3200400" cy="2228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ÐÐ°ÑÑÐ¸Ð½ÐºÐ¸ Ð¿Ð¾ Ð·Ð°Ð¿ÑÐ¾ÑÑ Ð·Ð¸Ð¼Ð½Ð¸Ðµ Ð²Ð¸Ð´Ñ ÑÐ¿Ð¾ÑÑÐ° ÑÐ¾ÑÐ¾"/>
          <p:cNvPicPr/>
          <p:nvPr/>
        </p:nvPicPr>
        <p:blipFill>
          <a:blip r:embed="rId2"/>
          <a:stretch/>
        </p:blipFill>
        <p:spPr>
          <a:xfrm>
            <a:off x="4572000" y="1143000"/>
            <a:ext cx="3048120" cy="2503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ÑÐ¸Ð³ÑÑÐ½Ð¾Ðµ ÐºÐ°ÑÐ°Ð½Ð¸Ðµ ÐºÐ°ÑÑÐ¸Ð½ÐºÐ¸"/>
          <p:cNvPicPr/>
          <p:nvPr/>
        </p:nvPicPr>
        <p:blipFill>
          <a:blip r:embed="rId3"/>
          <a:stretch/>
        </p:blipFill>
        <p:spPr>
          <a:xfrm>
            <a:off x="4800600" y="3807000"/>
            <a:ext cx="3530520" cy="265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ÐºÐ¾Ð½ÑÐºÐ¾Ð±ÐµÐ¶Ð½ÑÐ¹ ÑÐ¿Ð¾ÑÑ"/>
          <p:cNvPicPr/>
          <p:nvPr/>
        </p:nvPicPr>
        <p:blipFill>
          <a:blip r:embed="rId4"/>
          <a:stretch/>
        </p:blipFill>
        <p:spPr>
          <a:xfrm>
            <a:off x="76320" y="3809880"/>
            <a:ext cx="39416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Фролова</dc:creator>
  <dc:description/>
  <dc:language>en-US</dc:language>
  <cp:lastModifiedBy>Анна Фролова</cp:lastModifiedBy>
  <dcterms:modified xsi:type="dcterms:W3CDTF">2018-07-01T16:26:29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