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chimes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6DC-1EEC-4709-9557-0153621B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548B-C675-425C-81DC-4064B523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3EA242-2E81-4371-BA35-2C5CB3A35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93B7DC-AA96-45A0-87C5-815EEDEA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67CC38-C5A6-4372-ABE4-EE1F19E12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3DEF3F-4D12-4BD6-A3B1-468C0EC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7BDA2CF-022B-4738-B20A-585706EA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93765D-9FDB-4C63-BC23-750A5966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B0C0050-700E-4A6A-8579-70E7142A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7DA0E9-C65B-48FB-98F7-9A332824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2EB9DBE-C100-4498-B9E9-93F1228A1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10B45AA-AAEF-4A72-AAFE-3458F776D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C713-C2D0-46DE-AC2F-36DA09E2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BF5B53-2388-43A7-88AF-B7B6FC27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7988E2-7F6B-4293-ADCB-226510764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EECF965-5B34-4F17-BBF3-2F1E34DF2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23FFEBC-75DC-43FF-9EBD-9800E2CB2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5E69FE-B08E-4A66-99DD-4E51BB30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B33CEB-9A03-48D1-9351-F675E609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3EC1596-3688-4306-A8D4-7EDAD4963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757ACC1-A97F-4490-BB60-3B7A2103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F08A0D-6849-47A9-8880-0B400E80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3D50432-EE10-4204-9E0B-10B33F2B9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9D3-5914-4622-A62B-82035465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06B38E-0C2B-4831-862F-9D5F9E2A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C0EEB-CC89-4280-B40F-5484315F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71B74B-D867-497E-9738-B9D5D795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817E9A-C0C1-49A0-8BC3-143627890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28FEFE-72BB-4FFE-9A3A-C895F2AD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AC3D73-A5DD-48C7-8DF4-84DC40E19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67F740-A137-4BEA-B753-ACABDB09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2F2C8E-FB13-4356-9CAC-51B135FC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954F5-E783-413F-B14E-FC637702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E359CA-A388-4EC9-ACF9-A01F8873C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DE30-936A-41C4-8232-B2FCD5150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62F1-814E-4D7E-9812-11A34053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C8955C-FF11-45FB-8E15-4734BCA9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72481-8254-41E5-9D1D-C6327C76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462067-74BE-4421-9D13-F74D9DDFE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1D34D2-4ED2-4839-9824-F1D1E695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D4E11-FC8A-4DCB-89EC-AE69BC9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D1B39-E9DF-48F2-A1A3-D834485F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831B0-2B37-444C-B2BF-7DBF72275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46803-E940-44CC-B7C2-AB687382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18BED9-DCB6-41B7-ADEE-5B94E74D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3FD4-FAC5-47A0-A622-04FD49384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2D3CA-572B-45DA-A823-C6540059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FECB12-A29E-49CC-A8BD-AA5BE696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E7E44-C54C-4A61-BF23-1407CD26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BB2BE-F40E-4574-820F-1389A88E3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F0A9C1-3F58-4E49-AE9C-CED89EC26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B6EA-DD98-4A61-AF06-6320E333F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88761-522D-49B2-BB3D-3D67FB5F0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D28F-CBC1-4E18-BE7D-A097C315D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0A7B6-EC9F-4A65-8385-5788D27C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401FB-B2DE-42BF-AF0F-B58F113F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C0F-3422-4E58-8FD9-BF1E02267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3AE4-DA02-493E-AEF3-3250CA6A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200C1-8DDB-4C7E-96EF-DFDB6867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5A31-EC4C-4DD4-AE35-4FE0440A2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52DC3-6352-4DB5-8F1F-98750E4C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166B-567C-4F6E-B08C-DADB7BED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B0ACF5-6A8A-4270-BCD5-FB8FAB50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3B6672-3BCD-49F3-BB0C-96DD3B23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D4C8E-7A89-4AEF-8CE2-8CA2CDDC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F2A21D-0D80-4251-8BA6-3172A92B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6E20F-FA0A-4F2E-BF49-ED92379A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A391-75D0-490D-A98B-131C69919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E6F194-90F6-4653-BB0B-A50F0305D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04ABDF-9E53-4994-8AD1-1512E6BA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C57631-33A5-4124-A876-ED2AE7C2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98ACD-B695-42DC-AF74-4024AD79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90973A-A822-4FCE-8D9F-17EBB268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3C3325-8E35-460C-8270-83D59F773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A7CC6F-35C1-4B05-A7E7-2AAF1EA3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7D98C-6B4F-47CE-9446-CB09DB57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431D4-3148-434D-877E-9F588276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20B5C4-B276-4393-882F-5BFA31737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EAD6-E987-4E31-A93D-DB717C9C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7D2E4-9817-4D05-A77E-863B04C71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DF28B-8C61-4188-8E36-F40DD1121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33497-9CE3-4E70-B86E-A5A413AC6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A0987-A367-4E97-A604-C5D5D444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C620A0-CF37-4FE6-BA2F-4C442EF7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3525E4-4DFB-49CA-9068-22FB37A5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CB8EF-4DB5-4A59-95D7-2D6331E8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0D951-3472-43DA-9B60-2F971338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A85C3-D8F9-43AB-A945-12FA1233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DC68D-DF5E-4E00-8185-3F1AC91AF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BC5-0AB5-47E6-AE87-4567D829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7FC07-1984-49A1-BCEB-9A949BDD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1B4F7-F6BF-4DEE-BB03-9E230598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6693F-7DAF-402E-ADFC-A1924B9F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3D2C91-EAC1-46DF-8B45-CA40F6C7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1CB59-3B75-44A6-A562-55928EEE7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DBB24-F2D2-482A-8466-A514FB2B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A73C4-2162-4D0F-8DDD-6CBB47EA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ED1FE-75A2-41BC-97EE-C981E570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E6F41B-CFAF-44DC-AB0E-2C40CBB20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F92EA-7C8E-48E7-B2AD-01C307CE4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A5C-946A-4CC0-BD3E-5F0684F6E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73C38A-0C75-4FA9-B353-3500B614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607EE-DEB6-48A8-AF6B-A353619A9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CAA49-FB26-4F43-90F2-9515550D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7BA7C-1207-4802-9E9C-27F1FAB6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DADEB-E340-4218-9A42-D7B0BFF3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0C228-7657-483E-8ADE-27141AD1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B5A00F-2B7B-4E42-9292-4788B27F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105BD0-D124-464E-A879-9DBD8406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B7772-16EA-47B5-8B66-01E2BB5C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BCC2A-38BF-4D58-9B6D-5E1BEBB9D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C05-20C6-465A-9694-6CDB5757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B4949-E604-44A8-93C6-3E9275B4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1C576-2019-45B9-8D45-81D522EEB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C72C18-6F93-407E-A909-9141EA419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D5DB5C-2FDE-43B5-B786-F03971909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C153EC-3FC2-4F26-B7FF-D511C620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C6AEA0-9BBE-4F86-8C7B-65E626AF2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58C26-08FF-4534-B0E0-101778B0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6C3830-B5AB-4E1C-8311-BC95C85C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3A91B25-0C5F-488B-87E6-A2D40ECA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5805C3-86F0-4453-85BC-A1D1F6EF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2CE3-212F-4106-A8A9-C638D3430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103D52-41DD-49AF-ACF9-7CD248CF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0FBB49-C0B0-4CB8-A19C-5BA1B697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FE3E0D-47D6-4451-A10A-EF1CD12E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B613EA-8F89-40BA-AEF2-E13B5EFDF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42829B-56EA-4651-8498-41A47FB3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0986F-4E24-4AD7-A917-91EBC3263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285D8E-FE36-4A7C-82EF-6FEA5A24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0B698-5E4B-432A-BE4E-E252EB82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68B63-E7EC-447A-B69E-815F48F0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A314A-E2E1-44EA-9CD7-84484079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5464-5778-4622-83DF-0FD40C42F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9FBB41-CB1B-4225-8EA1-6E6FED0C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C0D1F-092E-48A0-A6E2-C057DAFC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9069F4-CC88-4439-94FA-8F185763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B44B3-40EA-4A75-9070-8E5876DC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159B3-9CD4-4574-A847-E2C6319AA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22348-997E-4C59-B382-0448F905D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866DFF-4FA8-4E3D-9EE2-ED59015E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0CF9C1-1800-46B9-A0B8-A0EE1D31E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AA008E-F1AB-492B-AC76-B29354A1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DA95DB-331C-4CD9-BDA7-B6E2E1F2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55431-029A-473D-8DB4-F15D55C9C32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8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9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0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sldNum" idx="29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6D1A-20BA-43F8-A31C-A702626250A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ftr" idx="30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F87BD-5EC1-4CBD-9099-2CA74FEFFF0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ftr" idx="3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sldNum" idx="3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E180-D2AC-49AE-8B32-B7F36BAABB2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CCB06-F2F6-49AE-BCB6-3186584BFB1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627E-DB5F-456B-B422-5EA538E62BC6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E473C-1E65-4286-B034-F646A25362F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8077-2C93-4591-886A-FC7AB4FBB56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5D53C-B609-4EF6-90AC-610E8650D65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28A5-8508-4927-9127-4897D193E22D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539AC-2200-4B1E-AE31-72C36CB9D9C0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8c3d91"/>
            </a:gs>
          </a:gsLst>
          <a:lin ang="1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sldNum" idx="26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E15C-67E9-464F-BFCC-265284EBA24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ftr" idx="27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4"/>
          <p:cNvSpPr/>
          <p:nvPr/>
        </p:nvSpPr>
        <p:spPr>
          <a:xfrm>
            <a:off x="785880" y="0"/>
            <a:ext cx="7853400" cy="15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99"/>
                </a:solidFill>
                <a:latin typeface="Forte"/>
              </a:rPr>
              <a:t>                 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ccff"/>
                </a:solidFill>
                <a:latin typeface="Forte"/>
              </a:rPr>
              <a:t>«</a:t>
            </a:r>
            <a:r>
              <a:rPr b="1" i="1" lang="ru-RU" sz="3200" spc="-1" strike="noStrike">
                <a:solidFill>
                  <a:srgbClr val="99ccff"/>
                </a:solidFill>
                <a:latin typeface="Arial Black"/>
              </a:rPr>
              <a:t>Методика обучения детей с речевыми нарушениями</a:t>
            </a:r>
            <a:r>
              <a:rPr b="1" i="1" lang="ru-RU" sz="3200" spc="-1" strike="noStrike">
                <a:solidFill>
                  <a:srgbClr val="99ccff"/>
                </a:solidFill>
                <a:latin typeface="Forte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" name="Text Box 10"/>
          <p:cNvSpPr/>
          <p:nvPr/>
        </p:nvSpPr>
        <p:spPr>
          <a:xfrm>
            <a:off x="5472000" y="4714920"/>
            <a:ext cx="367200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Работу выполнил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учитель начальных классов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ГБОУ  СОШ №1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    </a:t>
            </a: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Тарасова Т.Л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99ccff"/>
                </a:solidFill>
                <a:latin typeface="Tahoma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6" name="Рисунок 8" descr="0006-015-obrazovatelnaja-sistema-shkola-2100.png"/>
          <p:cNvPicPr/>
          <p:nvPr/>
        </p:nvPicPr>
        <p:blipFill>
          <a:blip r:embed="rId1"/>
          <a:stretch/>
        </p:blipFill>
        <p:spPr>
          <a:xfrm>
            <a:off x="1357200" y="2071800"/>
            <a:ext cx="3827520" cy="3959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6"/>
          <p:cNvSpPr/>
          <p:nvPr/>
        </p:nvSpPr>
        <p:spPr>
          <a:xfrm>
            <a:off x="971640" y="184464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Text Box 8"/>
          <p:cNvSpPr/>
          <p:nvPr/>
        </p:nvSpPr>
        <p:spPr>
          <a:xfrm>
            <a:off x="4429080" y="714240"/>
            <a:ext cx="47149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Дети с нарушениями речи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это дети, имеющие отклонения в развитии речи при нормальном слухе и сохранном интеллекте. Нарушения речи многообразны, они могут проявляться в нарушении произношения, грамматического строя речи, бедности словарного запаса, а также в нарушении темпа и плавности реч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9" name="Рисунок 6" descr="archive_Mr2406-1024x682.jpg"/>
          <p:cNvPicPr/>
          <p:nvPr/>
        </p:nvPicPr>
        <p:blipFill>
          <a:blip r:embed="rId1"/>
          <a:stretch/>
        </p:blipFill>
        <p:spPr>
          <a:xfrm>
            <a:off x="0" y="2143080"/>
            <a:ext cx="4249800" cy="2830680"/>
          </a:xfrm>
          <a:prstGeom prst="rect">
            <a:avLst/>
          </a:prstGeom>
          <a:ln w="0">
            <a:noFill/>
          </a:ln>
        </p:spPr>
      </p:pic>
    </p:spTree>
  </p:cSld>
  <p:transition>
    <p:wipe dir="l"/>
    <p:sndAc>
      <p:stSnd>
        <p:snd r:embed="rId2" name="chimes.wav"/>
      </p:stSnd>
    </p:sndAc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Прямоугольник 2" descr=""/>
          <p:cNvPicPr/>
          <p:nvPr/>
        </p:nvPicPr>
        <p:blipFill>
          <a:blip r:embed="rId1"/>
          <a:stretch/>
        </p:blipFill>
        <p:spPr>
          <a:xfrm>
            <a:off x="1274760" y="-96840"/>
            <a:ext cx="6931080" cy="1859040"/>
          </a:xfrm>
          <a:prstGeom prst="rect">
            <a:avLst/>
          </a:prstGeom>
          <a:ln w="0">
            <a:noFill/>
          </a:ln>
        </p:spPr>
      </p:pic>
      <p:sp>
        <p:nvSpPr>
          <p:cNvPr id="551" name="TextBox 3"/>
          <p:cNvSpPr/>
          <p:nvPr/>
        </p:nvSpPr>
        <p:spPr>
          <a:xfrm>
            <a:off x="214200" y="2000160"/>
            <a:ext cx="5357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стойкость интересо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иженная наблюда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иженная мотивац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гативиз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веренность в себ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ышенная раздражитель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рессивн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дчивост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сти в общении с окружающи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сти формирования саморегуляции и самоконтрол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2" name="Рисунок 5" descr="i.jpg"/>
          <p:cNvPicPr/>
          <p:nvPr/>
        </p:nvPicPr>
        <p:blipFill>
          <a:blip r:embed="rId2"/>
          <a:stretch/>
        </p:blipFill>
        <p:spPr>
          <a:xfrm>
            <a:off x="5500800" y="4643280"/>
            <a:ext cx="3076560" cy="2048040"/>
          </a:xfrm>
          <a:prstGeom prst="rect">
            <a:avLst/>
          </a:prstGeom>
          <a:ln w="0">
            <a:noFill/>
          </a:ln>
        </p:spPr>
      </p:pic>
      <p:pic>
        <p:nvPicPr>
          <p:cNvPr id="553" name="Рисунок 6" descr="frustrated-boy-studying.jpg"/>
          <p:cNvPicPr/>
          <p:nvPr/>
        </p:nvPicPr>
        <p:blipFill>
          <a:blip r:embed="rId3"/>
          <a:stretch/>
        </p:blipFill>
        <p:spPr>
          <a:xfrm>
            <a:off x="4924440" y="1857240"/>
            <a:ext cx="4219560" cy="2571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4" name="chimes.wav"/>
      </p:stSnd>
    </p:sndAc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Рисунок 1" descr="Безымянный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  <p:sndAc>
      <p:stSnd>
        <p:snd r:embed="rId2" name="chimes.wav"/>
      </p:stSnd>
    </p:sndAc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Text Box 137"/>
          <p:cNvSpPr/>
          <p:nvPr/>
        </p:nvSpPr>
        <p:spPr>
          <a:xfrm>
            <a:off x="-285840" y="0"/>
            <a:ext cx="564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Tahoma"/>
              </a:rPr>
              <a:t>  </a:t>
            </a:r>
            <a:r>
              <a:rPr b="1" i="1" lang="ru-RU" sz="2400" spc="-1" strike="noStrike">
                <a:solidFill>
                  <a:srgbClr val="99ccff"/>
                </a:solidFill>
                <a:latin typeface="Tahoma"/>
              </a:rPr>
              <a:t>Упражнения которые включают в себя занятия п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ccff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99ccff"/>
                </a:solidFill>
                <a:latin typeface="Tahoma"/>
              </a:rPr>
              <a:t>развитию реч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" name="Прямоугольник 21"/>
          <p:cNvSpPr/>
          <p:nvPr/>
        </p:nvSpPr>
        <p:spPr>
          <a:xfrm>
            <a:off x="285840" y="1143000"/>
            <a:ext cx="5214960" cy="49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 Упражнение на развитие общих движ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 Упражнения на развитие внимания и памя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слухового вним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 Упражнение на развитие речевого вним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 Упражнения на развитие чувства рит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 Упражнения на развитие мелкой мотори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ьчиковые игр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ешки для мелкой мотор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развитие речевого дыхани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развитие силы гол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е на развитие просоди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координацию речи с движение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ражнения на развитие речевых и мимических движе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7" name="Рисунок 22" descr="0013-003-Obuchenie-chteniju-detej-s-ONR.jpg"/>
          <p:cNvPicPr/>
          <p:nvPr/>
        </p:nvPicPr>
        <p:blipFill>
          <a:blip r:embed="rId1"/>
          <a:stretch/>
        </p:blipFill>
        <p:spPr>
          <a:xfrm>
            <a:off x="5429160" y="2786040"/>
            <a:ext cx="3714840" cy="2714760"/>
          </a:xfrm>
          <a:prstGeom prst="rect">
            <a:avLst/>
          </a:prstGeom>
          <a:ln w="0">
            <a:noFill/>
          </a:ln>
        </p:spPr>
      </p:pic>
      <p:pic>
        <p:nvPicPr>
          <p:cNvPr id="558" name="Рисунок 23" descr="Gluhie_066_600.jpg"/>
          <p:cNvPicPr/>
          <p:nvPr/>
        </p:nvPicPr>
        <p:blipFill>
          <a:blip r:embed="rId2"/>
          <a:stretch/>
        </p:blipFill>
        <p:spPr>
          <a:xfrm>
            <a:off x="5429160" y="357120"/>
            <a:ext cx="3714840" cy="2476440"/>
          </a:xfrm>
          <a:prstGeom prst="rect">
            <a:avLst/>
          </a:prstGeom>
          <a:ln w="0">
            <a:noFill/>
          </a:ln>
        </p:spPr>
      </p:pic>
      <p:sp>
        <p:nvSpPr>
          <p:cNvPr id="559" name="Прямоугольник 24"/>
          <p:cNvSpPr/>
          <p:nvPr/>
        </p:nvSpPr>
        <p:spPr>
          <a:xfrm>
            <a:off x="0" y="5500800"/>
            <a:ext cx="90010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Вся работа по развитию речи должна проводиться под  доступным и понятным детям  девизом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то хочет разговаривать, тот должен выговаривать  всё правильно и внятно, чтоб было всем понятно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trips dir="ru"/>
    <p:sndAc>
      <p:stSnd>
        <p:snd r:embed="rId3" name="chimes.wav"/>
      </p:stSnd>
    </p:sndAc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Box 3"/>
          <p:cNvSpPr/>
          <p:nvPr/>
        </p:nvSpPr>
        <p:spPr>
          <a:xfrm>
            <a:off x="0" y="0"/>
            <a:ext cx="9144000" cy="74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чь – это сложноорганизованная психическая функция, поэтому отклонение в ее развитии и ее нарушение, как правило, являются признаком серьезных изменений состояния ЦНС. Дети с речевой патологией имеют трудности в обучении. Эти дети требуют особого внимания со стороны педагог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ервую очередь таких детей необходимо направить к логопеду. Кроме этого этим детям необходим более благоприятный (облегченный) режим обучения. Они нуждаются в особой психологической поддержке со стороны учителя. Это выражается в ободрении, мягком тоне замечаний, поощрении и т.п. Задачи, которые ставятся перед классом должны детализироваться, инструкции быть доступными для понимания и выполнения. В тех случаях, когда у ребенка отмечаются стойкие ошибки письма и чтения, не следует его заставлять многократно повторять выполнение одних и тех же заданий. В этом случае ребенок нуждается в специализированной логопедической помощи с использованием коррекционных методов обучения письму и чтени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newsflash/>
    <p:sndAc>
      <p:stSnd>
        <p:snd r:embed="rId1" name="chimes.wav"/>
      </p:stSnd>
    </p:sndAc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Box 1"/>
          <p:cNvSpPr/>
          <p:nvPr/>
        </p:nvSpPr>
        <p:spPr>
          <a:xfrm>
            <a:off x="500040" y="285840"/>
            <a:ext cx="821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 общении с учащимися, речь педагога должна быть небыстрой, размеренной, состоять из коротких и ясных по смыслу предложений, эмоционально выразительной. А главное, общий фон поведения учителя и обращения к детям (мимика, жесты, интонация) должен быть благожелательным, вызывать у ребенка желание сотруднича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2" name="Рисунок 2" descr="lori-0001470599-bigwww.jpg"/>
          <p:cNvPicPr/>
          <p:nvPr/>
        </p:nvPicPr>
        <p:blipFill>
          <a:blip r:embed="rId1"/>
          <a:stretch/>
        </p:blipFill>
        <p:spPr>
          <a:xfrm>
            <a:off x="2928960" y="2786040"/>
            <a:ext cx="5929200" cy="37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7T06:40:18Z</dcterms:created>
  <dc:creator>Света</dc:creator>
  <dc:description/>
  <dc:language>en-US</dc:language>
  <cp:lastModifiedBy>Татьяна Тарасова</cp:lastModifiedBy>
  <dcterms:modified xsi:type="dcterms:W3CDTF">2018-07-02T12:00:46Z</dcterms:modified>
  <cp:revision>53</cp:revision>
  <dc:subject/>
  <dc:title>Слайд 1</dc:title>
</cp:coreProperties>
</file>