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01D-780F-402F-8B9F-9F97334A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A76-19B1-471A-898F-D67F6CA6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7C38C3-3356-40B7-B6F0-B9FE561A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B8933B-88F0-4625-B75E-E9166F7E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0C86FD-8026-4E2C-943D-0E86AC91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CA0B04-99CE-4366-B529-5F4C770C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7C288C-DE85-4DF7-A9AD-E92D86AD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C87014-1549-4737-8DB4-E49F24E0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4FAEC-8943-4125-AD27-7E1A4AF22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B562F3-0E20-4593-B0B8-50576E911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46638-A230-4AA3-B6B1-9B95D0BD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B3AF5F-3AB3-4CDA-AB5F-05E0A8063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DA8E-141C-4066-8772-1915D210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C86C00-45AF-45BB-A7A7-65604AD1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C4EF73-8376-45C9-B98D-732A4E579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2A5A22-1F43-496A-B470-E199D899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4E1F89-C9DD-41A9-9DC7-663DC80E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F91DFB-21EE-46C7-B2A4-12A935B7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F8E3FC-88E0-4990-8D78-D33B6C40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B27F4D-3466-4480-81EF-028BC121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B374E54-E0A1-4BC0-BA46-0F5F9078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733AAE-49EB-41F2-B557-B933A75AE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2E02A3F-C9A4-412C-8BA5-C2E66C1B7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55A8-4644-4614-88C8-EE418957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DF90C0-2821-4936-BE75-E701DDC1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03C88-8CB4-4A54-9580-D27CDE16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6CAD4D-ED6A-4898-8E82-F6588E277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EF329-A2B9-4864-A568-6F45C5CC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2E6F1-7A2F-49FE-AD61-F08142E96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A1364-95D7-4AC1-AD99-B4E08616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79098-9D79-4AD5-955D-FDA37517A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A2793-CDBE-4544-AC30-E978C432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1578E-7EAF-4D73-862F-747C7E27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F6A220-8FF9-4A5A-A2D4-2780A456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1B119-3EB6-4828-B67E-5A5CA5B8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45568-84AA-475C-9500-2C16B31D2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80337-2E1D-4436-914F-AF75FB108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70460-F7E4-490D-A434-A502FC091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DE3CD-8F49-429B-92AF-51D33242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725B96-9401-4E36-BB9E-BF8897D1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75D6F8-9E5F-439D-9818-4B61F3B0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140C18-9A17-4E98-9654-CC4BE5873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38F31-226A-4960-B300-5550D0C15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071883-8FD7-46B3-BE91-7378D0BE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71E5D-E556-4DD7-8C20-22FD4D91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0B5E-D294-4AB8-B66E-DE5D0EB9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72EAB9-9265-4AC6-B1E6-CB41A382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114CD-ADCD-4EC9-83EC-E2B6C56B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114A8-EAAD-4EEB-B99B-5281E153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2489F-8043-4E8F-B9E3-B6461621E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42E210-47A0-4AEE-AD45-495D6007E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597A-5A43-4F6E-B914-3ED50F66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3D6DB-BA26-49CB-8354-4A09AB3E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EA32-1E83-4941-B96A-AAAB0005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268B-BBDF-47F3-BC34-40140081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EA78-C865-4A8C-A184-D8C32271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3618-B0A6-40DE-B20E-043AFFEEA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3D00-359A-45D2-8C03-72BD6A82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10C3-9B3A-4465-94DB-AA828718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FCE8-5F65-4192-AF00-DF2CD3D7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91383-14B2-427C-916E-ABD2A60B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3375C-4888-4126-B32B-29413D65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BF8DA-CC0F-4396-9224-FE4FDB878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95BA5-2316-4A6E-B427-B72544DD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A7106-D750-45AF-B4B8-F2831EB9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95400-0F69-47E3-A18B-1F8D04D4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B7B98-8467-4174-9F2D-418CE2834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F288-EB03-4879-9C81-221D9FF5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722B9-5BB0-4E84-82A1-C86FF3B4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6C50FF-023B-452C-8796-30631F12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DD9AF3-591C-4F38-ABBC-101A0AE4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7A67B-5A6E-4453-AF4A-3D6DA971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D49F3D-3CBA-4A1A-9B3C-2E3507DC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451B4-3995-498D-81A2-8A019043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BD7B09-A9C2-4912-9459-E04931E5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D615F-8A16-462F-A713-32E6FAE2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8879-1E11-4267-B61F-7A569304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B13E-0A4B-4A03-A4FE-EBEA645E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91A0-438D-4128-898B-9266BA8D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0CA48-6F13-40CE-A251-86D4B8BA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1675-D6A6-4FBF-BF75-47DDAB3E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26C5F4-135D-42E8-BE15-B9FE7862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B7C16-9953-4923-9DAD-1030DBCC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7C2F9-E793-4544-AEF2-51AAB4BBF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49C41-2417-4688-9F18-59C429E74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71249-D89E-4A2B-82C8-C6FAF458E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86857-2D5E-42E7-9E06-B7B87132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CB5D-F822-4D6F-933E-8BC16BBEC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6298C-5C78-4B6F-ABB0-895DCBB52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D2B-F59D-4FE4-8F87-183C97EC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4D64D-A0B8-44E7-A107-2BC09377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79EF9-2058-4711-BEFE-F28E9E2B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43606-201E-4736-BF73-F4C26D1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6E81B-C7C3-4337-A3FA-86845BBB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7DAC3-3593-4BCA-B3FC-F70FA6208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7E22B-E25D-4228-95DE-4A70190A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CB049-BA25-4DC9-8766-BD9591F2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754A6-6A66-4A96-B572-903E6B4E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37EFD-073A-42DB-977C-0BE47997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773D7-E330-41E1-ABAD-7FE84BEDE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160B-CA8E-45C6-AEFC-0355E067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ED209-FD93-4100-9E22-5422A8C07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C3152-5E8D-419C-A1EE-7352D65CC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91D72-7E27-4A9D-8287-ECEDE7F4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1A55C-9DB0-4633-BEF2-00398F3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4A04A7-C40E-4D45-BBD4-58BD1CE0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1D771-9009-4924-843E-DD622AA5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53DDD-9941-4591-9756-991BF86B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B7F8E-2B6C-4C93-ADE9-BC4882B2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AA2F5-2F59-4A6C-AF9E-E1A35070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442D7-7102-42BD-B246-2381D920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BB2A-4B1C-4D13-A6A1-5D02E087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6F6F8-0511-428A-8FAB-8613584A1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FD527-BEDB-4625-B986-7ED19FC7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9AF10C-76AD-4942-8AD1-5258AAC5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76A05-D69F-4BDD-A742-1A6A52F52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1583FC-3639-49F8-97A2-80269FAA6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C6033-6B66-4930-BEDD-6AFA4560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6916F2-16FA-40D1-B882-7193E143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8B28FD-9B03-403D-A720-68FBDAF2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3E8147-ECF0-4DA5-A1F1-262F0C25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63FABE-F503-4874-BDD3-287DC47D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72C4-90A6-42AA-A9D4-3307373F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4E3EE2-6C0C-43BE-9D01-4BA742EA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14D78-6BD4-482B-8FB2-08927038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5739DA-EAC9-477E-9F94-9E6803967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AD5FCF-5D26-47CA-B421-CD8C9950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C1EBF9-6AC6-420E-94B6-8F164929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9DB111-EE0A-4C9C-9AEE-8C40ECFE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5C57A-6BBC-4002-9C3C-A1A4426A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C650BC-4052-45FA-903A-49743E56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CC76B-7168-4F46-8D0C-1B1740013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46F88-71C7-4EC1-B32F-C006E31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6AB6-6E3B-47E0-A82E-D503AD2C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1A63A-B132-4D26-9F41-F805120F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A16CF-B5E7-45AF-97C3-6938F812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55407-210F-4BC6-9DF9-20660516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7BE98-D279-4063-990C-FB06B464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282EE-6D63-47B6-BA51-8EC28654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39D5E-5CAF-4D42-A48E-B6AA01D5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7766DC-3F03-4D96-B079-0EA8491F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CEF35F-A1F0-4A9E-AC98-2418B9956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34394-E9A7-4DB5-B487-BF916A8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7FB299-50C5-417C-A080-05D9B77C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7A17-F3E5-4953-9519-DEA20E692D0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3015-9E61-466C-A7E1-CEF35629592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D688-07DA-4187-B916-33A9450CE8B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9AD1-4D94-4B6D-AB40-0DA87C9F58E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622D-EF3E-45C7-AF44-98B63B3BD2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1898-26C9-43A4-BB3B-C6E8C3B9E30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B05E-C98C-4C80-AAD6-240D3A7518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93E70-C6C4-43D8-BC43-F4913224C3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AA71-F979-4BCD-8656-C0B2ACD70F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0DE7-887D-40DA-9242-3A2AA174DC9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364C-B492-436B-B827-145C3C1D59D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08E7-3EB3-4E3E-A096-D9B6659D5E7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785880" y="0"/>
            <a:ext cx="78534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Forte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ccff"/>
                </a:solidFill>
                <a:latin typeface="Forte"/>
              </a:rPr>
              <a:t>«</a:t>
            </a:r>
            <a:r>
              <a:rPr b="1" i="1" lang="ru-RU" sz="3200" spc="-1" strike="noStrike">
                <a:solidFill>
                  <a:srgbClr val="99ccff"/>
                </a:solidFill>
                <a:latin typeface="Arial Black"/>
              </a:rPr>
              <a:t>Методика обучения детей с речевыми нарушениями</a:t>
            </a:r>
            <a:r>
              <a:rPr b="1" i="1" lang="ru-RU" sz="3200" spc="-1" strike="noStrike">
                <a:solidFill>
                  <a:srgbClr val="99ccff"/>
                </a:solidFill>
                <a:latin typeface="Forte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472000" y="4714920"/>
            <a:ext cx="367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Работу выполнил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ГБОУ  СОШ №1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    </a:t>
            </a: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Тарасова Т.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Рисунок 8" descr="0006-015-obrazovatelnaja-sistema-shkola-2100.png"/>
          <p:cNvPicPr/>
          <p:nvPr/>
        </p:nvPicPr>
        <p:blipFill>
          <a:blip r:embed="rId1"/>
          <a:stretch/>
        </p:blipFill>
        <p:spPr>
          <a:xfrm>
            <a:off x="1357200" y="2071800"/>
            <a:ext cx="382752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6"/>
          <p:cNvSpPr/>
          <p:nvPr/>
        </p:nvSpPr>
        <p:spPr>
          <a:xfrm>
            <a:off x="971640" y="184464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29080" y="714240"/>
            <a:ext cx="4714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ети с нарушениями реч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дети, имеющие отклонения в развитии речи при нормальном слухе и сохранном интеллекте. Нарушения речи многообразны, они могут проявляться в нарушении произношения, грамматического строя речи, бедности словарного запаса, а также в нарушении темпа и плавности реч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Рисунок 6" descr="archive_Mr2406-1024x682.jpg"/>
          <p:cNvPicPr/>
          <p:nvPr/>
        </p:nvPicPr>
        <p:blipFill>
          <a:blip r:embed="rId1"/>
          <a:stretch/>
        </p:blipFill>
        <p:spPr>
          <a:xfrm>
            <a:off x="0" y="2143080"/>
            <a:ext cx="4249800" cy="2830680"/>
          </a:xfrm>
          <a:prstGeom prst="rect">
            <a:avLst/>
          </a:prstGeom>
          <a:ln w="0">
            <a:noFill/>
          </a:ln>
        </p:spPr>
      </p:pic>
    </p:spTree>
  </p:cSld>
  <p:transition>
    <p:wipe dir="l"/>
    <p:sndAc>
      <p:stSnd>
        <p:snd r:embed="rId2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Прямоугольник 2" descr=""/>
          <p:cNvPicPr/>
          <p:nvPr/>
        </p:nvPicPr>
        <p:blipFill>
          <a:blip r:embed="rId1"/>
          <a:stretch/>
        </p:blipFill>
        <p:spPr>
          <a:xfrm>
            <a:off x="1274760" y="-96840"/>
            <a:ext cx="6931080" cy="185904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214200" y="2000160"/>
            <a:ext cx="535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тойкость интере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женная наблюда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ная мотив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из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еренность в се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ая раздражи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дчив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сти в общении с окружающи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сти формирования саморегуляции и самоконтро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2" name="Рисунок 5" descr="i.jpg"/>
          <p:cNvPicPr/>
          <p:nvPr/>
        </p:nvPicPr>
        <p:blipFill>
          <a:blip r:embed="rId2"/>
          <a:stretch/>
        </p:blipFill>
        <p:spPr>
          <a:xfrm>
            <a:off x="5500800" y="46432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6" descr="frustrated-boy-studying.jpg"/>
          <p:cNvPicPr/>
          <p:nvPr/>
        </p:nvPicPr>
        <p:blipFill>
          <a:blip r:embed="rId3"/>
          <a:stretch/>
        </p:blipFill>
        <p:spPr>
          <a:xfrm>
            <a:off x="4924440" y="1857240"/>
            <a:ext cx="4219560" cy="2571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Рисунок 1" descr="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37"/>
          <p:cNvSpPr/>
          <p:nvPr/>
        </p:nvSpPr>
        <p:spPr>
          <a:xfrm>
            <a:off x="-285840" y="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Упражнения которые включают в себя занятия п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развитию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Прямоугольник 21"/>
          <p:cNvSpPr/>
          <p:nvPr/>
        </p:nvSpPr>
        <p:spPr>
          <a:xfrm>
            <a:off x="285840" y="1143000"/>
            <a:ext cx="52149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Упражнение на развитие общих движ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Упражнения на развитие внимания и памя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слухового вним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Упражнение на развитие речевого вним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Упражнения на развитие чувства рит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Упражнения на развитие мелкой мотори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ьчиковые иг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шки для мелкой мотор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развитие речевого дых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развитие силы гол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на развитие просод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координацию речи с движение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развитие речевых и мимических движ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Рисунок 22" descr="0013-003-Obuchenie-chteniju-detej-s-ONR.jpg"/>
          <p:cNvPicPr/>
          <p:nvPr/>
        </p:nvPicPr>
        <p:blipFill>
          <a:blip r:embed="rId1"/>
          <a:stretch/>
        </p:blipFill>
        <p:spPr>
          <a:xfrm>
            <a:off x="5429160" y="2786040"/>
            <a:ext cx="3714840" cy="27147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23" descr="Gluhie_066_600.jpg"/>
          <p:cNvPicPr/>
          <p:nvPr/>
        </p:nvPicPr>
        <p:blipFill>
          <a:blip r:embed="rId2"/>
          <a:stretch/>
        </p:blipFill>
        <p:spPr>
          <a:xfrm>
            <a:off x="5429160" y="357120"/>
            <a:ext cx="3714840" cy="247644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24"/>
          <p:cNvSpPr/>
          <p:nvPr/>
        </p:nvSpPr>
        <p:spPr>
          <a:xfrm>
            <a:off x="0" y="5500800"/>
            <a:ext cx="900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ся работа по развитию речи должна проводиться под  доступным и понятным детям  девизо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хочет разговаривать, тот должен выговаривать  всё правильно и внятно, чтоб было всем понят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  <p:sndAc>
      <p:stSnd>
        <p:snd r:embed="rId3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3"/>
          <p:cNvSpPr/>
          <p:nvPr/>
        </p:nvSpPr>
        <p:spPr>
          <a:xfrm>
            <a:off x="0" y="0"/>
            <a:ext cx="9144000" cy="74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ь – это сложноорганизованная психическая функция, поэтому отклонение в ее развитии и ее нарушение, как правило, являются признаком серьезных изменений состояния ЦНС. Дети с речевой патологией имеют трудности в обучении. Эти дети требуют особого внимания со стороны педагог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ервую очередь таких детей необходимо направить к логопеду. Кроме этого этим детям необходим более благоприятный (облегченный) режим обучения. Они нуждаются в особой психологической поддержке со стороны учителя. Это выражается в ободрении, мягком тоне замечаний, поощрении и т.п. Задачи, которые ставятся перед классом должны детализироваться, инструкции быть доступными для понимания и выполнения. В тех случаях, когда у ребенка отмечаются стойкие ошибки письма и чтения, не следует его заставлять многократно повторять выполнение одних и тех же заданий. В этом случае ребенок нуждается в специализированной логопедической помощи с использованием коррекционных методов обучения письму и чтен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1"/>
          <p:cNvSpPr/>
          <p:nvPr/>
        </p:nvSpPr>
        <p:spPr>
          <a:xfrm>
            <a:off x="500040" y="285840"/>
            <a:ext cx="82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бщении с учащимися, речь педагога должна быть небыстрой, размеренной, состоять из коротких и ясных по смыслу предложений, эмоционально выразительной. А главное, общий фон поведения учителя и обращения к детям (мимика, жесты, интонация) должен быть благожелательным, вызывать у ребенка желание сотруднич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Рисунок 2" descr="lori-0001470599-bigwww.jpg"/>
          <p:cNvPicPr/>
          <p:nvPr/>
        </p:nvPicPr>
        <p:blipFill>
          <a:blip r:embed="rId1"/>
          <a:stretch/>
        </p:blipFill>
        <p:spPr>
          <a:xfrm>
            <a:off x="2928960" y="2786040"/>
            <a:ext cx="5929200" cy="37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6:40:18Z</dcterms:created>
  <dc:creator>Света</dc:creator>
  <dc:description/>
  <dc:language>en-US</dc:language>
  <cp:lastModifiedBy>Татьяна Тарасова</cp:lastModifiedBy>
  <dcterms:modified xsi:type="dcterms:W3CDTF">2018-07-02T12:00:46Z</dcterms:modified>
  <cp:revision>53</cp:revision>
  <dc:subject/>
  <dc:title>Слайд 1</dc:title>
</cp:coreProperties>
</file>