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5FB8-6186-449D-8D66-809D4489C6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0588-D11B-4069-9EFB-ACA8FD9164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750A-ADE0-4D67-9F88-B392AE170C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59C9-577D-4426-A564-70A984F329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CCF2-3373-4422-9EDF-A9880F394C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FBC0-BB60-4A69-97C2-C2AC3FE17A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733-3B2C-4310-8547-717781A4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5AA-46FD-4489-A639-D6EA42B0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C9D-9DC2-4C01-97F7-EA07DD47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53A-C670-4FEA-A04E-997F4D28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E2F5-07CD-4973-BACB-9C330873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3B58-2F10-4BB8-9993-DB8CF464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0E3D-FFEC-470C-992B-952600D5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53F8-B129-4449-9F9C-98428571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B973-75B4-4E9A-B214-8B85E6E8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30D7-6D8F-48E4-A0C9-08A4F588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C317-DE76-429B-A8E0-6CC3F9D7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845-C6B4-499C-8545-5E44823B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383C-FD49-445C-AD0E-AF5C619C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D1CB-3517-4345-B0CF-1FEBDA5B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F67F-A248-47BD-8CEF-E764AEE9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0B64-4896-4327-B49F-479D8BDA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95B8-BAB5-429F-BF17-7AECD524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456CF-7562-44BA-B743-D3C0F78A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A8E8E-624B-4C31-B656-3166A10A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2470E-3680-47B7-A8CB-4B4FAE3C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12E9D-3FE9-43C3-9D0F-720494D3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AF251-0A72-4C27-BBBF-7FB5637C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2F7-FF98-44B0-94B9-B6AFDAC3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DDD60-6C32-4999-8EA3-7ADD9DD5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FEEE8-8CA9-4830-9290-4421A68B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FC9C7-D3D5-4792-8449-DB540521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BA283-E973-4845-B5D4-958933E3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1F6F-341B-4AB3-A59B-9BCB3C41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2CBF5-5405-478C-88CD-C8E4E850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7CCF2-6F59-441F-9200-D25ED6C4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E5D58-0A5D-451A-96A3-D099B3B2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737BE-F315-42C1-8E9F-2DF4BD5F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6EC39-65FE-46F5-A0E5-4C331F0C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BFF-51B9-4D45-ABA2-CF8E90FA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FE742-D073-40D9-98F4-59413CBD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6A70B-C6C8-4BB8-BB47-0026D870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CFF19-1367-455B-9040-644564F0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FDD72-EF96-432D-BDDF-D4F6AAB9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2BBDA-299D-44AA-8A83-5C5D2A3A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912AD-5767-4D69-BA76-46690B2E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9994B-9101-4784-B0A2-4EEE87B1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41091-7C81-4ABD-9C92-4375B211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14989-216E-44AF-83C9-D99E320E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64A-DE6C-4D51-BC06-FB49DA59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057-1F53-4842-B5E9-7528568C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463-84E6-48C2-8DDF-7F9F2806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C1D-43C1-4710-862B-97364D76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887-331B-42DE-BA18-1068C8B1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EE7F-C84D-43D8-9265-0325F4EB4D7F}" type="datetime">
              <a:rPr b="0" lang="ru-RU" sz="900" spc="-1" strike="noStrike">
                <a:solidFill>
                  <a:srgbClr val="898989"/>
                </a:solidFill>
                <a:latin typeface="Trebuchet MS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8E97-EEFC-4515-9A57-FFD10ED1057F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D5C5-F4C2-43C1-A236-4E0B1E401CCF}" type="datetime">
              <a:rPr b="0" lang="ru-RU" sz="900" spc="-1" strike="noStrike">
                <a:solidFill>
                  <a:srgbClr val="898989"/>
                </a:solidFill>
                <a:latin typeface="Trebuchet MS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6189-0C18-4BF2-BC3E-66A06F911171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BC12-298C-4CA9-B8DB-9DF576F770A9}" type="datetime">
              <a:rPr b="0" lang="ru-RU" sz="900" spc="-1" strike="noStrike">
                <a:solidFill>
                  <a:srgbClr val="898989"/>
                </a:solidFill>
                <a:latin typeface="Trebuchet MS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3688-3FDC-4376-8A47-A132889AD700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57D5-D9D2-46FD-A85C-A8CB5D368F0A}" type="datetime">
              <a:rPr b="0" lang="ru-RU" sz="900" spc="-1" strike="noStrike">
                <a:solidFill>
                  <a:srgbClr val="898989"/>
                </a:solidFill>
                <a:latin typeface="Trebuchet MS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BE76-FB45-48DD-A5FC-8B1BB0C447EB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Б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нская научно-практическая конференция учащих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уманитарным дисциплинам «Сибирская весна»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9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94920" y="1773360"/>
            <a:ext cx="8318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инация «Культурология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колай Дудко-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, пишущий богов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Банзарова Александра,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«Республиканская Мариинская школа-интернат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Доржиева Дулгар Лосоловна,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«РМШИ»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E416-C72A-4E89-8D98-97C7A94AA875}" type="slidenum">
              <a:rPr b="1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480" y="2736360"/>
            <a:ext cx="3090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Лама Дарма-Доди - духовный наставник Николая Дудко, первый учител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712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Прямоугольник 6"/>
          <p:cNvSpPr/>
          <p:nvPr/>
        </p:nvSpPr>
        <p:spPr>
          <a:xfrm>
            <a:off x="5213520" y="4151160"/>
            <a:ext cx="3751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Учитель Ген Сангей Еш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Его наказ Николаю Дудк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«Возвращайся туда, откуда приехал, и будь там полезен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7" descr="C:\Users\Dolgor\Desktop\танка работа\фото дудко\IMAG0390.jpg"/>
          <p:cNvPicPr/>
          <p:nvPr/>
        </p:nvPicPr>
        <p:blipFill>
          <a:blip r:embed="rId1"/>
          <a:stretch/>
        </p:blipFill>
        <p:spPr>
          <a:xfrm>
            <a:off x="1332000" y="1197000"/>
            <a:ext cx="2016000" cy="25192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8" descr="C:\Users\Dolgor\Desktop\танка работа\фото дудко\IMAG0390.jpg"/>
          <p:cNvPicPr/>
          <p:nvPr/>
        </p:nvPicPr>
        <p:blipFill>
          <a:blip r:embed="rId2"/>
          <a:stretch/>
        </p:blipFill>
        <p:spPr>
          <a:xfrm>
            <a:off x="5651640" y="1125360"/>
            <a:ext cx="1873080" cy="2374920"/>
          </a:xfrm>
          <a:prstGeom prst="rect">
            <a:avLst/>
          </a:prstGeom>
          <a:ln w="0">
            <a:noFill/>
          </a:ln>
        </p:spPr>
      </p:pic>
      <p:sp>
        <p:nvSpPr>
          <p:cNvPr id="252" name="Номер слайда 9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75F8-C16F-45DE-B7B8-1FC5A9344422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498680"/>
            <a:ext cx="279108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Объект 4" descr="C:\Users\Dolgor\Desktop\танка работа\фото дудко\IMAG0366.jpg"/>
          <p:cNvPicPr/>
          <p:nvPr/>
        </p:nvPicPr>
        <p:blipFill>
          <a:blip r:embed="rId1"/>
          <a:srcRect l="0" t="-702" r="0" b="0"/>
          <a:stretch/>
        </p:blipFill>
        <p:spPr>
          <a:xfrm>
            <a:off x="1979640" y="476280"/>
            <a:ext cx="4392720" cy="34574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000" y="4076640"/>
            <a:ext cx="8064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уддийская живопись – это определенные каноны, правила, от которых нельзя отходить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6CEF-65FD-44C3-9CCA-09CB6F53736E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280" y="390240"/>
            <a:ext cx="634860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В мастерской Николая Дудко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8" name="Рисунок 12" descr="C:\Documents and Settings\Дулгар Лосоловна\Мои документы\Мои рисунки\Изображение\Изображение 173.jpg"/>
          <p:cNvPicPr/>
          <p:nvPr/>
        </p:nvPicPr>
        <p:blipFill>
          <a:blip r:embed="rId1"/>
          <a:stretch/>
        </p:blipFill>
        <p:spPr>
          <a:xfrm>
            <a:off x="1042920" y="1341360"/>
            <a:ext cx="6769080" cy="3888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1332000" y="5708520"/>
            <a:ext cx="611964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Поза  лотоса помогает медитировать, не дает уста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5"/>
          <p:cNvSpPr/>
          <p:nvPr/>
        </p:nvSpPr>
        <p:spPr>
          <a:xfrm>
            <a:off x="7451640" y="6093000"/>
            <a:ext cx="5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8A70-74C1-44BD-8801-8F9809A66E3E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15" descr="C:\Users\Dolgor\Desktop\танка работа\фото дудко\IMAG0378.jpg"/>
          <p:cNvPicPr/>
          <p:nvPr/>
        </p:nvPicPr>
        <p:blipFill>
          <a:blip r:embed="rId1"/>
          <a:stretch/>
        </p:blipFill>
        <p:spPr>
          <a:xfrm>
            <a:off x="7104240" y="3673440"/>
            <a:ext cx="1830240" cy="26319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3" name="Объект 5" descr="C:\Users\Dolgor\Desktop\танка работа\фото дудко\IMAG0380.jpg"/>
          <p:cNvPicPr/>
          <p:nvPr/>
        </p:nvPicPr>
        <p:blipFill>
          <a:blip r:embed="rId2"/>
          <a:stretch/>
        </p:blipFill>
        <p:spPr>
          <a:xfrm>
            <a:off x="5003640" y="260280"/>
            <a:ext cx="3600720" cy="23767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"/>
          <p:cNvPicPr/>
          <p:nvPr/>
        </p:nvPicPr>
        <p:blipFill>
          <a:blip r:embed="rId3"/>
          <a:stretch/>
        </p:blipFill>
        <p:spPr>
          <a:xfrm>
            <a:off x="297000" y="3606840"/>
            <a:ext cx="2305080" cy="26622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C:\Users\Dolgor\AppData\Local\Microsoft\Windows\INetCache\Content.Word\IMAG0384.jpg"/>
          <p:cNvPicPr/>
          <p:nvPr/>
        </p:nvPicPr>
        <p:blipFill>
          <a:blip r:embed="rId4"/>
          <a:stretch/>
        </p:blipFill>
        <p:spPr>
          <a:xfrm>
            <a:off x="324000" y="233280"/>
            <a:ext cx="2303280" cy="3133800"/>
          </a:xfrm>
          <a:prstGeom prst="rect">
            <a:avLst/>
          </a:prstGeom>
          <a:ln w="0">
            <a:noFill/>
          </a:ln>
        </p:spPr>
      </p:pic>
      <p:pic>
        <p:nvPicPr>
          <p:cNvPr id="266" name="Объект 4" descr="C:\Users\Dolgor\Desktop\танка работа\фото дудко\IMAG0387.jpg"/>
          <p:cNvPicPr/>
          <p:nvPr/>
        </p:nvPicPr>
        <p:blipFill>
          <a:blip r:embed="rId5"/>
          <a:stretch/>
        </p:blipFill>
        <p:spPr>
          <a:xfrm>
            <a:off x="2762280" y="2967120"/>
            <a:ext cx="4195800" cy="27399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0"/>
          <p:cNvSpPr/>
          <p:nvPr/>
        </p:nvSpPr>
        <p:spPr>
          <a:xfrm>
            <a:off x="611280" y="2967120"/>
            <a:ext cx="18730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инова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297000" y="6129360"/>
            <a:ext cx="26812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раска из шафр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2"/>
          <p:cNvSpPr/>
          <p:nvPr/>
        </p:nvSpPr>
        <p:spPr>
          <a:xfrm>
            <a:off x="6178680" y="5977080"/>
            <a:ext cx="2755800" cy="100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Золото наносится в последнюю очер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5318280" y="2394000"/>
            <a:ext cx="3233520" cy="100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лую краску изготовляет из раков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4"/>
          <p:cNvSpPr/>
          <p:nvPr/>
        </p:nvSpPr>
        <p:spPr>
          <a:xfrm>
            <a:off x="3348000" y="5372280"/>
            <a:ext cx="316872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В палитре 85 оттен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Номер слайда 16"/>
          <p:cNvSpPr/>
          <p:nvPr/>
        </p:nvSpPr>
        <p:spPr>
          <a:xfrm flipH="1">
            <a:off x="5364000" y="609300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403D-3BDF-4040-977E-509FE70F7052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Вайшравана (Намсарай)"/>
          <p:cNvPicPr/>
          <p:nvPr/>
        </p:nvPicPr>
        <p:blipFill>
          <a:blip r:embed="rId1"/>
          <a:stretch/>
        </p:blipFill>
        <p:spPr>
          <a:xfrm>
            <a:off x="6659640" y="3645000"/>
            <a:ext cx="2184480" cy="2865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Манжушри"/>
          <p:cNvPicPr/>
          <p:nvPr/>
        </p:nvPicPr>
        <p:blipFill>
          <a:blip r:embed="rId2"/>
          <a:stretch/>
        </p:blipFill>
        <p:spPr>
          <a:xfrm>
            <a:off x="6608880" y="93600"/>
            <a:ext cx="2216160" cy="29116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5003280" y="5157360"/>
            <a:ext cx="1584360" cy="149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айшравана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(Намсарай)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нагтан – золотой рисунок на черном фон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7" name="Picture 12" descr="Ма-За-Там сум"/>
          <p:cNvPicPr/>
          <p:nvPr/>
        </p:nvPicPr>
        <p:blipFill>
          <a:blip r:embed="rId3"/>
          <a:stretch/>
        </p:blipFill>
        <p:spPr>
          <a:xfrm>
            <a:off x="282600" y="4003560"/>
            <a:ext cx="2568600" cy="269424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6"/>
          <p:cNvSpPr/>
          <p:nvPr/>
        </p:nvSpPr>
        <p:spPr>
          <a:xfrm>
            <a:off x="2851200" y="5087880"/>
            <a:ext cx="170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а-За-Там сум, </a:t>
            </a: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мартан-золотой рисунок на крас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4" descr="Ушнишавиджая"/>
          <p:cNvPicPr/>
          <p:nvPr/>
        </p:nvPicPr>
        <p:blipFill>
          <a:blip r:embed="rId4"/>
          <a:stretch/>
        </p:blipFill>
        <p:spPr>
          <a:xfrm>
            <a:off x="235080" y="173160"/>
            <a:ext cx="2827080" cy="32432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7"/>
          <p:cNvSpPr/>
          <p:nvPr/>
        </p:nvSpPr>
        <p:spPr>
          <a:xfrm>
            <a:off x="287280" y="3295800"/>
            <a:ext cx="28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Trebuchet MS"/>
                <a:ea typeface="JasmineUPC"/>
              </a:rPr>
              <a:t>Ушнишавиджаи,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  <a:ea typeface="JasmineUPC"/>
              </a:rPr>
              <a:t>полноцветная та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Манжушри, Авалокитешвара и Ваджрапани"/>
          <p:cNvPicPr/>
          <p:nvPr/>
        </p:nvPicPr>
        <p:blipFill>
          <a:blip r:embed="rId5"/>
          <a:stretch/>
        </p:blipFill>
        <p:spPr>
          <a:xfrm>
            <a:off x="3627360" y="1379520"/>
            <a:ext cx="2546280" cy="35766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8"/>
          <p:cNvSpPr/>
          <p:nvPr/>
        </p:nvSpPr>
        <p:spPr>
          <a:xfrm>
            <a:off x="3247920" y="125280"/>
            <a:ext cx="2968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Trebuchet MS"/>
              </a:rPr>
              <a:t>Манжушри - Бодхисаттва Великой Мудрости, </a:t>
            </a:r>
            <a:r>
              <a:rPr b="0" i="1" lang="ru-RU" sz="2000" spc="-1" strike="noStrike">
                <a:solidFill>
                  <a:srgbClr val="ff0000"/>
                </a:solidFill>
                <a:latin typeface="Trebuchet MS"/>
              </a:rPr>
              <a:t>танка на ше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11"/>
          <p:cNvSpPr/>
          <p:nvPr/>
        </p:nvSpPr>
        <p:spPr>
          <a:xfrm>
            <a:off x="4572000" y="623736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1B53-451B-4B15-996A-D582CDFADFFB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392880" y="2781360"/>
            <a:ext cx="275112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Манжушри, </a:t>
            </a: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сертан-рисунок на золот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Объект 4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2682720" cy="33591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8" descr="C:\Users\Dolgor\Desktop\танка работа\фото дудко\IMAG0372.jpg"/>
          <p:cNvPicPr/>
          <p:nvPr/>
        </p:nvPicPr>
        <p:blipFill>
          <a:blip r:embed="rId2"/>
          <a:stretch/>
        </p:blipFill>
        <p:spPr>
          <a:xfrm>
            <a:off x="114480" y="166680"/>
            <a:ext cx="1904760" cy="2470320"/>
          </a:xfrm>
          <a:prstGeom prst="rect">
            <a:avLst/>
          </a:prstGeom>
          <a:ln w="0">
            <a:noFill/>
          </a:ln>
        </p:spPr>
      </p:pic>
      <p:pic>
        <p:nvPicPr>
          <p:cNvPr id="287" name="Объект 6" descr="C:\Users\Dolgor\Desktop\танка работа\фото дудко\IMAG0388.jpg"/>
          <p:cNvPicPr/>
          <p:nvPr/>
        </p:nvPicPr>
        <p:blipFill>
          <a:blip r:embed="rId3"/>
          <a:stretch/>
        </p:blipFill>
        <p:spPr>
          <a:xfrm>
            <a:off x="2293920" y="196920"/>
            <a:ext cx="1806480" cy="23684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2920" y="2714760"/>
            <a:ext cx="4795920" cy="65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Этап тонирования карандашного наброска выполняет ученица Сэсэг.  Начал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0" name="Объект 4" descr="C:\Users\Dolgor\Desktop\танка работа\фото дудко\IMAG0373.jpg"/>
          <p:cNvPicPr/>
          <p:nvPr/>
        </p:nvPicPr>
        <p:blipFill>
          <a:blip r:embed="rId4"/>
          <a:srcRect l="0" t="0" r="-3450" b="0"/>
          <a:stretch/>
        </p:blipFill>
        <p:spPr>
          <a:xfrm>
            <a:off x="5626080" y="333360"/>
            <a:ext cx="2376360" cy="23036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5280" y="2770200"/>
            <a:ext cx="3790800" cy="59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Этап тонирования почти законче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364000" y="6148080"/>
            <a:ext cx="3168720" cy="59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rm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Танка в парчовом обрамлении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3" name="Рисунок 7" descr="C:\Users\Dolgor\Desktop\танка работа\фото дудко\IMAG0375.jpg"/>
          <p:cNvPicPr/>
          <p:nvPr/>
        </p:nvPicPr>
        <p:blipFill>
          <a:blip r:embed="rId5"/>
          <a:stretch/>
        </p:blipFill>
        <p:spPr>
          <a:xfrm>
            <a:off x="1042920" y="3500280"/>
            <a:ext cx="2540160" cy="2881440"/>
          </a:xfrm>
          <a:prstGeom prst="rect">
            <a:avLst/>
          </a:prstGeom>
          <a:ln w="0">
            <a:noFill/>
          </a:ln>
        </p:spPr>
      </p:pic>
      <p:sp>
        <p:nvSpPr>
          <p:cNvPr id="294" name="Объект 13"/>
          <p:cNvSpPr/>
          <p:nvPr/>
        </p:nvSpPr>
        <p:spPr>
          <a:xfrm>
            <a:off x="1403280" y="37893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Текст 11"/>
          <p:cNvSpPr/>
          <p:nvPr/>
        </p:nvSpPr>
        <p:spPr>
          <a:xfrm>
            <a:off x="-49320" y="6148440"/>
            <a:ext cx="4040280" cy="63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Этап прорисовки контуров и нанесения зол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13"/>
          <p:cNvSpPr/>
          <p:nvPr/>
        </p:nvSpPr>
        <p:spPr>
          <a:xfrm flipH="1" flipV="1" rot="10639800">
            <a:off x="4436640" y="5961240"/>
            <a:ext cx="5047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EDE9-D6CE-43C2-AB68-07B2188B6288}" type="slidenum">
              <a:rPr b="1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9800" y="2971800"/>
            <a:ext cx="28270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елый Макахала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71520" y="6076800"/>
            <a:ext cx="326376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Ямараджа с супруго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9" name="Picture 2" descr="Ямараджа с супругой."/>
          <p:cNvPicPr/>
          <p:nvPr/>
        </p:nvPicPr>
        <p:blipFill>
          <a:blip r:embed="rId1"/>
          <a:stretch/>
        </p:blipFill>
        <p:spPr>
          <a:xfrm>
            <a:off x="468360" y="3543480"/>
            <a:ext cx="2558880" cy="26748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443280" y="3789000"/>
            <a:ext cx="2305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елая Тар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1" name="Picture 4" descr="Белая Тара."/>
          <p:cNvPicPr/>
          <p:nvPr/>
        </p:nvPicPr>
        <p:blipFill>
          <a:blip r:embed="rId2"/>
          <a:stretch/>
        </p:blipFill>
        <p:spPr>
          <a:xfrm>
            <a:off x="6300720" y="549360"/>
            <a:ext cx="2260800" cy="3305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Белый Махакала."/>
          <p:cNvPicPr/>
          <p:nvPr/>
        </p:nvPicPr>
        <p:blipFill>
          <a:blip r:embed="rId3"/>
          <a:stretch/>
        </p:blipFill>
        <p:spPr>
          <a:xfrm>
            <a:off x="449280" y="162000"/>
            <a:ext cx="2424240" cy="2862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Белый Манджушри"/>
          <p:cNvPicPr/>
          <p:nvPr/>
        </p:nvPicPr>
        <p:blipFill>
          <a:blip r:embed="rId4"/>
          <a:stretch/>
        </p:blipFill>
        <p:spPr>
          <a:xfrm>
            <a:off x="3348000" y="549360"/>
            <a:ext cx="2581200" cy="3201840"/>
          </a:xfrm>
          <a:prstGeom prst="rect">
            <a:avLst/>
          </a:prstGeom>
          <a:ln w="0">
            <a:noFill/>
          </a:ln>
        </p:spPr>
      </p:pic>
      <p:sp>
        <p:nvSpPr>
          <p:cNvPr id="304" name="Заголовок 1"/>
          <p:cNvSpPr/>
          <p:nvPr/>
        </p:nvSpPr>
        <p:spPr>
          <a:xfrm>
            <a:off x="3059280" y="3860640"/>
            <a:ext cx="29635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</a:rPr>
              <a:t>Белый Манджушр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9"/>
          <p:cNvSpPr/>
          <p:nvPr/>
        </p:nvSpPr>
        <p:spPr>
          <a:xfrm>
            <a:off x="6659640" y="6165720"/>
            <a:ext cx="512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1200-8727-4404-8EE3-AA0576B6FDFF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Текст 11"/>
          <p:cNvSpPr/>
          <p:nvPr/>
        </p:nvSpPr>
        <p:spPr>
          <a:xfrm>
            <a:off x="3780000" y="4653000"/>
            <a:ext cx="4081320" cy="1270080"/>
          </a:xfrm>
          <a:prstGeom prst="rect">
            <a:avLst/>
          </a:prstGeom>
          <a:solidFill>
            <a:srgbClr val="f0d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На создание многофигурных композиций уходит до полутора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8" name="Picture 6" descr="8 Зеленых Тар"/>
          <p:cNvPicPr/>
          <p:nvPr/>
        </p:nvPicPr>
        <p:blipFill>
          <a:blip r:embed="rId1"/>
          <a:stretch/>
        </p:blipFill>
        <p:spPr>
          <a:xfrm>
            <a:off x="231840" y="752400"/>
            <a:ext cx="4556160" cy="4179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Художник Николай Дудко. Буддийское искусство Танка &quot; ALLDAY - народный сайт о дизайне"/>
          <p:cNvPicPr/>
          <p:nvPr/>
        </p:nvPicPr>
        <p:blipFill>
          <a:blip r:embed="rId2"/>
          <a:stretch/>
        </p:blipFill>
        <p:spPr>
          <a:xfrm>
            <a:off x="5521320" y="752400"/>
            <a:ext cx="3317760" cy="316872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7"/>
          <p:cNvSpPr/>
          <p:nvPr/>
        </p:nvSpPr>
        <p:spPr>
          <a:xfrm>
            <a:off x="336600" y="4932360"/>
            <a:ext cx="3865680" cy="642600"/>
          </a:xfrm>
          <a:prstGeom prst="rect">
            <a:avLst/>
          </a:prstGeom>
          <a:solidFill>
            <a:srgbClr val="e6b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еная Тар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ающая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страданий Санса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8" descr="Медитации на сайте - Расписание медитаций Рейки - Гармония жизни - Рейки"/>
          <p:cNvPicPr/>
          <p:nvPr/>
        </p:nvPicPr>
        <p:blipFill>
          <a:blip r:embed="rId3"/>
          <a:stretch/>
        </p:blipFill>
        <p:spPr>
          <a:xfrm>
            <a:off x="5030640" y="3889440"/>
            <a:ext cx="2062440" cy="28843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9"/>
          <p:cNvSpPr/>
          <p:nvPr/>
        </p:nvSpPr>
        <p:spPr>
          <a:xfrm>
            <a:off x="347760" y="5481720"/>
            <a:ext cx="3863880" cy="1159560"/>
          </a:xfrm>
          <a:prstGeom prst="rect">
            <a:avLst/>
          </a:prstGeom>
          <a:solidFill>
            <a:srgbClr val="f0d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ne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рождения; 2) старения;  3) болезн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4) смерти;  5) от разлуки с приятны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6) от встречи с неприятным;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7) ненахождения нужного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8) нахождения ненужног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4"/>
          <p:cNvSpPr/>
          <p:nvPr/>
        </p:nvSpPr>
        <p:spPr>
          <a:xfrm>
            <a:off x="347760" y="106200"/>
            <a:ext cx="8580240" cy="916920"/>
          </a:xfrm>
          <a:prstGeom prst="rect">
            <a:avLst/>
          </a:prstGeom>
          <a:solidFill>
            <a:srgbClr val="e6b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ая Тара –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авая нога спущена с «лотосового трона» и опирается на цветок лотоса небольшого размера, - богиня спешит на помощь страждущим люд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Заголовок 6"/>
          <p:cNvSpPr/>
          <p:nvPr/>
        </p:nvSpPr>
        <p:spPr>
          <a:xfrm>
            <a:off x="7020000" y="4084920"/>
            <a:ext cx="1692360" cy="1923480"/>
          </a:xfrm>
          <a:prstGeom prst="rect">
            <a:avLst/>
          </a:prstGeom>
          <a:solidFill>
            <a:srgbClr val="f0d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Немыслимо количество персонажей и сюжетов и их вариаций». Н.Дуд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10"/>
          <p:cNvSpPr/>
          <p:nvPr/>
        </p:nvSpPr>
        <p:spPr>
          <a:xfrm>
            <a:off x="7451640" y="616572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5D9D-4666-42B8-B571-54CF033C60E3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4920" y="4581360"/>
            <a:ext cx="413244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Сукхавати- рай Будды Амитабхи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8" name="Picture 2" descr="Сукхавати — рай Будды Амитабхи"/>
          <p:cNvPicPr/>
          <p:nvPr/>
        </p:nvPicPr>
        <p:blipFill>
          <a:blip r:embed="rId1"/>
          <a:stretch/>
        </p:blipFill>
        <p:spPr>
          <a:xfrm>
            <a:off x="611280" y="115920"/>
            <a:ext cx="3770280" cy="39607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32000" y="4149360"/>
            <a:ext cx="4211640" cy="24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Будда Медицины носит одежды монаха и восседает на лотосовом троне. Левая рука находится в мудре медитации, держит монашеский сосуд для подаяний (патра) наполненный нектаром и плодами. Правая рука расположена на колене с открытой ладонью и держит стебель миробалана, растения, известного как царь всех лекарств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24000" y="4868640"/>
            <a:ext cx="444816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Сукхавати — магическая страна-кшетра, созданная дхьяни-буддой Амитабхой. Когда-то очень давно Амитабха был бодхисаттвой и дал обет, достигнув состояния будды, создать свою страну, которую назвали бы Сукхавати — Счастливая стра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1" name="Picture 8" descr="Манла - Будда медицины"/>
          <p:cNvPicPr/>
          <p:nvPr/>
        </p:nvPicPr>
        <p:blipFill>
          <a:blip r:embed="rId2"/>
          <a:stretch/>
        </p:blipFill>
        <p:spPr>
          <a:xfrm>
            <a:off x="5357880" y="115920"/>
            <a:ext cx="3390840" cy="4201920"/>
          </a:xfrm>
          <a:prstGeom prst="rect">
            <a:avLst/>
          </a:prstGeom>
          <a:ln w="0">
            <a:noFill/>
          </a:ln>
        </p:spPr>
      </p:pic>
      <p:sp>
        <p:nvSpPr>
          <p:cNvPr id="322" name="Текст 2"/>
          <p:cNvSpPr/>
          <p:nvPr/>
        </p:nvSpPr>
        <p:spPr>
          <a:xfrm>
            <a:off x="5194440" y="3716280"/>
            <a:ext cx="39495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Манла- Будда медици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8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B0C5-5E2E-4E81-AAE5-2DFBD0C28687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569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Танка используются как объекты поклонения, но в основном как средства для улучшения и вдохновения медитативной визуализаци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В современном мире танка почитаются не только за свою глубину. Они ценятся и как выдающиеся произведения искусств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Н. Дудко считает, что древнее буддийское искусство современному человеку несет понимание себя и своего места в мир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строгие руководства и иконографический канон, творчество Николая Дудко самобытно</a:t>
            </a:r>
            <a:r>
              <a:rPr b="0" lang="ru-RU" sz="2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0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5" name="Номер слайда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1771-4AC9-44CD-8F08-2A0C8B9D1CB9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11280" y="4762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Актуальность исследования 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обусловлена возрастающим интересом искусствоведов и востоковедов к буддийской религиозной живописи на свитках -танка, а также развитием интереса к культуре и истории родного края, буддийскому живописному наследию Бурятии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Степень изученности проблемы – 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сведения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о современном бурятском художнике-танкописце Николае Дудко разрознены и включены в публикации различной направленности, больше в СМИ и интернете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CB31-67A9-4966-89C0-6C7CB77EAB5B}" type="slidenum">
              <a:rPr b="1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56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ад Николая Дудко в буддийскую религиозную живопись:</a:t>
            </a:r>
            <a:br>
              <a:rPr sz="20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а Николая Дудко наполнены  чувствами и эмоционально-личностным восприятием божеств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ка Дудко отличаются изменением психологических оттенков композиции, ритма, цветовой гамм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очетания 5-ти основных цветов буддийским художникам удается получить до двадцати пяти оттенков. Николай Дудко обогатил палитру до 85 оттенков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и нюансы приводят к совершенно неожиданной и оригинальной интерпретации канон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щает своих учеников в таинство божественных образов, что приравнивается служению самому божеств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Работы  художника дают возможность человеку, не обязательно буддисту, прикоснуться к буддийской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писи и философии.</a:t>
            </a:r>
            <a:br>
              <a:rPr sz="3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Номер слайда 2"/>
          <p:cNvSpPr/>
          <p:nvPr/>
        </p:nvSpPr>
        <p:spPr>
          <a:xfrm>
            <a:off x="7308720" y="616572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1B0B-ECBA-4DBA-9AFB-C2D53611D5DD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5589720"/>
            <a:ext cx="8229600" cy="1008000"/>
          </a:xfrm>
          <a:prstGeom prst="rect">
            <a:avLst/>
          </a:prstGeom>
          <a:solidFill>
            <a:srgbClr val="54a021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 гостях  у Николая Дудко - «мастера, пишущего богов», Улан-Удэ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29" name="Рисунок 2" descr="C:\Users\Dolgor\Desktop\танка работа\фото дудко\IMAG0395.jpg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4104000"/>
          </a:xfrm>
          <a:prstGeom prst="rect">
            <a:avLst/>
          </a:prstGeom>
          <a:ln w="0">
            <a:noFill/>
          </a:ln>
        </p:spPr>
      </p:pic>
      <p:sp>
        <p:nvSpPr>
          <p:cNvPr id="330" name="Номер слайда 3"/>
          <p:cNvSpPr/>
          <p:nvPr/>
        </p:nvSpPr>
        <p:spPr>
          <a:xfrm>
            <a:off x="8172360" y="6492960"/>
            <a:ext cx="5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A971-5D67-458B-A54C-09563FB8516F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601020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88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2" name="Номер слайда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7F0D-A766-4789-BA34-5EEFA013DC7A}" type="slidenum">
              <a:rPr b="0" lang="ru-RU" sz="16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1852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бъек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творчество Николая Дудко – художника –танкописц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редмет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особенности стиля творчества Николая Дудко, его вклад в развитие буддийской религиозной живописи.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Номер слайда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05FA-1DAC-478C-8DFB-5298CE167531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177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Цель работы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выявление особенностей творчества художника -  танкописца Николая Дудко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Задачи исследования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изучение основ буддийской религиозной живопис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анализ творчества танкописца Николая Дудко, выявление характерных особенност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 оценка вклада художника в развитие буддийской живописи танк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писать и издать брошюру об основах танкописи и творчестве Н.Дудко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Номер слайда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D8CA-D8A4-4FC4-B708-A5F0926C5396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0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МЕТОДЫ</a:t>
            </a:r>
            <a:br>
              <a:rPr sz="2400"/>
            </a:b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-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библиографические методы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разыскивание,  отбор, реферирование, интервью;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сравнительно-исторический метод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позволяющий выявить как общие черты, так и характерные особенности творчества Дудко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метод художественно-стилистического анализа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который позволяет определить специфические изобразительные средства, применяемые в тибетской живописи танка в целом и в частности в творчестве Н.Дудко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метод иконографического анализа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дающий возможность выявить заложенные в изображениях смыслы. 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Номер слайда 2"/>
          <p:cNvSpPr/>
          <p:nvPr/>
        </p:nvSpPr>
        <p:spPr>
          <a:xfrm>
            <a:off x="6445080" y="6041880"/>
            <a:ext cx="719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448D-C717-4312-BB21-F57C9FDCABE8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Источники исследования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. Арсентьева И.В.  Буддийская  традиция в тибетской живописи танка.- Санкт-Петербург, 2012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 Алешина О. Реликвия, созданная мастером //Информ полис, 2007г №24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. Герасимова К. М. Теория и практика буддийской художественной культуры Центр. Азии // Ист.-культурное и природное наследие: проблемы сохранения, трансляции и подготовки кадров. – Улан-Удэ, 2004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. Иконография Ваджраяны. – М., 2003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. Интервью с Николаем Дудко,  записано Банзаровой А., Цыдыповой А. 28 ноября 2014 г, г.Улан-Удэ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6. Сайт Николая Дудк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7. Электронные ресурсы интернета.//Что такое живопись танка</a:t>
            </a:r>
            <a:br>
              <a:rPr sz="1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Номер слайда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DB45-ADDC-45C0-B4C0-8F7898B4884D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146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актическая значимость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атериал может быть использован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) в качестве вспомогательного материала при изучении культуры, истории Бурятии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) применяться для продолжения дальнейшего изучения тибетской буддийской иконографи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Номер слайда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52DB-D4A8-40A1-B04D-41450876AF36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1498680"/>
            <a:ext cx="279108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428720" y="272520"/>
            <a:ext cx="42577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анка является объектом поклонения, помощью в духовной практике и медитации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нка Белая Тар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втор Николай Дудк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776320"/>
            <a:ext cx="279108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Picture 3" descr="F:\танка работа\белая тара.jpg"/>
          <p:cNvPicPr/>
          <p:nvPr/>
        </p:nvPicPr>
        <p:blipFill>
          <a:blip r:embed="rId1"/>
          <a:stretch/>
        </p:blipFill>
        <p:spPr>
          <a:xfrm>
            <a:off x="714240" y="571680"/>
            <a:ext cx="3489480" cy="5233680"/>
          </a:xfrm>
          <a:prstGeom prst="rect">
            <a:avLst/>
          </a:prstGeom>
          <a:ln w="0">
            <a:noFill/>
          </a:ln>
        </p:spPr>
      </p:pic>
      <p:sp>
        <p:nvSpPr>
          <p:cNvPr id="239" name="Номер слайда 7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0598-D00E-4701-B155-7C6B613FDEBE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1498680"/>
            <a:ext cx="279108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3995640" y="765000"/>
            <a:ext cx="3649680" cy="3672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186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 Тибете художников – танкописцев называют «ладжиба» - «мастер, пишущий богов»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Прямоугольник 8"/>
          <p:cNvSpPr/>
          <p:nvPr/>
        </p:nvSpPr>
        <p:spPr>
          <a:xfrm>
            <a:off x="3924360" y="5052960"/>
            <a:ext cx="59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Дудко – художник-танкопис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7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8916-0518-4CF7-9F29-8AA0CE97E371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2:43:35Z</dcterms:created>
  <dc:creator>Гость</dc:creator>
  <dc:description/>
  <dc:language>en-US</dc:language>
  <cp:lastModifiedBy>Пользователь Windows</cp:lastModifiedBy>
  <dcterms:modified xsi:type="dcterms:W3CDTF">2018-07-02T19:29:20Z</dcterms:modified>
  <cp:revision>93</cp:revision>
  <dc:subject/>
  <dc:title>Министерство образования и науки РБ ГБОУ «Республиканская Мариинская школа-интернат» VII Республиканская научно-практическая конференция  учащихся 5-6 классов «Серебряная альфа»</dc:title>
</cp:coreProperties>
</file>