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0A77-E77B-42FF-993D-E88702F2C0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F608-5FF7-423B-BA6C-9BA667043E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BFBA-662B-417B-B06C-EF6A63E700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CF5B-825F-45D5-9A64-0F4B66EAB9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115F-6AD1-432E-AAE7-1DBBED1178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0BEC-F0FA-463B-A347-73F2605103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8CD-4329-4F75-9201-623DC965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7A3-E47E-4B50-A57A-8BBC6206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DBB-8A8A-4CDB-B2F2-66E55AD8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4D5-B68C-4828-B24A-6B7E2034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E6BE-70E7-4E89-8D11-6D3DEBF9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5415-2ADB-41F7-A23B-2B7F335D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5B64-609F-49C5-BC32-0E256AFD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CC48-032F-4E7F-8291-3D56929F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3649-FB9D-4817-A600-8EA91655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4129-3173-4764-943C-3CB3B7EE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F177-8F2D-4C8B-A570-C6065938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DBC-8006-4C57-8EB5-07CD4443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8E5A-1EC9-4A16-9E2A-9CD7E859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2B2D-5FBF-438C-931D-95003D74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82E1-0C7A-4FDC-8654-B46F3F96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7355-6743-47F4-957E-56A10087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DE5A-0DD1-49BD-AFC6-4B40DC73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B5D88-CB6A-4CAB-B37D-7697AA53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2CCF9-F2EC-4497-B751-E77401AC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D0892-AE75-48B0-94CE-75988CC2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F4219-B8E1-4769-9706-70768AE3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804FB-414B-4354-B1C6-9E51E76B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321-B3F6-4CA1-827B-76F1DFA9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CF6AC-68A0-4190-9C4B-ECC343E3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143CE-1E49-47F5-B706-BB037959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EFDE2-59C3-4283-B3EE-299E9B5D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76096-3D5F-477D-99BC-B97CC68F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7133-FBB9-4A4D-B026-4726D0BC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C1653-20E0-4336-AC58-B093F7DA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10A8D-CF9B-44A6-9E2D-AA722744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8C789-51E9-4126-9BE1-6675BDC6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FF19F-2012-4715-AC72-5CA214A2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1BB56-FAA3-41A4-A4AF-3E4E0FAE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9B6-0EEB-44B1-B4F3-F815A777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D1C1E-4B2A-4407-9639-AD189154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CE434-6160-4C5D-9749-AB8FAA9B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9C4F3-E5F0-4350-AF87-143F70E5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5F839-1FA8-432D-BC44-54A29576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F82D1-43D1-4057-8BA0-B5D7E7A8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220B0-B5A6-4908-A670-9C27C2CF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EB004-04F6-4A1D-B9D0-3D047ACE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44629-3EB0-4B97-9C21-2B3736E2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CF811-1C5A-4CEF-A8E4-4841A385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5C82-A934-4E37-8C29-2A2F583D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1D78-BCB0-4DC5-B84B-AD5425EC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352-77F1-4A6C-8364-B109523A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A6F-E842-44B4-B2CD-69106030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0A5-0748-4D7D-B09D-BA6041CF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1A46-6237-49A7-A06F-3A6DA85D6F9D}" type="datetime">
              <a:rPr b="0" lang="ru-RU" sz="900" spc="-1" strike="noStrike">
                <a:solidFill>
                  <a:srgbClr val="898989"/>
                </a:solidFill>
                <a:latin typeface="Trebuchet MS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094C-475D-4D00-AB5F-A969B3550164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C5F4-90D5-400E-9774-11A4BEED2CC4}" type="datetime">
              <a:rPr b="0" lang="ru-RU" sz="900" spc="-1" strike="noStrike">
                <a:solidFill>
                  <a:srgbClr val="898989"/>
                </a:solidFill>
                <a:latin typeface="Trebuchet MS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A294-9501-41FF-8726-2B49450C1FDA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D2B8-FDB6-4173-8C7A-704C2A61ACCD}" type="datetime">
              <a:rPr b="0" lang="ru-RU" sz="900" spc="-1" strike="noStrike">
                <a:solidFill>
                  <a:srgbClr val="898989"/>
                </a:solidFill>
                <a:latin typeface="Trebuchet MS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8F8C-4A55-4335-960C-FF1139726115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48A2-569B-4DAC-A0CD-A01D717602CB}" type="datetime">
              <a:rPr b="0" lang="ru-RU" sz="900" spc="-1" strike="noStrike">
                <a:solidFill>
                  <a:srgbClr val="898989"/>
                </a:solidFill>
                <a:latin typeface="Trebuchet MS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8901-8A0A-44FE-AE58-D5BA3C8453F0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РБ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нская научно-практическая конференция учащихс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уманитарным дисциплинам «Сибирская весна»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9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94920" y="1773360"/>
            <a:ext cx="8318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инация «Культурология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колай Дудко-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, пишущий богов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Банзарова Александра,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«Республиканская Мариинская школа-интернат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Доржиева Дулгар Лосоловна,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«РМШИ»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2E9B-7E37-4CF0-A1B3-22BF8088C328}" type="slidenum">
              <a:rPr b="1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480" y="2736360"/>
            <a:ext cx="3090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Лама Дарма-Доди - духовный наставник Николая Дудко, первый учител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712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Прямоугольник 6"/>
          <p:cNvSpPr/>
          <p:nvPr/>
        </p:nvSpPr>
        <p:spPr>
          <a:xfrm>
            <a:off x="5213520" y="4151160"/>
            <a:ext cx="3751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Учитель Ген Сангей Еш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Его наказ Николаю Дудк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«Возвращайся туда, откуда приехал, и будь там полезен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7" descr="C:\Users\Dolgor\Desktop\танка работа\фото дудко\IMAG0390.jpg"/>
          <p:cNvPicPr/>
          <p:nvPr/>
        </p:nvPicPr>
        <p:blipFill>
          <a:blip r:embed="rId1"/>
          <a:stretch/>
        </p:blipFill>
        <p:spPr>
          <a:xfrm>
            <a:off x="1332000" y="1197000"/>
            <a:ext cx="2016000" cy="251928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8" descr="C:\Users\Dolgor\Desktop\танка работа\фото дудко\IMAG0390.jpg"/>
          <p:cNvPicPr/>
          <p:nvPr/>
        </p:nvPicPr>
        <p:blipFill>
          <a:blip r:embed="rId2"/>
          <a:stretch/>
        </p:blipFill>
        <p:spPr>
          <a:xfrm>
            <a:off x="5651640" y="1125360"/>
            <a:ext cx="1873080" cy="2374920"/>
          </a:xfrm>
          <a:prstGeom prst="rect">
            <a:avLst/>
          </a:prstGeom>
          <a:ln w="0">
            <a:noFill/>
          </a:ln>
        </p:spPr>
      </p:pic>
      <p:sp>
        <p:nvSpPr>
          <p:cNvPr id="252" name="Номер слайда 9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31E5-486B-4E33-9ECC-D196C28110E5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498680"/>
            <a:ext cx="279108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4" name="Объект 4" descr="C:\Users\Dolgor\Desktop\танка работа\фото дудко\IMAG0366.jpg"/>
          <p:cNvPicPr/>
          <p:nvPr/>
        </p:nvPicPr>
        <p:blipFill>
          <a:blip r:embed="rId1"/>
          <a:srcRect l="0" t="-702" r="0" b="0"/>
          <a:stretch/>
        </p:blipFill>
        <p:spPr>
          <a:xfrm>
            <a:off x="1979640" y="476280"/>
            <a:ext cx="4392720" cy="34574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000" y="4076640"/>
            <a:ext cx="8064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уддийская живопись – это определенные каноны, правила, от которых нельзя отходить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Номер слайда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5655-9E08-4E26-B137-6475D1659CC3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5280" y="390240"/>
            <a:ext cx="634860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В мастерской Николая Дудко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8" name="Рисунок 12" descr="C:\Documents and Settings\Дулгар Лосоловна\Мои документы\Мои рисунки\Изображение\Изображение 173.jpg"/>
          <p:cNvPicPr/>
          <p:nvPr/>
        </p:nvPicPr>
        <p:blipFill>
          <a:blip r:embed="rId1"/>
          <a:stretch/>
        </p:blipFill>
        <p:spPr>
          <a:xfrm>
            <a:off x="1042920" y="1341360"/>
            <a:ext cx="6769080" cy="3888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1332000" y="5708520"/>
            <a:ext cx="611964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Поза  лотоса помогает медитировать, не дает уста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5"/>
          <p:cNvSpPr/>
          <p:nvPr/>
        </p:nvSpPr>
        <p:spPr>
          <a:xfrm>
            <a:off x="7451640" y="6093000"/>
            <a:ext cx="5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71CE-77C4-4A2C-A90C-B90F22876864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15" descr="C:\Users\Dolgor\Desktop\танка работа\фото дудко\IMAG0378.jpg"/>
          <p:cNvPicPr/>
          <p:nvPr/>
        </p:nvPicPr>
        <p:blipFill>
          <a:blip r:embed="rId1"/>
          <a:stretch/>
        </p:blipFill>
        <p:spPr>
          <a:xfrm>
            <a:off x="7104240" y="3673440"/>
            <a:ext cx="1830240" cy="26319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3" name="Объект 5" descr="C:\Users\Dolgor\Desktop\танка работа\фото дудко\IMAG0380.jpg"/>
          <p:cNvPicPr/>
          <p:nvPr/>
        </p:nvPicPr>
        <p:blipFill>
          <a:blip r:embed="rId2"/>
          <a:stretch/>
        </p:blipFill>
        <p:spPr>
          <a:xfrm>
            <a:off x="5003640" y="260280"/>
            <a:ext cx="3600720" cy="23767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7" descr=""/>
          <p:cNvPicPr/>
          <p:nvPr/>
        </p:nvPicPr>
        <p:blipFill>
          <a:blip r:embed="rId3"/>
          <a:stretch/>
        </p:blipFill>
        <p:spPr>
          <a:xfrm>
            <a:off x="297000" y="3606840"/>
            <a:ext cx="2305080" cy="266220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C:\Users\Dolgor\AppData\Local\Microsoft\Windows\INetCache\Content.Word\IMAG0384.jpg"/>
          <p:cNvPicPr/>
          <p:nvPr/>
        </p:nvPicPr>
        <p:blipFill>
          <a:blip r:embed="rId4"/>
          <a:stretch/>
        </p:blipFill>
        <p:spPr>
          <a:xfrm>
            <a:off x="324000" y="233280"/>
            <a:ext cx="2303280" cy="3133800"/>
          </a:xfrm>
          <a:prstGeom prst="rect">
            <a:avLst/>
          </a:prstGeom>
          <a:ln w="0">
            <a:noFill/>
          </a:ln>
        </p:spPr>
      </p:pic>
      <p:pic>
        <p:nvPicPr>
          <p:cNvPr id="266" name="Объект 4" descr="C:\Users\Dolgor\Desktop\танка работа\фото дудко\IMAG0387.jpg"/>
          <p:cNvPicPr/>
          <p:nvPr/>
        </p:nvPicPr>
        <p:blipFill>
          <a:blip r:embed="rId5"/>
          <a:stretch/>
        </p:blipFill>
        <p:spPr>
          <a:xfrm>
            <a:off x="2762280" y="2967120"/>
            <a:ext cx="4195800" cy="27399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0"/>
          <p:cNvSpPr/>
          <p:nvPr/>
        </p:nvSpPr>
        <p:spPr>
          <a:xfrm>
            <a:off x="611280" y="2967120"/>
            <a:ext cx="18730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инова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1"/>
          <p:cNvSpPr/>
          <p:nvPr/>
        </p:nvSpPr>
        <p:spPr>
          <a:xfrm>
            <a:off x="297000" y="6129360"/>
            <a:ext cx="26812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раска из шафр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2"/>
          <p:cNvSpPr/>
          <p:nvPr/>
        </p:nvSpPr>
        <p:spPr>
          <a:xfrm>
            <a:off x="6178680" y="5977080"/>
            <a:ext cx="2755800" cy="100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Золото наносится в последнюю очер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5318280" y="2394000"/>
            <a:ext cx="3233520" cy="100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елую краску изготовляет из раков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4"/>
          <p:cNvSpPr/>
          <p:nvPr/>
        </p:nvSpPr>
        <p:spPr>
          <a:xfrm>
            <a:off x="3348000" y="5372280"/>
            <a:ext cx="316872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В палитре 85 оттен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Номер слайда 16"/>
          <p:cNvSpPr/>
          <p:nvPr/>
        </p:nvSpPr>
        <p:spPr>
          <a:xfrm flipH="1">
            <a:off x="5364000" y="609300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5225-D730-44AD-AC7B-2AFCDF2FBF9E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Вайшравана (Намсарай)"/>
          <p:cNvPicPr/>
          <p:nvPr/>
        </p:nvPicPr>
        <p:blipFill>
          <a:blip r:embed="rId1"/>
          <a:stretch/>
        </p:blipFill>
        <p:spPr>
          <a:xfrm>
            <a:off x="6659640" y="3645000"/>
            <a:ext cx="2184480" cy="2865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Манжушри"/>
          <p:cNvPicPr/>
          <p:nvPr/>
        </p:nvPicPr>
        <p:blipFill>
          <a:blip r:embed="rId2"/>
          <a:stretch/>
        </p:blipFill>
        <p:spPr>
          <a:xfrm>
            <a:off x="6608880" y="93600"/>
            <a:ext cx="2216160" cy="29116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5003280" y="5157360"/>
            <a:ext cx="1584360" cy="149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айшравана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(Намсарай)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, </a:t>
            </a: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нагтан – золотой рисунок на черном фон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7" name="Picture 12" descr="Ма-За-Там сум"/>
          <p:cNvPicPr/>
          <p:nvPr/>
        </p:nvPicPr>
        <p:blipFill>
          <a:blip r:embed="rId3"/>
          <a:stretch/>
        </p:blipFill>
        <p:spPr>
          <a:xfrm>
            <a:off x="282600" y="4003560"/>
            <a:ext cx="2568600" cy="269424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6"/>
          <p:cNvSpPr/>
          <p:nvPr/>
        </p:nvSpPr>
        <p:spPr>
          <a:xfrm>
            <a:off x="2851200" y="5087880"/>
            <a:ext cx="170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а-За-Там сум, </a:t>
            </a: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мартан-золотой рисунок на крас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4" descr="Ушнишавиджая"/>
          <p:cNvPicPr/>
          <p:nvPr/>
        </p:nvPicPr>
        <p:blipFill>
          <a:blip r:embed="rId4"/>
          <a:stretch/>
        </p:blipFill>
        <p:spPr>
          <a:xfrm>
            <a:off x="235080" y="173160"/>
            <a:ext cx="2827080" cy="324324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7"/>
          <p:cNvSpPr/>
          <p:nvPr/>
        </p:nvSpPr>
        <p:spPr>
          <a:xfrm>
            <a:off x="287280" y="3295800"/>
            <a:ext cx="28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Trebuchet MS"/>
                <a:ea typeface="JasmineUPC"/>
              </a:rPr>
              <a:t>Ушнишавиджаи, 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  <a:ea typeface="JasmineUPC"/>
              </a:rPr>
              <a:t>полноцветная та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Манжушри, Авалокитешвара и Ваджрапани"/>
          <p:cNvPicPr/>
          <p:nvPr/>
        </p:nvPicPr>
        <p:blipFill>
          <a:blip r:embed="rId5"/>
          <a:stretch/>
        </p:blipFill>
        <p:spPr>
          <a:xfrm>
            <a:off x="3627360" y="1379520"/>
            <a:ext cx="2546280" cy="35766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8"/>
          <p:cNvSpPr/>
          <p:nvPr/>
        </p:nvSpPr>
        <p:spPr>
          <a:xfrm>
            <a:off x="3247920" y="125280"/>
            <a:ext cx="2968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Trebuchet MS"/>
              </a:rPr>
              <a:t>Манжушри - Бодхисаттва Великой Мудрости, </a:t>
            </a:r>
            <a:r>
              <a:rPr b="0" i="1" lang="ru-RU" sz="2000" spc="-1" strike="noStrike">
                <a:solidFill>
                  <a:srgbClr val="ff0000"/>
                </a:solidFill>
                <a:latin typeface="Trebuchet MS"/>
              </a:rPr>
              <a:t>танка на ше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Номер слайда 11"/>
          <p:cNvSpPr/>
          <p:nvPr/>
        </p:nvSpPr>
        <p:spPr>
          <a:xfrm>
            <a:off x="4572000" y="623736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4422-D186-42ED-9593-4B080D162BE9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392880" y="2781360"/>
            <a:ext cx="275112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Манжушри, </a:t>
            </a:r>
            <a:r>
              <a:rPr b="0" i="1" lang="ru-RU" sz="1800" spc="-1" strike="noStrike">
                <a:solidFill>
                  <a:srgbClr val="ff0000"/>
                </a:solidFill>
                <a:latin typeface="Trebuchet MS"/>
              </a:rPr>
              <a:t>сертан-рисунок на золот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Объект 4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2682720" cy="33591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8" descr="C:\Users\Dolgor\Desktop\танка работа\фото дудко\IMAG0372.jpg"/>
          <p:cNvPicPr/>
          <p:nvPr/>
        </p:nvPicPr>
        <p:blipFill>
          <a:blip r:embed="rId2"/>
          <a:stretch/>
        </p:blipFill>
        <p:spPr>
          <a:xfrm>
            <a:off x="114480" y="166680"/>
            <a:ext cx="1904760" cy="2470320"/>
          </a:xfrm>
          <a:prstGeom prst="rect">
            <a:avLst/>
          </a:prstGeom>
          <a:ln w="0">
            <a:noFill/>
          </a:ln>
        </p:spPr>
      </p:pic>
      <p:pic>
        <p:nvPicPr>
          <p:cNvPr id="287" name="Объект 6" descr="C:\Users\Dolgor\Desktop\танка работа\фото дудко\IMAG0388.jpg"/>
          <p:cNvPicPr/>
          <p:nvPr/>
        </p:nvPicPr>
        <p:blipFill>
          <a:blip r:embed="rId3"/>
          <a:stretch/>
        </p:blipFill>
        <p:spPr>
          <a:xfrm>
            <a:off x="2293920" y="196920"/>
            <a:ext cx="1806480" cy="23684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2920" y="2714760"/>
            <a:ext cx="4795920" cy="65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Этап тонирования карандашного наброска выполняет ученица Сэсэг.  Начал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0" name="Объект 4" descr="C:\Users\Dolgor\Desktop\танка работа\фото дудко\IMAG0373.jpg"/>
          <p:cNvPicPr/>
          <p:nvPr/>
        </p:nvPicPr>
        <p:blipFill>
          <a:blip r:embed="rId4"/>
          <a:srcRect l="0" t="0" r="-3450" b="0"/>
          <a:stretch/>
        </p:blipFill>
        <p:spPr>
          <a:xfrm>
            <a:off x="5626080" y="333360"/>
            <a:ext cx="2376360" cy="23036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75280" y="2770200"/>
            <a:ext cx="3790800" cy="59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Этап тонирования почти закончен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364000" y="6148080"/>
            <a:ext cx="3168720" cy="59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rm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Танка в парчовом обрамлении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3" name="Рисунок 7" descr="C:\Users\Dolgor\Desktop\танка работа\фото дудко\IMAG0375.jpg"/>
          <p:cNvPicPr/>
          <p:nvPr/>
        </p:nvPicPr>
        <p:blipFill>
          <a:blip r:embed="rId5"/>
          <a:stretch/>
        </p:blipFill>
        <p:spPr>
          <a:xfrm>
            <a:off x="1042920" y="3500280"/>
            <a:ext cx="2540160" cy="2881440"/>
          </a:xfrm>
          <a:prstGeom prst="rect">
            <a:avLst/>
          </a:prstGeom>
          <a:ln w="0">
            <a:noFill/>
          </a:ln>
        </p:spPr>
      </p:pic>
      <p:sp>
        <p:nvSpPr>
          <p:cNvPr id="294" name="Объект 13"/>
          <p:cNvSpPr/>
          <p:nvPr/>
        </p:nvSpPr>
        <p:spPr>
          <a:xfrm>
            <a:off x="1403280" y="37893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Текст 11"/>
          <p:cNvSpPr/>
          <p:nvPr/>
        </p:nvSpPr>
        <p:spPr>
          <a:xfrm>
            <a:off x="-49320" y="6148440"/>
            <a:ext cx="4040280" cy="63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Этап прорисовки контуров и нанесения зол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Номер слайда 13"/>
          <p:cNvSpPr/>
          <p:nvPr/>
        </p:nvSpPr>
        <p:spPr>
          <a:xfrm flipH="1" flipV="1" rot="10639800">
            <a:off x="4436640" y="5961240"/>
            <a:ext cx="5047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EF38-1BD3-47D6-8445-96B228B80AFD}" type="slidenum">
              <a:rPr b="1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9800" y="2971800"/>
            <a:ext cx="28270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елый Макахала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71520" y="6076800"/>
            <a:ext cx="326376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Ямараджа с супруго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9" name="Picture 2" descr="Ямараджа с супругой."/>
          <p:cNvPicPr/>
          <p:nvPr/>
        </p:nvPicPr>
        <p:blipFill>
          <a:blip r:embed="rId1"/>
          <a:stretch/>
        </p:blipFill>
        <p:spPr>
          <a:xfrm>
            <a:off x="468360" y="3543480"/>
            <a:ext cx="2558880" cy="26748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443280" y="3789000"/>
            <a:ext cx="2305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елая Тар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1" name="Picture 4" descr="Белая Тара."/>
          <p:cNvPicPr/>
          <p:nvPr/>
        </p:nvPicPr>
        <p:blipFill>
          <a:blip r:embed="rId2"/>
          <a:stretch/>
        </p:blipFill>
        <p:spPr>
          <a:xfrm>
            <a:off x="6300720" y="549360"/>
            <a:ext cx="2260800" cy="3305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Белый Махакала."/>
          <p:cNvPicPr/>
          <p:nvPr/>
        </p:nvPicPr>
        <p:blipFill>
          <a:blip r:embed="rId3"/>
          <a:stretch/>
        </p:blipFill>
        <p:spPr>
          <a:xfrm>
            <a:off x="449280" y="162000"/>
            <a:ext cx="2424240" cy="2862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Белый Манджушри"/>
          <p:cNvPicPr/>
          <p:nvPr/>
        </p:nvPicPr>
        <p:blipFill>
          <a:blip r:embed="rId4"/>
          <a:stretch/>
        </p:blipFill>
        <p:spPr>
          <a:xfrm>
            <a:off x="3348000" y="549360"/>
            <a:ext cx="2581200" cy="3201840"/>
          </a:xfrm>
          <a:prstGeom prst="rect">
            <a:avLst/>
          </a:prstGeom>
          <a:ln w="0">
            <a:noFill/>
          </a:ln>
        </p:spPr>
      </p:pic>
      <p:sp>
        <p:nvSpPr>
          <p:cNvPr id="304" name="Заголовок 1"/>
          <p:cNvSpPr/>
          <p:nvPr/>
        </p:nvSpPr>
        <p:spPr>
          <a:xfrm>
            <a:off x="3059280" y="3860640"/>
            <a:ext cx="29635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</a:rPr>
              <a:t>Белый Манджушр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9"/>
          <p:cNvSpPr/>
          <p:nvPr/>
        </p:nvSpPr>
        <p:spPr>
          <a:xfrm>
            <a:off x="6659640" y="6165720"/>
            <a:ext cx="512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F6F0-E211-429B-AF18-8AC37E0236D8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Текст 11"/>
          <p:cNvSpPr/>
          <p:nvPr/>
        </p:nvSpPr>
        <p:spPr>
          <a:xfrm>
            <a:off x="3780000" y="4653000"/>
            <a:ext cx="4081320" cy="1270080"/>
          </a:xfrm>
          <a:prstGeom prst="rect">
            <a:avLst/>
          </a:prstGeom>
          <a:solidFill>
            <a:srgbClr val="f0d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На создание многофигурных композиций уходит до полутора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8" name="Picture 6" descr="8 Зеленых Тар"/>
          <p:cNvPicPr/>
          <p:nvPr/>
        </p:nvPicPr>
        <p:blipFill>
          <a:blip r:embed="rId1"/>
          <a:stretch/>
        </p:blipFill>
        <p:spPr>
          <a:xfrm>
            <a:off x="231840" y="752400"/>
            <a:ext cx="4556160" cy="4179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Художник Николай Дудко. Буддийское искусство Танка &quot; ALLDAY - народный сайт о дизайне"/>
          <p:cNvPicPr/>
          <p:nvPr/>
        </p:nvPicPr>
        <p:blipFill>
          <a:blip r:embed="rId2"/>
          <a:stretch/>
        </p:blipFill>
        <p:spPr>
          <a:xfrm>
            <a:off x="5521320" y="752400"/>
            <a:ext cx="3317760" cy="316872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7"/>
          <p:cNvSpPr/>
          <p:nvPr/>
        </p:nvSpPr>
        <p:spPr>
          <a:xfrm>
            <a:off x="336600" y="4932360"/>
            <a:ext cx="3865680" cy="642600"/>
          </a:xfrm>
          <a:prstGeom prst="rect">
            <a:avLst/>
          </a:prstGeom>
          <a:solidFill>
            <a:srgbClr val="e6b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еная Тар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ающая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страданий Санса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8" descr="Медитации на сайте - Расписание медитаций Рейки - Гармония жизни - Рейки"/>
          <p:cNvPicPr/>
          <p:nvPr/>
        </p:nvPicPr>
        <p:blipFill>
          <a:blip r:embed="rId3"/>
          <a:stretch/>
        </p:blipFill>
        <p:spPr>
          <a:xfrm>
            <a:off x="5030640" y="3889440"/>
            <a:ext cx="2062440" cy="28843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9"/>
          <p:cNvSpPr/>
          <p:nvPr/>
        </p:nvSpPr>
        <p:spPr>
          <a:xfrm>
            <a:off x="347760" y="5481720"/>
            <a:ext cx="3863880" cy="1159560"/>
          </a:xfrm>
          <a:prstGeom prst="rect">
            <a:avLst/>
          </a:prstGeom>
          <a:solidFill>
            <a:srgbClr val="f0d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ne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neva"/>
              </a:rPr>
              <a:t>рождения; 2) старения;  3) болезн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neva"/>
              </a:rPr>
              <a:t>4) смерти;  5) от разлуки с приятны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neva"/>
              </a:rPr>
              <a:t>6) от встречи с неприятным;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neva"/>
              </a:rPr>
              <a:t>7) ненахождения нужного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neva"/>
              </a:rPr>
              <a:t>8) нахождения ненужног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4"/>
          <p:cNvSpPr/>
          <p:nvPr/>
        </p:nvSpPr>
        <p:spPr>
          <a:xfrm>
            <a:off x="347760" y="106200"/>
            <a:ext cx="8580240" cy="916920"/>
          </a:xfrm>
          <a:prstGeom prst="rect">
            <a:avLst/>
          </a:prstGeom>
          <a:solidFill>
            <a:srgbClr val="e6b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еная Тара –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авая нога спущена с «лотосового трона» и опирается на цветок лотоса небольшого размера, - богиня спешит на помощь страждущим люд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Заголовок 6"/>
          <p:cNvSpPr/>
          <p:nvPr/>
        </p:nvSpPr>
        <p:spPr>
          <a:xfrm>
            <a:off x="7020000" y="4084920"/>
            <a:ext cx="1692360" cy="1923480"/>
          </a:xfrm>
          <a:prstGeom prst="rect">
            <a:avLst/>
          </a:prstGeom>
          <a:solidFill>
            <a:srgbClr val="f0d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Немыслимо количество персонажей и сюжетов и их вариаций». Н.Дуд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10"/>
          <p:cNvSpPr/>
          <p:nvPr/>
        </p:nvSpPr>
        <p:spPr>
          <a:xfrm>
            <a:off x="7451640" y="616572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0A74-9C03-4F6F-A7B4-B953746398A3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94920" y="4581360"/>
            <a:ext cx="413244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rebuchet MS"/>
              </a:rPr>
              <a:t>Сукхавати- рай Будды Амитабхи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8" name="Picture 2" descr="Сукхавати — рай Будды Амитабхи"/>
          <p:cNvPicPr/>
          <p:nvPr/>
        </p:nvPicPr>
        <p:blipFill>
          <a:blip r:embed="rId1"/>
          <a:stretch/>
        </p:blipFill>
        <p:spPr>
          <a:xfrm>
            <a:off x="611280" y="115920"/>
            <a:ext cx="3770280" cy="39607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32000" y="4149360"/>
            <a:ext cx="4211640" cy="24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Будда Медицины носит одежды монаха и восседает на лотосовом троне. Левая рука находится в мудре медитации, держит монашеский сосуд для подаяний (патра) наполненный нектаром и плодами. Правая рука расположена на колене с открытой ладонью и держит стебель миробалана, растения, известного как царь всех лекарств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24000" y="4868640"/>
            <a:ext cx="444816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Сукхавати — магическая страна-кшетра, созданная дхьяни-буддой Амитабхой. Когда-то очень давно Амитабха был бодхисаттвой и дал обет, достигнув состояния будды, создать свою страну, которую назвали бы Сукхавати — Счастливая стра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1" name="Picture 8" descr="Манла - Будда медицины"/>
          <p:cNvPicPr/>
          <p:nvPr/>
        </p:nvPicPr>
        <p:blipFill>
          <a:blip r:embed="rId2"/>
          <a:stretch/>
        </p:blipFill>
        <p:spPr>
          <a:xfrm>
            <a:off x="5357880" y="115920"/>
            <a:ext cx="3390840" cy="4201920"/>
          </a:xfrm>
          <a:prstGeom prst="rect">
            <a:avLst/>
          </a:prstGeom>
          <a:ln w="0">
            <a:noFill/>
          </a:ln>
        </p:spPr>
      </p:pic>
      <p:sp>
        <p:nvSpPr>
          <p:cNvPr id="322" name="Текст 2"/>
          <p:cNvSpPr/>
          <p:nvPr/>
        </p:nvSpPr>
        <p:spPr>
          <a:xfrm>
            <a:off x="5194440" y="3716280"/>
            <a:ext cx="39495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Манла- Будда медици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омер слайда 8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CBC3-EFC3-4421-AB7F-38659585E5A8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569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Танка используются как объекты поклонения, но в основном как средства для улучшения и вдохновения медитативной визуализаци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В современном мире танка почитаются не только за свою глубину. Они ценятся и как выдающиеся произведения искусств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Н. Дудко считает, что древнее буддийское искусство современному человеку несет понимание себя и своего места в мир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строгие руководства и иконографический канон, творчество Николая Дудко самобытно</a:t>
            </a:r>
            <a:r>
              <a:rPr b="0" lang="ru-RU" sz="2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0" lang="ru-RU" sz="2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5" name="Номер слайда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9D2D-3096-4625-9FB9-54E2C9031364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11280" y="476280"/>
            <a:ext cx="63482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Актуальность исследования 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обусловлена возрастающим интересом искусствоведов и востоковедов к буддийской религиозной живописи на свитках -танка, а также развитием интереса к культуре и истории родного края, буддийскому живописному наследию Бурятии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Степень изученности проблемы – 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сведения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о современном бурятском художнике-танкописце Николае Дудко разрознены и включены в публикации различной направленности, больше в СМИ и интернете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84BA-F131-4A86-B833-48147AFAAACB}" type="slidenum">
              <a:rPr b="1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56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ад Николая Дудко в буддийскую религиозную живопись:</a:t>
            </a:r>
            <a:br>
              <a:rPr sz="20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а Николая Дудко наполнены  чувствами и эмоционально-личностным восприятием божеств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ка Дудко отличаются изменением психологических оттенков композиции, ритма, цветовой гаммы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очетания 5-ти основных цветов буддийским художникам удается получить до двадцати пяти оттенков. Николай Дудко обогатил палитру до 85 оттенков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и нюансы приводят к совершенно неожиданной и оригинальной интерпретации канон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ящает своих учеников в таинство божественных образов, что приравнивается служению самому божеств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Работы  художника дают возможность человеку, не обязательно буддисту, прикоснуться к буддийской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писи и философии.</a:t>
            </a:r>
            <a:br>
              <a:rPr sz="32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Номер слайда 2"/>
          <p:cNvSpPr/>
          <p:nvPr/>
        </p:nvSpPr>
        <p:spPr>
          <a:xfrm>
            <a:off x="7308720" y="616572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55B8-F40B-4143-BD4B-7AF7ACD110C3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5589720"/>
            <a:ext cx="8229600" cy="1008000"/>
          </a:xfrm>
          <a:prstGeom prst="rect">
            <a:avLst/>
          </a:prstGeom>
          <a:solidFill>
            <a:srgbClr val="54a021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 гостях  у Николая Дудко - «мастера, пишущего богов», Улан-Удэ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29" name="Рисунок 2" descr="C:\Users\Dolgor\Desktop\танка работа\фото дудко\IMAG0395.jpg"/>
          <p:cNvPicPr/>
          <p:nvPr/>
        </p:nvPicPr>
        <p:blipFill>
          <a:blip r:embed="rId1"/>
          <a:stretch/>
        </p:blipFill>
        <p:spPr>
          <a:xfrm>
            <a:off x="900000" y="765000"/>
            <a:ext cx="7417080" cy="4104000"/>
          </a:xfrm>
          <a:prstGeom prst="rect">
            <a:avLst/>
          </a:prstGeom>
          <a:ln w="0">
            <a:noFill/>
          </a:ln>
        </p:spPr>
      </p:pic>
      <p:sp>
        <p:nvSpPr>
          <p:cNvPr id="330" name="Номер слайда 3"/>
          <p:cNvSpPr/>
          <p:nvPr/>
        </p:nvSpPr>
        <p:spPr>
          <a:xfrm>
            <a:off x="8172360" y="6492960"/>
            <a:ext cx="51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BA99-292F-4C03-A8EA-410BBE7F49A3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601020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8800" spc="-1" strike="noStrike">
                <a:solidFill>
                  <a:srgbClr val="ff0000"/>
                </a:solidFill>
                <a:latin typeface="Monotype Corsiva"/>
              </a:rPr>
              <a:t>Спасибо за внимание!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2" name="Номер слайда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A2C5-E3B3-4F06-821F-A174C1EE63D7}" type="slidenum">
              <a:rPr b="0" lang="ru-RU" sz="16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1852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Объек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творчество Николая Дудко – художника –танкописц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редмет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особенности стиля творчества Николая Дудко, его вклад в развитие буддийской религиозной живописи.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Номер слайда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F862-E433-4FE2-995E-74F6DAD7EDFD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177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Цель работы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выявление особенностей творчества художника -  танкописца Николая Дудко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Задачи исследования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изучение основ буддийской религиозной живопис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анализ творчества танкописца Николая Дудко, выявление характерных особенносте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 оценка вклада художника в развитие буддийской живописи танк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писать и издать брошюру об основах танкописи и творчестве Н.Дудко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Номер слайда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CA19-2416-4BA5-9C46-27BAE1E6474E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0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МЕТОДЫ</a:t>
            </a:r>
            <a:br>
              <a:rPr sz="2400"/>
            </a:b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-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библиографические методы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: разыскивание,  отбор, реферирование, интервью;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сравнительно-исторический метод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, позволяющий выявить как общие черты, так и характерные особенности творчества Дудко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метод художественно-стилистического анализа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, который позволяет определить специфические изобразительные средства, применяемые в тибетской живописи танка в целом и в частности в творчестве Н.Дудко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метод иконографического анализа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, дающий возможность выявить заложенные в изображениях смыслы. 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Номер слайда 2"/>
          <p:cNvSpPr/>
          <p:nvPr/>
        </p:nvSpPr>
        <p:spPr>
          <a:xfrm>
            <a:off x="6445080" y="6041880"/>
            <a:ext cx="719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A364-24DF-4FAF-A547-22E616BDB4B9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Источники исследования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. Арсентьева И.В.  Буддийская  традиция в тибетской живописи танка.- Санкт-Петербург, 2012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 Алешина О. Реликвия, созданная мастером //Информ полис, 2007г №24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. Герасимова К. М. Теория и практика буддийской художественной культуры Центр. Азии // Ист.-культурное и природное наследие: проблемы сохранения, трансляции и подготовки кадров. – Улан-Удэ, 2004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4. Иконография Ваджраяны. – М., 2003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5. Интервью с Николаем Дудко,  записано Банзаровой А., Цыдыповой А. 28 ноября 2014 г, г.Улан-Удэ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6. Сайт Николая Дудк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7. Электронные ресурсы интернета.//Что такое живопись танка</a:t>
            </a:r>
            <a:br>
              <a:rPr sz="1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Номер слайда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48E6-B5DB-4530-AA81-58A3FDFDDD2D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146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рактическая значимость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материал может быть использован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) в качестве вспомогательного материала при изучении культуры, истории Бурятии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) применяться для продолжения дальнейшего изучения тибетской буддийской иконографии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Номер слайда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267D-DFA5-4E5E-96B0-091065F73477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1498680"/>
            <a:ext cx="279108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428720" y="272520"/>
            <a:ext cx="42577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анка является объектом поклонения, помощью в духовной практике и медитации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анка Белая Тар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втор Николай Дудк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2776320"/>
            <a:ext cx="279108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Picture 3" descr="F:\танка работа\белая тара.jpg"/>
          <p:cNvPicPr/>
          <p:nvPr/>
        </p:nvPicPr>
        <p:blipFill>
          <a:blip r:embed="rId1"/>
          <a:stretch/>
        </p:blipFill>
        <p:spPr>
          <a:xfrm>
            <a:off x="714240" y="571680"/>
            <a:ext cx="3489480" cy="5233680"/>
          </a:xfrm>
          <a:prstGeom prst="rect">
            <a:avLst/>
          </a:prstGeom>
          <a:ln w="0">
            <a:noFill/>
          </a:ln>
        </p:spPr>
      </p:pic>
      <p:sp>
        <p:nvSpPr>
          <p:cNvPr id="239" name="Номер слайда 7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2E8D-4376-4BC4-B394-B9645F9A9F26}" type="slidenum">
              <a:rPr b="0" lang="ru-RU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1498680"/>
            <a:ext cx="279108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3995640" y="765000"/>
            <a:ext cx="3649680" cy="3672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186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 Тибете художников – танкописцев называют «ладжиба» - «мастер, пишущий богов»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Прямоугольник 8"/>
          <p:cNvSpPr/>
          <p:nvPr/>
        </p:nvSpPr>
        <p:spPr>
          <a:xfrm>
            <a:off x="3924360" y="5052960"/>
            <a:ext cx="59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Дудко – художник-танкопис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7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EF78-E931-479C-879A-7378AAE4205D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2:43:35Z</dcterms:created>
  <dc:creator>Гость</dc:creator>
  <dc:description/>
  <dc:language>en-US</dc:language>
  <cp:lastModifiedBy>Пользователь Windows</cp:lastModifiedBy>
  <dcterms:modified xsi:type="dcterms:W3CDTF">2018-07-02T19:29:20Z</dcterms:modified>
  <cp:revision>93</cp:revision>
  <dc:subject/>
  <dc:title>Министерство образования и науки РБ ГБОУ «Республиканская Мариинская школа-интернат» VII Республиканская научно-практическая конференция  учащихся 5-6 классов «Серебряная альфа»</dc:title>
</cp:coreProperties>
</file>