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0C7-AD4C-4402-AC5B-221BEC9E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A0AA-7DE7-49B4-8E99-A85FAE61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5BE-3C21-434A-9115-9B2B44FE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16C-F840-4C14-8CF1-326C1BFDC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9301-E59D-413D-B62E-D332E85D5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7E15-B5A3-4B3B-8C39-40C99D15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8A19-B622-44CA-9BB3-F3687888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A269-BF69-4869-8CD6-155739CE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BF32-D3E9-469B-BE73-2AA90E81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3662-53CB-4DAD-85FF-B910C5F82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AED1-3B73-42AB-8E49-C2AAF1C5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08C-2FE7-4C08-8FB8-41F85594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3224F-E502-4E62-B903-8352B2DD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53809-6720-40EF-A323-61977E1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E269-B9AE-4AA0-8845-4A31F3B3D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B92F-7C44-4C52-8463-78F31D4AC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C758-FF6F-4443-B302-BB85DDEA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5668-0D27-4E82-B3D8-B414B14D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562A-9354-4B3F-9E77-34C5521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C425-8B56-493E-A9E2-5633FDA0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766E-F88F-427F-B7D9-EE060C7A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4939-E915-4346-8168-71AFD192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DC4-5873-4EFA-8E47-BEDAC184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6E88-9317-4DAE-A57C-7FD7F10A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865"/>
                </a:gs>
                <a:gs pos="50000">
                  <a:srgbClr val="006e6b"/>
                </a:gs>
                <a:gs pos="100000">
                  <a:srgbClr val="0068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4CF8-337E-4576-9DE6-856B6778AE9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865"/>
                </a:gs>
                <a:gs pos="50000">
                  <a:srgbClr val="006e6b"/>
                </a:gs>
                <a:gs pos="100000">
                  <a:srgbClr val="0068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A795-B7E7-4350-AC16-043C39E8B594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Сергей\Desktop\Справки ЗА 1 четв 2017-18\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24000" y="404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ОСОБЕН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КОНСТИТУЦИИ РОСС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2. Прямое действие Конституции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68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принципе большинство конституционных положений находят        дальнейшее развитие в дру­гих нормативных актах. Например, в Конституции отмечается, что Президент избирается народом. Но как происходит выдвижение кандидатов в Президенты, в какие сроки и т. п. — все это регули­руется специальным законом: Законом о выборах Президента Рос­сийской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огда же для разрешения какого-либо жизненного случая не находится конкретной нормы права либо есть противоречие между нормами права, тогда нормы Конституции могут применяться прямо и непосредствен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3. Конституция – это ядро системы права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64216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е принципы и положения играют направляющую роль при обновлении текущего российского законодательства. Она является как бы путе­водной звездой в процессе правотворчества. Законодательные органы, принимая тот или иной нормативный акт, всегда должны задавать себе вопрос, а не противоречит ли принимаемый нор­мативный акт Конституции. Именно Конституция и обеспечива­ет единство всей системы пра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ив рассмотренные выше черты Конституции, можно дать ее определени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adffff"/>
                </a:solidFill>
                <a:latin typeface="Garamond"/>
              </a:rPr>
              <a:t>Конституция – это юридический документ, закрепляющий устройство государства и обладающий высшей юридической сил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ча Конституции – отразить основные принципы   устройства государства с тем, чтобы они затем были конкретизированы в других нормативных акт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Конституционный строй РФ 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понятие носит комплексный характер и вместе с тем является одним из основополагающ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Конституционный строй – это совокупность принципов устройства государ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смотрим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основные принципы устройств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или элементы конституционного строя)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Сергей\Desktop\Справки ЗА 1 четв 2017-18\2222.jpg"/>
          <p:cNvPicPr/>
          <p:nvPr/>
        </p:nvPicPr>
        <p:blipFill>
          <a:blip r:embed="rId1"/>
          <a:stretch/>
        </p:blipFill>
        <p:spPr>
          <a:xfrm>
            <a:off x="3564000" y="3860640"/>
            <a:ext cx="5580000" cy="2997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39280" y="76500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1. Россия – демократическое государст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 означает, что источником государственной власти в России является ее многона­циональный народ. Государственная власть, в отличие от других видов власти (например, экономической, производственной, школь­ной, семейной), осуществляется с помощью государственного меха­низма и располагает специальным аппаратом принуждения. В демо­кратическом государстве народ сам формирует высшие органы власти в процессе свободных выборо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ли на референдум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68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8209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2. Россия – это государство, основанное на принципе разделения вла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т принцип закреплен в ст. 10 Конституции РФ. Законодательная, исполнительная и судебная власти — это три самостоятельные ветви власти. Каждая ветвь власти наделяется компетенцией (сферой деятельности), и они не долж­ны вмешиваться в дела друг друга. Производится разделение властей также между центром нашего государства (федеральны­ми органами власти) и субъектами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53262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3. Россия – правовое государство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820908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ущность правового государства заключается в преобладании права над властью и ограничении последней законодательными нормами. Здесь должно быть полное подчинение граждан и всех остальных субъектов действующему праву. Кроме того, в правовом государстве существует такой принцип: разрешено все, что не запрещено законом. Иными словами, права человека как личности никем не могут быть ущемлены и считаются наивысшей ценностью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овому государству присущи следующие признак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верховенство (господство) пра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разделение власте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широкие и реальные права и свободы граждан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взаимная ответственность государства и личности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95280" y="404280"/>
            <a:ext cx="8353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4. Россия – федеративное государст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т. е. государство, со­стоящее из частей, которые имеют определенную самостоятель­ность и называются субъектами Федерации. В Россию входят республики, края, области, города федерального значения, одна автономная область (Еврейская) и ав­тономные окру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1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77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4749840" cy="129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5. Россия – это республика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5280" y="764640"/>
            <a:ext cx="835344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еспубликанский строй в Рос­сии означает, что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управление государством является коллективным, а не ин­дивидуальным, как в монарх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ысшие должностные лица и законодательные органы из­бираются народом, причем выборы носят не формальный харак­тер, а являются свободны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государственные органы и высшие должностные лица из­бираются лишь на определенный срок, а не выполняют свои функ­ции пожизненн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г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существление государственной власти основано на прин­ципе разделения власте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д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ысшие должностные лица несут ответственность за зло­употребления и ошибки, допущенные ими в своей государст­венной деятельности (например, уходят в отставку, освобож­даются от занимаемой должности, не переизбираются на но­вый срок, привлекаются к уголовной и иной юридической от­ветственности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554184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6. Россия – социальное государство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03280" y="1125360"/>
            <a:ext cx="81374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оциальное государ­ство — такое, в котором все люди могут вести достойную жизнь. Это, однако, не значит, что мы можем только и требовать от государства: «Дай! Накорми! Одень! Обогрей!» Все мы разные, и фактического равенства никогда нельзя будет достичь. Задача государства поэтому состоит в том, чтоб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- дать возможность каждому человеку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зарабатыват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на себя и содержание своей семь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- обеспечить нормальный жизненный стандарт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ем нетру­доспособным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(детям, больным, инвалидам, пенсионерам, безра­ботным и т. п.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Немного об истории конституци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tretch/>
        </p:blipFill>
        <p:spPr>
          <a:xfrm>
            <a:off x="57240" y="2975040"/>
            <a:ext cx="2025720" cy="2855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1925640" y="3187800"/>
            <a:ext cx="1871640" cy="285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3"/>
          <a:stretch/>
        </p:blipFill>
        <p:spPr>
          <a:xfrm>
            <a:off x="3697200" y="3400560"/>
            <a:ext cx="1798560" cy="28558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"/>
          <p:cNvPicPr/>
          <p:nvPr/>
        </p:nvPicPr>
        <p:blipFill>
          <a:blip r:embed="rId4"/>
          <a:stretch/>
        </p:blipFill>
        <p:spPr>
          <a:xfrm>
            <a:off x="5349960" y="3645000"/>
            <a:ext cx="1882800" cy="2855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5"/>
          <a:stretch/>
        </p:blipFill>
        <p:spPr>
          <a:xfrm>
            <a:off x="7165800" y="3933720"/>
            <a:ext cx="1978200" cy="2924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684360" y="836640"/>
            <a:ext cx="8002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мире первые конституции появились уже в конце 18 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 в США – в 1787г., во Франции и в Польше – в 1791)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692280" y="1986120"/>
            <a:ext cx="80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истории Российской Федерации насчитывается пять конституц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опросы для контрол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1. Когда и где в мире появились первые конституци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2. Как вы думаете, почему в России первая конститу­ция была принята лишь спустя более 100 с лишним лет с момента появления первых конституций в мир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3. Сколько всего в истории России было конституций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4. Почему срок действия российских конституций был такой небольшой, если учесть, что Конституция США .су­ществует уже более 200 л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5. Когда и кем была принята новая (ныне действующая) Конституция? Назовите структуру Конституции РФ (из каких глав она состоит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6. В чем особенности новой Конституции по сравнению с прежни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7. Что означает выражение: Конституция имеет выс­шую юридическую силу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точн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онституция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Пособие для учащихся 9 класса для дополнительного образования «Основы государства и права», М.,2001, издательство НОР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andex.ru/images/search?text=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ртинки яндекс  КонституцияРФ&amp;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ype=image&amp;lr=2&amp;noreask=1&amp;family=yes&amp;source=wi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fevt.ru/load/konstitucii_rossii/100-1-0-68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Обложка Конституции РСФСР 1918 года"/>
          <p:cNvPicPr/>
          <p:nvPr/>
        </p:nvPicPr>
        <p:blipFill>
          <a:blip r:embed="rId1"/>
          <a:stretch/>
        </p:blipFill>
        <p:spPr>
          <a:xfrm>
            <a:off x="324000" y="1125360"/>
            <a:ext cx="275256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7672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РСФСР 1918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276720" y="24922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вая конституция, конституция РСФСР, была принята   V Всероссийским съездом Советов на заседании 10 июля 1918 год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нституция 1918 года закрепила диктатуру пролетариата. Лица, жившие на нетрудовые доходы или использовавшие наемный труд, были лишены политических пра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1_%D1%8F%D0%BD%D0%B2%D0%B0%D1%80%D1%8F_1_%D0%BA%D0%BE%D0%BD%D1%81%D1%82%D0%B8%D1%82%D1%83%D1%86%D0%B8%D1%8F_%D0%A1%D0%A1%D0%A1%D0%A0_02"/>
          <p:cNvPicPr/>
          <p:nvPr/>
        </p:nvPicPr>
        <p:blipFill>
          <a:blip r:embed="rId1"/>
          <a:stretch/>
        </p:blipFill>
        <p:spPr>
          <a:xfrm>
            <a:off x="250920" y="1341360"/>
            <a:ext cx="3028680" cy="4619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3564000" y="2492280"/>
            <a:ext cx="543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тверждена Постановлением XII Всероссийского Съезда Советов от 11 мая 1925 года «Об Утверждении Конституции (Основного Закона) РСФСР». Её принятие обуславливалось вхождением РСФСР в состав новообразованного Союза ССР и приведением российского законодательства в соответствие союзном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е особенность заключалась в том, что она не содержала положений о подавлении эксплуататорских классов и мировой революции. Одно из главных положений — разграничение полномочий и компетенции органов СССР и РСФС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41964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СССР 1925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27672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РСФСР 1937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276720" y="2492280"/>
            <a:ext cx="586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нята Постановлением Чрезвычайного XVII Всероссийского Съезда Советов от 21 января 1937 года  «Об Утверждении Конституции (Основного Закона) РСФСР» из-за смены конституционного законодательства СССР в 1936 году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ыл закреплен тезис о руководящей роли Коммунистической партии. В документ также были включены нормы, утверждающие экономические основы социализма. Впервые в истории государства в тексте Конституции говорилось о политических и личных правах и свобод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7" descr="1014825513"/>
          <p:cNvPicPr/>
          <p:nvPr/>
        </p:nvPicPr>
        <p:blipFill>
          <a:blip r:embed="rId1"/>
          <a:stretch/>
        </p:blipFill>
        <p:spPr>
          <a:xfrm>
            <a:off x="250920" y="1197000"/>
            <a:ext cx="2811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27672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РСФСР 1978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76720" y="2492280"/>
            <a:ext cx="5867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ведена в действие с Декларацией Верховного Совета РСФСР от 12 апреля 1978 года в порядке, установленном Законом РСФСР от 12 апреля 1978 года  на внеочередной VII сессии Верховного Совета РСФСР девятого созыв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ней был расширен перечень прав и свобод советских граждан, в частности, появились права на жилище и охрану здоровь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38973409"/>
          <p:cNvPicPr/>
          <p:nvPr/>
        </p:nvPicPr>
        <p:blipFill>
          <a:blip r:embed="rId1"/>
          <a:stretch/>
        </p:blipFill>
        <p:spPr>
          <a:xfrm>
            <a:off x="179280" y="1268280"/>
            <a:ext cx="2949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76720" y="1268280"/>
            <a:ext cx="554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ссийской Федерации 1993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276720" y="2492280"/>
            <a:ext cx="5867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нституция Российской Федерации была принята           12 декабря 1993 года по результатам всенародного голосования, проведённого в соответствии с Указом Президента России от 15 октября 1993 года № 1633           «О проведении всенародного голосования по проекту Конституции Российской Федераци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ступила в силу со дня официального опубликования       25 декабря 1993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7" descr="politic_10"/>
          <p:cNvPicPr/>
          <p:nvPr/>
        </p:nvPicPr>
        <p:blipFill>
          <a:blip r:embed="rId1"/>
          <a:stretch/>
        </p:blipFill>
        <p:spPr>
          <a:xfrm>
            <a:off x="324000" y="1268280"/>
            <a:ext cx="277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 В Конституции РФ высшей ценностью объявляются не интересы государства, как это было ранее, а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ава и свободы челове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 Конституция в отличие от прежней провозглашает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нцип разделения власте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 Конституция РФ устанавливает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юридическое равенство субъектов Федераци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 В Конституции устанавливается довольно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ложный порядок изменения и пересмотра ее положен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 Конституция РФ – это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окумент, рассчитанный на перспектив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Рассмотрим некоторые особенности новой Конституц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онституция как главный нормативный акт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и присущи такие юридические свойства, которые позволяют выделить ее в ряду других нормативных актов. К их числу относя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1. Верховенство Конституци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ее высшая юридическая сил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Это означает, что Конституция занимает первое    место или верхнюю ступеньку в иерархии нормативных актов Рос­сии. Все нормативные акты, издаваемые в России, не должны ей противоречить, а в противном случае они признаются не­действительны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Но Конституция — это еще и правовая база существования всех ветвей власти. С нормами, ею установленными, должны сверять свои действия все государственные орган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8:55:40Z</dcterms:created>
  <dc:creator>home</dc:creator>
  <dc:description/>
  <dc:language>en-US</dc:language>
  <cp:lastModifiedBy>Сергей</cp:lastModifiedBy>
  <dcterms:modified xsi:type="dcterms:W3CDTF">2018-07-02T14:28:14Z</dcterms:modified>
  <cp:revision>53</cp:revision>
  <dc:subject/>
  <dc:title>История Конституции Российской Федерации</dc:title>
</cp:coreProperties>
</file>