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9136-1BA9-4277-B912-0735B20D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0A86-E019-4716-AB8D-B564D756D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3DD1-86AE-4A01-B055-AF8E1918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9F04-E443-4B9E-97A5-E7DA1FD4D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B93A-D0EB-40C5-A73D-6FF90492E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EDE6C-D224-453A-9D71-965A0906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09BB-AC7F-41F0-B71C-CE863FECB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7319-7F60-447F-875F-23D759421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BCA28-0FCE-442C-A56A-E619E34D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6116D-EB7B-4095-8AD3-3D661B49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E23E5-C8BB-4633-B81D-6B608ADD6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1011-BD2B-4BDB-834C-B10DDAD18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F6D6-4516-412E-B408-D701190E4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C028A-5780-4FAB-922F-93FACF9F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BC8D5-CBA1-4198-B791-A46EF3D5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6E6BD-5069-42B1-BA1E-4905A3D8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2E7C7-64E2-4590-BCE7-0F1159360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4046-0062-4FEC-BFF6-BCAED21B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46B9-0F3B-4463-8FEC-0AE8DE5B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3CD9-EA13-462B-9B48-6AB68F647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676E-9CE1-44CC-88E6-D74939103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4324-829E-429B-B99C-9AF7F22D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A0D1-66D8-4964-8694-08660C0C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4B59-DFF2-4EEC-9E9E-7AE3A61A0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865"/>
                </a:gs>
                <a:gs pos="50000">
                  <a:srgbClr val="006e6b"/>
                </a:gs>
                <a:gs pos="100000">
                  <a:srgbClr val="0068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282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6f6f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6f6f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6f6f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282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F091-4E12-4293-BBF6-70A96ADEBEFE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e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865"/>
                </a:gs>
                <a:gs pos="50000">
                  <a:srgbClr val="006e6b"/>
                </a:gs>
                <a:gs pos="100000">
                  <a:srgbClr val="0068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282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6f6f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6f6f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6f6f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282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6C9D-C79D-4BBD-AE6C-1CB52EA4E95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Users\Сергей\Desktop\Справки ЗА 1 четв 2017-18\maxresdefaul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24000" y="404640"/>
            <a:ext cx="56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ОСОБЕННОСТ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Garamond"/>
              </a:rPr>
              <a:t>КОНСТИТУЦИИ РОСС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2. Прямое действие Конституции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68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В принципе большинство конституционных положений находят        дальнейшее развитие в дру­гих нормативных актах. Например, в Конституции отмечается, что Президент избирается народом. Но как происходит выдвижение кандидатов в Президенты, в какие сроки и т. п. — все это регули­руется специальным законом: Законом о выборах Президента Рос­сийской Федер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378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Когда же для разрешения какого-либо жизненного случая не находится конкретной нормы права либо есть противоречие между нормами права, тогда нормы Конституции могут применяться прямо и непосредственно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511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3. Конституция – это ядро системы права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250920" y="1125000"/>
            <a:ext cx="8642160" cy="451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е принципы и положения играют направляющую роль при обновлении текущего российского законодательства. Она является как бы путе­водной звездой в процессе правотворчества. Законодательные органы, принимая тот или иной нормативный акт, всегда должны задавать себе вопрос, а не противоречит ли принимаемый нор­мативный акт Конституции. Именно Конституция и обеспечива­ет единство всей системы права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Обобщив рассмотренные выше черты Конституции, можно дать ее определение</a:t>
            </a:r>
            <a:endParaRPr b="1" lang="en-US" sz="2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600" spc="-1" strike="noStrike">
                <a:solidFill>
                  <a:srgbClr val="adffff"/>
                </a:solidFill>
                <a:latin typeface="Garamond"/>
              </a:rPr>
              <a:t>Конституция – это юридический документ, закрепляющий устройство государства и обладающий высшей юридической силой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Задача Конституции – отразить основные принципы   устройства государства с тем, чтобы они затем были конкретизированы в других нормативных акта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ffff"/>
                </a:solidFill>
                <a:latin typeface="Garamond"/>
              </a:rPr>
              <a:t>Конституционный строй РФ </a:t>
            </a: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то понятие носит комплексный характер и вместе с тем является одним из основополагающи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adffff"/>
                </a:solidFill>
                <a:latin typeface="Garamond"/>
              </a:rPr>
              <a:t>Конституционный строй – это совокупность принципов устройства государ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ссмотрим </a:t>
            </a: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основные принципы устройства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или элементы конституционного строя) Российской Федера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C:\Users\Сергей\Desktop\Справки ЗА 1 четв 2017-18\2222.jpg"/>
          <p:cNvPicPr/>
          <p:nvPr/>
        </p:nvPicPr>
        <p:blipFill>
          <a:blip r:embed="rId1"/>
          <a:stretch/>
        </p:blipFill>
        <p:spPr>
          <a:xfrm>
            <a:off x="3564000" y="3860640"/>
            <a:ext cx="5580000" cy="2997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 txBox="1"/>
          <p:nvPr/>
        </p:nvSpPr>
        <p:spPr>
          <a:xfrm>
            <a:off x="539280" y="765000"/>
            <a:ext cx="77043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1. Россия – демократическое государств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то означает, что источником государственной власти в России является ее многона­циональный народ. Государственная власть, в отличие от других видов власти (например, экономической, производственной, школь­ной, семейной), осуществляется с помощью государственного меха­низма и располагает специальным аппаратом принуждения. В демо­кратическом государстве народ сам формирует высшие органы власти в процессе свободных выборов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ли на референдуме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8686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39280" y="549000"/>
            <a:ext cx="8209080" cy="50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2. Россия – это государство, основанное на принципе разделения властей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Этот принцип закреплен в ст. 10 Конституции РФ. Законодательная, исполнительная и судебная власти — это три самостоятельные ветви власти. Каждая ветвь власти наделяется компетенцией (сферой деятельности), и они не долж­ны вмешиваться в дела друг друга. Производится разделение властей также между центром нашего государства (федеральны­ми органами власти) и субъектами Федераци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5326200" cy="1224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3. Россия – правовое государство.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394920" y="260280"/>
            <a:ext cx="8209080" cy="53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ущность правового государства заключается в преобладании права над властью и ограничении последней законодательными нормами. Здесь должно быть полное подчинение граждан и всех остальных субъектов действующему праву. Кроме того, в правовом государстве существует такой принцип: разрешено все, что не запрещено законом. Иными словами, права человека как личности никем не могут быть ущемлены и считаются наивысшей ценностью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авовому государству присущи следующие признаки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- верховенство (господство) права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- разделение властей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- широкие и реальные права и свободы граждан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- взаимная ответственность государства и личности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395280" y="404280"/>
            <a:ext cx="83534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4. Россия – федеративное государство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т. е. государство, со­стоящее из частей, которые имеют определенную самостоятель­ность и называются субъектами Федерации. В Россию входят республики, края, области, города федерального значения, одна автономная область (Еврейская) и ав­тономные округа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Рисунок 1" descr=""/>
          <p:cNvPicPr/>
          <p:nvPr/>
        </p:nvPicPr>
        <p:blipFill>
          <a:blip r:embed="rId1"/>
          <a:stretch/>
        </p:blipFill>
        <p:spPr>
          <a:xfrm>
            <a:off x="684360" y="3068640"/>
            <a:ext cx="77040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4749840" cy="1297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5. Россия – это республика</a:t>
            </a:r>
            <a:br>
              <a:rPr sz="2800"/>
            </a:b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95280" y="764640"/>
            <a:ext cx="8353440" cy="254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Республиканский строй в Рос­сии означает, что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а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управление государством является коллективным, а не ин­дивидуальным, как в монархи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б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высшие должностные лица и законодательные органы из­бираются народом, причем выборы носят не формальный харак­тер, а являются свободным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в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государственные органы и высшие должностные лица из­бираются лишь на определенный срок, а не выполняют свои функ­ции пожизненно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г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осуществление государственной власти основано на прин­ципе разделения властей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д)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высшие должностные лица несут ответственность за зло­употребления и ошибки, допущенные ими в своей государст­венной деятельности (например, уходят в отставку, освобож­даются от занимаемой должности, не переизбираются на но­вый срок, привлекаются к уголовной и иной юридической от­ветственности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66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115920"/>
            <a:ext cx="5541840" cy="792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6. Россия – социальное государство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503280" y="1125360"/>
            <a:ext cx="813744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Социальное государ­ство — такое, в котором все люди могут вести достойную жизнь. Это, однако, не значит, что мы можем только и требовать от государства: «Дай! Накорми! Одень! Обогрей!» Все мы разные, и фактического равенства никогда нельзя будет достичь. Задача государства поэтому состоит в том, чтоб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- дать возможность каждому человеку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зарабатывать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 на себя и содержание своей семьи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just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- обеспечить нормальный жизненный стандарт 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всем нетру­доспособным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 (детям, больным, инвалидам, пенсионерам, безра­ботным и т. п.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7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60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ffff"/>
                </a:solidFill>
                <a:latin typeface="Garamond"/>
              </a:rPr>
              <a:t>Немного об истории конституций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17" name="Объект 3" descr=""/>
          <p:cNvPicPr/>
          <p:nvPr/>
        </p:nvPicPr>
        <p:blipFill>
          <a:blip r:embed="rId1"/>
          <a:stretch/>
        </p:blipFill>
        <p:spPr>
          <a:xfrm>
            <a:off x="57240" y="2975040"/>
            <a:ext cx="2025720" cy="2855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"/>
          <p:cNvPicPr/>
          <p:nvPr/>
        </p:nvPicPr>
        <p:blipFill>
          <a:blip r:embed="rId2"/>
          <a:stretch/>
        </p:blipFill>
        <p:spPr>
          <a:xfrm>
            <a:off x="1925640" y="3187800"/>
            <a:ext cx="1871640" cy="285588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5" descr=""/>
          <p:cNvPicPr/>
          <p:nvPr/>
        </p:nvPicPr>
        <p:blipFill>
          <a:blip r:embed="rId3"/>
          <a:stretch/>
        </p:blipFill>
        <p:spPr>
          <a:xfrm>
            <a:off x="3697200" y="3400560"/>
            <a:ext cx="1798560" cy="28558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6" descr=""/>
          <p:cNvPicPr/>
          <p:nvPr/>
        </p:nvPicPr>
        <p:blipFill>
          <a:blip r:embed="rId4"/>
          <a:stretch/>
        </p:blipFill>
        <p:spPr>
          <a:xfrm>
            <a:off x="5349960" y="3645000"/>
            <a:ext cx="1882800" cy="28558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7" descr=""/>
          <p:cNvPicPr/>
          <p:nvPr/>
        </p:nvPicPr>
        <p:blipFill>
          <a:blip r:embed="rId5"/>
          <a:stretch/>
        </p:blipFill>
        <p:spPr>
          <a:xfrm>
            <a:off x="7165800" y="3933720"/>
            <a:ext cx="1978200" cy="292428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684360" y="836640"/>
            <a:ext cx="800244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мире первые конституции появились уже в конце 18 век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( в США – в 1787г., во Франции и в Польше – в 1791)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TextBox 10"/>
          <p:cNvSpPr/>
          <p:nvPr/>
        </p:nvSpPr>
        <p:spPr>
          <a:xfrm>
            <a:off x="692280" y="1986120"/>
            <a:ext cx="800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истории Российской Федерации насчитывается пять конституций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Вопросы для контрол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1. Когда и где в мире появились первые конституци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2. Как вы думаете, почему в России первая конститу­ция была принята лишь спустя более 100 с лишним лет с момента появления первых конституций в мире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3. Сколько всего в истории России было конституций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4. Почему срок действия российских конституций был такой небольшой, если учесть, что Конституция США .су­ществует уже более 200 лет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5. Когда и кем была принята новая (ныне действующая) Конституция? Назовите структуру Конституции РФ (из каких глав она состоит)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6. В чем особенности новой Конституции по сравнению с прежними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7. Что означает выражение: Конституция имеет выс­шую юридическую силу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499"/>
              </a:spcBef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сточник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507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1. Конституция РФ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2. Пособие для учащихся 9 класса для дополнительного образования «Основы государства и права», М.,2001, издательство НОРМ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3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yandex.ru/images/search?text=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артинки яндекс  КонституцияРФ&amp;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type=image&amp;lr=2&amp;noreask=1&amp;family=yes&amp;source=wiz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4.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http://fevt.ru/load/konstitucii_rossii/100-1-0-68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Обложка Конституции РСФСР 1918 года"/>
          <p:cNvPicPr/>
          <p:nvPr/>
        </p:nvPicPr>
        <p:blipFill>
          <a:blip r:embed="rId1"/>
          <a:stretch/>
        </p:blipFill>
        <p:spPr>
          <a:xfrm>
            <a:off x="324000" y="1125360"/>
            <a:ext cx="275256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8"/>
          <p:cNvSpPr/>
          <p:nvPr/>
        </p:nvSpPr>
        <p:spPr>
          <a:xfrm>
            <a:off x="3276720" y="1268280"/>
            <a:ext cx="55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ституция (Основной Закон) РСФСР 1918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3276720" y="2492280"/>
            <a:ext cx="5867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ервая конституция, конституция РСФСР, была принята   V Всероссийским съездом Советов на заседании 10 июля 1918 года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нституция 1918 года закрепила диктатуру пролетариата. Лица, жившие на нетрудовые доходы или использовавшие наемный труд, были лишены политических прав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31_%D1%8F%D0%BD%D0%B2%D0%B0%D1%80%D1%8F_1_%D0%BA%D0%BE%D0%BD%D1%81%D1%82%D0%B8%D1%82%D1%83%D1%86%D0%B8%D1%8F_%D0%A1%D0%A1%D0%A1%D0%A0_02"/>
          <p:cNvPicPr/>
          <p:nvPr/>
        </p:nvPicPr>
        <p:blipFill>
          <a:blip r:embed="rId1"/>
          <a:stretch/>
        </p:blipFill>
        <p:spPr>
          <a:xfrm>
            <a:off x="250920" y="1341360"/>
            <a:ext cx="3028680" cy="46198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7"/>
          <p:cNvSpPr/>
          <p:nvPr/>
        </p:nvSpPr>
        <p:spPr>
          <a:xfrm>
            <a:off x="3564000" y="2492280"/>
            <a:ext cx="54356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Утверждена Постановлением XII Всероссийского Съезда Советов от 11 мая 1925 года «Об Утверждении Конституции (Основного Закона) РСФСР». Её принятие обуславливалось вхождением РСФСР в состав новообразованного Союза ССР и приведением российского законодательства в соответствие союзному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Ее особенность заключалась в том, что она не содержала положений о подавлении эксплуататорских классов и мировой революции. Одно из главных положений — разграничение полномочий и компетенции органов СССР и РСФСР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3419640" y="1268280"/>
            <a:ext cx="55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ституция (Основной Закон) СССР 1925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4"/>
          <p:cNvSpPr/>
          <p:nvPr/>
        </p:nvSpPr>
        <p:spPr>
          <a:xfrm>
            <a:off x="3276720" y="1268280"/>
            <a:ext cx="55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ституция (Основной Закон) РСФСР 1937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3276720" y="2492280"/>
            <a:ext cx="5867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инята Постановлением Чрезвычайного XVII Всероссийского Съезда Советов от 21 января 1937 года  «Об Утверждении Конституции (Основного Закона) РСФСР» из-за смены конституционного законодательства СССР в 1936 году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Был закреплен тезис о руководящей роли Коммунистической партии. В документ также были включены нормы, утверждающие экономические основы социализма. Впервые в истории государства в тексте Конституции говорилось о политических и личных правах и свободах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2" name="Picture 7" descr="1014825513"/>
          <p:cNvPicPr/>
          <p:nvPr/>
        </p:nvPicPr>
        <p:blipFill>
          <a:blip r:embed="rId1"/>
          <a:stretch/>
        </p:blipFill>
        <p:spPr>
          <a:xfrm>
            <a:off x="250920" y="1197000"/>
            <a:ext cx="28112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3276720" y="1268280"/>
            <a:ext cx="55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ституция (Основной Закон) РСФСР 1978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276720" y="2492280"/>
            <a:ext cx="58672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ведена в действие с Декларацией Верховного Совета РСФСР от 12 апреля 1978 года в порядке, установленном Законом РСФСР от 12 апреля 1978 года  на внеочередной VII сессии Верховного Совета РСФСР девятого созыв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 ней был расширен перечень прав и свобод советских граждан, в частности, появились права на жилище и охрану здоровья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7" descr="38973409"/>
          <p:cNvPicPr/>
          <p:nvPr/>
        </p:nvPicPr>
        <p:blipFill>
          <a:blip r:embed="rId1"/>
          <a:stretch/>
        </p:blipFill>
        <p:spPr>
          <a:xfrm>
            <a:off x="179280" y="1268280"/>
            <a:ext cx="294984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276720" y="1268280"/>
            <a:ext cx="5543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ституция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оссийской Федерации 1993 год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276720" y="2492280"/>
            <a:ext cx="58672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онституция Российской Федерации была принята           12 декабря 1993 года по результатам всенародного голосования, проведённого в соответствии с Указом Президента России от 15 октября 1993 года № 1633           «О проведении всенародного голосования по проекту Конституции Российской Федерации»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ступила в силу со дня официального опубликования       25 декабря 1993 го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7" descr="politic_10"/>
          <p:cNvPicPr/>
          <p:nvPr/>
        </p:nvPicPr>
        <p:blipFill>
          <a:blip r:embed="rId1"/>
          <a:stretch/>
        </p:blipFill>
        <p:spPr>
          <a:xfrm>
            <a:off x="324000" y="1268280"/>
            <a:ext cx="2771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.  В Конституции РФ высшей ценностью объявляются не интересы государства, как это было ранее, а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ава и свободы человека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.  Конституция в отличие от прежней провозглашает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инцип разделения власте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.  Конституция РФ устанавливает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юридическое равенство субъектов Федерации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.  В Конституции устанавливается довольно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сложный порядок изменения и пересмотра ее положений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.  Конституция РФ – это 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окумент, рассчитанный на перспектив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dffff"/>
                </a:solidFill>
                <a:latin typeface="Garamond"/>
              </a:rPr>
              <a:t>Рассмотрим некоторые особенности новой Конституции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Конституция как главный нормативный акт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9280" y="1052280"/>
            <a:ext cx="8964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нституции присущи такие юридические свойства, которые позволяют выделить ее в ряду других нормативных актов. К их числу относятс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adffff"/>
                </a:solidFill>
                <a:latin typeface="Garamond"/>
              </a:rPr>
              <a:t>1. Верховенство Конституции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ее высшая юридическая сила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Это означает, что Конституция занимает первое    место или верхнюю ступеньку в иерархии нормативных актов Рос­сии. Все нормативные акты, издаваемые в России, не должны ей противоречить, а в противном случае они признаются не­действительными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  <a:ea typeface="Times New Roman"/>
              </a:rPr>
              <a:t>Но Конституция — это еще и правовая база существования всех ветвей власти. С нормами, ею установленными, должны сверять свои действия все государственные органы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1T18:55:40Z</dcterms:created>
  <dc:creator>home</dc:creator>
  <dc:description/>
  <dc:language>en-US</dc:language>
  <cp:lastModifiedBy>Сергей</cp:lastModifiedBy>
  <dcterms:modified xsi:type="dcterms:W3CDTF">2018-07-02T14:28:14Z</dcterms:modified>
  <cp:revision>53</cp:revision>
  <dc:subject/>
  <dc:title>История Конституции Российской Федерации</dc:title>
</cp:coreProperties>
</file>