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679C-0180-46F2-9220-2448BFFC171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8B068-8341-4D59-929A-0B41AAB09F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B0431-899F-4DFE-AFC5-6DA966F9126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EC3B-FF30-4F76-B639-DB8B046DB4B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1C5C-DF53-4221-BA12-FD98B9B231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E923A-43AB-42B4-B406-7BB4E9A2EB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D7C1E-D61B-4EB2-A497-792922E96E7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893A-DC2D-487D-9F5E-E7B1D9A2D2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27097-F6A1-4624-9C6B-2FBF91920A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F40D5-4D7D-4FF5-8313-8C57AA2004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BD65-B206-4028-98FF-B7E3B5517B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F0D2-88B8-4EE7-A81C-E006FC5116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4EEF9-7FF9-4237-AC9C-4242E2DA67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BF98-0BD8-4758-A50A-EB51C2C51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693-DE26-47F2-BC6E-24AA688D9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A580-6D84-4FBF-9C99-864C35FBA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304B-E379-443F-9A96-2F88360B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A228D-FDF1-4CE1-8BD2-1E57E406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8EAF8-825A-46E1-938C-68BDA5C9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F149-DF40-4205-AC21-2FD6A60D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994B-4259-4A7B-9635-BE47055ED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1B2F6-0B22-4671-A5B0-6644C326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187C-A96F-456F-AD5D-0696A0E0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8515-03F3-4A6A-9E00-C28D83119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2CE-0ED6-47A2-91DC-2B682412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1AE2-26E6-40AE-8BA9-34B9EA684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BF2E-B8D1-45D3-BB14-11DFC5BF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34A9-FB54-4C70-91C2-5E32887A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B843-D4D3-4E5B-BE5A-616B205B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CBC7E-9DF2-4E37-A388-17C861E80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CA726-1024-45C9-8B57-D334F73BD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F77A-A0CE-40EA-9F38-1591FD8C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61ADDC-8100-4D39-8591-E4B60C78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33303-A953-4EEF-92F6-B6C67AA31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B33E-E836-4237-8740-C3F80F5F4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6DD9-44E9-41F2-8854-9111A5713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8C990-17D9-44C0-860C-06E0B408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3A0F9-3BD9-4F64-A7A6-148DCCA46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D4A63E-A9E6-464D-91C2-84F94700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7FE8-3F4F-4FD3-B571-4ED00298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44633-1956-4708-8C24-3C20ED816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6A2AB-2A5F-4B4A-A052-F0592F96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D0990-0747-4EBD-B055-E42AD1067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873FF-DA27-40B7-AD52-9CAA3233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C48B0-8536-4B40-9840-BDBBC9178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CF440-92F4-403D-87D1-B7A79377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ABC7-29E0-4874-8369-391FAF88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FAE03-693C-48C6-B576-338F1B1C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93CCE-8AB7-4D1B-A1D7-4E00E654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5ABEB-E2FD-4315-9C2B-DD3C2584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FC9D9B-B4B2-4C5B-8C36-6840DCD1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5E13-060B-4F61-8B35-55F146986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529B8-89E9-49FF-837F-94B8305E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9DE6E0-9315-4524-AFC8-07DD948D1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69769-C9AB-473F-B615-22AAE970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989E6-693A-41FA-970C-B403163A6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C44-9A1F-49E2-86E5-B8056D83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0B04-4DC2-4275-869E-26C368EE4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0A0-D3D2-4BD8-96DA-62EAA2BE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FD3B-8B1F-4021-9248-421DA930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A5DC-E4A5-48B1-B961-A39582A8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2278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2278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1d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b57d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2eb1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227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EE9B7-EC53-41A6-B1F3-9057C80877C4}" type="slidenum">
              <a:rPr b="0" lang="ru-RU" sz="900" spc="-1" strike="noStrike">
                <a:solidFill>
                  <a:srgbClr val="92278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2278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1d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b57d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2eb1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92278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227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B1033-5350-49E5-977D-560F449DD158}" type="slidenum">
              <a:rPr b="0" lang="ru-RU" sz="900" spc="-1" strike="noStrike">
                <a:solidFill>
                  <a:srgbClr val="92278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2278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2278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1d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b57d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2eb1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65d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65d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227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9D69-20CF-4BD3-8A14-165867372B96}" type="slidenum">
              <a:rPr b="0" lang="ru-RU" sz="900" spc="-1" strike="noStrike">
                <a:solidFill>
                  <a:srgbClr val="92278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dcdc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2278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0720" y="4175280"/>
              <a:ext cx="4022640" cy="268272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3760" y="0"/>
              <a:ext cx="1217520" cy="6858000"/>
            </a:xfrm>
            <a:prstGeom prst="line">
              <a:avLst/>
            </a:prstGeom>
            <a:ln cap="rnd" w="9360">
              <a:solidFill>
                <a:srgbClr val="92278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920" y="0"/>
              <a:ext cx="2268360" cy="686592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2278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600" cy="686592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2278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d1d6b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9b57d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94960" y="-7920"/>
              <a:ext cx="1066680" cy="686592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762eb1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9400" y="4894200"/>
              <a:ext cx="109368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6d1d6b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65d3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d665d3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2278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2278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FB74-096E-4EF8-8503-B6A596D357CB}" type="slidenum">
              <a:rPr b="0" lang="ru-RU" sz="900" spc="-1" strike="noStrike">
                <a:solidFill>
                  <a:srgbClr val="92278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6966000" cy="38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2278f"/>
                </a:solidFill>
                <a:latin typeface="Trebuchet MS"/>
              </a:rPr>
              <a:t>«Роль семьи и школы в          развитии обучающихся».</a:t>
            </a:r>
            <a:r>
              <a:rPr b="0" lang="ru-RU" sz="5400" spc="-1" strike="noStrike">
                <a:solidFill>
                  <a:srgbClr val="92278f"/>
                </a:solidFill>
                <a:latin typeface="Trebuchet MS"/>
              </a:rPr>
              <a:t> </a:t>
            </a:r>
            <a:endParaRPr b="0" lang="en-US" sz="54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979280" y="4941720"/>
            <a:ext cx="410508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7f7f7f"/>
                </a:solidFill>
                <a:latin typeface="Trebuchet MS"/>
              </a:rPr>
              <a:t>январь 2016 года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340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2278f"/>
                </a:solidFill>
                <a:latin typeface="Trebuchet MS"/>
              </a:rPr>
              <a:t>Родители учащихся нашего класса принимают активное участие во многих внеклассных мероприятиях. Вместе ходим на экскурсии, вместе устраиваем праздники, гулям, активно участвуем в олимпиаде «Парки, музеи, усадьбы»</a:t>
            </a: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09120" y="4470120"/>
            <a:ext cx="6348600" cy="15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2800" spc="-1" strike="noStrike">
              <a:solidFill>
                <a:srgbClr val="92278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 </a:t>
            </a:r>
            <a:r>
              <a:rPr b="1" lang="ru-RU" sz="2200" spc="-1" strike="noStrike">
                <a:solidFill>
                  <a:srgbClr val="92278f"/>
                </a:solidFill>
                <a:latin typeface="Times New Roman"/>
              </a:rPr>
              <a:t>Правила эффективного взаимодействия </a:t>
            </a:r>
            <a:br>
              <a:rPr sz="2200"/>
            </a:br>
            <a:r>
              <a:rPr b="1" lang="ru-RU" sz="2200" spc="-1" strike="noStrike">
                <a:solidFill>
                  <a:srgbClr val="92278f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0" lang="ru-RU" sz="2200" spc="-1" strike="noStrike">
                <a:solidFill>
                  <a:srgbClr val="92278f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-108000" y="1186920"/>
            <a:ext cx="7632720" cy="54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одителям нужна поддержка, помощь и добрый совет. Если вы ими располагаете, создайте необходимые условия для обще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 беседуйте с родителями второпях, на бегу; если вы не располагаете временем, лучше договориться о встрече в другой раз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Разговаривайте с родителями спокойным тоном, не старайтесь назидать и поучать – это вызывает раздражение и негативную реакцию со стороны родител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Умейте терпеливо слушать родителей, давайте возможность высказаться  по всем наболевшим вопросам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е спешите с выводами! Обдумайте хорошо то, что вы услышали от родителе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То, о чём родители вам поведали, не должно стать достоянием других родителей, учащихся и педагогов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92278f"/>
                </a:solidFill>
                <a:latin typeface="Times New Roman"/>
              </a:rPr>
              <a:t>Правила эффективного взаимодействия </a:t>
            </a:r>
            <a:br>
              <a:rPr sz="2000"/>
            </a:br>
            <a:r>
              <a:rPr b="1" lang="ru-RU" sz="2000" spc="-1" strike="noStrike">
                <a:solidFill>
                  <a:srgbClr val="92278f"/>
                </a:solidFill>
                <a:latin typeface="Times New Roman"/>
              </a:rPr>
              <a:t>                         классного руководителя с родителями</a:t>
            </a:r>
            <a:r>
              <a:rPr b="1" lang="ru-RU" sz="3600" spc="-1" strike="noStrike">
                <a:solidFill>
                  <a:srgbClr val="92278f"/>
                </a:solidFill>
                <a:latin typeface="Trebuchet MS"/>
              </a:rPr>
              <a:t>.</a:t>
            </a:r>
            <a:r>
              <a:rPr b="0" lang="ru-RU" sz="3600" spc="-1" strike="noStrike">
                <a:solidFill>
                  <a:srgbClr val="92278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900000" y="1341000"/>
            <a:ext cx="77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Готовясь к встрече с семьёй учащегося, необходимо помнить, что любой родитель хочет услышать не только плохое, но и хорошее. Не следует начинать разговор со следующих фраз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У вашего ребёнка совсем плохи дел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Ваш ребёнок совсем перестал учиться, ничего не делае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- Вы задумайтесь, скоро экзамены, а ваш, ведь, не сдаст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Trebuchet MS"/>
              <a:buChar char="-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Перед началом разговора поблагодарите родителя за то,    что пришёл.                   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Выразите надежду, что совместными усилиями удастся справиться с    возникшими трудностям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А потом уже излагайте ситуацию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609480" indent="-609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       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18864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200" spc="-1" strike="noStrike">
                <a:solidFill>
                  <a:srgbClr val="92278f"/>
                </a:solidFill>
                <a:latin typeface="Trebuchet MS"/>
              </a:rPr>
              <a:t>Правила эффективного взаимодействия </a:t>
            </a:r>
            <a:br>
              <a:rPr sz="2200"/>
            </a:br>
            <a:r>
              <a:rPr b="1" lang="ru-RU" sz="2200" spc="-1" strike="noStrike">
                <a:solidFill>
                  <a:srgbClr val="92278f"/>
                </a:solidFill>
                <a:latin typeface="Trebuchet MS"/>
              </a:rPr>
              <a:t>   классного руководителя с родителями</a:t>
            </a:r>
            <a:r>
              <a:rPr b="1" lang="ru-RU" sz="3600" spc="-1" strike="noStrike">
                <a:solidFill>
                  <a:srgbClr val="92278f"/>
                </a:solidFill>
                <a:latin typeface="Trebuchet MS"/>
              </a:rPr>
              <a:t>.</a:t>
            </a:r>
            <a:r>
              <a:rPr b="0" lang="ru-RU" sz="3600" spc="-1" strike="noStrike">
                <a:solidFill>
                  <a:srgbClr val="92278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79280" y="1125000"/>
            <a:ext cx="6778800" cy="49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 разговоре уместны следующие высказывания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970560" indent="-52272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Я понимаю, что трудно…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970560" indent="-52272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Я сама мама и знаю…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970560" indent="-52272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Это же Ваш ребёнок, никто не знает его лучше, чем В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970560" indent="-52272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Никто не сможет помочь Вашему ребёнку, лучше, чем В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едложите родителям варианты решения проблемы и обсудите их все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сти беседу необходимо в направлении поиска путей решения проблемы, преодоления трудностей, т.е. не обсуждать, кто  виноват, а решать, что делать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597240" indent="-59724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аждая встреча с семьёй учащегося должна заканчиваться конструктивными рекомендациями для родителей и самого у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800" spc="-1" strike="noStrike">
                <a:solidFill>
                  <a:srgbClr val="92278f"/>
                </a:solidFill>
                <a:latin typeface="Trebuchet MS"/>
              </a:rPr>
              <a:t>Ребёнка учит то, что его окружает</a:t>
            </a:r>
            <a:endParaRPr b="0" lang="en-US" sz="38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63520" y="907560"/>
            <a:ext cx="738648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ребёнка часто критикуют – он учится ненавидеть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ребёнку часто демонстрируют враждебность – он учится быть агрессивны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ребёнка часто высмеивают – он становится замкнуты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к ребёнку часто бывают снисходительны – он учится быть терпеливы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ребёнка часто подбадривают – он учится уверенности в себе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ребёнка часто хвалят – он учится быть благодарны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с ребёнком обычно честны – он учится быть справедливым.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rebuchet MS"/>
              </a:rPr>
              <a:t>Если ребёнок живёт в атмосфере дружбы и чувствует себя нужным – он вырастет добрым и уверенным в себе!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278f"/>
                </a:solidFill>
                <a:latin typeface="Trebuchet MS"/>
              </a:rPr>
              <a:t>Стратегия успешного взаимодействия с семьей</a:t>
            </a: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ы должны помнить, что все семьи имеют сильные стороны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ы должны воспринимать ошибки и недостатки семьи  не как ошибки семьи, а как ошибки социальной системы в создании возможностей обучения и развитии компетентности  семь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Мы должны развивать работу с семьями на основе всего положительного, что у них есть, а не преодолевать ее  недостатки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18960" indent="-31896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 вмешательстве в жизнь семьи мы не должны думать, что делаем это «для людей», а должны стремиться к тому, чтобы семья как можно меньше зависела от профессионалов (педагогов, психологов, социальных работников)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92278f"/>
                </a:solidFill>
                <a:latin typeface="Trebuchet MS"/>
              </a:rPr>
              <a:t>Принципы взаимодействия семьи и школы </a:t>
            </a:r>
            <a:br>
              <a:rPr sz="2400"/>
            </a:br>
            <a:endParaRPr b="0" lang="en-US" sz="24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71640" y="1483920"/>
            <a:ext cx="73864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гласия – взаимная договорённость о поддержании благоприятных для развития ребёнка условий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пряжения – последовательное соотнесение единых требований к ребёнку в школьной и семейной сфере его жизнедеятельности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переживания – взаимное выражение расположенности друг к другу, проявление доброжелательности и знаков внимания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причастности – взаимная практическая забота об улучшении условий жизнедеятельности ребё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ринцип содеянности – реальные совместные практические действия, содействующие счастливому развитию ребёнка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6000" spc="-1" strike="noStrike">
                <a:solidFill>
                  <a:srgbClr val="92278f"/>
                </a:solidFill>
                <a:latin typeface="Trebuchet MS"/>
              </a:rPr>
              <a:t>Спасибо за внимание</a:t>
            </a:r>
            <a:r>
              <a:rPr b="0" lang="ru-RU" sz="5400" spc="-1" strike="noStrike">
                <a:solidFill>
                  <a:srgbClr val="92278f"/>
                </a:solidFill>
                <a:latin typeface="Trebuchet MS"/>
              </a:rPr>
              <a:t>!</a:t>
            </a:r>
            <a:endParaRPr b="0" lang="en-US" sz="54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1800" spc="-1" strike="noStrike">
              <a:solidFill>
                <a:srgbClr val="7f7f7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-360" y="1628280"/>
            <a:ext cx="745164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В комплексе главных задач, поставленных перед образовательной школой, является дальнейшее развитие педагогического единства действий в воспитании подрастающего поколения школы и семьи.</a:t>
            </a:r>
            <a:endParaRPr b="0" lang="en-US" sz="3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18260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63520" y="476280"/>
            <a:ext cx="738648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404040"/>
                </a:solidFill>
                <a:latin typeface="Trebuchet MS"/>
              </a:rPr>
              <a:t>     </a:t>
            </a: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Семья и школа - это берег и  море.     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   </a:t>
            </a: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На берегу, ребенок делает свои первые шаги, получает первые уроки жизни, а потом перед ним открывается необозримое море знаний, и курс в этом море прокладывает школа. Это не значит, что он должен совсем оторваться от берега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ru-RU" sz="3200" spc="-1" strike="noStrike">
                <a:solidFill>
                  <a:srgbClr val="92278f"/>
                </a:solidFill>
                <a:latin typeface="Trebuchet MS"/>
              </a:rPr>
              <a:t>                              </a:t>
            </a:r>
            <a:r>
              <a:rPr b="0" i="1" lang="ru-RU" sz="3200" spc="-1" strike="noStrike">
                <a:solidFill>
                  <a:srgbClr val="92278f"/>
                </a:solidFill>
                <a:latin typeface="Trebuchet MS"/>
              </a:rPr>
              <a:t>Л. А. Кассиль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2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69920" y="1125000"/>
            <a:ext cx="73864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800" spc="-1" strike="noStrike">
                <a:solidFill>
                  <a:srgbClr val="92278f"/>
                </a:solidFill>
                <a:latin typeface="Tahoma"/>
                <a:ea typeface="Tahoma"/>
              </a:rPr>
              <a:t>Суть взаимодействия семьи и школы заключается в заинтересованности обеих сторон в изучении личности ребенка, раскрытии и развитии скрытого в нем потенциала. В основе такого взаимодействия лежат принципы взаимного доверия и уважения, взаимной поддержки и помощи, терпения и терпимости по отношению </a:t>
            </a:r>
            <a:br>
              <a:rPr sz="2800"/>
            </a:br>
            <a:r>
              <a:rPr b="0" lang="ru-RU" sz="2800" spc="-1" strike="noStrike">
                <a:solidFill>
                  <a:srgbClr val="92278f"/>
                </a:solidFill>
                <a:latin typeface="Tahoma"/>
                <a:ea typeface="Tahoma"/>
              </a:rPr>
              <a:t>друг к другу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рямоугольник 1"/>
          <p:cNvSpPr/>
          <p:nvPr/>
        </p:nvSpPr>
        <p:spPr>
          <a:xfrm>
            <a:off x="0" y="-100080"/>
            <a:ext cx="759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78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2278f"/>
                </a:solidFill>
                <a:latin typeface="Arial"/>
              </a:rPr>
              <a:t>Первые жизненные уроки ребёнок получает в семье. Его первые учителя и воспитатели – отец и мать. Давно установлено, что для ребёнка общие семейные повседневные радости и огорчения, успехи и неудачи – это источник, рождающий доброту и чуткость, заботливое отношение к людя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2278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2278f"/>
                </a:solidFill>
                <a:latin typeface="Arial"/>
              </a:rPr>
              <a:t>Семья даёт ребёнку первые представления о добре и зле, о нормах нравственности, о правилах общежития, первые трудовые навыки. Именно в семье складываются жизненные планы и идеалы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539640" y="189000"/>
            <a:ext cx="631836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Важной формой связи и сотрудничества школы и семьи являются </a:t>
            </a:r>
            <a:r>
              <a:rPr b="0" lang="ru-RU" sz="3200" spc="-1" strike="noStrike" u="sng">
                <a:solidFill>
                  <a:srgbClr val="92278f"/>
                </a:solidFill>
                <a:uFillTx/>
                <a:latin typeface="Trebuchet MS"/>
              </a:rPr>
              <a:t>родительские собрания. </a:t>
            </a:r>
            <a:r>
              <a:rPr b="0" lang="ru-RU" sz="3200" spc="-1" strike="noStrike">
                <a:solidFill>
                  <a:srgbClr val="92278f"/>
                </a:solidFill>
                <a:latin typeface="Trebuchet MS"/>
              </a:rPr>
              <a:t>На них мы обсуждаем актуальные проблемы учебно–воспитательной работы, намечаем пути устранения недостатков. Собрания носят как теоретический, так и практически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2278f"/>
                </a:solidFill>
                <a:latin typeface="Trebuchet MS"/>
              </a:rPr>
              <a:t>Как Вы думаете, что родители ждут от Вас? </a:t>
            </a:r>
            <a:r>
              <a:rPr b="1" lang="ru-RU" sz="2000" spc="-1" strike="noStrike">
                <a:solidFill>
                  <a:srgbClr val="92278f"/>
                </a:solidFill>
                <a:latin typeface="Trebuchet MS"/>
              </a:rPr>
              <a:t>(Ответы получены на родительском собрании)</a:t>
            </a:r>
            <a:endParaRPr b="0" lang="en-US" sz="20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праведливого отношения к детя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оты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уткого, понимающего отношения к детя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ответственного, добросовестного отношения к своим обязанностям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оддержки дете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хорошего качества знаний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тобы больше времени проводили с детьм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тобы заставили и научили детей учить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ыть « второй мамой» со всеми прилагающими обязанностями (чтобы учителя полностью изолировали родителей от воспитания детей)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500" spc="-1" strike="noStrike">
                <a:solidFill>
                  <a:srgbClr val="92278f"/>
                </a:solidFill>
                <a:latin typeface="Trebuchet MS"/>
              </a:rPr>
              <a:t>Что Вы ждёте от родителей своего класса? (опрос классных руководителей)</a:t>
            </a:r>
            <a:endParaRPr b="0" lang="en-US" sz="25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взаимопомощи, взаимопонимания в вопросах воспитания и обучения детей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совместной работы над вопросами успеваемости;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роявления интереса к успехам и неудачам ребёнка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ответственности за воспитание своих детей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70000"/>
              </a:lnSpc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600" spc="-1" strike="noStrike">
                <a:solidFill>
                  <a:srgbClr val="404040"/>
                </a:solidFill>
                <a:latin typeface="Trebuchet MS"/>
              </a:rPr>
              <a:t>помощи в организации внеклассных мероприятий;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333360"/>
            <a:ext cx="6870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ru-RU" sz="3600" spc="-1" strike="noStrike">
              <a:solidFill>
                <a:srgbClr val="92278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263520" y="1125000"/>
            <a:ext cx="738648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2278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2278f"/>
                </a:solidFill>
                <a:latin typeface="Trebuchet MS"/>
              </a:rPr>
              <a:t>А.С. Макаренко говорил, что самый доступный способ связи школы с семьёй – через учащихся. Преимущество этого способа не только в его оперативности, но и в том, что ребёнок, принимая требования учителя, становится их проводником в семье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0T14:35:32Z</dcterms:created>
  <dc:creator>1</dc:creator>
  <dc:description/>
  <dc:language>en-US</dc:language>
  <cp:lastModifiedBy>user</cp:lastModifiedBy>
  <dcterms:modified xsi:type="dcterms:W3CDTF">2018-07-02T08:06:01Z</dcterms:modified>
  <cp:revision>23</cp:revision>
  <dc:subject/>
  <dc:title>«Роль семьи и школы в          развитии морального              самосознания  обучающихся». </dc:title>
</cp:coreProperties>
</file>