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01F3B-3C1E-4A4E-9582-1BEE45DF1E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2A78-5194-4AFF-855D-653DFB322C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3316-B20F-497D-9CA5-22B2BAAAD2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75896-B8C0-4C8B-9376-64377CC967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1A897-0A46-48D4-8E5B-8C616B10DF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6EF47-CE1B-407F-9B06-7DEE01B2C5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8E57-C710-4231-AC7D-7CA2B534B3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0E0F-CEF2-4053-9859-9AA31B3DCB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69F1-2B66-42F9-96C9-E25B8DF111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CF8A-1A11-4CC2-AFA3-9503611D3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14D6-86EC-4683-B0C8-A8FAF57DB0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84B6-7D3E-424C-AD63-9CA0A0EC8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1B3E-0794-460C-B648-32C54B3FCB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B5EA-F510-4EBF-8AA5-12DCD395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5FA1-DDF1-40FB-B6F7-0F45E5601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E21-A8E9-476B-873C-299D2E45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F15E-1879-4382-A561-AA40615F6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F497-C277-4E36-9CA8-54413081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6A44-3D0E-47D4-AC80-F241E7C4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2AFD7-9B75-483F-9800-76C98618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B573-C999-4F76-A059-4CE01F3B1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9AE2-9476-4162-9DCB-B37EE9BC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8C35B-51F3-404C-9312-6ECAB2E1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6433-518A-4622-84CA-144BB273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895-A354-47A1-B418-DF9B1170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0FE1-AB02-44DC-9F62-97F5F8C6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643-9382-4818-88E4-4CBAAD1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2350-0556-4DA2-82CF-3D846D62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B273-596D-49AB-8DA7-5A48F81AD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34AD7-57DC-4B6C-9093-5DF071F5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9B1B9-FD8B-4769-B198-BF3E3B3C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56DBE-6F92-496D-89A9-05A6D87A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66A18-1584-4C84-B151-D5887635C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A4E4C-EEFD-49F3-AA7B-3F41CBD5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7E22B-6599-4A3F-8682-9240CD16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C071-726D-482F-A62F-874CC25A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B6CBE-3656-48E9-A8CF-DE1554000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35510-A51F-47A4-9EC7-16FACBE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EA54-BE2C-4ADA-A24E-215C4A97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7F7BB-3FD2-4B8C-BAFB-E0A9D3F8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71B5-2E99-4F41-9752-36074671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B8414-847C-4123-817E-D42AC906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00858-17C2-40E3-A6B1-96842033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137D7-9EE2-4243-8C12-60368B2B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B47EB-64AD-4641-BEE3-0C614B34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21284-984C-4DC8-B256-0C524CEC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DFF-BC28-4EF2-9330-016B4300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2653B-57C2-4080-A7BE-314C6704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7EEE3-E3E9-415D-A140-FA5D668F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A670F-3AC3-4D9E-9E3C-062DF842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9BDF9-F641-4D89-9203-4A3E1D35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D7771-9797-4409-8174-A873F019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573A-AFF0-4DDF-9576-851FB4BC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89A73-35F4-44D8-BCF1-F86A5F55C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C93EF-EF7C-4098-9212-4826438A1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130B5-E76D-4461-A7B3-71563D1B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E91-73DC-4B79-828E-8E2BAC5A7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5E3B-8800-4195-9005-E5B3AE52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452-9735-43F7-8A3E-2F41EDEA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2F9C-82F0-4675-BE2E-54868918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A191-3E0C-41F2-A8B0-0FD75273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2278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2278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1d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b57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227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FCADD-A801-46CD-9A0A-66151471C822}" type="slidenum">
              <a:rPr b="0" lang="ru-RU" sz="900" spc="-1" strike="noStrike">
                <a:solidFill>
                  <a:srgbClr val="92278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2278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1d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b57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2278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227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30AB5-3D8F-42F3-9B70-BC39B367CC59}" type="slidenum">
              <a:rPr b="0" lang="ru-RU" sz="900" spc="-1" strike="noStrike">
                <a:solidFill>
                  <a:srgbClr val="92278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2278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2278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1d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b57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227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EFD3-A2D2-4FDB-989D-7E3CB64E43CC}" type="slidenum">
              <a:rPr b="0" lang="ru-RU" sz="900" spc="-1" strike="noStrike">
                <a:solidFill>
                  <a:srgbClr val="92278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2278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2278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1d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b57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227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C639-E98A-4FFF-8977-A3DBB3244081}" type="slidenum">
              <a:rPr b="0" lang="ru-RU" sz="900" spc="-1" strike="noStrike">
                <a:solidFill>
                  <a:srgbClr val="92278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2278f"/>
                </a:solidFill>
                <a:latin typeface="Trebuchet MS"/>
              </a:rPr>
              <a:t>«Роль семьи и школы в          развитии обучающихся».</a:t>
            </a:r>
            <a:r>
              <a:rPr b="0" lang="ru-RU" sz="54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54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январь 2016 год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2278f"/>
                </a:solidFill>
                <a:latin typeface="Trebuchet MS"/>
              </a:rPr>
              <a:t>Родители учащихся нашего класса принимают активное участие во многих внеклассных мероприятиях. Вместе ходим на экскурсии, вместе устраиваем праздники, гулям, активно участвуем в олимпиаде «Парки, музеи, усадьбы»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4470120"/>
            <a:ext cx="63486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92278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 </a:t>
            </a:r>
            <a:r>
              <a:rPr b="1" lang="ru-RU" sz="2200" spc="-1" strike="noStrike">
                <a:solidFill>
                  <a:srgbClr val="92278f"/>
                </a:solidFill>
                <a:latin typeface="Times New Roman"/>
              </a:rPr>
              <a:t>Правила эффективного взаимодействия </a:t>
            </a:r>
            <a:br>
              <a:rPr sz="2200"/>
            </a:br>
            <a:r>
              <a:rPr b="1" lang="ru-RU" sz="2200" spc="-1" strike="noStrike">
                <a:solidFill>
                  <a:srgbClr val="92278f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0" lang="ru-RU" sz="2200" spc="-1" strike="noStrike">
                <a:solidFill>
                  <a:srgbClr val="92278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108000" y="1186920"/>
            <a:ext cx="76327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 спешите с выводами! Обдумайте хорошо то, что вы услышали от ро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278f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92278f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3600" spc="-1" strike="noStrike">
                <a:solidFill>
                  <a:srgbClr val="92278f"/>
                </a:solidFill>
                <a:latin typeface="Trebuchet MS"/>
              </a:rPr>
              <a:t>.</a:t>
            </a:r>
            <a:r>
              <a:rPr b="0" lang="ru-RU" sz="36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У вашего ребёнка совсем плохи дел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Ваш ребёнок совсем перестал учиться, ничего не дела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Вы задумайтесь, скоро экзамены, а ваш, ведь, не сдас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еред началом разговора поблагодарите родителя за то,    что пришёл.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разите надежду, что совместными усилиями удастся справиться с    возникшими трудностя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 потом уже излагайте ситуаци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92278f"/>
                </a:solidFill>
                <a:latin typeface="Trebuchet MS"/>
              </a:rPr>
              <a:t>Правила эффективного взаимодействия </a:t>
            </a:r>
            <a:br>
              <a:rPr sz="2200"/>
            </a:br>
            <a:r>
              <a:rPr b="1" lang="ru-RU" sz="2200" spc="-1" strike="noStrike">
                <a:solidFill>
                  <a:srgbClr val="92278f"/>
                </a:solidFill>
                <a:latin typeface="Trebuchet MS"/>
              </a:rPr>
              <a:t>   классного руководителя с родителями</a:t>
            </a:r>
            <a:r>
              <a:rPr b="1" lang="ru-RU" sz="3600" spc="-1" strike="noStrike">
                <a:solidFill>
                  <a:srgbClr val="92278f"/>
                </a:solidFill>
                <a:latin typeface="Trebuchet MS"/>
              </a:rPr>
              <a:t>.</a:t>
            </a:r>
            <a:r>
              <a:rPr b="0" lang="ru-RU" sz="36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79280" y="1125000"/>
            <a:ext cx="67788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разговоре уместны следующие высказывани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970560" indent="-52272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Я понимаю, что трудно…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970560" indent="-52272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Я сама мама и знаю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970560" indent="-52272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Это же Ваш ребёнок, никто не знает его лучше, чем В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970560" indent="-52272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икто не сможет помочь Вашему ребёнку, лучше, чем В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едложите родителям варианты решения проблемы и обсудите их вс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аждая встреча с семьёй учащегося должна заканчиваться конструктивными рекомендациями для родителей и самого у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92278f"/>
                </a:solidFill>
                <a:latin typeface="Trebuchet MS"/>
              </a:rPr>
              <a:t>Ребёнка учит то, что его окружает</a:t>
            </a:r>
            <a:endParaRPr b="0" lang="en-US" sz="38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278f"/>
                </a:solidFill>
                <a:latin typeface="Trebuchet MS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278f"/>
                </a:solidFill>
                <a:latin typeface="Trebuchet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92278f"/>
                </a:solidFill>
                <a:latin typeface="Trebuchet MS"/>
              </a:rPr>
              <a:t>Спасибо за внимание</a:t>
            </a:r>
            <a:r>
              <a:rPr b="0" lang="ru-RU" sz="5400" spc="-1" strike="noStrike">
                <a:solidFill>
                  <a:srgbClr val="92278f"/>
                </a:solidFill>
                <a:latin typeface="Trebuchet MS"/>
              </a:rPr>
              <a:t>!</a:t>
            </a:r>
            <a:endParaRPr b="0" lang="en-US" sz="54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1628280"/>
            <a:ext cx="745164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В комплексе главных задач, поставленных перед образовательной школой, является дальнейшее развитие педагогического единства действий в воспитании подрастающего поколения школы и семьи.</a:t>
            </a:r>
            <a:endParaRPr b="0" lang="en-US" sz="3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26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Семья и школа - это берег и  море.   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92278f"/>
                </a:solidFill>
                <a:latin typeface="Trebuchet MS"/>
              </a:rPr>
              <a:t>                              </a:t>
            </a:r>
            <a:r>
              <a:rPr b="0" i="1" lang="ru-RU" sz="3200" spc="-1" strike="noStrike">
                <a:solidFill>
                  <a:srgbClr val="92278f"/>
                </a:solidFill>
                <a:latin typeface="Trebuchet MS"/>
              </a:rPr>
              <a:t>Л. А. Кассил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9920" y="1125000"/>
            <a:ext cx="7386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2278f"/>
                </a:solidFill>
                <a:latin typeface="Tahoma"/>
                <a:ea typeface="Tahoma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2800"/>
            </a:br>
            <a:r>
              <a:rPr b="0" lang="ru-RU" sz="2800" spc="-1" strike="noStrike">
                <a:solidFill>
                  <a:srgbClr val="92278f"/>
                </a:solidFill>
                <a:latin typeface="Tahoma"/>
                <a:ea typeface="Tahoma"/>
              </a:rPr>
              <a:t>друг к друг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0" y="-100080"/>
            <a:ext cx="759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78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2278f"/>
                </a:solidFill>
                <a:latin typeface="Arial"/>
              </a:rPr>
              <a:t>Первые жизненные уроки ребёнок получает в семье. Его первые учителя и воспитатели – отец и мать. Давно установлено, что для ребёнка общие семейные повседневные радости и огорчения, успехи и неудачи – это источник, рождающий доброту и чуткость, заботливое отношение к люд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78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2278f"/>
                </a:solidFill>
                <a:latin typeface="Arial"/>
              </a:rPr>
              <a:t>Семья даёт ребёнку первые представления о добре и зле, о нормах нравственности, о правилах общежития, первые трудовые навыки. Именно в семье складываются жизненные планы и идеалы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539640" y="189000"/>
            <a:ext cx="631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Важной формой связи и сотрудничества школы и семьи являются </a:t>
            </a:r>
            <a:r>
              <a:rPr b="0" lang="ru-RU" sz="3200" spc="-1" strike="noStrike" u="sng">
                <a:solidFill>
                  <a:srgbClr val="92278f"/>
                </a:solidFill>
                <a:uFillTx/>
                <a:latin typeface="Trebuchet MS"/>
              </a:rPr>
              <a:t>родительские собрания. </a:t>
            </a: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На них мы обсуждаем актуальные проблемы учебно–воспитательной работы, намечаем пути устранения недостатков. Собрания носят как теоретический, так и прак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278f"/>
                </a:solidFill>
                <a:latin typeface="Trebuchet MS"/>
              </a:rPr>
              <a:t>Как Вы думаете, что родители ждут от Вас? </a:t>
            </a:r>
            <a:r>
              <a:rPr b="1" lang="ru-RU" sz="2000" spc="-1" strike="noStrike">
                <a:solidFill>
                  <a:srgbClr val="92278f"/>
                </a:solidFill>
                <a:latin typeface="Trebuchet MS"/>
              </a:rPr>
              <a:t>(Ответы получены на родительском собрании)</a:t>
            </a:r>
            <a:endParaRPr b="0" lang="en-US" sz="20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праведливого отношения к детя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от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уткого, понимающего отношения к детя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ветственного, добросовестного отношения к своим обязанностя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ддержки дет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хорошего качества знани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бы больше времени проводили с детьм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бы заставили и научили детей учить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92278f"/>
                </a:solidFill>
                <a:latin typeface="Trebuchet MS"/>
              </a:rPr>
              <a:t>Что Вы ждёте от родителей своего класса? (опрос классных руководителей)</a:t>
            </a:r>
            <a:endParaRPr b="0" lang="en-US" sz="25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заимопомощи, взаимопонимания в вопросах воспитания и обучения детей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овместной работы над вопросами успеваемости;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роявления интереса к успехам и неудачам ребёнка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ответственности за воспитание своих детей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омощи в организации внеклассных мероприятий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2278f"/>
                </a:solidFill>
                <a:latin typeface="Trebuchet MS"/>
              </a:rPr>
              <a:t>А.С. Макаренко говорил, что самый доступный способ связи школы с семьёй – через учащихся. Преимущество этого способа не только в его оперативности, но и в том, что ребёнок, принимая требования учителя, становится их проводником в семь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user</cp:lastModifiedBy>
  <dcterms:modified xsi:type="dcterms:W3CDTF">2018-07-02T08:06:01Z</dcterms:modified>
  <cp:revision>23</cp:revision>
  <dc:subject/>
  <dc:title>«Роль семьи и школы в          развитии морального              самосознания  обучающихся». </dc:title>
</cp:coreProperties>
</file>