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6.gif" ContentType="image/gif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0.jpeg" ContentType="image/jpeg"/>
  <Override PartName="/ppt/media/image5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3.gif" ContentType="image/gif"/>
  <Override PartName="/ppt/media/image12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57CA-C1DC-40CF-9062-05C79196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5636-AE78-46BE-8494-7AA643B5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ACC8-25A7-4622-8B2D-68765827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143-76FD-4443-9B52-D3C0D0AB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FFD8-32C3-48BC-870A-C569BC4B4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1000-AB97-499B-BE0D-DEF60DC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D415-E00E-46E5-8AD7-DE40260A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CD1A-D807-464F-A1B8-8CC872C8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3BF3C-9F8E-4695-AEEE-26DEAD6B0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B590C-9867-45B8-8CAF-7DB37BA54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4276-01E5-4A7A-9447-CA3E43389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56C1-BBAB-4465-93C9-896EBCA9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87E2-E16B-460E-9A63-1C925D6D9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9D4E-540E-4DB5-8D26-CE1F7B35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15E-6E8D-4DF8-9EC5-DD248BEAB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E285-CD23-4914-ACDA-283D4E08F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1837-1DBC-4607-B057-D33DEF648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C9148-A5D2-4FE8-8212-E5A478119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B6E2DE-27B9-4E17-BF3B-A4BC3BC8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F16855-8A95-4E65-B77F-FF5AF965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899057-6370-4EF6-A4C2-AA93B3C3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6F5C8B-9013-420F-8183-05516DD62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C032-75B2-46C9-B897-10D08360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522DF-B3E4-41EE-85D9-DDD1CFA6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23E15-C34F-49BE-9A98-8CA5E317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4C9EB2-A41C-43B5-BABC-EB25C3DF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E53DB-6B0E-4B2E-A71F-C0F253A07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FA1BEE-F413-414D-8C80-A9278B16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734EC-1B75-41E7-892C-D4C91B455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51828-D36C-4EF9-A362-E90E0DA7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0A310-535F-421F-AB8A-28A8C2C11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93CFD-CA5D-425D-978F-8B864E617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21959-C694-4B50-94F1-22727FDF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15EB-D955-440D-92EE-17570A49B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F4C27-B702-425A-92D8-8CA89600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81147-18B5-4BB7-8FBB-BD3D3C46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6E775-BA59-4525-84F1-FD724E3D4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00AC5-B6AA-4D61-A5CB-F86478D99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9F1A8-E96D-4E06-AB43-546E4571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A2FA-7A5B-47D5-BDE1-D8DC61C6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28271-2AC5-4505-A778-ECAFC7B9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CD33B-8F33-4B9C-87BF-668FF4AC2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E8D54-1180-4FCD-817E-48DA0CF5D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047A-3116-4415-AFD1-FE4AD794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02DB-A081-4B11-94C2-30B22A96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B1F7-C165-47E4-BDAA-99D3D4B6C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7BE6-B15B-462E-AA71-A70FDC87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78B3-3468-45D7-951C-B135E4AE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BB62-5FD0-405B-9D2A-FAC9B9A618D9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4c6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C6FB-B3EA-40B8-8CD8-EA182E67B9F2}" type="slidenum">
              <a:rPr b="0" lang="ru-RU" sz="1200" spc="-1" strike="noStrike">
                <a:solidFill>
                  <a:srgbClr val="94c6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0BAF-B179-4658-9C85-B49EFFE31F15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ef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ef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66D9-F459-44FF-BE50-863F6E8326C6}" type="slidenum">
              <a:rPr b="0" lang="ru-RU" sz="1200" spc="-1" strike="noStrike">
                <a:solidFill>
                  <a:srgbClr val="fefef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4"/>
          <p:cNvSpPr txBox="1"/>
          <p:nvPr/>
        </p:nvSpPr>
        <p:spPr>
          <a:xfrm>
            <a:off x="1285920" y="476280"/>
            <a:ext cx="54468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Times New Roman"/>
              </a:rPr>
              <a:t>Огонь - вра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36" name="Picture 5" descr=""/>
          <p:cNvPicPr/>
          <p:nvPr/>
        </p:nvPicPr>
        <p:blipFill>
          <a:blip r:embed="rId1"/>
          <a:stretch/>
        </p:blipFill>
        <p:spPr>
          <a:xfrm>
            <a:off x="4857840" y="1643040"/>
            <a:ext cx="3124080" cy="42480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337" name="Рисунок 1" descr="C:\ресурсы\Картинки\Огонь\i14.gif"/>
          <p:cNvPicPr/>
          <p:nvPr/>
        </p:nvPicPr>
        <p:blipFill>
          <a:blip r:embed="rId2"/>
          <a:stretch/>
        </p:blipFill>
        <p:spPr>
          <a:xfrm>
            <a:off x="1619280" y="1484280"/>
            <a:ext cx="2023920" cy="122544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3" descr="C:\ресурсы\Картинки\Огонь\i3.gif"/>
          <p:cNvPicPr/>
          <p:nvPr/>
        </p:nvPicPr>
        <p:blipFill>
          <a:blip r:embed="rId3"/>
          <a:stretch/>
        </p:blipFill>
        <p:spPr>
          <a:xfrm>
            <a:off x="3924360" y="5157720"/>
            <a:ext cx="696960" cy="129708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" descr="MCj02902930000[1]"/>
          <p:cNvPicPr/>
          <p:nvPr/>
        </p:nvPicPr>
        <p:blipFill>
          <a:blip r:embed="rId4"/>
          <a:stretch/>
        </p:blipFill>
        <p:spPr>
          <a:xfrm>
            <a:off x="395280" y="2924280"/>
            <a:ext cx="3284640" cy="37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Заголовок 1" descr=""/>
          <p:cNvPicPr/>
          <p:nvPr/>
        </p:nvPicPr>
        <p:blipFill>
          <a:blip r:embed="rId1"/>
          <a:stretch/>
        </p:blipFill>
        <p:spPr>
          <a:xfrm>
            <a:off x="781200" y="633240"/>
            <a:ext cx="3162240" cy="75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9" name=""/>
          <p:cNvGraphicFramePr/>
          <p:nvPr/>
        </p:nvGraphicFramePr>
        <p:xfrm>
          <a:off x="4500720" y="285840"/>
          <a:ext cx="3622680" cy="4118040"/>
        </p:xfrm>
        <a:graphic>
          <a:graphicData uri="http://schemas.openxmlformats.org/drawingml/2006/table">
            <a:tbl>
              <a:tblPr/>
              <a:tblGrid>
                <a:gridCol w="307800"/>
                <a:gridCol w="308160"/>
                <a:gridCol w="304560"/>
                <a:gridCol w="368280"/>
                <a:gridCol w="301680"/>
                <a:gridCol w="397080"/>
                <a:gridCol w="315720"/>
                <a:gridCol w="360360"/>
                <a:gridCol w="347760"/>
                <a:gridCol w="312840"/>
                <a:gridCol w="298440"/>
              </a:tblGrid>
              <a:tr h="55080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7960"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5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7960">
                <a:tc gridSpan="3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9120">
                <a:tc gridSpan="5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8320">
                <a:tc gridSpan="3"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3720" rIns="63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3720" marR="63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 gridSpan="4"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0" name="Rectangle 85"/>
          <p:cNvSpPr/>
          <p:nvPr/>
        </p:nvSpPr>
        <p:spPr>
          <a:xfrm>
            <a:off x="468360" y="1708200"/>
            <a:ext cx="6191280" cy="45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Вопрос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Светит, но обжигает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 и 3. Средства тушения огня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Бытовой прибор, из-за которог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если он будет оставлен включенны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ожет произойти пожар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Чем подают воду при пожаре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6. Сигнал, издаваемый пожарны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втомобилем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7. Откуда набирают воду для тушения пожара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8. Основное средство для борьбы с огнем </a:t>
            </a: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9"/>
          <p:cNvSpPr/>
          <p:nvPr/>
        </p:nvSpPr>
        <p:spPr>
          <a:xfrm>
            <a:off x="6084720" y="33336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   м   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2"/>
          <p:cNvSpPr/>
          <p:nvPr/>
        </p:nvSpPr>
        <p:spPr>
          <a:xfrm>
            <a:off x="6084720" y="83664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н 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96"/>
          <p:cNvSpPr/>
          <p:nvPr/>
        </p:nvSpPr>
        <p:spPr>
          <a:xfrm>
            <a:off x="5796000" y="14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   е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   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99"/>
          <p:cNvSpPr/>
          <p:nvPr/>
        </p:nvSpPr>
        <p:spPr>
          <a:xfrm>
            <a:off x="6084720" y="184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У 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ю   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02"/>
          <p:cNvSpPr/>
          <p:nvPr/>
        </p:nvSpPr>
        <p:spPr>
          <a:xfrm>
            <a:off x="5435640" y="2421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 л    а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03"/>
          <p:cNvSpPr/>
          <p:nvPr/>
        </p:nvSpPr>
        <p:spPr>
          <a:xfrm>
            <a:off x="6084720" y="2924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 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   е   н  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05"/>
          <p:cNvSpPr/>
          <p:nvPr/>
        </p:nvSpPr>
        <p:spPr>
          <a:xfrm>
            <a:off x="4500720" y="3500280"/>
            <a:ext cx="24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К   о  л    о   д   е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107"/>
          <p:cNvSpPr/>
          <p:nvPr/>
        </p:nvSpPr>
        <p:spPr>
          <a:xfrm>
            <a:off x="5435640" y="40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   о  д 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Рисунок 2" descr="MCj02332710000[1]"/>
          <p:cNvPicPr/>
          <p:nvPr/>
        </p:nvPicPr>
        <p:blipFill>
          <a:blip r:embed="rId2"/>
          <a:stretch/>
        </p:blipFill>
        <p:spPr>
          <a:xfrm>
            <a:off x="5289480" y="4371840"/>
            <a:ext cx="35337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-85680" y="-55440"/>
            <a:ext cx="73944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Прямоугольник 4" descr=""/>
          <p:cNvPicPr/>
          <p:nvPr/>
        </p:nvPicPr>
        <p:blipFill>
          <a:blip r:embed="rId1"/>
          <a:stretch/>
        </p:blipFill>
        <p:spPr>
          <a:xfrm>
            <a:off x="826920" y="333360"/>
            <a:ext cx="7280280" cy="1943280"/>
          </a:xfrm>
          <a:prstGeom prst="rect">
            <a:avLst/>
          </a:prstGeom>
          <a:ln w="0">
            <a:noFill/>
          </a:ln>
        </p:spPr>
      </p:pic>
      <p:sp>
        <p:nvSpPr>
          <p:cNvPr id="341" name="Rectangle 3"/>
          <p:cNvSpPr/>
          <p:nvPr/>
        </p:nvSpPr>
        <p:spPr>
          <a:xfrm>
            <a:off x="684360" y="1551960"/>
            <a:ext cx="79596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огнем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чки, костер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пожарной безопасности при эксплуатации пе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ечка бытового газ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осторожное обращение с пиротехническими изделиями ( хлопушки, петарды, бенгальские огни, фейерверки и т. 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Рисунок 7" descr="C:\ресурсы\Картинки\Огонь\43.gif"/>
          <p:cNvPicPr/>
          <p:nvPr/>
        </p:nvPicPr>
        <p:blipFill>
          <a:blip r:embed="rId2"/>
          <a:stretch/>
        </p:blipFill>
        <p:spPr>
          <a:xfrm>
            <a:off x="6286680" y="1857240"/>
            <a:ext cx="15714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7556760" cy="38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рушение правил безопасности при пользовании электробытовыми приборами;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Нарушение правил хранения и использования горючих и легковоспламеняющихся жидкостей;</a:t>
            </a:r>
            <a:br>
              <a:rPr sz="3600"/>
            </a:b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4" name="Picture 4" descr="C:\Documents and Settings\1\Рабочий стол\20081016\Image5.bmp"/>
          <p:cNvPicPr/>
          <p:nvPr/>
        </p:nvPicPr>
        <p:blipFill>
          <a:blip r:embed="rId1"/>
          <a:stretch/>
        </p:blipFill>
        <p:spPr>
          <a:xfrm>
            <a:off x="3780000" y="3933720"/>
            <a:ext cx="478620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Прямоугольник 1" descr=""/>
          <p:cNvPicPr/>
          <p:nvPr/>
        </p:nvPicPr>
        <p:blipFill>
          <a:blip r:embed="rId1"/>
          <a:stretch/>
        </p:blipFill>
        <p:spPr>
          <a:xfrm>
            <a:off x="682560" y="476280"/>
            <a:ext cx="7785000" cy="12240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"/>
          <p:cNvSpPr/>
          <p:nvPr/>
        </p:nvSpPr>
        <p:spPr>
          <a:xfrm>
            <a:off x="826920" y="316440"/>
            <a:ext cx="788832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балуйтесь дома со спичками, зажигалками. Это – одна из причин пожа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оставляйте без присмотра включенные электроприборы, особенно утюги, обогреватели, телевизоры, светильники и др. Уходя из дома, не забудьте их выключ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3" descr="C:\Documents and Settings\1\Рабочий стол\20081016\Image4.bmp"/>
          <p:cNvPicPr/>
          <p:nvPr/>
        </p:nvPicPr>
        <p:blipFill>
          <a:blip r:embed="rId2"/>
          <a:stretch/>
        </p:blipFill>
        <p:spPr>
          <a:xfrm>
            <a:off x="3780000" y="4905360"/>
            <a:ext cx="2778120" cy="15699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5" descr="C:\Documents and Settings\1\Рабочий стол\20081016\Image3.bmp"/>
          <p:cNvPicPr/>
          <p:nvPr/>
        </p:nvPicPr>
        <p:blipFill>
          <a:blip r:embed="rId3"/>
          <a:stretch/>
        </p:blipFill>
        <p:spPr>
          <a:xfrm>
            <a:off x="4067280" y="1700280"/>
            <a:ext cx="357192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115640" y="765000"/>
            <a:ext cx="3311640" cy="587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забывайте выключать газовую плиту. Если почувствуете запах газа, не зажигайте спичек и не включайте свет. Срочно проветрите квартиру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 сушите белье над плитой. Оно может загореться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SzPct val="76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0" name="Рисунок 1" descr="C:\Documents and Settings\1\Мои документы\My Pictures\Scan Pictures\20081016\Image7.bmp"/>
          <p:cNvPicPr/>
          <p:nvPr/>
        </p:nvPicPr>
        <p:blipFill>
          <a:blip r:embed="rId1"/>
          <a:stretch/>
        </p:blipFill>
        <p:spPr>
          <a:xfrm>
            <a:off x="5148360" y="3963960"/>
            <a:ext cx="2500200" cy="1925640"/>
          </a:xfrm>
          <a:prstGeom prst="rect">
            <a:avLst/>
          </a:prstGeom>
          <a:ln w="0">
            <a:noFill/>
          </a:ln>
        </p:spPr>
      </p:pic>
      <p:sp>
        <p:nvSpPr>
          <p:cNvPr id="351" name="Прямоугольник 1"/>
          <p:cNvSpPr/>
          <p:nvPr/>
        </p:nvSpPr>
        <p:spPr>
          <a:xfrm>
            <a:off x="5003640" y="692280"/>
            <a:ext cx="253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ейерверки, свечи, бенгальские огни зажигайте подальше от елки, лучше вообще вне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7235640" cy="524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при возникновении пожара </a:t>
            </a:r>
            <a:br>
              <a:rPr sz="2800"/>
            </a:b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.ваши действия при загорании телевизора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.Обесточить  телевизор (вытащить  вилку  из  розетки)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. Сообщить  в  пожарную  охрану  по  телефону  01.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3.Если  горение  продолжается,  накрыть  телевизор  плотной  тканью,  подходя  к      телевизору  с  боку,  можно  его  облить  водой. </a:t>
            </a:r>
            <a:br>
              <a:rPr sz="2400"/>
            </a:br>
            <a:r>
              <a:rPr b="0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4. Если  вы  не  в  силах  справиться  с  огнём,  покинуть  помещение,  плотно  закрыв  двери,  окна.  Сообщить  соседям. 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3" name="Рисунок 2" descr="C:\Documents and Settings\1\Мои документы\My Pictures\Scan Pictures\20081018\Image2.jpg"/>
          <p:cNvPicPr/>
          <p:nvPr/>
        </p:nvPicPr>
        <p:blipFill>
          <a:blip r:embed="rId1"/>
          <a:stretch/>
        </p:blipFill>
        <p:spPr>
          <a:xfrm>
            <a:off x="6948360" y="1268280"/>
            <a:ext cx="17272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525240"/>
            <a:ext cx="7686720" cy="540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аши  действия в задымленном помещении, если есть возможность выхода.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звонить  в  службу спасения  «01»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Дышать  через  мокрую  ткань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. Двигаться,  пригнувшись  или  ползком  к  выходу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. Не  входить  туда,  где  большая  концентрация  дыма.              </a:t>
            </a:r>
            <a:br>
              <a:rPr sz="2800"/>
            </a:b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. Плотно  закрыв  за  собой  дверь,  двигаться  вдоль  стены  к  лестнице.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55" name="Picture 4" descr=""/>
          <p:cNvPicPr/>
          <p:nvPr/>
        </p:nvPicPr>
        <p:blipFill>
          <a:blip r:embed="rId1"/>
          <a:stretch/>
        </p:blipFill>
        <p:spPr>
          <a:xfrm>
            <a:off x="7392960" y="1044720"/>
            <a:ext cx="1476360" cy="104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5" descr=""/>
          <p:cNvPicPr/>
          <p:nvPr/>
        </p:nvPicPr>
        <p:blipFill>
          <a:blip r:embed="rId2"/>
          <a:stretch/>
        </p:blipFill>
        <p:spPr>
          <a:xfrm>
            <a:off x="7696080" y="4568760"/>
            <a:ext cx="1476360" cy="10321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"/>
          <p:cNvPicPr/>
          <p:nvPr/>
        </p:nvPicPr>
        <p:blipFill>
          <a:blip r:embed="rId3"/>
          <a:stretch/>
        </p:blipFill>
        <p:spPr>
          <a:xfrm>
            <a:off x="7392960" y="2230560"/>
            <a:ext cx="1463760" cy="103320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9" descr=""/>
          <p:cNvPicPr/>
          <p:nvPr/>
        </p:nvPicPr>
        <p:blipFill>
          <a:blip r:embed="rId4"/>
          <a:stretch/>
        </p:blipFill>
        <p:spPr>
          <a:xfrm>
            <a:off x="7380360" y="3213000"/>
            <a:ext cx="1476360" cy="10112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"/>
          <p:cNvPicPr/>
          <p:nvPr/>
        </p:nvPicPr>
        <p:blipFill>
          <a:blip r:embed="rId5"/>
          <a:stretch/>
        </p:blipFill>
        <p:spPr>
          <a:xfrm>
            <a:off x="4643280" y="5589720"/>
            <a:ext cx="145260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1499760"/>
            <a:ext cx="7242120" cy="464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. Ваши </a:t>
            </a:r>
            <a:r>
              <a:rPr b="0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йствия в случае, когда огонь отрезает путь к выходу. </a:t>
            </a:r>
            <a:br>
              <a:rPr sz="2400"/>
            </a:br>
            <a:r>
              <a:rPr b="0" lang="ru-RU" sz="2400" spc="-1" strike="noStrike">
                <a:solidFill>
                  <a:srgbClr val="94c600"/>
                </a:solidFill>
                <a:latin typeface="Times New Roman"/>
                <a:ea typeface="Times New Roman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Позвонить  в  службу  спасения  «01».              2. Заткнуть  тряпками  все  щели  в  двери,  поливать  дверь  водой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3. Создать  запас  воды  в  ванной  комнате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4. Находиться  лучше  на  полу  около  окна,  дыша  через  мокрую  ткань,  или  выйти  на  балкон.            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5. Взять  с  собой  мокрое  одеяло,  чтобы  защититься  от  огня (если  начнёт  проникать),  фонарик  и  яркую  тряпку  для  сигнала  спасателям.</a:t>
            </a:r>
            <a:endParaRPr b="0" lang="en-US" sz="24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61" name="Рисунок 1" descr="C:\Documents and Settings\1\Мои документы\My Pictures\Scan Pictures\20081016\Image6.bmp"/>
          <p:cNvPicPr/>
          <p:nvPr/>
        </p:nvPicPr>
        <p:blipFill>
          <a:blip r:embed="rId1"/>
          <a:stretch/>
        </p:blipFill>
        <p:spPr>
          <a:xfrm>
            <a:off x="7786800" y="1071720"/>
            <a:ext cx="1357200" cy="1357200"/>
          </a:xfrm>
          <a:prstGeom prst="rect">
            <a:avLst/>
          </a:prstGeom>
          <a:ln w="38160">
            <a:solidFill>
              <a:srgbClr val="3e3d2d"/>
            </a:solidFill>
            <a:miter/>
          </a:ln>
        </p:spPr>
      </p:pic>
      <p:pic>
        <p:nvPicPr>
          <p:cNvPr id="362" name="Picture 6" descr=""/>
          <p:cNvPicPr/>
          <p:nvPr/>
        </p:nvPicPr>
        <p:blipFill>
          <a:blip r:embed="rId2"/>
          <a:stretch/>
        </p:blipFill>
        <p:spPr>
          <a:xfrm>
            <a:off x="7786800" y="2714760"/>
            <a:ext cx="1357200" cy="14000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3"/>
          <a:stretch/>
        </p:blipFill>
        <p:spPr>
          <a:xfrm>
            <a:off x="7786800" y="4286160"/>
            <a:ext cx="13572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826920" y="980640"/>
            <a:ext cx="7242480" cy="349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вичные средства тушения пожара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да, песок, земля, 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гнетушители,</a:t>
            </a:r>
            <a:br>
              <a:rPr sz="2500"/>
            </a:br>
            <a:r>
              <a:rPr b="0" lang="ru-RU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мыльный раствор, порошок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grpSp>
        <p:nvGrpSpPr>
          <p:cNvPr id="365" name="Group 7"/>
          <p:cNvGrpSpPr/>
          <p:nvPr/>
        </p:nvGrpSpPr>
        <p:grpSpPr>
          <a:xfrm>
            <a:off x="6588000" y="2276640"/>
            <a:ext cx="2171520" cy="3554280"/>
            <a:chOff x="6588000" y="2276640"/>
            <a:chExt cx="2171520" cy="3554280"/>
          </a:xfrm>
        </p:grpSpPr>
        <p:pic>
          <p:nvPicPr>
            <p:cNvPr id="366" name="Picture 5" descr=""/>
            <p:cNvPicPr/>
            <p:nvPr/>
          </p:nvPicPr>
          <p:blipFill>
            <a:blip r:embed="rId1"/>
            <a:stretch/>
          </p:blipFill>
          <p:spPr>
            <a:xfrm>
              <a:off x="6588000" y="2276640"/>
              <a:ext cx="2160360" cy="35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Rectangle 6"/>
            <p:cNvSpPr/>
            <p:nvPr/>
          </p:nvSpPr>
          <p:spPr>
            <a:xfrm>
              <a:off x="6588000" y="2276640"/>
              <a:ext cx="2171520" cy="3525480"/>
            </a:xfrm>
            <a:prstGeom prst="rect">
              <a:avLst/>
            </a:pr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1:44:24Z</dcterms:created>
  <dc:creator>Учительский</dc:creator>
  <dc:description/>
  <dc:language>en-US</dc:language>
  <cp:lastModifiedBy>админ</cp:lastModifiedBy>
  <dcterms:modified xsi:type="dcterms:W3CDTF">2018-07-02T09:06:37Z</dcterms:modified>
  <cp:revision>61</cp:revision>
  <dc:subject/>
  <dc:title>Слайд 1</dc:title>
</cp:coreProperties>
</file>