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5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gif" ContentType="image/gif"/>
  <Override PartName="/ppt/media/image1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82F5-88F4-4BE0-BD4D-BD0CF770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D363-5131-4934-B862-03050D243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81ED-F401-4C6D-A2B1-8E01496F6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CFA6-0EED-407B-B95A-455E2DAA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A793-951E-4100-96DD-42D5AFCC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4EFE-9FB0-4B88-8B93-35194B95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3671-8E8E-463A-9B9F-CC23A766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A58C-A522-40EF-A567-A544D641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FCBA-E984-41E4-BE68-96B84C03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1447-B6F7-40C2-A6CC-4E972FC56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F28F-E935-4BA0-8B7D-E7759835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D3A-A218-4DF5-A0DB-B2FB5784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D6C4-0463-4051-B5AC-43788105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7117-88B0-4C62-B5D8-A407C199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041F-623C-41D4-8CA6-A13B4565A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F6FF1-4254-4AF2-A70D-D5E3A392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5978-BB69-4AB9-8626-2A8BE7FB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01C690-8D1E-4ABD-A836-C3F2110D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24A31-4E47-4F09-811C-626028EC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B2FBF-1727-455C-AFB4-D5FB5F8B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897539-8143-46EF-983F-EB10E9B53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743DB3-3756-4E78-B504-A951A866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66DC-8444-4134-82F9-EB8F8ED73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87D8E7-0B53-4778-B284-F1EA55EF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68C830-CCA9-4056-8B53-FB852D68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39AA2-9F87-45D6-AA9E-43146025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413C45-60BE-4630-B51E-94397CF8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24232B-8FE0-4E4A-9F80-29BC6AB7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9BBAB-5160-4D49-B1EB-89D4CE85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82161-775D-4121-9FC2-90A3BB47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42625-0C9B-4CAB-8C51-2D87DE21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34CBC-46FA-4BA9-9898-C0C874DD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9F949-FC40-42C1-9300-BBAE560C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B1B-2537-44BA-8326-A8C755599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0F91A-AE30-4827-A09C-147DE49B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70077-795E-4AF0-AF5E-50B53B23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D0990-FFC4-4C64-9F64-1531BBDA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B86BC-C483-43EB-8717-0A060EF3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FFCC5-39A3-4404-97EB-5EF04E4B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29F3C-F4C8-4207-9124-262DDB3E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CEB87-82CE-400A-B619-C62C277D1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16DCA-59D7-4431-9AC2-6E13437B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4CAE7-2D60-407E-8E62-376DDBF9F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CB7-A334-4BE3-8EE7-A5D8729B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B4C2-71CE-46B5-9FF0-D55FC7CD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DDB-37D0-470D-AB5E-53B40F9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7FF0-250A-4A14-9B51-C263035E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BAF3-5B8F-4050-AA76-46617626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0516-F797-4373-9282-7C60AD80A382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B260-1287-4117-B0D9-A3E6C5C725D8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DB3C-D9F0-41EE-969E-E54F4B18E355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5D15-DBC0-438A-B146-3715781C0FBD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285920" y="476280"/>
            <a:ext cx="5446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вр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312408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37" name="Рисунок 1" descr="C:\ресурсы\Картинки\Огонь\i14.gif"/>
          <p:cNvPicPr/>
          <p:nvPr/>
        </p:nvPicPr>
        <p:blipFill>
          <a:blip r:embed="rId2"/>
          <a:stretch/>
        </p:blipFill>
        <p:spPr>
          <a:xfrm>
            <a:off x="1619280" y="1484280"/>
            <a:ext cx="2023920" cy="1225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C:\ресурсы\Картинки\Огонь\i3.gif"/>
          <p:cNvPicPr/>
          <p:nvPr/>
        </p:nvPicPr>
        <p:blipFill>
          <a:blip r:embed="rId3"/>
          <a:stretch/>
        </p:blipFill>
        <p:spPr>
          <a:xfrm>
            <a:off x="3924360" y="5157720"/>
            <a:ext cx="696960" cy="12970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" descr="MCj02902930000[1]"/>
          <p:cNvPicPr/>
          <p:nvPr/>
        </p:nvPicPr>
        <p:blipFill>
          <a:blip r:embed="rId4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31622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4500720" y="285840"/>
          <a:ext cx="3622680" cy="411804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4560"/>
                <a:gridCol w="368280"/>
                <a:gridCol w="301680"/>
                <a:gridCol w="397080"/>
                <a:gridCol w="315720"/>
                <a:gridCol w="360360"/>
                <a:gridCol w="347760"/>
                <a:gridCol w="312840"/>
                <a:gridCol w="298440"/>
              </a:tblGrid>
              <a:tr h="55080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3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5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85"/>
          <p:cNvSpPr/>
          <p:nvPr/>
        </p:nvSpPr>
        <p:spPr>
          <a:xfrm>
            <a:off x="468360" y="1708200"/>
            <a:ext cx="61912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Светит, но обжигает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и 3. Средства тушения огн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Бытовой прибор, из-за кот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н будет оставлен включен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жет произойти пожар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Чем подают воду при пожаре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игнал, издаваемый пожар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мобилем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Откуда набирают воду для тушения пожар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Основное средство для борьбы с огнем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9"/>
          <p:cNvSpPr/>
          <p:nvPr/>
        </p:nvSpPr>
        <p:spPr>
          <a:xfrm>
            <a:off x="6084720" y="33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   м 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2"/>
          <p:cNvSpPr/>
          <p:nvPr/>
        </p:nvSpPr>
        <p:spPr>
          <a:xfrm>
            <a:off x="6084720" y="83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6"/>
          <p:cNvSpPr/>
          <p:nvPr/>
        </p:nvSpPr>
        <p:spPr>
          <a:xfrm>
            <a:off x="5796000" y="14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е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  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9"/>
          <p:cNvSpPr/>
          <p:nvPr/>
        </p:nvSpPr>
        <p:spPr>
          <a:xfrm>
            <a:off x="608472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ю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2"/>
          <p:cNvSpPr/>
          <p:nvPr/>
        </p:nvSpPr>
        <p:spPr>
          <a:xfrm>
            <a:off x="5435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 л    а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3"/>
          <p:cNvSpPr/>
          <p:nvPr/>
        </p:nvSpPr>
        <p:spPr>
          <a:xfrm>
            <a:off x="6084720" y="2924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   е   н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5"/>
          <p:cNvSpPr/>
          <p:nvPr/>
        </p:nvSpPr>
        <p:spPr>
          <a:xfrm>
            <a:off x="4500720" y="3500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К   о  л    о   д   е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7"/>
          <p:cNvSpPr/>
          <p:nvPr/>
        </p:nvSpPr>
        <p:spPr>
          <a:xfrm>
            <a:off x="543564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   о  д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2" descr="MCj02332710000[1]"/>
          <p:cNvPicPr/>
          <p:nvPr/>
        </p:nvPicPr>
        <p:blipFill>
          <a:blip r:embed="rId2"/>
          <a:stretch/>
        </p:blipFill>
        <p:spPr>
          <a:xfrm>
            <a:off x="5289480" y="4371840"/>
            <a:ext cx="3533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-85680" y="-55440"/>
            <a:ext cx="7394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280280" cy="1943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684360" y="1551960"/>
            <a:ext cx="795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огн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, ко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пожарной безопасности при эксплуатации пе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ечка бытового г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пиротехническими изделиями ( хлопушки, петарды, бенгальские огни, фейерверки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7" descr="C:\ресурсы\Картинки\Огонь\43.gif"/>
          <p:cNvPicPr/>
          <p:nvPr/>
        </p:nvPicPr>
        <p:blipFill>
          <a:blip r:embed="rId2"/>
          <a:stretch/>
        </p:blipFill>
        <p:spPr>
          <a:xfrm>
            <a:off x="6286680" y="1857240"/>
            <a:ext cx="157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56760" cy="38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безопасности при пользовании электробытовыми приборами;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рушение правил хранения и использования горючих и легковоспламеняющихся жидкостей;</a:t>
            </a:r>
            <a:br>
              <a:rPr sz="36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4" name="Picture 4" descr="C:\Documents and Settings\1\Рабочий стол\20081016\Image5.bmp"/>
          <p:cNvPicPr/>
          <p:nvPr/>
        </p:nvPicPr>
        <p:blipFill>
          <a:blip r:embed="rId1"/>
          <a:stretch/>
        </p:blipFill>
        <p:spPr>
          <a:xfrm>
            <a:off x="3780000" y="3933720"/>
            <a:ext cx="47862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85000" cy="1224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826920" y="316440"/>
            <a:ext cx="7888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алуйтесь дома со спичками, зажигалками. Это – одна из причин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те без присмотра включенные электроприборы, особенно утюги, обогреватели, телевизоры, светильники и др. Уходя из дома, не забудьте их выклю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C:\Documents and Settings\1\Рабочий стол\20081016\Image4.bmp"/>
          <p:cNvPicPr/>
          <p:nvPr/>
        </p:nvPicPr>
        <p:blipFill>
          <a:blip r:embed="rId2"/>
          <a:stretch/>
        </p:blipFill>
        <p:spPr>
          <a:xfrm>
            <a:off x="3780000" y="4905360"/>
            <a:ext cx="2778120" cy="1569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Documents and Settings\1\Рабочий стол\20081016\Image3.bmp"/>
          <p:cNvPicPr/>
          <p:nvPr/>
        </p:nvPicPr>
        <p:blipFill>
          <a:blip r:embed="rId3"/>
          <a:stretch/>
        </p:blipFill>
        <p:spPr>
          <a:xfrm>
            <a:off x="4067280" y="1700280"/>
            <a:ext cx="3571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115640" y="765000"/>
            <a:ext cx="3311640" cy="587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абывайте выключать газовую плиту. Если почувствуете запах газа, не зажигайте спичек и не включайте свет. Срочно проветрите квартиру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ушите белье над плитой. Оно может загоретьс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Рисунок 1" descr="C:\Documents and Settings\1\Мои документы\My Pictures\Scan Pictures\20081016\Image7.bmp"/>
          <p:cNvPicPr/>
          <p:nvPr/>
        </p:nvPicPr>
        <p:blipFill>
          <a:blip r:embed="rId1"/>
          <a:stretch/>
        </p:blipFill>
        <p:spPr>
          <a:xfrm>
            <a:off x="5148360" y="3963960"/>
            <a:ext cx="2500200" cy="192564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5003640" y="692280"/>
            <a:ext cx="253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йерверки, свечи, бенгальские огни зажигайте подальше от елки, лучше вообще вне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235640" cy="524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при возникновении пожара 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ваши действия при загорании телевизора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.Обесточить  телевизор (вытащить  вилку  из  розетки)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Сообщить  в  пожарную  охрану  по  телефону  01.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3.Если  горение  продолжается,  накрыть  телевизор  плотной  тканью,  подходя  к      телевизору  с  боку,  можно  его  облить  водой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Если  вы  не  в  силах  справиться  с  огнём,  покинуть  помещение,  плотно  закрыв  двери,  окна.  Сообщить  соседям. 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Рисунок 2" descr="C:\Documents and Settings\1\Мои документы\My Pictures\Scan Pictures\20081018\Image2.jpg"/>
          <p:cNvPicPr/>
          <p:nvPr/>
        </p:nvPicPr>
        <p:blipFill>
          <a:blip r:embed="rId1"/>
          <a:stretch/>
        </p:blipFill>
        <p:spPr>
          <a:xfrm>
            <a:off x="6948360" y="1268280"/>
            <a:ext cx="172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25240"/>
            <a:ext cx="7686720" cy="540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ши  действия в задымленном помещении, если есть возможность выхода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звонить  в  службу спасения  «01»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ышать  через  мокрую  ткань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Двигаться,  пригнувшись  или  ползком  к  выходу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Не  входить  туда,  где  большая  концентрация  дыма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Плотно  закрыв  за  собой  дверь,  двигаться  вдоль  стены  к  лестнице.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7392960" y="1044720"/>
            <a:ext cx="1476360" cy="104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7696080" y="4568760"/>
            <a:ext cx="1476360" cy="1032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3"/>
          <a:stretch/>
        </p:blipFill>
        <p:spPr>
          <a:xfrm>
            <a:off x="7392960" y="2230560"/>
            <a:ext cx="1463760" cy="1033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4"/>
          <a:stretch/>
        </p:blipFill>
        <p:spPr>
          <a:xfrm>
            <a:off x="7380360" y="3213000"/>
            <a:ext cx="1476360" cy="1011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5"/>
          <a:stretch/>
        </p:blipFill>
        <p:spPr>
          <a:xfrm>
            <a:off x="4643280" y="5589720"/>
            <a:ext cx="14526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499760"/>
            <a:ext cx="7242120" cy="46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Ваши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йствия в случае, когда огонь отрезает путь к выходу. </a:t>
            </a:r>
            <a:br>
              <a:rPr sz="2400"/>
            </a:br>
            <a:r>
              <a:rPr b="0" lang="ru-RU" sz="2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звонить  в  службу  спасения  «01».              2. Заткнуть  тряпками  все  щели  в  двери,  поливать  дверь  водой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. Создать  запас  воды  в  ванной  комнате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. Находиться  лучше  на  полу  около  окна,  дыша  через  мокрую  ткань,  или  выйти  на  балкон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5. Взять  с  собой  мокрое  одеяло,  чтобы  защититься  от  огня (если  начнёт  проникать),  фонарик  и  яркую  тряпку  для  сигнала  спасателям.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Рисунок 1" descr="C:\Documents and Settings\1\Мои документы\My Pictures\Scan Pictures\20081016\Image6.bmp"/>
          <p:cNvPicPr/>
          <p:nvPr/>
        </p:nvPicPr>
        <p:blipFill>
          <a:blip r:embed="rId1"/>
          <a:stretch/>
        </p:blipFill>
        <p:spPr>
          <a:xfrm>
            <a:off x="7786800" y="1071720"/>
            <a:ext cx="1357200" cy="1357200"/>
          </a:xfrm>
          <a:prstGeom prst="rect">
            <a:avLst/>
          </a:prstGeom>
          <a:ln w="38160">
            <a:solidFill>
              <a:srgbClr val="3e3d2d"/>
            </a:solidFill>
            <a:miter/>
          </a:ln>
        </p:spPr>
      </p:pic>
      <p:pic>
        <p:nvPicPr>
          <p:cNvPr id="362" name="Picture 6" descr=""/>
          <p:cNvPicPr/>
          <p:nvPr/>
        </p:nvPicPr>
        <p:blipFill>
          <a:blip r:embed="rId2"/>
          <a:stretch/>
        </p:blipFill>
        <p:spPr>
          <a:xfrm>
            <a:off x="7786800" y="2714760"/>
            <a:ext cx="1357200" cy="1400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3"/>
          <a:stretch/>
        </p:blipFill>
        <p:spPr>
          <a:xfrm>
            <a:off x="7786800" y="4286160"/>
            <a:ext cx="1357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242480" cy="34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вичные средства тушения пожара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, песок, земля,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нетушители,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ыльный раствор, порошок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365" name="Group 7"/>
          <p:cNvGrpSpPr/>
          <p:nvPr/>
        </p:nvGrpSpPr>
        <p:grpSpPr>
          <a:xfrm>
            <a:off x="6588000" y="2276640"/>
            <a:ext cx="2171520" cy="3554280"/>
            <a:chOff x="6588000" y="2276640"/>
            <a:chExt cx="2171520" cy="3554280"/>
          </a:xfrm>
        </p:grpSpPr>
        <p:pic>
          <p:nvPicPr>
            <p:cNvPr id="366" name="Picture 5" descr=""/>
            <p:cNvPicPr/>
            <p:nvPr/>
          </p:nvPicPr>
          <p:blipFill>
            <a:blip r:embed="rId1"/>
            <a:stretch/>
          </p:blipFill>
          <p:spPr>
            <a:xfrm>
              <a:off x="6588000" y="2276640"/>
              <a:ext cx="2160360" cy="35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6"/>
            <p:cNvSpPr/>
            <p:nvPr/>
          </p:nvSpPr>
          <p:spPr>
            <a:xfrm>
              <a:off x="6588000" y="2276640"/>
              <a:ext cx="2171520" cy="3525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44:24Z</dcterms:created>
  <dc:creator>Учительский</dc:creator>
  <dc:description/>
  <dc:language>en-US</dc:language>
  <cp:lastModifiedBy>админ</cp:lastModifiedBy>
  <dcterms:modified xsi:type="dcterms:W3CDTF">2018-07-02T09:06:37Z</dcterms:modified>
  <cp:revision>61</cp:revision>
  <dc:subject/>
  <dc:title>Слайд 1</dc:title>
</cp:coreProperties>
</file>