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4A34-A511-4CF2-91C9-47802FCEA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D18C-8EFC-46D5-A78C-BF3B225944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1E61-BA6A-4346-992B-B045D2837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8E46-7F91-4A74-ABAD-51D4B3078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3553-99D3-4124-AC97-4F43FE46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C065-06DE-4567-B6CB-C0B04BAF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BD8E-FB23-4A2C-8656-C3BF24280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00CE-2513-4E86-B08B-0FB72D52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8E2F7-1C4E-420C-8D01-9FCB3D9A0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A889-1389-459E-BE87-0EDFDACD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65A3-009C-4004-B94B-0FDE841C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ADFA8-CCD6-428D-A83B-F974D77D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7CCE-6DED-46A2-9BEB-AD1DE88F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D091-9E13-4561-9F42-B977AC70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308E2-613D-4AAF-858E-F75302E6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8A2E-5CB8-4526-8F2D-F6402F86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251A-11B6-49B1-B426-B2C397F7F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80A22-4BE3-471E-8A98-9E17C3C4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DBC73-6913-49E2-A8A6-A453C5CD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BC4C62-594E-4E71-9682-C0B7FC195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50787-FCE5-4944-8588-A69B8D33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C175-EC19-43DA-8160-A9B0B53F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F1C93-ACFD-466D-A4FA-8F7B7C67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D64B2-53C3-4119-8912-403B1B57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8FB2-2090-402E-ABA6-D93B56E4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0EC6-18AC-44BA-8D27-4AAF1F0A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71BA2-CD91-4A12-B276-7D25B8637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6DE57B-1B44-4676-AC00-AD6F0F271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8201E-C228-4A64-8826-7A7204EB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9BAD4-E0F4-438B-B213-97A5C834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87935-EA84-437A-8142-39D98B0C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A9627-88FB-41C4-BC8B-980C4AC0E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7E043-1B95-48E7-9769-2EEC2645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E16D0-35E5-4F2E-8358-D8646759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138DD-0E30-4B6E-88BD-5277FF88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6574-9A03-46A8-80D8-0EA2C31C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DA795-A424-46FA-B340-5A362FD65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29ED8-25D1-4E74-815E-29B3E4E0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92143-CE40-46B3-A2D4-7F1BDFF1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AB988-65AD-441B-BE9E-1C25040E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61805-5D6C-409D-8C3E-4B5395E6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D620B-38EA-4325-A751-A9E44C2E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0F340-D04A-41E6-84E6-77DFB035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38394-70A8-4A83-93CC-67A55074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79E66-DC81-4291-955B-DD47AB7F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7A00-360F-40C4-AC87-8F99D99F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09EE-C531-4157-8CAF-88C7F661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EFA9-B397-4376-AEEB-59CD7C1A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49FB-C3A6-4847-820E-F619A2EA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F1E7-2C9D-4319-B2A1-3F8560285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66D6-A76C-4B4A-B956-E45B1B279DF7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52C8-B2F9-41F9-AD0C-4C29DF65F003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5476-D002-4786-B327-51E8BF71213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DD42-16BE-404E-B405-F421440F556E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Прямоугольник 2" descr=""/>
          <p:cNvPicPr/>
          <p:nvPr/>
        </p:nvPicPr>
        <p:blipFill>
          <a:blip r:embed="rId1"/>
          <a:stretch/>
        </p:blipFill>
        <p:spPr>
          <a:xfrm>
            <a:off x="1712880" y="1736640"/>
            <a:ext cx="6943680" cy="36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extBox 3" descr=""/>
          <p:cNvPicPr/>
          <p:nvPr/>
        </p:nvPicPr>
        <p:blipFill>
          <a:blip r:embed="rId1"/>
          <a:stretch/>
        </p:blipFill>
        <p:spPr>
          <a:xfrm>
            <a:off x="2286000" y="487440"/>
            <a:ext cx="6381720" cy="560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TextBox 1" descr=""/>
          <p:cNvPicPr/>
          <p:nvPr/>
        </p:nvPicPr>
        <p:blipFill>
          <a:blip r:embed="rId1"/>
          <a:stretch/>
        </p:blipFill>
        <p:spPr>
          <a:xfrm>
            <a:off x="1878120" y="1646280"/>
            <a:ext cx="557028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extBox 1" descr=""/>
          <p:cNvPicPr/>
          <p:nvPr/>
        </p:nvPicPr>
        <p:blipFill>
          <a:blip r:embed="rId1"/>
          <a:stretch/>
        </p:blipFill>
        <p:spPr>
          <a:xfrm>
            <a:off x="2328840" y="414360"/>
            <a:ext cx="6583320" cy="27306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2"/>
          <p:cNvSpPr/>
          <p:nvPr/>
        </p:nvSpPr>
        <p:spPr>
          <a:xfrm>
            <a:off x="1258920" y="2863800"/>
            <a:ext cx="7777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a 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то ты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 name is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твое имя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am ____________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колько тебе лет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__________________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ты умеешь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like circus!                         (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Я люблю цирк!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TextBox 1"/>
          <p:cNvSpPr/>
          <p:nvPr/>
        </p:nvSpPr>
        <p:spPr>
          <a:xfrm>
            <a:off x="2556000" y="765000"/>
            <a:ext cx="60483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TextBox 2" descr=""/>
          <p:cNvPicPr/>
          <p:nvPr/>
        </p:nvPicPr>
        <p:blipFill>
          <a:blip r:embed="rId1"/>
          <a:stretch/>
        </p:blipFill>
        <p:spPr>
          <a:xfrm>
            <a:off x="2309760" y="128520"/>
            <a:ext cx="5359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extBox 1" descr=""/>
          <p:cNvPicPr/>
          <p:nvPr/>
        </p:nvPicPr>
        <p:blipFill>
          <a:blip r:embed="rId1"/>
          <a:stretch/>
        </p:blipFill>
        <p:spPr>
          <a:xfrm>
            <a:off x="944640" y="1420920"/>
            <a:ext cx="7010280" cy="32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2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5241960" cy="4595760"/>
          </a:xfrm>
          <a:prstGeom prst="rect">
            <a:avLst/>
          </a:prstGeom>
          <a:ln w="0">
            <a:noFill/>
          </a:ln>
        </p:spPr>
      </p:pic>
      <p:pic>
        <p:nvPicPr>
          <p:cNvPr id="230" name="TextBox 1" descr=""/>
          <p:cNvPicPr/>
          <p:nvPr/>
        </p:nvPicPr>
        <p:blipFill>
          <a:blip r:embed="rId2"/>
          <a:stretch/>
        </p:blipFill>
        <p:spPr>
          <a:xfrm>
            <a:off x="2382840" y="128520"/>
            <a:ext cx="5932440" cy="16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extBox 2" descr=""/>
          <p:cNvPicPr/>
          <p:nvPr/>
        </p:nvPicPr>
        <p:blipFill>
          <a:blip r:embed="rId1"/>
          <a:stretch/>
        </p:blipFill>
        <p:spPr>
          <a:xfrm>
            <a:off x="1438200" y="2584440"/>
            <a:ext cx="785808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Наталья</cp:lastModifiedBy>
  <dcterms:modified xsi:type="dcterms:W3CDTF">2018-07-02T03:32:21Z</dcterms:modified>
  <cp:revision>32</cp:revision>
  <dc:subject/>
  <dc:title>Слайд 1</dc:title>
</cp:coreProperties>
</file>