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1A64C-45B2-4773-8D0C-F0A233454B7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1B513-B275-418A-BFC0-69A72C50609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C281-53CE-487F-97D5-BC12B6333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7A1F-457C-4F00-AAC1-09A450626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2923-42BE-4D56-BA25-58680A015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D011-B877-4287-B285-18444FBD7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7EA4E-E6A1-48BE-87C1-46DD9B16E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D9F41-F3BB-4A32-9B62-1924BCE7A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AE6A8-CF34-4F5B-B929-8C20554C9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FB8CC-E4FA-4173-AEC8-40070F8BD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2414E-9E68-441A-B777-5D906200F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DB14A-7B91-4D22-9C38-27EAAAC68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29E2D-D434-46C0-B278-78A5E3B7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A018-601A-4176-9750-F002CED2B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F0AFF-F927-4ED5-B182-C2A7EB1F0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4848E-848F-494C-A59B-5D78F9878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03897-5F0C-41F5-A18B-77E75E717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65250-3F44-4762-B57B-281AC2BAE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51FF8-DCD9-416A-85C5-D46A22B93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45C10-651B-419E-B637-0B5233C29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019C6-4167-45BC-9F20-565A199BB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E452B-E0DD-4709-AF92-BD7BE0825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FF839-3FAE-4792-9303-742B9605B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78906-57C5-453A-8C57-142393409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5EAF-04C1-417D-B003-FC1814899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AAA01-B47B-4066-8E1F-A917E6E19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1996F-5126-4A98-914D-B5CC9440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2515B-4783-4D23-A3E4-D71C92D8C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D88E5-FD4F-4A2C-8CFF-E6D1CFD0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D2938-D2CD-42AC-B1C4-B85B6B798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C121D-79F1-4E90-92DD-184544A00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A288E-045E-4732-8DBC-03B089680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8AA8E2-EABD-4D89-A8FD-EA02C84F8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6026B-0304-488C-A1C6-CE334F89F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41864-6166-44C8-91E9-57EF6A690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59A1-2DCA-4B71-B807-9551D1228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990EA-A715-4368-BB5F-3C0E63927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F45BF-CC18-4287-A6A3-0AF2B742D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6DA11-2AA3-4A4E-9826-76E8F399A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99300-2A5F-4229-86F8-9DC86DE37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53881-DA6A-443F-B71F-FCDED3AD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2E511-36B2-4F18-B39B-AE7FDC00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B9A82-7043-46FD-88B9-1E236E4A0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64B18-7C9F-4518-80BA-F9AB5C8AC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57883-CC2E-4E73-8F0E-774559D3A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E5B8-5D5A-403A-941D-8E65F554D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D611-66AA-44B3-8406-38225F7AC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9D9D-646E-413F-BA3B-091BD5F6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6841-B72F-4FBF-8946-9AA2CC333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1B5D-1225-410E-A4E0-32AA71D0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15A6B-77A8-400C-9D41-1B82785392CC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BC8B8-4EFC-47ED-A053-03EE26DF331D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BA360-70C8-43D8-8D07-2494A84E4A75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D10DD-6813-4381-9FFF-7865A8544949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Прямоугольник 2" descr=""/>
          <p:cNvPicPr/>
          <p:nvPr/>
        </p:nvPicPr>
        <p:blipFill>
          <a:blip r:embed="rId1"/>
          <a:stretch/>
        </p:blipFill>
        <p:spPr>
          <a:xfrm>
            <a:off x="1712880" y="1736640"/>
            <a:ext cx="6943680" cy="36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extBox 3" descr=""/>
          <p:cNvPicPr/>
          <p:nvPr/>
        </p:nvPicPr>
        <p:blipFill>
          <a:blip r:embed="rId1"/>
          <a:stretch/>
        </p:blipFill>
        <p:spPr>
          <a:xfrm>
            <a:off x="2286000" y="487440"/>
            <a:ext cx="6381720" cy="56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TextBox 1" descr=""/>
          <p:cNvPicPr/>
          <p:nvPr/>
        </p:nvPicPr>
        <p:blipFill>
          <a:blip r:embed="rId1"/>
          <a:stretch/>
        </p:blipFill>
        <p:spPr>
          <a:xfrm>
            <a:off x="1878120" y="1646280"/>
            <a:ext cx="557028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TextBox 1" descr=""/>
          <p:cNvPicPr/>
          <p:nvPr/>
        </p:nvPicPr>
        <p:blipFill>
          <a:blip r:embed="rId1"/>
          <a:stretch/>
        </p:blipFill>
        <p:spPr>
          <a:xfrm>
            <a:off x="2328840" y="414360"/>
            <a:ext cx="6583320" cy="2730600"/>
          </a:xfrm>
          <a:prstGeom prst="rect">
            <a:avLst/>
          </a:prstGeom>
          <a:ln w="0">
            <a:noFill/>
          </a:ln>
        </p:spPr>
      </p:pic>
      <p:sp>
        <p:nvSpPr>
          <p:cNvPr id="225" name="Прямоугольник 2"/>
          <p:cNvSpPr/>
          <p:nvPr/>
        </p:nvSpPr>
        <p:spPr>
          <a:xfrm>
            <a:off x="1258920" y="2863800"/>
            <a:ext cx="7777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l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am a ____________ (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то ты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 name is____________ (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 твое имя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am ____________ (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колько тебе лет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can __________________(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 ты умеешь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like circus!                         (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Я люблю цирк!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Box 1"/>
          <p:cNvSpPr/>
          <p:nvPr/>
        </p:nvSpPr>
        <p:spPr>
          <a:xfrm>
            <a:off x="2556000" y="765000"/>
            <a:ext cx="60483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TextBox 2" descr=""/>
          <p:cNvPicPr/>
          <p:nvPr/>
        </p:nvPicPr>
        <p:blipFill>
          <a:blip r:embed="rId1"/>
          <a:stretch/>
        </p:blipFill>
        <p:spPr>
          <a:xfrm>
            <a:off x="2309760" y="128520"/>
            <a:ext cx="535932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TextBox 1" descr=""/>
          <p:cNvPicPr/>
          <p:nvPr/>
        </p:nvPicPr>
        <p:blipFill>
          <a:blip r:embed="rId1"/>
          <a:stretch/>
        </p:blipFill>
        <p:spPr>
          <a:xfrm>
            <a:off x="944640" y="1420920"/>
            <a:ext cx="7010280" cy="32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2195640" y="1844640"/>
            <a:ext cx="5241960" cy="4595760"/>
          </a:xfrm>
          <a:prstGeom prst="rect">
            <a:avLst/>
          </a:prstGeom>
          <a:ln w="0">
            <a:noFill/>
          </a:ln>
        </p:spPr>
      </p:pic>
      <p:pic>
        <p:nvPicPr>
          <p:cNvPr id="230" name="TextBox 1" descr=""/>
          <p:cNvPicPr/>
          <p:nvPr/>
        </p:nvPicPr>
        <p:blipFill>
          <a:blip r:embed="rId2"/>
          <a:stretch/>
        </p:blipFill>
        <p:spPr>
          <a:xfrm>
            <a:off x="2382840" y="128520"/>
            <a:ext cx="5932440" cy="16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TextBox 2" descr=""/>
          <p:cNvPicPr/>
          <p:nvPr/>
        </p:nvPicPr>
        <p:blipFill>
          <a:blip r:embed="rId1"/>
          <a:stretch/>
        </p:blipFill>
        <p:spPr>
          <a:xfrm>
            <a:off x="1438200" y="2584440"/>
            <a:ext cx="785808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20:41:41Z</dcterms:created>
  <dc:creator>Елена</dc:creator>
  <dc:description/>
  <dc:language>en-US</dc:language>
  <cp:lastModifiedBy>Наталья</cp:lastModifiedBy>
  <dcterms:modified xsi:type="dcterms:W3CDTF">2018-07-02T03:32:21Z</dcterms:modified>
  <cp:revision>32</cp:revision>
  <dc:subject/>
  <dc:title>Слайд 1</dc:title>
</cp:coreProperties>
</file>